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7E5-5B07-4C5B-8D88-C20CAC7F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577-6A14-45CE-9E23-C7E553CB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BB2-8A90-4E1F-B6CA-48E98972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662-3D29-48DB-BC02-507834D9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D03-1DB1-4D9A-9646-AC38C38B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E44-DBF2-4B7C-A640-7480170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56D-7CE7-48F4-BCE1-66B7C5A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025-0777-4F5E-9CA1-2FF66515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0EF-20FC-4B75-88F8-4A359DD5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1FB-64F0-4A09-9AF2-3A390E0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85A-55C3-4A53-8D8A-8C06FC4F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99F-DA1C-40B1-9610-5E652B7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e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14E-50AB-4A08-B7E1-1F761E973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5120" y="609480"/>
            <a:ext cx="5367240" cy="23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rcRect l="43924" t="44793" r="29724" b="27087"/>
          <a:stretch/>
        </p:blipFill>
        <p:spPr>
          <a:xfrm>
            <a:off x="609480" y="32004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rcRect l="53295" t="42712" r="37923" b="27087"/>
          <a:stretch/>
        </p:blipFill>
        <p:spPr>
          <a:xfrm>
            <a:off x="4419720" y="4267080"/>
            <a:ext cx="10634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52709" t="43750" r="37923" b="27087"/>
          <a:stretch/>
        </p:blipFill>
        <p:spPr>
          <a:xfrm>
            <a:off x="5562720" y="4324320"/>
            <a:ext cx="11430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rcRect l="53295" t="43750" r="36749" b="26043"/>
          <a:stretch/>
        </p:blipFill>
        <p:spPr>
          <a:xfrm>
            <a:off x="7010280" y="4343400"/>
            <a:ext cx="1116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Львёнок  идёт  по горо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09"/>
          <p:cNvPicPr/>
          <p:nvPr/>
        </p:nvPicPr>
        <p:blipFill>
          <a:blip r:embed="rId1"/>
          <a:stretch/>
        </p:blipFill>
        <p:spPr>
          <a:xfrm>
            <a:off x="228600" y="2133720"/>
            <a:ext cx="3276720" cy="2706480"/>
          </a:xfrm>
          <a:prstGeom prst="rect">
            <a:avLst/>
          </a:prstGeom>
          <a:ln w="0">
            <a:noFill/>
          </a:ln>
        </p:spPr>
      </p:pic>
      <p:sp>
        <p:nvSpPr>
          <p:cNvPr id="215" name="Line 11"/>
          <p:cNvSpPr/>
          <p:nvPr/>
        </p:nvSpPr>
        <p:spPr>
          <a:xfrm>
            <a:off x="914400" y="121932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3581280" y="1219320"/>
            <a:ext cx="1295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581280" y="1447920"/>
            <a:ext cx="1295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ие              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685800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 rot="334200">
            <a:off x="6857640" y="289548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 rot="10800000">
            <a:off x="6705360" y="434340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701028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754380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6477120" y="45720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7696080" y="4648320"/>
            <a:ext cx="3812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6934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858000" y="4876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3429000" y="3352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9"/>
          <p:cNvSpPr/>
          <p:nvPr/>
        </p:nvSpPr>
        <p:spPr>
          <a:xfrm rot="20965200">
            <a:off x="3428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0"/>
          <p:cNvSpPr/>
          <p:nvPr/>
        </p:nvSpPr>
        <p:spPr>
          <a:xfrm rot="10800000">
            <a:off x="3276360" y="42670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365760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403848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3"/>
          <p:cNvSpPr/>
          <p:nvPr/>
        </p:nvSpPr>
        <p:spPr>
          <a:xfrm flipH="1">
            <a:off x="3048120" y="45720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42670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5"/>
          <p:cNvSpPr/>
          <p:nvPr/>
        </p:nvSpPr>
        <p:spPr>
          <a:xfrm>
            <a:off x="3505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  мишка  идут 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  город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09"/>
          <p:cNvPicPr/>
          <p:nvPr/>
        </p:nvPicPr>
        <p:blipFill>
          <a:blip r:embed="rId1"/>
          <a:stretch/>
        </p:blipFill>
        <p:spPr>
          <a:xfrm>
            <a:off x="762120" y="1676520"/>
            <a:ext cx="2604960" cy="2117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11"/>
          <p:cNvPicPr/>
          <p:nvPr/>
        </p:nvPicPr>
        <p:blipFill>
          <a:blip r:embed="rId2"/>
          <a:stretch/>
        </p:blipFill>
        <p:spPr>
          <a:xfrm>
            <a:off x="3124080" y="3809880"/>
            <a:ext cx="1462320" cy="1595520"/>
          </a:xfrm>
          <a:prstGeom prst="rect">
            <a:avLst/>
          </a:prstGeom>
          <a:ln w="0">
            <a:noFill/>
          </a:ln>
        </p:spPr>
      </p:pic>
      <p:sp>
        <p:nvSpPr>
          <p:cNvPr id="250" name="Line 6"/>
          <p:cNvSpPr/>
          <p:nvPr/>
        </p:nvSpPr>
        <p:spPr>
          <a:xfrm>
            <a:off x="1219320" y="76212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4419720" y="762120"/>
            <a:ext cx="1676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6400800" y="8380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>
            <a:off x="6400800" y="10666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12" dur="5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341E-007 L 0.475 1.7341E-007 E">
                                      <p:cBhvr>
                                        <p:cTn id="16" dur="3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ие              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85800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334200">
            <a:off x="6857640" y="289548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0800000">
            <a:off x="6705360" y="434340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701028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754380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 flipH="1">
            <a:off x="6477120" y="45720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7696080" y="4648320"/>
            <a:ext cx="3812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6934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6858000" y="4876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3"/>
          <p:cNvSpPr/>
          <p:nvPr/>
        </p:nvSpPr>
        <p:spPr>
          <a:xfrm>
            <a:off x="3429000" y="3352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 rot="20965200">
            <a:off x="3428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10800000">
            <a:off x="3276360" y="42670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365760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403848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 flipH="1">
            <a:off x="3048120" y="45720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9"/>
          <p:cNvSpPr/>
          <p:nvPr/>
        </p:nvSpPr>
        <p:spPr>
          <a:xfrm>
            <a:off x="42670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0"/>
          <p:cNvSpPr/>
          <p:nvPr/>
        </p:nvSpPr>
        <p:spPr>
          <a:xfrm>
            <a:off x="3505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1"/>
          <p:cNvSpPr/>
          <p:nvPr/>
        </p:nvSpPr>
        <p:spPr>
          <a:xfrm>
            <a:off x="2514600" y="38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2"/>
          <p:cNvSpPr/>
          <p:nvPr/>
        </p:nvSpPr>
        <p:spPr>
          <a:xfrm rot="20965200">
            <a:off x="2514240" y="32767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3"/>
          <p:cNvSpPr/>
          <p:nvPr/>
        </p:nvSpPr>
        <p:spPr>
          <a:xfrm rot="10800000">
            <a:off x="2361960" y="47242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4"/>
          <p:cNvSpPr/>
          <p:nvPr/>
        </p:nvSpPr>
        <p:spPr>
          <a:xfrm flipH="1">
            <a:off x="274320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5"/>
          <p:cNvSpPr/>
          <p:nvPr/>
        </p:nvSpPr>
        <p:spPr>
          <a:xfrm>
            <a:off x="312408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2133720" y="50292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7"/>
          <p:cNvSpPr/>
          <p:nvPr/>
        </p:nvSpPr>
        <p:spPr>
          <a:xfrm>
            <a:off x="3352680" y="49528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8"/>
          <p:cNvSpPr/>
          <p:nvPr/>
        </p:nvSpPr>
        <p:spPr>
          <a:xfrm>
            <a:off x="2590920" y="51814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лежащее                сказу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6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7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7238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4"/>
          <p:cNvSpPr/>
          <p:nvPr/>
        </p:nvSpPr>
        <p:spPr>
          <a:xfrm rot="20965200">
            <a:off x="7238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5"/>
          <p:cNvSpPr/>
          <p:nvPr/>
        </p:nvSpPr>
        <p:spPr>
          <a:xfrm rot="10800000">
            <a:off x="7086240" y="4191120"/>
            <a:ext cx="1214280" cy="9144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 flipH="1">
            <a:off x="7467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7848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 flipH="1">
            <a:off x="6858000" y="4495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807732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1"/>
          <p:cNvSpPr/>
          <p:nvPr/>
        </p:nvSpPr>
        <p:spPr>
          <a:xfrm>
            <a:off x="7315200" y="4572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2"/>
          <p:cNvSpPr/>
          <p:nvPr/>
        </p:nvSpPr>
        <p:spPr>
          <a:xfrm>
            <a:off x="72388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дёт  по городу и улыбаетс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09"/>
          <p:cNvPicPr/>
          <p:nvPr/>
        </p:nvPicPr>
        <p:blipFill>
          <a:blip r:embed="rId1"/>
          <a:stretch/>
        </p:blipFill>
        <p:spPr>
          <a:xfrm>
            <a:off x="228600" y="2133720"/>
            <a:ext cx="3276720" cy="270648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>
            <a:off x="990720" y="83808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3581280" y="762120"/>
            <a:ext cx="10670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3505320" y="91440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048120" y="1523880"/>
            <a:ext cx="2819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3048120" y="1752480"/>
            <a:ext cx="2819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2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лежащее                сказу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6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8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7238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4"/>
          <p:cNvSpPr/>
          <p:nvPr/>
        </p:nvSpPr>
        <p:spPr>
          <a:xfrm rot="20965200">
            <a:off x="7238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5"/>
          <p:cNvSpPr/>
          <p:nvPr/>
        </p:nvSpPr>
        <p:spPr>
          <a:xfrm rot="10800000">
            <a:off x="7086240" y="4191120"/>
            <a:ext cx="1214280" cy="9144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7467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7848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 flipH="1">
            <a:off x="6858000" y="4495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9"/>
          <p:cNvSpPr/>
          <p:nvPr/>
        </p:nvSpPr>
        <p:spPr>
          <a:xfrm>
            <a:off x="807732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0"/>
          <p:cNvSpPr/>
          <p:nvPr/>
        </p:nvSpPr>
        <p:spPr>
          <a:xfrm>
            <a:off x="7315200" y="4572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1"/>
          <p:cNvSpPr/>
          <p:nvPr/>
        </p:nvSpPr>
        <p:spPr>
          <a:xfrm>
            <a:off x="72388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2"/>
          <p:cNvSpPr/>
          <p:nvPr/>
        </p:nvSpPr>
        <p:spPr>
          <a:xfrm>
            <a:off x="8001000" y="38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3"/>
          <p:cNvSpPr/>
          <p:nvPr/>
        </p:nvSpPr>
        <p:spPr>
          <a:xfrm rot="20965200">
            <a:off x="8000640" y="3276720"/>
            <a:ext cx="106668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4"/>
          <p:cNvSpPr/>
          <p:nvPr/>
        </p:nvSpPr>
        <p:spPr>
          <a:xfrm rot="10800000">
            <a:off x="7929360" y="472428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5"/>
          <p:cNvSpPr/>
          <p:nvPr/>
        </p:nvSpPr>
        <p:spPr>
          <a:xfrm flipH="1">
            <a:off x="822960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6"/>
          <p:cNvSpPr/>
          <p:nvPr/>
        </p:nvSpPr>
        <p:spPr>
          <a:xfrm>
            <a:off x="861048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"/>
          <p:cNvSpPr/>
          <p:nvPr/>
        </p:nvSpPr>
        <p:spPr>
          <a:xfrm flipH="1">
            <a:off x="7620120" y="50292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8"/>
          <p:cNvSpPr/>
          <p:nvPr/>
        </p:nvSpPr>
        <p:spPr>
          <a:xfrm>
            <a:off x="8839080" y="49528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81532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>
            <a:off x="8077320" y="5181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колько грамматических ос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1181880" y="382680"/>
            <a:ext cx="71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Сложн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3"/>
          <p:cNvSpPr/>
          <p:nvPr/>
        </p:nvSpPr>
        <p:spPr>
          <a:xfrm>
            <a:off x="7238880" y="3200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4"/>
          <p:cNvSpPr/>
          <p:nvPr/>
        </p:nvSpPr>
        <p:spPr>
          <a:xfrm rot="20965200">
            <a:off x="7238520" y="266688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5"/>
          <p:cNvSpPr/>
          <p:nvPr/>
        </p:nvSpPr>
        <p:spPr>
          <a:xfrm rot="10800000">
            <a:off x="7086240" y="411480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7467480" y="502920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7848720" y="502920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H="1">
            <a:off x="68580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9"/>
          <p:cNvSpPr/>
          <p:nvPr/>
        </p:nvSpPr>
        <p:spPr>
          <a:xfrm>
            <a:off x="8077320" y="43434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0"/>
          <p:cNvSpPr/>
          <p:nvPr/>
        </p:nvSpPr>
        <p:spPr>
          <a:xfrm>
            <a:off x="73152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1"/>
          <p:cNvSpPr/>
          <p:nvPr/>
        </p:nvSpPr>
        <p:spPr>
          <a:xfrm>
            <a:off x="7621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2"/>
          <p:cNvSpPr/>
          <p:nvPr/>
        </p:nvSpPr>
        <p:spPr>
          <a:xfrm rot="20965200">
            <a:off x="761760" y="274320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3"/>
          <p:cNvSpPr/>
          <p:nvPr/>
        </p:nvSpPr>
        <p:spPr>
          <a:xfrm rot="10800000">
            <a:off x="6094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4"/>
          <p:cNvSpPr/>
          <p:nvPr/>
        </p:nvSpPr>
        <p:spPr>
          <a:xfrm flipH="1">
            <a:off x="9903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5"/>
          <p:cNvSpPr/>
          <p:nvPr/>
        </p:nvSpPr>
        <p:spPr>
          <a:xfrm>
            <a:off x="13716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6"/>
          <p:cNvSpPr/>
          <p:nvPr/>
        </p:nvSpPr>
        <p:spPr>
          <a:xfrm flipH="1">
            <a:off x="3808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7"/>
          <p:cNvSpPr/>
          <p:nvPr/>
        </p:nvSpPr>
        <p:spPr>
          <a:xfrm>
            <a:off x="16002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8"/>
          <p:cNvSpPr/>
          <p:nvPr/>
        </p:nvSpPr>
        <p:spPr>
          <a:xfrm>
            <a:off x="8380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>
            <a:off x="2362320" y="4800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дёт, и  мишка  идёт. 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09"/>
          <p:cNvPicPr/>
          <p:nvPr/>
        </p:nvPicPr>
        <p:blipFill>
          <a:blip r:embed="rId1"/>
          <a:stretch/>
        </p:blipFill>
        <p:spPr>
          <a:xfrm>
            <a:off x="762120" y="1676520"/>
            <a:ext cx="2604960" cy="2117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11"/>
          <p:cNvPicPr/>
          <p:nvPr/>
        </p:nvPicPr>
        <p:blipFill>
          <a:blip r:embed="rId2"/>
          <a:stretch/>
        </p:blipFill>
        <p:spPr>
          <a:xfrm>
            <a:off x="3124080" y="3809880"/>
            <a:ext cx="1462320" cy="1595520"/>
          </a:xfrm>
          <a:prstGeom prst="rect">
            <a:avLst/>
          </a:prstGeom>
          <a:ln w="0">
            <a:noFill/>
          </a:ln>
        </p:spPr>
      </p:pic>
      <p:sp>
        <p:nvSpPr>
          <p:cNvPr id="408" name="Line 5"/>
          <p:cNvSpPr/>
          <p:nvPr/>
        </p:nvSpPr>
        <p:spPr>
          <a:xfrm>
            <a:off x="457200" y="83808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5029200" y="838080"/>
            <a:ext cx="16765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7"/>
          <p:cNvSpPr/>
          <p:nvPr/>
        </p:nvSpPr>
        <p:spPr>
          <a:xfrm>
            <a:off x="7086600" y="8380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8"/>
          <p:cNvSpPr/>
          <p:nvPr/>
        </p:nvSpPr>
        <p:spPr>
          <a:xfrm>
            <a:off x="7086600" y="10666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2895480" y="83808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2895480" y="106668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28" dur="5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341E-007 L 0.475 1.7341E-007 E">
                                      <p:cBhvr>
                                        <p:cTn id="32" dur="3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7086600" y="2743200"/>
            <a:ext cx="1523880" cy="609480"/>
          </a:xfrm>
          <a:prstGeom prst="cloudCallout">
            <a:avLst>
              <a:gd name="adj1" fmla="val -46250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 rot="10564200">
            <a:off x="566640" y="289404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ста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ростое пред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butterfly3"/>
          <p:cNvPicPr/>
          <p:nvPr/>
        </p:nvPicPr>
        <p:blipFill>
          <a:blip r:embed="rId1"/>
          <a:stretch/>
        </p:blipFill>
        <p:spPr>
          <a:xfrm>
            <a:off x="1447920" y="38862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butterfly3"/>
          <p:cNvPicPr/>
          <p:nvPr/>
        </p:nvPicPr>
        <p:blipFill>
          <a:blip r:embed="rId2"/>
          <a:stretch/>
        </p:blipFill>
        <p:spPr>
          <a:xfrm>
            <a:off x="5029200" y="42670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27746E-006 C -0.00417 -0.00578 -0.00886 -0.01064 -0.01267 -0.01688 C -0.01649 -0.02312 -0.01771 -0.03029 -0.02222 -0.03584 C -0.02604 -0.04647 -0.0316 -0.05387 -0.03646 -0.06335 C -0.03906 -0.07422 -0.04115 -0.08786 -0.04601 -0.09711 C -0.04913 -0.11445 -0.05313 -0.1311 -0.05712 -0.14798 C -0.06111 -0.19052 -0.0599 -0.22104 -0.05868 -0.26844 C -0.05764 -0.31029 -0.05955 -0.2978 -0.05556 -0.31908 C -0.05504 -0.32763 -0.05504 -0.33619 -0.05382 -0.34451 C -0.05261 -0.35214 -0.03594 -0.37156 -0.03004 -0.3741 C -0.02778 -0.38312 -0.025 -0.3859 -0.02049 -0.39306 C -0.01372 -0.4037 -0.02153 -0.39561 -0.01267 -0.40578 C -0.00521 -0.41434 0.00451 -0.41965 0.01285 -0.42705 C 0.01528 -0.42936 0.01667 -0.43306 0.0191 -0.43538 C 0.02101 -0.43723 0.02344 -0.43815 0.02552 -0.43977 C 0.03298 -0.44601 0.03767 -0.45387 0.04618 -0.45665 C 0.05972 -0.46867 0.08003 -0.47006 0.09531 -0.47145 C 0.11146 -0.47491 0.12812 -0.47098 0.14444 -0.46936 C 0.15417 -0.46613 0.16354 -0.46289 0.17309 -0.45873 C 0.17969 -0.45595 0.17604 -0.45434 0.18108 -0.45017 C 0.18246 -0.44902 0.18437 -0.44925 0.18576 -0.44809 C 0.19219 -0.44347 0.19653 -0.43607 0.2033 -0.4333 C 0.20989 -0.42752 0.21493 -0.42104 0.22222 -0.4185 C 0.22882 -0.41017 0.2375 -0.40532 0.24618 -0.40162 C 0.25173 -0.39676 0.25712 -0.39538 0.26354 -0.39306 C 0.26927 -0.38567 0.27344 -0.38312 0.28108 -0.38058 C 0.29288 -0.36948 0.30694 -0.36671 0.32066 -0.36139 C 0.35382 -0.36301 0.35104 -0.36116 0.37153 -0.36786 C 0.37309 -0.36925 0.37448 -0.3711 0.37621 -0.37202 C 0.37934 -0.37387 0.38576 -0.37619 0.38576 -0.37619 C 0.38958 -0.3815 0.39375 -0.38266 0.39844 -0.38682 C 0.40555 -0.40023 0.39705 -0.38682 0.40798 -0.39538 C 0.41528 -0.40093 0.41614 -0.40671 0.42552 -0.41017 C 0.42934 -0.4141 0.43264 -0.41896 0.43663 -0.42266 C 0.44062 -0.42613 0.44514 -0.42798 0.4493 -0.43121 C 0.45677 -0.44601 0.44757 -0.43052 0.45729 -0.43977 C 0.46979 -0.45156 0.45729 -0.44601 0.46996 -0.45017 C 0.475 -0.45549 0.47812 -0.46012 0.4842 -0.46289 C 0.49826 -0.477 0.49184 -0.47353 0.50173 -0.47769 C 0.5092 -0.48786 0.51701 -0.49202 0.52708 -0.49457 C 0.54983 -0.50705 0.55955 -0.49942 0.59062 -0.49665 C 0.59739 -0.49364 0.60434 -0.49133 0.61111 -0.48832 C 0.61545 -0.48278 0.62552 -0.47353 0.62552 -0.47353 C 0.63038 -0.46358 0.63663 -0.45434 0.64288 -0.44601 C 0.64496 -0.43769 0.64618 -0.42913 0.64774 -0.42058 C 0.6533 -0.3533 0.65729 -0.2837 0.64444 -0.2178 C 0.6408 -0.16254 0.63385 -0.10127 0.6493 -0.04856 C 0.65191 -0.02382 0.65295 0.000459999999999999 0.65399 0.02543 C 0.65347 0.05017 0.65382 0.07491 0.65243 0.09942 C 0.65173 0.11144 0.64201 0.13503 0.63819 0.1459 C 0.6342 0.15769 0.63177 0.16855 0.62396 0.17549 C 0.61927 0.18474 0.61371 0.19491 0.60642 0.20092 C 0.60503 0.20208 0.6033 0.20208 0.60173 0.203 C 0.5941 0.20809 0.58576 0.21341 0.57778 0.2178 C 0.57552 0.21919 0.56528 0.2215 0.56354 0.22196 C 0.55677 0.22405 0.55087 0.22705 0.54444 0.23052 C 0.5375 0.23977 0.5276 0.24254 0.51753 0.24324 C 0.46042 0.24786 0.48246 0.24485 0.45087 0.24948 C 0.41614 0.24809 0.40295 0.25064 0.37621 0.24092 C 0.36753 0.23399 0.35903 0.22983 0.3493 0.22613 C 0.34358 0.22127 0.3375 0.22058 0.33177 0.21572 C 0.32378 0.20902 0.31736 0.20116 0.30955 0.19445 C 0.29913 0.18566 0.30694 0.19144 0.3 0.18405 C 0.29583 0.17965 0.28733 0.17133 0.28733 0.17133 C 0.28142 0.15907 0.27274 0.14983 0.2651 0.13965 C 0.25156 0.12162 0.23889 0.10266 0.22552 0.08462 C 0.22309 0.08116 0.22257 0.07584 0.22066 0.07191 C 0.21614 0.0622 0.20955 0.05387 0.20486 0.04439 C 0.19219 0.01896 0.18437 -0.01041 0.17153 -0.03584 C 0.16962 -0.04671 0.16684 -0.05295 0.16354 -0.06335 C 0.15903 -0.07746 0.15729 -0.09272 0.15087 -0.10567 C 0.14809 -0.12116 0.14184 -0.1348 0.13819 -0.15006 C 0.13663 -0.1563 0.13663 -0.16301 0.13507 -0.16902 C 0.13385 -0.17387 0.12847 -0.18428 0.12708 -0.18821 C 0.12344 -0.19792 0.12048 -0.20948 0.11753 -0.21989 C 0.11684 -0.22266 0.11701 -0.22567 0.11597 -0.22821 C 0.11476 -0.23075 0.1125 -0.23237 0.11111 -0.23468 C 0.10729 -0.24093 0.10364 -0.24717 0.1 -0.25364 C 0.08976 -0.27168 0.08889 -0.27353 0.07153 -0.28116 C 0.05364 -0.28 0.04097 -0.28301 0.02708 -0.27052 C 0.02378 -0.25711 0.02378 -0.26035 0.02708 -0.23676 C 0.02743 -0.23422 0.03021 -0.23283 0.03021 -0.23029 C 0.03021 -0.2289 0.02812 -0.23029 0.02708 -0.23029 E">
                                      <p:cBhvr>
                                        <p:cTn id="38" dur="5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82081E-006 C -0.00156 -0.00139 -0.00486 -0.00163 -0.00486 -0.00417 C -0.00486 -0.00671 -0.00173 -0.00741 -1.38889E-006 -0.00856 C 0.00296 -0.01018 0.01372 -0.01226 0.0158 -0.01272 C 0.02153 -0.01527 0.02761 -0.01642 0.03334 -0.01897 C 0.03664 -0.0222 0.03907 -0.02706 0.04271 -0.0296 C 0.04723 -0.03284 0.05296 -0.03238 0.05712 -0.03608 C 0.0625 -0.0407 0.06667 -0.04232 0.07292 -0.0444 C 0.07882 -0.04949 0.08542 -0.05434 0.09202 -0.05712 C 0.09306 -0.0592 0.09375 -0.06151 0.09514 -0.06336 C 0.09653 -0.06521 0.09879 -0.06567 0.1 -0.06775 C 0.10643 -0.07746 0.10521 -0.0844 0.11268 -0.09087 L 0.12379 -0.10775 C 0.12587 -0.11191 0.13004 -0.12047 0.13004 -0.12047 C 0.1323 -0.12949 0.13837 -0.14012 0.14271 -0.14798 C 0.14428 -0.16139 0.14757 -0.17319 0.1507 -0.18613 C 0.14966 -0.22128 0.15 -0.25665 0.14757 -0.2918 C 0.14584 -0.31746 0.13716 -0.34729 0.1316 -0.37203 C 0.12813 -0.38729 0.1257 -0.40972 0.11893 -0.4229 C 0.11337 -0.44556 0.11007 -0.4733 0.09671 -0.49041 C 0.09167 -0.50775 0.08247 -0.52001 0.07448 -0.5348 C 0.06928 -0.54452 0.06667 -0.55793 0.06025 -0.56648 C 0.02691 -0.61087 -0.03003 -0.62821 -0.07465 -0.64047 C -0.09392 -0.64579 -0.11371 -0.64347 -0.13333 -0.64486 C -0.20416 -0.64347 -0.27395 -0.64301 -0.34444 -0.63423 C -0.36302 -0.62937 -0.38072 -0.61966 -0.39843 -0.61087 C -0.40798 -0.59862 -0.41718 -0.58706 -0.42552 -0.57295 C -0.42743 -0.56486 -0.43055 -0.55978 -0.43506 -0.55399 C -0.43697 -0.54613 -0.4401 -0.54082 -0.44444 -0.5348 C -0.44947 -0.51053 -0.46527 -0.49272 -0.47309 -0.46937 C -0.47881 -0.45226 -0.48055 -0.42983 -0.49062 -0.41642 C -0.49375 -0.39954 -0.49913 -0.38544 -0.50486 -0.36995 C -0.50833 -0.36047 -0.50833 -0.35145 -0.51284 -0.34243 C -0.51718 -0.32532 -0.52256 -0.30798 -0.52864 -0.2918 C -0.53072 -0.28047 -0.53472 -0.27076 -0.53819 -0.26012 C -0.53993 -0.25457 -0.54079 -0.24856 -0.54288 -0.24324 C -0.55104 -0.22197 -0.54027 -0.25873 -0.55086 -0.22405 C -0.55295 -0.21758 -0.55572 -0.20278 -0.55729 -0.19654 C -0.55833 -0.19238 -0.56041 -0.18405 -0.56041 -0.18405 C -0.55989 -0.16347 -0.56024 -0.1429 -0.55885 -0.12255 C -0.55868 -0.11931 -0.55625 -0.11723 -0.55555 -0.11423 C -0.55138 -0.09827 -0.55034 -0.08902 -0.54131 -0.07399 C -0.53715 -0.06706 -0.53211 -0.06082 -0.52864 -0.05295 C -0.50989 -0.01064 -0.48142 0.02057 -0.45555 0.05502 C -0.45243 0.05918 -0.44774 0.06127 -0.44444 0.06543 C -0.42881 0.08462 -0.44184 0.07653 -0.42395 0.09294 C -0.40086 0.11421 -0.37586 0.12924 -0.35086 0.14589 C -0.32673 0.16207 -0.35052 0.15283 -0.32222 0.16069 C -0.29843 0.17502 -0.27482 0.18566 -0.2493 0.19236 C -0.23142 0.20416 -0.21041 0.203 -0.19062 0.20508 C -0.16197 0.20439 -0.13333 0.20601 -0.10486 0.203 C -0.09288 0.20184 -0.08177 0.19398 -0.06996 0.19236 C -0.04027 0.18265 -0.01093 0.17063 0.01893 0.16277 C 0.02622 0.15653 0.03525 0.1556 0.04271 0.15005 C 0.05539 0.14057 0.05035 0.14311 0.06337 0.13733 C 0.07014 0.12878 0.07865 0.1297 0.08716 0.12254 C 0.09237 0.11814 0.09792 0.11444 0.10313 0.10982 C 0.11164 0.10242 0.12032 0.08901 0.13004 0.08462 C 0.14115 0.06982 0.13525 0.07329 0.14601 0.06982 C 0.1606 0.0504 0.17431 0.03005 0.18889 0.01063 C 0.19289 0.00531 0.19757 0.00115 0.20157 -0.00417 C 0.20278 -0.00579 0.20487 -0.00532 0.20625 -0.00648 C 0.20851 -0.00833 0.2106 -0.01041 0.21268 -0.01272 C 0.21841 -0.0192 0.22223 -0.02845 0.22691 -0.03608 C 0.2283 -0.03839 0.23039 -0.03978 0.2316 -0.04232 C 0.23421 -0.04764 0.23803 -0.0592 0.23803 -0.0592 C 0.24723 -0.1096 0.2382 -0.17642 0.22848 -0.22845 C 0.22553 -0.2444 0.21823 -0.25897 0.2158 -0.27492 C 0.20869 -0.32255 0.21546 -0.28509 0.21112 -0.30868 C 0.21112 -0.30983 0.21424 -0.37642 0.21424 -0.40371 E">
                                      <p:cBhvr>
                                        <p:cTn id="42" dur="5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26"/>
          <p:cNvPicPr/>
          <p:nvPr/>
        </p:nvPicPr>
        <p:blipFill>
          <a:blip r:embed="rId1"/>
          <a:stretch/>
        </p:blipFill>
        <p:spPr>
          <a:xfrm>
            <a:off x="30481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4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disney239"/>
          <p:cNvPicPr/>
          <p:nvPr/>
        </p:nvPicPr>
        <p:blipFill>
          <a:blip r:embed="rId1"/>
          <a:stretch/>
        </p:blipFill>
        <p:spPr>
          <a:xfrm>
            <a:off x="533520" y="3048120"/>
            <a:ext cx="2333520" cy="2190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disney163"/>
          <p:cNvPicPr/>
          <p:nvPr/>
        </p:nvPicPr>
        <p:blipFill>
          <a:blip r:embed="rId2"/>
          <a:stretch/>
        </p:blipFill>
        <p:spPr>
          <a:xfrm>
            <a:off x="6324480" y="28195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disney1"/>
          <p:cNvPicPr/>
          <p:nvPr/>
        </p:nvPicPr>
        <p:blipFill>
          <a:blip r:embed="rId3"/>
          <a:stretch/>
        </p:blipFill>
        <p:spPr>
          <a:xfrm>
            <a:off x="3581280" y="2743200"/>
            <a:ext cx="2194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disney128"/>
          <p:cNvPicPr/>
          <p:nvPr/>
        </p:nvPicPr>
        <p:blipFill>
          <a:blip r:embed="rId1"/>
          <a:stretch/>
        </p:blipFill>
        <p:spPr>
          <a:xfrm>
            <a:off x="5638680" y="228600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disney158"/>
          <p:cNvPicPr/>
          <p:nvPr/>
        </p:nvPicPr>
        <p:blipFill>
          <a:blip r:embed="rId2"/>
          <a:stretch/>
        </p:blipFill>
        <p:spPr>
          <a:xfrm>
            <a:off x="1447920" y="2362320"/>
            <a:ext cx="203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ста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ложно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disney2"/>
          <p:cNvPicPr/>
          <p:nvPr/>
        </p:nvPicPr>
        <p:blipFill>
          <a:blip r:embed="rId1"/>
          <a:stretch/>
        </p:blipFill>
        <p:spPr>
          <a:xfrm>
            <a:off x="1371600" y="2362320"/>
            <a:ext cx="2489040" cy="2985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dis35"/>
          <p:cNvPicPr/>
          <p:nvPr/>
        </p:nvPicPr>
        <p:blipFill>
          <a:blip r:embed="rId2"/>
          <a:stretch/>
        </p:blipFill>
        <p:spPr>
          <a:xfrm>
            <a:off x="5562720" y="243828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айд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грамматическую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снов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бята гуляли в осеннем лесу и собирали гриб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бята гуляли в осеннем лесу и собирали гриб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>
            <a:off x="838080" y="2362320"/>
            <a:ext cx="2057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3200400" y="2362320"/>
            <a:ext cx="19051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3200400" y="2514600"/>
            <a:ext cx="1981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7"/>
          <p:cNvSpPr/>
          <p:nvPr/>
        </p:nvSpPr>
        <p:spPr>
          <a:xfrm>
            <a:off x="3200400" y="3048120"/>
            <a:ext cx="2895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3200400" y="3276720"/>
            <a:ext cx="2895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447920" y="2286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евочка по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7086600" y="2743200"/>
            <a:ext cx="1523880" cy="609480"/>
          </a:xfrm>
          <a:prstGeom prst="cloudCallout">
            <a:avLst>
              <a:gd name="adj1" fmla="val -46250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4"/>
          <p:cNvSpPr/>
          <p:nvPr/>
        </p:nvSpPr>
        <p:spPr>
          <a:xfrm rot="10564200">
            <a:off x="566640" y="289404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95288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2209680" y="990720"/>
            <a:ext cx="2514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952880" y="91440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зера улетели утки и гу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зера улетели утки и гу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962520" y="3048120"/>
            <a:ext cx="1447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6248520" y="228600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657600" y="228600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3657600" y="243828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ча по небу идё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чка по морю плыв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ча по небу идё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чка по морю плыв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1828800" y="26668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5867280" y="26668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867280" y="281952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1066680" y="3581280"/>
            <a:ext cx="16002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5715000" y="358128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5715000" y="373392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"/>
          <p:cNvSpPr/>
          <p:nvPr/>
        </p:nvSpPr>
        <p:spPr>
          <a:xfrm>
            <a:off x="838080" y="510552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"/>
          <p:cNvSpPr/>
          <p:nvPr/>
        </p:nvSpPr>
        <p:spPr>
          <a:xfrm>
            <a:off x="1676520" y="51814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676520" y="50292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3200400" y="51055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4"/>
          <p:cNvSpPr/>
          <p:nvPr/>
        </p:nvSpPr>
        <p:spPr>
          <a:xfrm>
            <a:off x="4038480" y="502920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4038480" y="518148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орлица по синему небу, крылья распластала, солнышко застл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орлица по синему небу, крылья распластала, солнышко застл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    ,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838080" y="2286000"/>
            <a:ext cx="1752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2895480" y="2286000"/>
            <a:ext cx="2133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838080" y="2438280"/>
            <a:ext cx="1752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1066680" y="3809880"/>
            <a:ext cx="3810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1066680" y="3962520"/>
            <a:ext cx="3810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1066680" y="4572000"/>
            <a:ext cx="2590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1066680" y="4724280"/>
            <a:ext cx="2590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838080" y="563868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167652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25146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51460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"/>
          <p:cNvSpPr/>
          <p:nvPr/>
        </p:nvSpPr>
        <p:spPr>
          <a:xfrm>
            <a:off x="350532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350532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таял снег среди полей, сбегает под гору руч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таял снег среди полей, сбегает под гору руч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[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"/>
          <p:cNvSpPr/>
          <p:nvPr/>
        </p:nvSpPr>
        <p:spPr>
          <a:xfrm>
            <a:off x="609480" y="2286000"/>
            <a:ext cx="2438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"/>
          <p:cNvSpPr/>
          <p:nvPr/>
        </p:nvSpPr>
        <p:spPr>
          <a:xfrm>
            <a:off x="609480" y="243828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"/>
          <p:cNvSpPr/>
          <p:nvPr/>
        </p:nvSpPr>
        <p:spPr>
          <a:xfrm>
            <a:off x="3276720" y="2362320"/>
            <a:ext cx="12189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3276720" y="304812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3276720" y="320040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914400" y="3809880"/>
            <a:ext cx="18288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914400" y="52578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9144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1676520" y="53341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3429000" y="52578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34290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4191120" y="53341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 rot="20965200">
            <a:off x="4038120" y="2514600"/>
            <a:ext cx="106704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4190760" y="4876920"/>
            <a:ext cx="1522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4648320" y="487692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388620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472428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- -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rot="20965200">
            <a:off x="4038120" y="2514600"/>
            <a:ext cx="106704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4190760" y="4876920"/>
            <a:ext cx="1522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4648320" y="487692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88620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72428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177560" y="754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- -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838080" y="3049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евочка  поёт  песн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4343400" y="121932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6095880" y="1066680"/>
            <a:ext cx="190512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426708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447920" y="990720"/>
            <a:ext cx="2514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 rot="10564200">
            <a:off x="1751760" y="2977920"/>
            <a:ext cx="1490760" cy="588960"/>
          </a:xfrm>
          <a:prstGeom prst="cloudCallout">
            <a:avLst>
              <a:gd name="adj1" fmla="val -63944"/>
              <a:gd name="adj2" fmla="val 50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~~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3048120" y="5859360"/>
            <a:ext cx="35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3886200" y="2590920"/>
            <a:ext cx="1295280" cy="761760"/>
          </a:xfrm>
          <a:prstGeom prst="cloudCallout">
            <a:avLst>
              <a:gd name="adj1" fmla="val -41055"/>
              <a:gd name="adj2" fmla="val 3750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1"/>
          <p:cNvSpPr/>
          <p:nvPr/>
        </p:nvSpPr>
        <p:spPr>
          <a:xfrm>
            <a:off x="4648320" y="4952880"/>
            <a:ext cx="307800" cy="55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2"/>
          <p:cNvSpPr/>
          <p:nvPr/>
        </p:nvSpPr>
        <p:spPr>
          <a:xfrm>
            <a:off x="4267080" y="4952880"/>
            <a:ext cx="265320" cy="603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3"/>
          <p:cNvSpPr/>
          <p:nvPr/>
        </p:nvSpPr>
        <p:spPr>
          <a:xfrm>
            <a:off x="4716360" y="4270320"/>
            <a:ext cx="405000" cy="2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4"/>
          <p:cNvSpPr/>
          <p:nvPr/>
        </p:nvSpPr>
        <p:spPr>
          <a:xfrm>
            <a:off x="4017960" y="4273560"/>
            <a:ext cx="322200" cy="34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85800" y="3826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0564200">
            <a:off x="1751760" y="2977920"/>
            <a:ext cx="1490760" cy="588960"/>
          </a:xfrm>
          <a:prstGeom prst="cloudCallout">
            <a:avLst>
              <a:gd name="adj1" fmla="val -63944"/>
              <a:gd name="adj2" fmla="val 50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~~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8120" y="5859360"/>
            <a:ext cx="35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886200" y="2590920"/>
            <a:ext cx="1295280" cy="761760"/>
          </a:xfrm>
          <a:prstGeom prst="cloudCallout">
            <a:avLst>
              <a:gd name="adj1" fmla="val -41055"/>
              <a:gd name="adj2" fmla="val 3750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4648320" y="4952880"/>
            <a:ext cx="307800" cy="55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4267080" y="4952880"/>
            <a:ext cx="265320" cy="603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716360" y="4270320"/>
            <a:ext cx="405000" cy="2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4"/>
          <p:cNvSpPr/>
          <p:nvPr/>
        </p:nvSpPr>
        <p:spPr>
          <a:xfrm>
            <a:off x="4017960" y="4273560"/>
            <a:ext cx="322200" cy="34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380880" y="304920"/>
            <a:ext cx="8229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ленькая девочка   поёт  песн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486400" y="1219320"/>
            <a:ext cx="99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6781680" y="990720"/>
            <a:ext cx="144792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BD14710_"/>
          <p:cNvPicPr/>
          <p:nvPr/>
        </p:nvPicPr>
        <p:blipFill>
          <a:blip r:embed="rId1"/>
          <a:stretch/>
        </p:blipFill>
        <p:spPr>
          <a:xfrm>
            <a:off x="380880" y="998640"/>
            <a:ext cx="2743200" cy="220680"/>
          </a:xfrm>
          <a:prstGeom prst="rect">
            <a:avLst/>
          </a:prstGeom>
          <a:ln w="0">
            <a:noFill/>
          </a:ln>
        </p:spPr>
      </p:pic>
      <p:sp>
        <p:nvSpPr>
          <p:cNvPr id="156" name="Line 32"/>
          <p:cNvSpPr/>
          <p:nvPr/>
        </p:nvSpPr>
        <p:spPr>
          <a:xfrm>
            <a:off x="3276720" y="1066680"/>
            <a:ext cx="1752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3"/>
          <p:cNvSpPr/>
          <p:nvPr/>
        </p:nvSpPr>
        <p:spPr>
          <a:xfrm>
            <a:off x="5486400" y="1066680"/>
            <a:ext cx="99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 rot="20965200">
            <a:off x="3962160" y="2514240"/>
            <a:ext cx="137160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4114440" y="4876920"/>
            <a:ext cx="228600" cy="83808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4648320" y="48769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3809880" y="42670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724280" y="4267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28600" y="380880"/>
            <a:ext cx="87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5638680" y="2743200"/>
            <a:ext cx="1905120" cy="762120"/>
          </a:xfrm>
          <a:prstGeom prst="cloudCallout">
            <a:avLst>
              <a:gd name="adj1" fmla="val -47000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4191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rot="20965200">
            <a:off x="3962160" y="2514240"/>
            <a:ext cx="137160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H="1">
            <a:off x="4114440" y="4876920"/>
            <a:ext cx="228600" cy="83808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4648320" y="48769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3809880" y="42670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4724280" y="4267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228600" y="380880"/>
            <a:ext cx="87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аленькая  девочка  громко  поёт  пес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5638680" y="2743200"/>
            <a:ext cx="1905120" cy="762120"/>
          </a:xfrm>
          <a:prstGeom prst="cloudCallout">
            <a:avLst>
              <a:gd name="adj1" fmla="val -47000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4191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2743200" y="1066680"/>
            <a:ext cx="16002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464832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6248520" y="106668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6248520" y="121932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7391520" y="106668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1" descr="BD14710_"/>
          <p:cNvPicPr/>
          <p:nvPr/>
        </p:nvPicPr>
        <p:blipFill>
          <a:blip r:embed="rId1"/>
          <a:stretch/>
        </p:blipFill>
        <p:spPr>
          <a:xfrm>
            <a:off x="304920" y="914400"/>
            <a:ext cx="22096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Кислова</cp:lastModifiedBy>
  <dcterms:modified xsi:type="dcterms:W3CDTF">2022-08-14T05:44:36Z</dcterms:modified>
  <cp:revision>12</cp:revision>
  <dc:subject/>
  <dc:title>PowerPoint Presentation</dc:title>
</cp:coreProperties>
</file>