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D04F-7996-4321-B0E7-81373A0F6B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412-B9CB-4D3E-BA22-B89025FB1D77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6100-AE49-4D18-B17E-75125A4725DD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47D1-F5E0-4C80-B3E5-03C44A60F1AC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7715-5A96-4D3D-955F-E59E98D5E841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C940-A80F-4DD5-BC93-9F842762B8D9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8F85-0530-4D20-A38B-A5C4A5B59EC0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3D64-7FF3-4603-8B21-E1D290905D5C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DA8-1F7A-4ABF-A4E5-3288E205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68D-A056-484C-A22A-393ABE3C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4FF-3F8F-4C55-A396-38C55C8A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0D8-EE82-4A8E-BCBD-3373A431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FDAA-FD12-4AC0-9D56-81F5C2F7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6746-E3E6-47B7-A834-97C73461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DECD-B22B-46DA-A4BA-DDD97BB0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3E48-1FA9-453C-93A4-1F9A0E3A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2CC2-C9ED-4A79-B96F-010D998F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31F7-D0A1-4C6F-82E6-9C4E1BB0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EBE6-2DCB-4DDA-8D4E-4D7ADF08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8AF-2B26-4BC7-9C4F-7BC5F52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DEFA-2099-4AD6-A3EF-718C30F9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EA10-CAD7-430C-B71F-E73C00B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A389-B56B-44E9-97B2-48E29574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D577-0651-4974-A3DE-8C326E3B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8E9F-4EE7-49C3-A37D-FD289A0F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72C-6CE2-4F5B-926C-EA5808D0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77C-5C5D-44C3-9016-B90BDF35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279-2FD2-4CEF-A85A-0E14C97C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4CA-E0E9-4CAF-A49D-E6B0480B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AA4-DC6E-47CA-A5A2-66F5B1C2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896-866D-4D30-9BEB-8F14B78B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068-EEBB-4FA6-959C-C63CA020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1B90-8BAA-4A5D-8AF8-AA9C115971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E7A0-FB45-441D-BB0D-EC88FF6164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237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СТРОЕНИЕ ТРЕНИРОВКИ В МИКРОЦИКЛА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74320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ОДГОТОВИТЕЛЬНЫЙ  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моделирует собственно соревновательные нагрузки, как бы настраивая организм на предстоящие ответственные стар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ля него характерно использование тренировок со значительными нагрузками в сочетании с контрольными старт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ОДВОДЯЩИЙ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водящий МЦ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посредственно предшествует собственно соревновательному МЦ и строится в строгой взаимосвязи с ним, создавая условия для восстановления и моделирования соревнова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912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ОБСТВЕННО-СОРЕВНОВАТЕЛЬНЫЙ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вершающее звено подготовки, включающее само участие в ответственных соревнованиях (следует иметь в виду, что далеко не ко всем соревнованиям спортсмены подходят через «цепочку» подготовительных, подводящих и соревновательных микроцикл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ВОССТАНОВИТЕЛЬНЫЙ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730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сстановительный МЦ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ет задачей активный отдых посредством переключения двигательных заданий, мест занятий, особенно путем снижения нагрузочности тренировки как по объему, так и по интенс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98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бы правильно построить микроцикл тренировки необходимо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88880" y="2421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 знать, какое воздействие оказывают на спортсмена нагрузки, различные по величине и направленности, каковы динамика и продолжительность процессов восстановления посл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х, особенно после больш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ы сведения о кумулятивном эффекте нескольких различных по величине и направленности нагрузок, о желательности или нежелательности их совместного использования в занят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устимые сочетания больших и значительных нагрузок различной направленности в рамках одного тренировочного занятия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7520" y="1628640"/>
          <a:ext cx="8507520" cy="4707000"/>
        </p:xfrm>
        <a:graphic>
          <a:graphicData uri="http://schemas.openxmlformats.org/drawingml/2006/table">
            <a:tbl>
              <a:tblPr/>
              <a:tblGrid>
                <a:gridCol w="3678120"/>
                <a:gridCol w="4829400"/>
              </a:tblGrid>
              <a:tr h="627120">
                <a:tc>
                  <a:txBody>
                    <a:bodyPr lIns="25560" rIns="25560" tIns="0" bIns="0" anchor="t">
                      <a:noAutofit/>
                    </a:bodyPr>
                    <a:p>
                      <a:pPr marL="512640" indent="3240">
                        <a:lnSpc>
                          <a:spcPts val="9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 indent="3240">
                        <a:lnSpc>
                          <a:spcPts val="9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первой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 indent="3240">
                        <a:lnSpc>
                          <a:spcPts val="9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12640">
                        <a:lnSpc>
                          <a:spcPts val="8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>
                        <a:lnSpc>
                          <a:spcPts val="8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второй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>
                        <a:lnSpc>
                          <a:spcPts val="8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457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505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17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ые качества,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ая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коростно-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019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ая и скоростная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6030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иды выносливост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924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6030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иды выносливост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иболее неблагоприятные сочетания больших и значительных нагрузок различной направленности в рамках одного тренировочного занятия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2880" y="1420920"/>
          <a:ext cx="8598240" cy="5300640"/>
        </p:xfrm>
        <a:graphic>
          <a:graphicData uri="http://schemas.openxmlformats.org/drawingml/2006/table">
            <a:tbl>
              <a:tblPr/>
              <a:tblGrid>
                <a:gridCol w="4083120"/>
                <a:gridCol w="45151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ность первой 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ность второй 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ила, все виды выносливост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качества, 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остно-силов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остн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, скоростно-силовые качества, 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, скоростно-силовые качества, 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остно-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79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, скоростно-силовые качества, 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икроциклом тренировк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ывают совокупность нескольких занятий, которые составляют относительно законченный фрагмент тренировочного процесса, обеспечивающий оптимальное сочетание следовых тренировочных эффектов для решения задач данного этапа подготов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4141800" y="347652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ельность микроциклов  от 2-4 до 10-14 дней, однако в тренировке спортсменов наиболее распространены недельные микроцик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циклы иной продолжительности обычно планируют лишь в соревнователь­ном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3048120" y="36306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МИКРОЦИКЛ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600200"/>
          <a:ext cx="8856720" cy="5018040"/>
        </p:xfrm>
        <a:graphic>
          <a:graphicData uri="http://schemas.openxmlformats.org/drawingml/2006/table">
            <a:tbl>
              <a:tblPr/>
              <a:tblGrid>
                <a:gridCol w="2730600"/>
                <a:gridCol w="3321000"/>
                <a:gridCol w="28051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НИРОВОЧ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СТАНОВИТЕЛЬНЫЕ    (разгрузочные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РЕВНОВА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. Втягива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. восстановительно-разгрузоч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. Подготови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. Развива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. восстановительно-компенсиру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. Подводя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. Удар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. восстановительно-под­держива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. Собственно-соревнова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. Стабилизиру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. восстановительно-подготови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796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. восстановительно-про­филактические и др.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ТЯГИВАЮЩИЙ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тягивающий МЦ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ется невысокой суммарной нагрузочностью с постепенным ее увеличением до значительной и направлен на подведение организма к выполнению напряжен­ной тренировочной нагруз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4248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ЗВИВАЮЩИЙ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азвивающий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Ц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етс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ением достаточно высокой нагрузки, вызывающей эффект суперкомпенсации и прирост показателей по отдельным сторонам подготовленности, но напряженность тренировочного процесса в них еще не приближается к предельному уровн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3744720" cy="25448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2"/>
          <a:stretch/>
        </p:blipFill>
        <p:spPr>
          <a:xfrm>
            <a:off x="4327560" y="3635280"/>
            <a:ext cx="45720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ДАРНЫЙ  МЦ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дарный МЦ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ется наиболее высокой (близкой к околопредельной и предельной) суммарной нагрузочностью, и в подготовке квалифицированных спортсменов составляет основу подготовительного периода, находя применение и в соревнователь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4543560" y="4005360"/>
            <a:ext cx="4211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ТАБИЛИЗИРУЮЩИЙ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 применяется для удержания показателей подготовленности на достигнутом уровне, причем нагрузочность тренировки несколько снижается (как правило, за счет снижения объема при сохранения достаточно высокой интенсив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часто используется после ударных микроциклов и в соревновательном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5508720" y="4149720"/>
            <a:ext cx="33224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К группе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оревновательных микроциклов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относя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2828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ГОТОВИ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ВОДЯ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СТВЕННО-СОРЕВНОВ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43:55Z</dcterms:created>
  <dc:creator>Admin</dc:creator>
  <dc:description/>
  <dc:language>en-US</dc:language>
  <cp:lastModifiedBy>Asus-pc</cp:lastModifiedBy>
  <dcterms:modified xsi:type="dcterms:W3CDTF">2023-09-22T17:20:39Z</dcterms:modified>
  <cp:revision>52</cp:revision>
  <dc:subject/>
  <dc:title>СКОРОСТНЫЕ  СПОСОБНОСТИ</dc:title>
</cp:coreProperties>
</file>