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DB916-8538-4A41-81B7-E66D70EC4EB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EAA0D-2BC9-4E81-9E82-9FB9B9ADB638}" type="slidenum">
              <a:rPr b="0" i="1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6DB14-2597-4637-929B-88A75CBF2A11}" type="slidenum">
              <a:rPr b="0" i="1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D2BFB-471A-4EB0-9FB0-1534C20568E8}" type="slidenum">
              <a:rPr b="0" i="1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49DD2-1C41-4DAB-BEEB-E2AE708977A7}" type="slidenum">
              <a:rPr b="0" i="1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0E6F2-44FE-4981-A4C2-607FE0323A91}" type="slidenum">
              <a:rPr b="0" i="1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A1883-C1BE-40B1-8DE8-3C643550E0AD}" type="slidenum">
              <a:rPr b="0" i="1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3484C-00A8-415F-A723-F7F75617B6B2}" type="slidenum">
              <a:rPr b="0" i="1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C342-2478-45D6-A1FA-B52A5E391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8800-7360-493C-B5A2-7765FC613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DA12-6C28-44DA-8301-55E846E78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993B-04F5-4DF2-A4AF-7AD022536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B3A77-BB96-49E4-B051-C47BD4A09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45592-670D-4F5E-835C-577375132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BE518-9E07-4F95-835E-09565E24F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C6AA3-46A4-4148-8739-0F735836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F879D-DB0C-42C6-8F97-6D92779BA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256B2-2E47-41F9-A10A-AF2915C1F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C1E14-D3A5-4D73-A226-5E0374FC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60BC-436E-4F18-B23F-3DFF72D7C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A3F59-D769-42DC-9153-D964E66B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6ADEB-79DC-4C0C-B395-CB348B01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3A945-4906-4DE5-80D6-7516B155F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765B6-00D3-45A0-A131-ECBAF49DD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2E2FD-4F72-4164-8246-4F2113BCC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28E1-B980-4323-B005-F2C0E164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4D73-C2C8-42F7-A55F-F654A0D9E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75B1-1631-4E39-BA2B-7F21FEA79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1783-2BF0-4EE5-8B79-CFB0B5FDD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DCB8-1726-4476-8A07-6A1F0CEA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3873-7962-4C39-94EE-F88CEB4D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03DE-8E13-4FB3-A4A3-E37A5391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04DA4-A84B-4ADB-B2ED-E04A4F300D2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9CC01-FC70-441B-BB79-6156BC63371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268280"/>
            <a:ext cx="7772400" cy="22370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ОСТРОЕНИЕ ТРЕНИРОВКИ В МИКРОЦИКЛАХ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743200" y="522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ПОДГОТОВИТЕЛЬНЫЙ    МЦ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моделирует собственно соревновательные нагрузки, как бы настраивая организм на предстоящие ответственные стар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для него характерно использование тренировок со значительными нагрузками в сочетании с контрольными старта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ПОДВОДЯЩИЙ  МЦ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дводящий МЦ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непосредственно предшествует собственно соревновательному МЦ и строится в строгой взаимосвязи с ним, создавая условия для восстановления и моделирования соревновательной деятель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1912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СОБСТВЕННО-СОРЕВНОВАТЕЛЬНЫЙ МЦ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завершающее звено подготовки, включающее само участие в ответственных соревнованиях (следует иметь в виду, что далеко не ко всем соревнованиям спортсмены подходят через «цепочку» подготовительных, подводящих и соревновательных микроциклов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ВОССТАНОВИТЕЛЬНЫЙ  МЦ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77300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Восстановительный МЦ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меет задачей активный отдых посредством переключения двигательных заданий, мест занятий, особенно путем снижения нагрузочности тренировки как по объему, так и по интенсив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98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Чтобы правильно построить микроцикл тренировки необходимо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88880" y="242100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обходимо знать, какое воздействие оказывают на спортсмена нагрузки, различные по величине и направленности, каковы динамика и продолжительность процессов восстановления после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их, особенно после больши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ажны сведения о кумулятивном эффекте нескольких различных по величине и направленности нагрузок, о желательности или нежелательности их совместного использования в занят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пустимые сочетания больших и значительных нагрузок различной направленности в рамках одного тренировочного занятия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17520" y="1628640"/>
          <a:ext cx="8507520" cy="4707000"/>
        </p:xfrm>
        <a:graphic>
          <a:graphicData uri="http://schemas.openxmlformats.org/drawingml/2006/table">
            <a:tbl>
              <a:tblPr/>
              <a:tblGrid>
                <a:gridCol w="3678120"/>
                <a:gridCol w="4829400"/>
              </a:tblGrid>
              <a:tr h="627120">
                <a:tc>
                  <a:txBody>
                    <a:bodyPr lIns="25560" rIns="25560" tIns="0" bIns="0" anchor="t">
                      <a:noAutofit/>
                    </a:bodyPr>
                    <a:p>
                      <a:pPr marL="512640" indent="3240">
                        <a:lnSpc>
                          <a:spcPts val="91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12640" indent="3240">
                        <a:lnSpc>
                          <a:spcPts val="91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ность первой 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12640" indent="3240">
                        <a:lnSpc>
                          <a:spcPts val="91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грузки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8a500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512640">
                        <a:lnSpc>
                          <a:spcPts val="89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12640">
                        <a:lnSpc>
                          <a:spcPts val="89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ность второй 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12640">
                        <a:lnSpc>
                          <a:spcPts val="89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грузки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8a500"/>
                    </a:solidFill>
                  </a:tcPr>
                </a:tc>
              </a:tr>
              <a:tr h="45720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ика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ные качества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  <a:tr h="5050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ные качества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но-силовые качества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</a:tr>
              <a:tr h="9172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ла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ts val="998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но-силовые качества, 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ts val="998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ная 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ts val="998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скоростно-силовая выносливость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ts val="998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  <a:tr h="6019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но-силовые качества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ts val="1023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но-силовая и скоростная 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ts val="1023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носливость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</a:tr>
              <a:tr h="60300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ная выносливость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виды выносливости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  <a:tr h="39240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ts val="998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но-силовая выносливость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ловая выносливость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</a:tr>
              <a:tr h="60300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выносливость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виды выносливости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иболее неблагоприятные сочетания больших и значительных нагрузок различной направленности в рамках одного тренировочного занятия</a:t>
            </a:r>
            <a:endParaRPr b="0" lang="en-US" sz="2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272880" y="1420920"/>
          <a:ext cx="8598240" cy="5300640"/>
        </p:xfrm>
        <a:graphic>
          <a:graphicData uri="http://schemas.openxmlformats.org/drawingml/2006/table">
            <a:tbl>
              <a:tblPr/>
              <a:tblGrid>
                <a:gridCol w="4083120"/>
                <a:gridCol w="45151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правленность первой нагрузки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8a5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правленность второй нагрузки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8a500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Техника, скоростные качества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Сила, все виды выносливости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сила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Техника, скоростные качества, общая выносливость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Скоростно-силовые качества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техника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  <a:tr h="753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Скоростная выносливость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Техника, скоростные , скоростно-силовые качества, сила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Силовая выносливость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Техника, скоростные , скоростно-силовые качества, общая выносливость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Скоростно-силовая выносливость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Техника, скоростные качества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</a:tr>
              <a:tr h="979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Общая выносливость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Техника, скоростные , скоростно-силовые качества, сила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5720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Микроциклом тренировки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зывают совокупность нескольких занятий, которые составляют относительно законченный фрагмент тренировочного процесса, обеспечивающий оптимальное сочетание следовых тренировочных эффектов для решения задач данного этапа подготов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Рисунок 3" descr=""/>
          <p:cNvPicPr/>
          <p:nvPr/>
        </p:nvPicPr>
        <p:blipFill>
          <a:blip r:embed="rId1"/>
          <a:stretch/>
        </p:blipFill>
        <p:spPr>
          <a:xfrm>
            <a:off x="4141800" y="3476520"/>
            <a:ext cx="4572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должительность микроциклов  от 2-4 до 10-14 дней, однако в тренировке спортсменов наиболее распространены недельные микроцикл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икроциклы иной продолжительности обычно планируют лишь в соревнователь­ном период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Рисунок 3" descr=""/>
          <p:cNvPicPr/>
          <p:nvPr/>
        </p:nvPicPr>
        <p:blipFill>
          <a:blip r:embed="rId1"/>
          <a:stretch/>
        </p:blipFill>
        <p:spPr>
          <a:xfrm>
            <a:off x="3048120" y="3630600"/>
            <a:ext cx="30477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Arial"/>
              </a:rPr>
              <a:t>МИКРОЦИКЛЫ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08000" y="1600200"/>
          <a:ext cx="8856720" cy="5018040"/>
        </p:xfrm>
        <a:graphic>
          <a:graphicData uri="http://schemas.openxmlformats.org/drawingml/2006/table">
            <a:tbl>
              <a:tblPr/>
              <a:tblGrid>
                <a:gridCol w="2730600"/>
                <a:gridCol w="3321000"/>
                <a:gridCol w="2805120"/>
              </a:tblGrid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РЕНИРОВОЧНЫЕ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8a5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ОССТАНОВИТЕЛЬНЫЕ    (разгрузочные)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8a5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РЕВНОВАТЕЛЬНЫЕ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8a500"/>
                    </a:solidFill>
                  </a:tcPr>
                </a:tc>
              </a:tr>
              <a:tr h="686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1. Втягивающие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1. восстановительно-разгрузочные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1. Подготовительные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  <a:tr h="684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2. Развивающие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2. восстановительно-компенсирующие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2. Подводящие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3. Ударные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3. восстановительно-под­держивающие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3. Собственно-соревновательные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4. Стабилизирующие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4. восстановительно-подготовительные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</a:tr>
              <a:tr h="796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5. восстановительно-про­филактические и др. 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ВТЯГИВАЮЩИЙ МЦ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Втягивающий МЦ -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арактеризуется невысокой суммарной нагрузочностью с постепенным ее увеличением до значительной и направлен на подведение организма к выполнению напряжен­ной тренировочной нагруз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Рисунок 3" descr=""/>
          <p:cNvPicPr/>
          <p:nvPr/>
        </p:nvPicPr>
        <p:blipFill>
          <a:blip r:embed="rId1"/>
          <a:stretch/>
        </p:blipFill>
        <p:spPr>
          <a:xfrm>
            <a:off x="3276720" y="3500280"/>
            <a:ext cx="4248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РАЗВИВАЮЩИЙ  МЦ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79280" y="1196640"/>
            <a:ext cx="896472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Развивающий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МЦ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арактеризуется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полнением достаточно высокой нагрузки, вызывающей эффект суперкомпенсации и прирост показателей по отдельным сторонам подготовленности, но напряженность тренировочного процесса в них еще не приближается к предельному уровн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Рисунок 3" descr=""/>
          <p:cNvPicPr/>
          <p:nvPr/>
        </p:nvPicPr>
        <p:blipFill>
          <a:blip r:embed="rId1"/>
          <a:stretch/>
        </p:blipFill>
        <p:spPr>
          <a:xfrm>
            <a:off x="611280" y="3645000"/>
            <a:ext cx="3744720" cy="254484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4" descr=""/>
          <p:cNvPicPr/>
          <p:nvPr/>
        </p:nvPicPr>
        <p:blipFill>
          <a:blip r:embed="rId2"/>
          <a:stretch/>
        </p:blipFill>
        <p:spPr>
          <a:xfrm>
            <a:off x="4327560" y="3635280"/>
            <a:ext cx="457200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УДАРНЫЙ  МЦ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Ударный МЦ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арактеризуется наиболее высокой (близкой к околопредельной и предельной) суммарной нагрузочностью, и в подготовке квалифицированных спортсменов составляет основу подготовительного периода, находя применение и в соревновательн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Рисунок 3" descr=""/>
          <p:cNvPicPr/>
          <p:nvPr/>
        </p:nvPicPr>
        <p:blipFill>
          <a:blip r:embed="rId1"/>
          <a:stretch/>
        </p:blipFill>
        <p:spPr>
          <a:xfrm>
            <a:off x="4543560" y="4005360"/>
            <a:ext cx="421164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СТАБИЛИЗИРУЮЩИЙ МЦ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 применяется для удержания показателей подготовленности на достигнутом уровне, причем нагрузочность тренировки несколько снижается (как правило, за счет снижения объема при сохранения достаточно высокой интенсивност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часто используется после ударных микроциклов и в соревновательном период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Рисунок 1" descr=""/>
          <p:cNvPicPr/>
          <p:nvPr/>
        </p:nvPicPr>
        <p:blipFill>
          <a:blip r:embed="rId1"/>
          <a:stretch/>
        </p:blipFill>
        <p:spPr>
          <a:xfrm>
            <a:off x="5508720" y="4149720"/>
            <a:ext cx="332244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К группе </a:t>
            </a:r>
            <a:r>
              <a:rPr b="0" i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соревновательных микроциклов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 относят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2828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ДГОТОВИТЕЛЬ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ДВОДЯЩ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ОБСТВЕННО-СОРЕВНОВАТЕЛЬ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4T19:43:55Z</dcterms:created>
  <dc:creator>Admin</dc:creator>
  <dc:description/>
  <dc:language>en-US</dc:language>
  <cp:lastModifiedBy>Asus-pc</cp:lastModifiedBy>
  <dcterms:modified xsi:type="dcterms:W3CDTF">2023-09-22T17:20:39Z</dcterms:modified>
  <cp:revision>52</cp:revision>
  <dc:subject/>
  <dc:title>СКОРОСТНЫЕ  СПОСОБНОСТИ</dc:title>
</cp:coreProperties>
</file>