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9E6-709B-42DB-9800-FD7ACD3BB5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31EF-54EC-45FD-BBB6-398B3EC5C470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AAD2-7833-4FF6-94E7-B4942053D1D9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1DDA-113F-43C5-B0ED-A302A8D0722E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3713-A041-41EB-B759-0D1365BB3772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66A4-E584-48AB-B2E5-94C6372C48A3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B23D-9C42-47CA-A68D-248B2F2385E1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C464-49ED-4CDD-9C3B-34D4EAABFB1E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FF5-CB3A-4847-A3D2-67F90418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51E-6A1A-49C1-8F57-1E7D2EC8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0A3-AD48-465F-9166-207D7EF1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A64-3BB1-469C-8394-25CA796C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C7FF-2592-47A6-96FF-9114EF9B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B570-5F2A-441D-B2B2-395A9C53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3A62-1899-4992-983B-9C0D65CB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3AA1-BAAE-4C4B-818B-AB8EF2D1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3E11-D16A-4A24-A40B-CA7A2B46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AEAA-4E93-4CB0-A3E5-9DD569A8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CDA2-BFEC-4C4B-A577-296018D8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6BA-5866-4A94-8C25-BF0161D9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5BBA-581B-4EAC-8809-AE49DBA8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0AAA-C254-4E86-938B-258BFC6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7964-30F7-4205-82FB-BBEDE83B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E8AC-94E9-432A-9801-5D106548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5363-A4F7-4004-91F9-3577FA90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A0D-EB83-4D8D-80E5-92680C09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CDA-7F05-4943-B75D-8517D7ED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AED-F6A3-46C1-AB87-BA939C0C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438-17C9-4392-B6E3-BC281016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F2B-523D-4DE5-87E7-A68E792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F65-0694-4ABC-8A51-F69E018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798-9C6D-46B5-9D44-FF5B74C5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191A-0CCC-48E5-B30E-02FC139533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2FF-0D22-400F-86E7-7B8CCEF1C7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237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СТРОЕНИЕ ТРЕНИРОВКИ В МИКРОЦИКЛАХ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74320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ОДГОТОВИТЕЛЬНЫЙ  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моделирует собственно соревновательные нагрузки, как бы настраивая организм на предстоящие ответственные стар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ля него характерно использование тренировок со значительными нагрузками в сочетании с контрольными старт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ОДВОДЯЩИЙ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водящий МЦ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посредственно предшествует собственно соревновательному МЦ и строится в строгой взаимосвязи с ним, создавая условия для восстановления и моделирования соревнова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912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ОБСТВЕННО-СОРЕВНОВАТЕЛЬНЫЙ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вершающее звено подготовки, включающее само участие в ответственных соревнованиях (следует иметь в виду, что далеко не ко всем соревнованиям спортсмены подходят через «цепочку» подготовительных, подводящих и соревновательных микроцикл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ВОССТАНОВИТЕЛЬНЫЙ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730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сстановительный МЦ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ет задачей активный отдых посредством переключения двигательных заданий, мест занятий, особенно путем снижения нагрузочности тренировки как по объему, так и по интенс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98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бы правильно построить микроцикл тренировки необходимо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88880" y="242100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 знать, какое воздействие оказывают на спортсмена нагрузки, различные по величине и направленности, каковы динамика и продолжительность процессов восстановления посл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х, особенно после больш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ы сведения о кумулятивном эффекте нескольких различных по величине и направленности нагрузок, о желательности или нежелательности их совместного использования в занят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устимые сочетания больших и значительных нагрузок различной направленности в рамках одного тренировочного занятия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7520" y="1628640"/>
          <a:ext cx="8507520" cy="4707000"/>
        </p:xfrm>
        <a:graphic>
          <a:graphicData uri="http://schemas.openxmlformats.org/drawingml/2006/table">
            <a:tbl>
              <a:tblPr/>
              <a:tblGrid>
                <a:gridCol w="3678120"/>
                <a:gridCol w="4829400"/>
              </a:tblGrid>
              <a:tr h="627120">
                <a:tc>
                  <a:txBody>
                    <a:bodyPr lIns="25560" rIns="25560" tIns="0" bIns="0" anchor="t">
                      <a:noAutofit/>
                    </a:bodyPr>
                    <a:p>
                      <a:pPr marL="512640" indent="3240">
                        <a:lnSpc>
                          <a:spcPts val="9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 indent="3240">
                        <a:lnSpc>
                          <a:spcPts val="9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первой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 indent="3240">
                        <a:lnSpc>
                          <a:spcPts val="9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12640">
                        <a:lnSpc>
                          <a:spcPts val="8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>
                        <a:lnSpc>
                          <a:spcPts val="8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второй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>
                        <a:lnSpc>
                          <a:spcPts val="8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457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505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17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ые качества,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ая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коростно-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019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ая и скоростная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6030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иды выносливост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924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6030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иды выносливост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иболее неблагоприятные сочетания больших и значительных нагрузок различной направленности в рамках одного тренировочного занятия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2880" y="1420920"/>
          <a:ext cx="8598240" cy="5300640"/>
        </p:xfrm>
        <a:graphic>
          <a:graphicData uri="http://schemas.openxmlformats.org/drawingml/2006/table">
            <a:tbl>
              <a:tblPr/>
              <a:tblGrid>
                <a:gridCol w="4083120"/>
                <a:gridCol w="45151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нность первой 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нность второй 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ила, все виды выносливост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качества, 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остно-силов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753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остн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, скоростно-силовые качества, 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, скоростно-силовые качества, 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остно-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79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, скоростно-силовые качества, 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икроциклом тренировк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ывают совокупность нескольких занятий, которые составляют относительно законченный фрагмент тренировочного процесса, обеспечивающий оптимальное сочетание следовых тренировочных эффектов для решения задач данного этапа подготов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4141800" y="347652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ельность микроциклов  от 2-4 до 10-14 дней, однако в тренировке спортсменов наиболее распространены недельные микроцик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циклы иной продолжительности обычно планируют лишь в соревнователь­ном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3048120" y="36306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МИКРОЦИКЛ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600200"/>
          <a:ext cx="8856720" cy="5018040"/>
        </p:xfrm>
        <a:graphic>
          <a:graphicData uri="http://schemas.openxmlformats.org/drawingml/2006/table">
            <a:tbl>
              <a:tblPr/>
              <a:tblGrid>
                <a:gridCol w="2730600"/>
                <a:gridCol w="3321000"/>
                <a:gridCol w="28051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НИРОВОЧ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СТАНОВИТЕЛЬНЫЕ    (разгрузочные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РЕВНОВА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. Втягива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. восстановительно-разгрузоч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. Подготови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. Развива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. восстановительно-компенсиру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. Подводя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. Удар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. восстановительно-под­держива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. Собственно-соревнова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. Стабилизиру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. восстановительно-подготови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796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. восстановительно-про­филактические и др.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ТЯГИВАЮЩИЙ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тягивающий МЦ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ется невысокой суммарной нагрузочностью с постепенным ее увеличением до значительной и направлен на подведение организма к выполнению напряжен­ной тренировочной нагруз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tretch/>
        </p:blipFill>
        <p:spPr>
          <a:xfrm>
            <a:off x="3276720" y="3500280"/>
            <a:ext cx="4248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ЗВИВАЮЩИЙ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азвивающий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Ц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етс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ением достаточно высокой нагрузки, вызывающей эффект суперкомпенсации и прирост показателей по отдельным сторонам подготовленности, но напряженность тренировочного процесса в них еще не приближается к предельному уровн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3744720" cy="25448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2"/>
          <a:stretch/>
        </p:blipFill>
        <p:spPr>
          <a:xfrm>
            <a:off x="4327560" y="3635280"/>
            <a:ext cx="45720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ДАРНЫЙ  МЦ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дарный МЦ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ется наиболее высокой (близкой к околопредельной и предельной) суммарной нагрузочностью, и в подготовке квалифицированных спортсменов составляет основу подготовительного периода, находя применение и в соревнователь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4543560" y="4005360"/>
            <a:ext cx="4211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ТАБИЛИЗИРУЮЩИЙ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 применяется для удержания показателей подготовленности на достигнутом уровне, причем нагрузочность тренировки несколько снижается (как правило, за счет снижения объема при сохранения достаточно высокой интенсив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часто используется после ударных микроциклов и в соревновательном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5508720" y="4149720"/>
            <a:ext cx="33224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К группе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оревновательных микроциклов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относя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2828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ГОТОВИ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ВОДЯ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СТВЕННО-СОРЕВНОВ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9:43:55Z</dcterms:created>
  <dc:creator>Admin</dc:creator>
  <dc:description/>
  <dc:language>en-US</dc:language>
  <cp:lastModifiedBy>Asus-pc</cp:lastModifiedBy>
  <dcterms:modified xsi:type="dcterms:W3CDTF">2023-09-22T17:20:39Z</dcterms:modified>
  <cp:revision>52</cp:revision>
  <dc:subject/>
  <dc:title>СКОРОСТНЫЕ  СПОСОБНОСТИ</dc:title>
</cp:coreProperties>
</file>