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AC35-D632-4DF0-9A9A-E80A906D35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,  изображения и музыкальная композиция взяты из свободных источников сети Интер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8437-5F6C-435B-B970-AB2A0CDEC7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BF9D-B8A6-47B0-A2BE-410F9BA0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F60-BF39-4DD0-BF0F-316E9417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5BEC-610C-459A-BB4A-DB328738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A44-D068-42DC-8F0C-45975A8C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4A3-B82A-4256-A83E-0D16DC42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CED-25C1-4D4D-8BDF-13B1264F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C05-975A-4BCA-94C4-B572EF20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F57-E5DA-47AE-ACB8-0D593AC5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EF9C-5433-405E-82ED-2937643A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EE38-CBC4-4B14-BE85-CCA3B7E9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B246-3240-481A-B767-0FE3BA48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3853-F543-4C2E-89CD-F42E1981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5F94-E00C-48AD-B777-6ABC6424A0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24000" y="115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спубликанский конкурс презентац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«В.И. Чапаев – герой из Чувашии, которого знает весь мир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5292720" y="4797360"/>
            <a:ext cx="3851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втор: Ярзунова Анастасия Юрьевн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 класс МБОУ «Малокармалинская СОШ» Ибресинского райо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3" descr=""/>
          <p:cNvPicPr/>
          <p:nvPr/>
        </p:nvPicPr>
        <p:blipFill>
          <a:blip r:embed="rId1"/>
          <a:stretch/>
        </p:blipFill>
        <p:spPr>
          <a:xfrm>
            <a:off x="-60480" y="1620720"/>
            <a:ext cx="9107640" cy="2384640"/>
          </a:xfrm>
          <a:prstGeom prst="rect">
            <a:avLst/>
          </a:prstGeom>
          <a:ln w="0">
            <a:noFill/>
          </a:ln>
        </p:spPr>
      </p:pic>
      <p:pic>
        <p:nvPicPr>
          <p:cNvPr id="51" name="Михаил Ножкин - От героев былых времен (minus).mp3" descr=""/>
          <p:cNvPicPr/>
          <p:nvPr/>
        </p:nvPicPr>
        <p:blipFill>
          <a:blip r:embed="rId2"/>
          <a:stretch/>
        </p:blipFill>
        <p:spPr>
          <a:xfrm>
            <a:off x="250920" y="62326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rcRect l="3444" t="0" r="2780" b="0"/>
          <a:stretch/>
        </p:blipFill>
        <p:spPr>
          <a:xfrm>
            <a:off x="5003640" y="652320"/>
            <a:ext cx="401976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" descr=""/>
          <p:cNvPicPr/>
          <p:nvPr/>
        </p:nvPicPr>
        <p:blipFill>
          <a:blip r:embed="rId2"/>
          <a:stretch/>
        </p:blipFill>
        <p:spPr>
          <a:xfrm>
            <a:off x="-12600" y="-85680"/>
            <a:ext cx="9169200" cy="96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5003640" y="4551480"/>
            <a:ext cx="4140360" cy="23065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6480" y="654120"/>
            <a:ext cx="4932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лся в деревне Будайке Чебоксарского уезда (ныне в черте города Чебоксары) в крестьянской семье 9 февраля 1887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179280" y="3478320"/>
            <a:ext cx="2071800" cy="2950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179280" y="642924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Чапаев с женой Пелагеей Метлиной, 19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5"/>
          <a:stretch/>
        </p:blipFill>
        <p:spPr>
          <a:xfrm>
            <a:off x="2556000" y="4292640"/>
            <a:ext cx="2936880" cy="1957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2546280" y="6308640"/>
            <a:ext cx="389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ый камень в Чебоксарах на месте, где стоял д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родился В. И. Чап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0" y="1628640"/>
            <a:ext cx="49388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детстве работал в качестве прислуги и ученика у купцов и ремесленников, затем плотничал на Волге вместе с отцом и старшими братьями. Женился, вопреки воле родителей с обеих сторон, на дочери священника, в браке родились два сына и доч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8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1" descr=""/>
          <p:cNvPicPr/>
          <p:nvPr/>
        </p:nvPicPr>
        <p:blipFill>
          <a:blip r:embed="rId1"/>
          <a:stretch/>
        </p:blipFill>
        <p:spPr>
          <a:xfrm>
            <a:off x="-12600" y="-85680"/>
            <a:ext cx="9169200" cy="96372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217440" y="836640"/>
            <a:ext cx="349092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И. Чапаев участвовал в Первой мировой войне, награжден за отвагу тремя георгиевскими крестами и медалью, получил звание подпрапорщ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217440" y="2492280"/>
            <a:ext cx="349092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годы Гражданской войны В.И. Чапаев проявил себя как активный организатор частей Красной Армии. Он командовал добровольческими отрядами, бригадой и затем – дивизией, вел в бой красноармейцев в походе на Уральск, воевал против белочехов, освобождал Николаевск. В ноябре 1918 года его направили учиться в академию Генерального штаба. Но не закончив и курса обучения, подал рапорт с просьбой отправить его на фрон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4546440" cy="3031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4788000" y="4646520"/>
            <a:ext cx="334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.И. Чапаев с сослуживцами, 1918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79280" y="54000"/>
            <a:ext cx="889344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 командованием Чапаева 2-я Николаевская стрелковая дивизия участвовала в боевых операциях против Колчака, заняла Уфу, а затем – находившийся в блокаде Уральск. В боях Чапаев проявил себя талантливым и отважным командиром. За боевые заслуги он был награждён орденом Красного Знаме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 сентября 1919 года, при внезапном нападении белогвардейцев на штаб 25-й дивизии в Лбищенске Чапаев со своими соратниками мужественно сражался против превосходящих сил врага. Расстреляв все патроны, раненый Чапаев пытался переплыть реку Урал, но был сражен пулей и поги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93560" y="2349360"/>
            <a:ext cx="8264520" cy="439272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493560" y="6307200"/>
            <a:ext cx="82645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андир 25-й дивизии Василий Чапаев среди командиров, политработников и бойцов своего соединения после взятия Уфы, июнь 1919 года. Слева от Василия Чапаева — комиссар дивизии Дмитрий Фурм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1" descr=""/>
          <p:cNvPicPr/>
          <p:nvPr/>
        </p:nvPicPr>
        <p:blipFill>
          <a:blip r:embed="rId1"/>
          <a:stretch/>
        </p:blipFill>
        <p:spPr>
          <a:xfrm>
            <a:off x="-12600" y="-85680"/>
            <a:ext cx="9169200" cy="96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590920" cy="2009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3132000" y="765000"/>
            <a:ext cx="58327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оман Дмитрия Фурманова «Чапаев», 1923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ильм братьев Васильевых «Чапаев», 1934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сни: «Песня о Чапаеве», «Чапай остался жив», «Гибель Чапаев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3124080" y="1535040"/>
            <a:ext cx="582624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менем Чапаева названы десятки населенных пунктов в Ро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3132000" y="1916280"/>
            <a:ext cx="5832720" cy="15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мориальные музеи Чапаева были открыты в Чебоксарах вблизи места его рождения; в г. Пугачеве (бывшем Николаевске), в с. Красный Яр Уфимского района Республики Башкортостан, в городе Белебей Республики Башкортостан, в городе Уральске и в станице Лбищенской (ныне селе Чапаев) на месте последнего боя начальника дивизии. В советские годы музеи, посвященные Чапаеву и боевому пути 25-й дивизии, существовали во многих школа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3117960" y="3573360"/>
            <a:ext cx="58388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амятники Чапаеву установлены в городах Самаре (1932), в Санкт-Петербурге (1933), в Пугачеве (1957), в Чебоксарах (1960), в селе Чапаев (1979), Уральске (1982) и т.д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132000" y="4365720"/>
            <a:ext cx="583272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зображения начдива Чапаева, а также кадры из кинофильма «Чапаев» и изображения многочисленных памятников герою, широко использовались на почтовых марках, открытках и конвертах советского период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2987640" y="5288040"/>
            <a:ext cx="1079640" cy="1519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4"/>
          <a:stretch/>
        </p:blipFill>
        <p:spPr>
          <a:xfrm>
            <a:off x="4211640" y="5261040"/>
            <a:ext cx="1123920" cy="1546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5"/>
          <a:stretch/>
        </p:blipFill>
        <p:spPr>
          <a:xfrm>
            <a:off x="5459400" y="5356080"/>
            <a:ext cx="2003400" cy="143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6"/>
          <a:stretch/>
        </p:blipFill>
        <p:spPr>
          <a:xfrm>
            <a:off x="7524720" y="5356080"/>
            <a:ext cx="1538280" cy="1381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7"/>
          <a:stretch/>
        </p:blipFill>
        <p:spPr>
          <a:xfrm>
            <a:off x="200160" y="2852640"/>
            <a:ext cx="2609640" cy="1752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8"/>
          <a:stretch/>
        </p:blipFill>
        <p:spPr>
          <a:xfrm>
            <a:off x="185760" y="4724280"/>
            <a:ext cx="2687760" cy="2013120"/>
          </a:xfrm>
          <a:prstGeom prst="rect">
            <a:avLst/>
          </a:prstGeom>
          <a:ln w="0">
            <a:noFill/>
          </a:ln>
        </p:spPr>
      </p:pic>
    </p:spTree>
  </p:cSld>
  <p:transition spd="slow" advTm="26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6T15:49:19Z</dcterms:created>
  <dc:creator>Krio</dc:creator>
  <dc:description/>
  <dc:language>en-US</dc:language>
  <cp:lastModifiedBy>KrioAn</cp:lastModifiedBy>
  <dcterms:modified xsi:type="dcterms:W3CDTF">2023-09-24T18:25:08Z</dcterms:modified>
  <cp:revision>18</cp:revision>
  <dc:subject/>
  <dc:title>Презентация PowerPoint</dc:title>
</cp:coreProperties>
</file>