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51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3.gif" ContentType="image/gif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C0F-19C7-492E-B0E1-97344DB4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C40-BADE-4ABE-B596-5BBD687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009-6172-4B95-ACE8-D6A2DF99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A50-EA8F-4D0D-85B4-00361FC3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1AA-3166-4F8B-A939-037A2275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EF5-0865-41B3-8818-EFEE98B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33D-0E98-4A81-B30D-B6954EE9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738-23A5-47C8-9C17-F830D031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90B-F219-4445-96AF-21B39CC3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BB7-920C-4893-A913-1308BFB3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1C6-DF8E-420E-8B43-F05B1ADC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7BA-8B1D-4853-95C2-34D9D85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780-A50B-46D6-B662-0F2B7AC59C26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281160"/>
            <a:ext cx="7785000" cy="101124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493560" y="1238400"/>
            <a:ext cx="8693280" cy="5984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Блок-схема: процесс 1" descr=""/>
          <p:cNvPicPr/>
          <p:nvPr/>
        </p:nvPicPr>
        <p:blipFill>
          <a:blip r:embed="rId1"/>
          <a:stretch/>
        </p:blipFill>
        <p:spPr>
          <a:xfrm>
            <a:off x="2414520" y="774720"/>
            <a:ext cx="4383000" cy="1090440"/>
          </a:xfrm>
          <a:prstGeom prst="rect">
            <a:avLst/>
          </a:prstGeom>
          <a:ln w="0">
            <a:noFill/>
          </a:ln>
        </p:spPr>
      </p:pic>
      <p:pic>
        <p:nvPicPr>
          <p:cNvPr id="103" name="Блок-схема: процесс 2" descr=""/>
          <p:cNvPicPr/>
          <p:nvPr/>
        </p:nvPicPr>
        <p:blipFill>
          <a:blip r:embed="rId2"/>
          <a:stretch/>
        </p:blipFill>
        <p:spPr>
          <a:xfrm>
            <a:off x="298440" y="2535120"/>
            <a:ext cx="2401920" cy="1324080"/>
          </a:xfrm>
          <a:prstGeom prst="rect">
            <a:avLst/>
          </a:prstGeom>
          <a:ln w="0">
            <a:noFill/>
          </a:ln>
        </p:spPr>
      </p:pic>
      <p:pic>
        <p:nvPicPr>
          <p:cNvPr id="104" name="Блок-схема: процесс 4" descr=""/>
          <p:cNvPicPr/>
          <p:nvPr/>
        </p:nvPicPr>
        <p:blipFill>
          <a:blip r:embed="rId3"/>
          <a:stretch/>
        </p:blipFill>
        <p:spPr>
          <a:xfrm>
            <a:off x="3084480" y="2535120"/>
            <a:ext cx="304164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Блок-схема: процесс 5" descr=""/>
          <p:cNvPicPr/>
          <p:nvPr/>
        </p:nvPicPr>
        <p:blipFill>
          <a:blip r:embed="rId4"/>
          <a:stretch/>
        </p:blipFill>
        <p:spPr>
          <a:xfrm>
            <a:off x="6437160" y="2535120"/>
            <a:ext cx="2401920" cy="1324080"/>
          </a:xfrm>
          <a:prstGeom prst="rect">
            <a:avLst/>
          </a:prstGeom>
          <a:ln w="0">
            <a:noFill/>
          </a:ln>
        </p:spPr>
      </p:pic>
      <p:cxnSp>
        <p:nvCxnSpPr>
          <p:cNvPr id="106" name="Прямая со стрелкой 8"/>
          <p:cNvCxnSpPr>
            <a:stCxn id="102" idx="2"/>
            <a:endCxn id="103" idx="0"/>
          </p:cNvCxnSpPr>
          <p:nvPr/>
        </p:nvCxnSpPr>
        <p:spPr>
          <a:xfrm flipH="1">
            <a:off x="1499760" y="1785600"/>
            <a:ext cx="3108960" cy="78660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107" name="Прямая со стрелкой 12"/>
          <p:cNvCxnSpPr>
            <a:stCxn id="102" idx="2"/>
            <a:endCxn id="104" idx="0"/>
          </p:cNvCxnSpPr>
          <p:nvPr/>
        </p:nvCxnSpPr>
        <p:spPr>
          <a:xfrm flipH="1">
            <a:off x="4606560" y="1785600"/>
            <a:ext cx="2160" cy="78660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108" name="Прямая со стрелкой 16"/>
          <p:cNvCxnSpPr>
            <a:stCxn id="102" idx="2"/>
            <a:endCxn id="105" idx="0"/>
          </p:cNvCxnSpPr>
          <p:nvPr/>
        </p:nvCxnSpPr>
        <p:spPr>
          <a:xfrm>
            <a:off x="4606920" y="1785600"/>
            <a:ext cx="3037680" cy="78660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109" name="Блок-схема: процесс 40" descr=""/>
          <p:cNvPicPr/>
          <p:nvPr/>
        </p:nvPicPr>
        <p:blipFill>
          <a:blip r:embed="rId5"/>
          <a:stretch/>
        </p:blipFill>
        <p:spPr>
          <a:xfrm>
            <a:off x="152280" y="4608360"/>
            <a:ext cx="2048040" cy="1322640"/>
          </a:xfrm>
          <a:prstGeom prst="rect">
            <a:avLst/>
          </a:prstGeom>
          <a:ln w="0">
            <a:noFill/>
          </a:ln>
        </p:spPr>
      </p:pic>
      <p:pic>
        <p:nvPicPr>
          <p:cNvPr id="110" name="Блок-схема: процесс 41" descr=""/>
          <p:cNvPicPr/>
          <p:nvPr/>
        </p:nvPicPr>
        <p:blipFill>
          <a:blip r:embed="rId6"/>
          <a:stretch/>
        </p:blipFill>
        <p:spPr>
          <a:xfrm>
            <a:off x="2286000" y="4608360"/>
            <a:ext cx="2133720" cy="1322640"/>
          </a:xfrm>
          <a:prstGeom prst="rect">
            <a:avLst/>
          </a:prstGeom>
          <a:ln w="0">
            <a:noFill/>
          </a:ln>
        </p:spPr>
      </p:pic>
      <p:pic>
        <p:nvPicPr>
          <p:cNvPr id="111" name="Блок-схема: процесс 48" descr=""/>
          <p:cNvPicPr/>
          <p:nvPr/>
        </p:nvPicPr>
        <p:blipFill>
          <a:blip r:embed="rId7"/>
          <a:stretch/>
        </p:blipFill>
        <p:spPr>
          <a:xfrm>
            <a:off x="6937200" y="4608360"/>
            <a:ext cx="2048040" cy="1322640"/>
          </a:xfrm>
          <a:prstGeom prst="rect">
            <a:avLst/>
          </a:prstGeom>
          <a:ln w="0">
            <a:noFill/>
          </a:ln>
        </p:spPr>
      </p:pic>
      <p:pic>
        <p:nvPicPr>
          <p:cNvPr id="112" name="Блок-схема: процесс 49" descr=""/>
          <p:cNvPicPr/>
          <p:nvPr/>
        </p:nvPicPr>
        <p:blipFill>
          <a:blip r:embed="rId8"/>
          <a:stretch/>
        </p:blipFill>
        <p:spPr>
          <a:xfrm>
            <a:off x="4754520" y="4608360"/>
            <a:ext cx="2195640" cy="132264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56"/>
          <p:cNvCxnSpPr>
            <a:stCxn id="103" idx="2"/>
            <a:endCxn id="109" idx="0"/>
          </p:cNvCxnSpPr>
          <p:nvPr/>
        </p:nvCxnSpPr>
        <p:spPr>
          <a:xfrm flipH="1">
            <a:off x="1177200" y="3785760"/>
            <a:ext cx="322920" cy="857880"/>
          </a:xfrm>
          <a:prstGeom prst="straightConnector1">
            <a:avLst/>
          </a:prstGeom>
          <a:ln w="9360">
            <a:solidFill>
              <a:srgbClr val="98b954"/>
            </a:solidFill>
            <a:miter/>
            <a:tailEnd len="med" type="arrow" w="med"/>
          </a:ln>
        </p:spPr>
      </p:cxnSp>
      <p:cxnSp>
        <p:nvCxnSpPr>
          <p:cNvPr id="114" name="Прямая со стрелкой 58"/>
          <p:cNvCxnSpPr>
            <a:stCxn id="103" idx="2"/>
            <a:endCxn id="110" idx="0"/>
          </p:cNvCxnSpPr>
          <p:nvPr/>
        </p:nvCxnSpPr>
        <p:spPr>
          <a:xfrm>
            <a:off x="1500120" y="3785760"/>
            <a:ext cx="1858320" cy="857880"/>
          </a:xfrm>
          <a:prstGeom prst="straightConnector1">
            <a:avLst/>
          </a:prstGeom>
          <a:ln w="9360">
            <a:solidFill>
              <a:srgbClr val="98b954"/>
            </a:solidFill>
            <a:miter/>
            <a:tailEnd len="med" type="arrow" w="med"/>
          </a:ln>
        </p:spPr>
      </p:cxnSp>
      <p:cxnSp>
        <p:nvCxnSpPr>
          <p:cNvPr id="115" name="Прямая со стрелкой 60"/>
          <p:cNvCxnSpPr>
            <a:stCxn id="105" idx="2"/>
            <a:endCxn id="112" idx="0"/>
          </p:cNvCxnSpPr>
          <p:nvPr/>
        </p:nvCxnSpPr>
        <p:spPr>
          <a:xfrm flipH="1">
            <a:off x="5857200" y="3785760"/>
            <a:ext cx="1786680" cy="857880"/>
          </a:xfrm>
          <a:prstGeom prst="straightConnector1">
            <a:avLst/>
          </a:prstGeom>
          <a:ln w="9360">
            <a:solidFill>
              <a:srgbClr val="7d60a0"/>
            </a:solidFill>
            <a:miter/>
            <a:tailEnd len="med" type="arrow" w="med"/>
          </a:ln>
        </p:spPr>
      </p:cxnSp>
      <p:cxnSp>
        <p:nvCxnSpPr>
          <p:cNvPr id="116" name="Прямая со стрелкой 62"/>
          <p:cNvCxnSpPr>
            <a:stCxn id="105" idx="2"/>
            <a:endCxn id="111" idx="0"/>
          </p:cNvCxnSpPr>
          <p:nvPr/>
        </p:nvCxnSpPr>
        <p:spPr>
          <a:xfrm>
            <a:off x="7642800" y="3785760"/>
            <a:ext cx="322920" cy="857880"/>
          </a:xfrm>
          <a:prstGeom prst="straightConnector1">
            <a:avLst/>
          </a:prstGeom>
          <a:ln w="9360">
            <a:solidFill>
              <a:srgbClr val="7d60a0"/>
            </a:solidFill>
            <a:miter/>
            <a:tailEnd len="med" type="arrow" w="med"/>
          </a:ln>
        </p:spPr>
      </p:cxnSp>
    </p:spTree>
  </p:cSld>
  <p:transition>
    <p:pull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396720" y="139680"/>
            <a:ext cx="8345520" cy="153684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2" descr=""/>
          <p:cNvPicPr/>
          <p:nvPr/>
        </p:nvPicPr>
        <p:blipFill>
          <a:blip r:embed="rId2"/>
          <a:stretch/>
        </p:blipFill>
        <p:spPr>
          <a:xfrm>
            <a:off x="268200" y="1335240"/>
            <a:ext cx="8474040" cy="4876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Адм\Мои документы\дети.jpg"/>
          <p:cNvPicPr/>
          <p:nvPr/>
        </p:nvPicPr>
        <p:blipFill>
          <a:blip r:embed="rId1"/>
          <a:srcRect l="0" t="81863" r="42141" b="1065"/>
          <a:stretch/>
        </p:blipFill>
        <p:spPr>
          <a:xfrm>
            <a:off x="1857240" y="4786200"/>
            <a:ext cx="235764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928800" y="693000"/>
            <a:ext cx="7215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857160" y="928800"/>
            <a:ext cx="728676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ип урока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уч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тод проведения: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ронтальный, поточный, индивидуальный, посменный, игр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есто проведения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ортивный з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вентарь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имнастические маты, гимнастический козёл, гимнастический мо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одолжительность урока: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:\Documents and Settings\Адм\Мои документы\дети.jpg"/>
          <p:cNvPicPr/>
          <p:nvPr/>
        </p:nvPicPr>
        <p:blipFill>
          <a:blip r:embed="rId2"/>
          <a:srcRect l="41924" t="78787" r="-447" b="0"/>
          <a:stretch/>
        </p:blipFill>
        <p:spPr>
          <a:xfrm>
            <a:off x="4429080" y="4643280"/>
            <a:ext cx="2160720" cy="129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Адм\Мои документы\дети.jpg"/>
          <p:cNvPicPr/>
          <p:nvPr/>
        </p:nvPicPr>
        <p:blipFill>
          <a:blip r:embed="rId3"/>
          <a:srcRect l="77464" t="51329" r="33" b="36882"/>
          <a:stretch/>
        </p:blipFill>
        <p:spPr>
          <a:xfrm>
            <a:off x="4000680" y="5214960"/>
            <a:ext cx="714240" cy="642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2560" cy="46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857160" y="1857240"/>
          <a:ext cx="6900840" cy="3191040"/>
        </p:xfrm>
        <a:graphic>
          <a:graphicData uri="http://schemas.openxmlformats.org/drawingml/2006/table">
            <a:tbl>
              <a:tblPr/>
              <a:tblGrid>
                <a:gridCol w="1631880"/>
                <a:gridCol w="878040"/>
                <a:gridCol w="878040"/>
                <a:gridCol w="877680"/>
                <a:gridCol w="879480"/>
                <a:gridCol w="878040"/>
                <a:gridCol w="877680"/>
              </a:tblGrid>
              <a:tr h="30420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ые упражн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ьч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оч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5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4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3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5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4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3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он вперёд из положения сидя, с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и ниж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и вы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и ниж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ягивание, раз в/п мальчики, н/п - девоч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и бол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и мен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и бол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и мен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1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имание туловища лежа на спине, 30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и бол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и мен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и бол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и меньш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Прямоугольник 6" descr=""/>
          <p:cNvPicPr/>
          <p:nvPr/>
        </p:nvPicPr>
        <p:blipFill>
          <a:blip r:embed="rId2"/>
          <a:stretch/>
        </p:blipFill>
        <p:spPr>
          <a:xfrm>
            <a:off x="2341440" y="237960"/>
            <a:ext cx="4089600" cy="1322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ая соединительная линия 8"/>
          <p:cNvSpPr/>
          <p:nvPr/>
        </p:nvSpPr>
        <p:spPr>
          <a:xfrm>
            <a:off x="785880" y="1714680"/>
            <a:ext cx="71438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1"/>
          <p:cNvSpPr/>
          <p:nvPr/>
        </p:nvSpPr>
        <p:spPr>
          <a:xfrm flipH="1">
            <a:off x="783720" y="1714680"/>
            <a:ext cx="1800" cy="3287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3"/>
          <p:cNvSpPr/>
          <p:nvPr/>
        </p:nvSpPr>
        <p:spPr>
          <a:xfrm>
            <a:off x="785880" y="5000760"/>
            <a:ext cx="71438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5"/>
          <p:cNvSpPr/>
          <p:nvPr/>
        </p:nvSpPr>
        <p:spPr>
          <a:xfrm flipV="1">
            <a:off x="7929720" y="1714680"/>
            <a:ext cx="1440" cy="328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8"/>
          <p:cNvSpPr/>
          <p:nvPr/>
        </p:nvSpPr>
        <p:spPr>
          <a:xfrm flipH="1">
            <a:off x="2498760" y="1714680"/>
            <a:ext cx="1440" cy="32875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23"/>
          <p:cNvSpPr/>
          <p:nvPr/>
        </p:nvSpPr>
        <p:spPr>
          <a:xfrm>
            <a:off x="785880" y="2571840"/>
            <a:ext cx="714384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5"/>
          <p:cNvSpPr/>
          <p:nvPr/>
        </p:nvSpPr>
        <p:spPr>
          <a:xfrm>
            <a:off x="785880" y="3286080"/>
            <a:ext cx="714384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27"/>
          <p:cNvSpPr/>
          <p:nvPr/>
        </p:nvSpPr>
        <p:spPr>
          <a:xfrm>
            <a:off x="785880" y="4214880"/>
            <a:ext cx="7143840" cy="144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31"/>
          <p:cNvSpPr/>
          <p:nvPr/>
        </p:nvSpPr>
        <p:spPr>
          <a:xfrm flipH="1">
            <a:off x="3355560" y="2143080"/>
            <a:ext cx="1800" cy="28591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34"/>
          <p:cNvSpPr/>
          <p:nvPr/>
        </p:nvSpPr>
        <p:spPr>
          <a:xfrm>
            <a:off x="2500200" y="2143080"/>
            <a:ext cx="5429520" cy="18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38"/>
          <p:cNvSpPr/>
          <p:nvPr/>
        </p:nvSpPr>
        <p:spPr>
          <a:xfrm flipH="1">
            <a:off x="4212720" y="2143080"/>
            <a:ext cx="1800" cy="28591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40"/>
          <p:cNvSpPr/>
          <p:nvPr/>
        </p:nvSpPr>
        <p:spPr>
          <a:xfrm>
            <a:off x="5143680" y="2143080"/>
            <a:ext cx="0" cy="28591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41"/>
          <p:cNvSpPr/>
          <p:nvPr/>
        </p:nvSpPr>
        <p:spPr>
          <a:xfrm flipH="1">
            <a:off x="6000840" y="2143080"/>
            <a:ext cx="1440" cy="285768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47"/>
          <p:cNvSpPr/>
          <p:nvPr/>
        </p:nvSpPr>
        <p:spPr>
          <a:xfrm>
            <a:off x="6858000" y="2143080"/>
            <a:ext cx="0" cy="285912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12896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2" descr=""/>
          <p:cNvPicPr/>
          <p:nvPr/>
        </p:nvPicPr>
        <p:blipFill>
          <a:blip r:embed="rId2"/>
          <a:stretch/>
        </p:blipFill>
        <p:spPr>
          <a:xfrm>
            <a:off x="401760" y="1054080"/>
            <a:ext cx="8364240" cy="5310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071600" y="785880"/>
            <a:ext cx="46148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34607"/>
                </a:solidFill>
                <a:latin typeface="Constantia"/>
              </a:rPr>
              <a:t>Тест по теме «Гимнастика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ак необходимо выполнять упражнения по гимнастик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 учителем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амостоятельно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без страховк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акая форма одежды необходима для выполнения гимнастических упражнений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портивный костюм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утеплённая куртка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резиновые сапог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россовк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еречислите виды гимнастик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одтягивание в вис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бег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лазани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увырк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метание мячей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ри выполнении подтягивания, когда упражнение считается выполненным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если подбородок окажется ниже  перекладины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если плечи находятся выше перекладины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если подбородок окажется над перекладиной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ри отжимании в упоре лёжа на полу нужно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охранить правильное положени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лавно согнуть руки до угла 90</a:t>
            </a:r>
            <a:r>
              <a:rPr b="0" lang="ru-RU" sz="900" spc="-1" strike="noStrike" baseline="30000">
                <a:solidFill>
                  <a:srgbClr val="542804"/>
                </a:solidFill>
                <a:latin typeface="Constanti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оснуться грудью пола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ак выполнять повороты на бревне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без переступания ногам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о сменой ног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 переступанием ногам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Что необходимо знать при выполнении кувырка вперёд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группироваться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опереться руками о гимнастический мат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оттолкнуться рукам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Как необходимо выполнять кувырок назад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опираться на голову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поставить ладони за голову на мат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оттолкнуться руками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         </a:t>
            </a:r>
            <a:r>
              <a:rPr b="0" lang="ru-RU" sz="900" spc="-1" strike="noStrike">
                <a:solidFill>
                  <a:srgbClr val="542804"/>
                </a:solidFill>
                <a:latin typeface="Wingdings 2"/>
                <a:ea typeface="Wingdings 2"/>
              </a:rPr>
              <a:t>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 </a:t>
            </a:r>
            <a:r>
              <a:rPr b="0" lang="ru-RU" sz="900" spc="-1" strike="noStrike">
                <a:solidFill>
                  <a:srgbClr val="542804"/>
                </a:solidFill>
                <a:latin typeface="Constantia"/>
              </a:rPr>
              <a:t>сгруппироваться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2" descr="C:\Documents and Settings\Адм\Мои документы\вопрос.jpg"/>
          <p:cNvPicPr/>
          <p:nvPr/>
        </p:nvPicPr>
        <p:blipFill>
          <a:blip r:embed="rId2"/>
          <a:stretch/>
        </p:blipFill>
        <p:spPr>
          <a:xfrm>
            <a:off x="928800" y="285768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285840" y="192888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34607"/>
                </a:solidFill>
                <a:latin typeface="Constantia"/>
              </a:rPr>
              <a:t>Подумай и отв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6" descr="la_essays_s.gif"/>
          <p:cNvPicPr/>
          <p:nvPr/>
        </p:nvPicPr>
        <p:blipFill>
          <a:blip r:embed="rId3"/>
          <a:stretch/>
        </p:blipFill>
        <p:spPr>
          <a:xfrm>
            <a:off x="642960" y="3643200"/>
            <a:ext cx="2357280" cy="165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Адм\Мои документы\ст.gif"/>
          <p:cNvPicPr/>
          <p:nvPr/>
        </p:nvPicPr>
        <p:blipFill>
          <a:blip r:embed="rId4"/>
          <a:stretch/>
        </p:blipFill>
        <p:spPr>
          <a:xfrm>
            <a:off x="3857760" y="192888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Documents and Settings\Адм\Мои документы\ст.gif"/>
          <p:cNvPicPr/>
          <p:nvPr/>
        </p:nvPicPr>
        <p:blipFill>
          <a:blip r:embed="rId5"/>
          <a:stretch/>
        </p:blipFill>
        <p:spPr>
          <a:xfrm>
            <a:off x="3857760" y="135720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Documents and Settings\Адм\Мои документы\ст.gif"/>
          <p:cNvPicPr/>
          <p:nvPr/>
        </p:nvPicPr>
        <p:blipFill>
          <a:blip r:embed="rId6"/>
          <a:stretch/>
        </p:blipFill>
        <p:spPr>
          <a:xfrm>
            <a:off x="3857760" y="335772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Documents and Settings\Адм\Мои документы\ст.gif"/>
          <p:cNvPicPr/>
          <p:nvPr/>
        </p:nvPicPr>
        <p:blipFill>
          <a:blip r:embed="rId7"/>
          <a:stretch/>
        </p:blipFill>
        <p:spPr>
          <a:xfrm>
            <a:off x="3886200" y="449568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Адм\Мои документы\ст.gif"/>
          <p:cNvPicPr/>
          <p:nvPr/>
        </p:nvPicPr>
        <p:blipFill>
          <a:blip r:embed="rId8"/>
          <a:stretch/>
        </p:blipFill>
        <p:spPr>
          <a:xfrm>
            <a:off x="3857760" y="392904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Адм\Мои документы\ст.gif"/>
          <p:cNvPicPr/>
          <p:nvPr/>
        </p:nvPicPr>
        <p:blipFill>
          <a:blip r:embed="rId9"/>
          <a:stretch/>
        </p:blipFill>
        <p:spPr>
          <a:xfrm>
            <a:off x="3857760" y="257184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Адм\Мои документы\ст.gif"/>
          <p:cNvPicPr/>
          <p:nvPr/>
        </p:nvPicPr>
        <p:blipFill>
          <a:blip r:embed="rId10"/>
          <a:stretch/>
        </p:blipFill>
        <p:spPr>
          <a:xfrm>
            <a:off x="3857760" y="5572080"/>
            <a:ext cx="233280" cy="166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Documents and Settings\Адм\Мои документы\ст.gif"/>
          <p:cNvPicPr/>
          <p:nvPr/>
        </p:nvPicPr>
        <p:blipFill>
          <a:blip r:embed="rId11"/>
          <a:stretch/>
        </p:blipFill>
        <p:spPr>
          <a:xfrm>
            <a:off x="3857760" y="5000760"/>
            <a:ext cx="233280" cy="1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1352520" y="36360"/>
            <a:ext cx="6512040" cy="1311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571680" y="1143000"/>
            <a:ext cx="7929360" cy="498312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1.  В.И. Лях, А.А. Зданевич. Комплексная программа физического воспитания 1-11  классы. М:Просвещение, 2011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2.  А.Н. Мартовский. Гимнастика в школе. М: Физкультура и спорт, 198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3.  Г.И. Погадаев. Настольная книга учителя физической культуры. М: Физкультура и спорт, 2005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4.  М.Я. Виленский. Учебник физическая культура. 5-7 класс. Просвещение, 2011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5.  В.С.  Кукушкин. Теория и методика обучения. Росто-на-Дону. Феникс, 2005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6.  Ж.К. Холодов, В.С. Кузнецов. Теория и методика физического воспитания и спорта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Издательство Академия, 2003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7.  Е.Н. Степанова. Личностно-ориентированный подход в работе педагога. М.: Сфера, 2006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8.  И.Ю. Кулагина. Педагогическая психология. – М: ТЦ Сфера, 2008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9.  И.Я. Лернер. Дидактические основы методов обучения. М., 1981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  </a:t>
            </a:r>
            <a:r>
              <a:rPr b="0" lang="ru-RU" sz="1600" spc="-1" strike="noStrike">
                <a:solidFill>
                  <a:srgbClr val="783a06"/>
                </a:solidFill>
                <a:latin typeface="Constantia"/>
              </a:rPr>
              <a:t>10.  Г.К. Селевко. Современные образовательные технологии. – М: Народное образование, 2005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2" descr="C:\Documents and Settings\Адм\Мои документы\девочка.gif"/>
          <p:cNvPicPr/>
          <p:nvPr/>
        </p:nvPicPr>
        <p:blipFill>
          <a:blip r:embed="rId2"/>
          <a:stretch/>
        </p:blipFill>
        <p:spPr>
          <a:xfrm flipH="1">
            <a:off x="7571880" y="4214880"/>
            <a:ext cx="1143000" cy="2046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30500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2"/>
          <p:cNvGrpSpPr/>
          <p:nvPr/>
        </p:nvGrpSpPr>
        <p:grpSpPr>
          <a:xfrm>
            <a:off x="480960" y="981000"/>
            <a:ext cx="8034480" cy="6714720"/>
            <a:chOff x="480960" y="981000"/>
            <a:chExt cx="8034480" cy="6714720"/>
          </a:xfrm>
        </p:grpSpPr>
        <p:pic>
          <p:nvPicPr>
            <p:cNvPr id="45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80960" y="981000"/>
              <a:ext cx="8034480" cy="55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00040" y="1000080"/>
              <a:ext cx="8001000" cy="66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Пояснительная записк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2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Цели и задачи раздела «Гимнастика с элементами акробатики»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3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Психолого-педагогическое объяснение специфики восприятия и осво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учебного материала обучающимися в соответствии с возрастны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собенностям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4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жидаемые результаты освоения раздела программ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5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боснование используемых в образовательном процессе по разделу про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бразовательных технологий, методов, форм организации 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обучающихс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6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Система знаний и система деятельност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7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Календарно-тематическое планирование по разделу «Гимнастика с элементами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акробатики»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8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Разработка урок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Прилож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9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Учебные нормативы освоения навыков по гимнастике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0.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Учебные комбин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1.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Примерный комплекс общеразвивающих упражнений с предметом, метод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    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круговой трениров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2.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Игровая тренировк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3.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Тест по теме «Гимнаст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1" lang="ru-RU" sz="1600" spc="-1" strike="noStrike">
                  <a:solidFill>
                    <a:srgbClr val="542804"/>
                  </a:solidFill>
                  <a:latin typeface="Constantia"/>
                </a:rPr>
                <a:t>14. </a:t>
              </a:r>
              <a:r>
                <a:rPr b="0" lang="ru-RU" sz="1600" spc="-1" strike="noStrike">
                  <a:solidFill>
                    <a:srgbClr val="542804"/>
                  </a:solidFill>
                  <a:latin typeface="Constantia"/>
                </a:rPr>
                <a:t>Литерату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984807"/>
                  </a:solidFill>
                  <a:latin typeface="Constantia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1298520" y="-36360"/>
            <a:ext cx="6613560" cy="1311120"/>
          </a:xfrm>
          <a:prstGeom prst="rect">
            <a:avLst/>
          </a:prstGeom>
          <a:ln w="0">
            <a:noFill/>
          </a:ln>
        </p:spPr>
      </p:pic>
      <p:grpSp>
        <p:nvGrpSpPr>
          <p:cNvPr id="48" name="Прямоугольник 2"/>
          <p:cNvGrpSpPr/>
          <p:nvPr/>
        </p:nvGrpSpPr>
        <p:grpSpPr>
          <a:xfrm>
            <a:off x="622440" y="1054080"/>
            <a:ext cx="7893000" cy="5865840"/>
            <a:chOff x="622440" y="1054080"/>
            <a:chExt cx="7893000" cy="5865840"/>
          </a:xfrm>
        </p:grpSpPr>
        <p:pic>
          <p:nvPicPr>
            <p:cNvPr id="49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22440" y="1054080"/>
              <a:ext cx="7893000" cy="54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42960" y="1071720"/>
              <a:ext cx="7858080" cy="58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984807"/>
                  </a:solidFill>
                  <a:latin typeface="Constantia"/>
                </a:rPr>
                <a:t> 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Разрабатываемый раздел «Гимнастика с элементами акробатики» предназначен для учащихся 6-го класса. На его изучение отводится 18 часов, при трёх разовых занятиях в неделю. Последовательность и сроки прохождения материала определяется учителем в зависимости от условий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Разделом предусмотрено закрепление ранее изученных упражнений и обучение новым упражнениям: опорный прыжок ноги врозь, «мост» из положения стоя с помощью, кувырок вперёд ноги скрестно с последующим поворотом на 180</a:t>
              </a:r>
              <a:r>
                <a:rPr b="0" lang="ru-RU" sz="1400" spc="-1" strike="noStrike">
                  <a:solidFill>
                    <a:srgbClr val="542804"/>
                  </a:solidFill>
                  <a:latin typeface="Symbol"/>
                  <a:ea typeface="Symbol"/>
                </a:rPr>
                <a:t>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, упражнения на освоение висов, упоров, равновесия, а также выполнение учебных комбинаций из изученных элемент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Оценка</a:t>
              </a:r>
              <a:r>
                <a:rPr b="1" lang="ru-RU" sz="1400" spc="-1" strike="noStrike">
                  <a:solidFill>
                    <a:srgbClr val="542804"/>
                  </a:solidFill>
                  <a:latin typeface="Constantia"/>
                </a:rPr>
                <a:t>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знаний, умений и навыков оценивается по пятибалльной системе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Контрольные уроки проводятся в конце изучения темы либо после прохождения части раздела программного материала и  направлены на выявление успеваемости и подготовленности учащихся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Учебная работа по разделу «Гимнастика с элементами акробатики» проводится в форме практических занятий. На занятиях обучающие овладевают знаниями и умениями  правильного выполнения упражнений и их  влиянии на организм. Теоретические занятия организуются преподавателем в любом варианте – отдельный урок, часть урок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Методы и приемы организации занятий учитывают дифференцированный подход к мальчикам и девочкам, физические способности, а также способствуют дальнейшему развитию ребёнк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Содержание данной рабочей программы предназначено для учащихся  основ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одготовительных медицинских групп. Учащиеся освобожденные от уроков физ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культурой, присутствуют на уроках в спортивной обуви и выполняют отдельные поручения учителя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3" descr="C:\Documents and Settings\Адм\Мои документы\корандаш.jpg"/>
          <p:cNvPicPr/>
          <p:nvPr/>
        </p:nvPicPr>
        <p:blipFill>
          <a:blip r:embed="rId3"/>
          <a:stretch/>
        </p:blipFill>
        <p:spPr>
          <a:xfrm rot="21315600">
            <a:off x="63360" y="-101520"/>
            <a:ext cx="1071720" cy="1579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920880" y="195120"/>
            <a:ext cx="701676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2" descr=""/>
          <p:cNvPicPr/>
          <p:nvPr/>
        </p:nvPicPr>
        <p:blipFill>
          <a:blip r:embed="rId2"/>
          <a:stretch/>
        </p:blipFill>
        <p:spPr>
          <a:xfrm>
            <a:off x="554040" y="1517760"/>
            <a:ext cx="7883640" cy="4614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51160"/>
          </a:xfrm>
          <a:prstGeom prst="rect">
            <a:avLst/>
          </a:prstGeom>
          <a:ln w="0">
            <a:noFill/>
          </a:ln>
        </p:spPr>
      </p:pic>
      <p:pic>
        <p:nvPicPr>
          <p:cNvPr id="55" name="Содержимое 2" descr=""/>
          <p:cNvPicPr/>
          <p:nvPr/>
        </p:nvPicPr>
        <p:blipFill>
          <a:blip r:embed="rId2"/>
          <a:stretch/>
        </p:blipFill>
        <p:spPr>
          <a:xfrm>
            <a:off x="353880" y="974880"/>
            <a:ext cx="8313840" cy="5468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792000" y="-66600"/>
            <a:ext cx="7950240" cy="1322280"/>
          </a:xfrm>
          <a:prstGeom prst="rect">
            <a:avLst/>
          </a:prstGeom>
          <a:ln w="0">
            <a:noFill/>
          </a:ln>
        </p:spPr>
      </p:pic>
      <p:grpSp>
        <p:nvGrpSpPr>
          <p:cNvPr id="57" name="Содержимое 2"/>
          <p:cNvGrpSpPr/>
          <p:nvPr/>
        </p:nvGrpSpPr>
        <p:grpSpPr>
          <a:xfrm>
            <a:off x="341280" y="1054080"/>
            <a:ext cx="8454960" cy="5675400"/>
            <a:chOff x="341280" y="1054080"/>
            <a:chExt cx="8454960" cy="5675400"/>
          </a:xfrm>
        </p:grpSpPr>
        <p:pic>
          <p:nvPicPr>
            <p:cNvPr id="5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41280" y="1054080"/>
              <a:ext cx="8454960" cy="56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57120" y="1071720"/>
              <a:ext cx="8429760" cy="56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В 6 классе обучается 4 учащихся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Уровень качества обучения –75%, уровень обученности – 100%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Мотивация учения в классе: ученики стремятся к правильному выполнению упражнени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накапливать знания, применять их в самостоятельных занятия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одростковый возраст– это период повышенной активности, стремления к деятельности, развит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коммуникативной и эмоциональной сферы учащихся. Это значит, что дети откликаются 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необычные, захватывающие уроки, а быстрая переключаемость внимания не дает возмож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сосредотачиваться долго на одном и том же деле. Поэтому на уроке в классе стараюсь применя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разнообразные формы и методы, проверяя этим самым знания, умения и навыки учиты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индивидуальные особенности школьников. При обучении новых гимнастических упражн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рименяю  средства  наглядности и информационные технологии это позволяет учащимся быстр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онять изучаемый элемент. Важно помнить, что у мальчиков данного возраста  проявляет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напускная смелость при выполнении физических упражнений, они стремятся к самостоя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работе на уроке, недооценивая свои возможности.  Поэтому, не в коем случае на начальном обуче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нельзя допускать выполнение упражнений без помощи. Девочки наоборот, долго не решаютс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выполнять самостоятельно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    </a:t>
              </a: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При контроле умений и навыков учитываю физические особенности подростков, аргументиру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выставление той или иной оценки. Не в коем случае не сравниваю достижение ребёнка с други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учениками, а только его личные успехи. Оценкой стимулирую активность подростка, интерес 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занятиям гимнастики, желание улучшить свои результаты, поощряю его стремление 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самосовершенствованию, к углублению знаний в области гимнастики и ведению здорового обр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542804"/>
                  </a:solidFill>
                  <a:latin typeface="Constantia"/>
                </a:rPr>
                <a:t>жизн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5368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2" descr=""/>
          <p:cNvPicPr/>
          <p:nvPr/>
        </p:nvPicPr>
        <p:blipFill>
          <a:blip r:embed="rId2"/>
          <a:stretch/>
        </p:blipFill>
        <p:spPr>
          <a:xfrm>
            <a:off x="433440" y="1249200"/>
            <a:ext cx="8265960" cy="488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Адм\Мои документы\пал.gif"/>
          <p:cNvPicPr/>
          <p:nvPr/>
        </p:nvPicPr>
        <p:blipFill>
          <a:blip r:embed="rId3"/>
          <a:stretch/>
        </p:blipFill>
        <p:spPr>
          <a:xfrm>
            <a:off x="214200" y="1357200"/>
            <a:ext cx="636840" cy="35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Адм\Мои документы\пал.gif"/>
          <p:cNvPicPr/>
          <p:nvPr/>
        </p:nvPicPr>
        <p:blipFill>
          <a:blip r:embed="rId4"/>
          <a:stretch/>
        </p:blipFill>
        <p:spPr>
          <a:xfrm>
            <a:off x="214200" y="3683160"/>
            <a:ext cx="642960" cy="36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Блок-схема: процесс 13"/>
          <p:cNvGrpSpPr/>
          <p:nvPr/>
        </p:nvGrpSpPr>
        <p:grpSpPr>
          <a:xfrm>
            <a:off x="2279520" y="2494080"/>
            <a:ext cx="4651560" cy="1077840"/>
            <a:chOff x="2279520" y="2494080"/>
            <a:chExt cx="4651560" cy="1077840"/>
          </a:xfrm>
        </p:grpSpPr>
        <p:pic>
          <p:nvPicPr>
            <p:cNvPr id="65" name="Блок-схема: процесс 13" descr=""/>
            <p:cNvPicPr/>
            <p:nvPr/>
          </p:nvPicPr>
          <p:blipFill>
            <a:blip r:embed="rId1"/>
            <a:stretch/>
          </p:blipFill>
          <p:spPr>
            <a:xfrm>
              <a:off x="2279520" y="2494080"/>
              <a:ext cx="4651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357280" y="2571840"/>
              <a:ext cx="45007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Заголовок 1" descr=""/>
          <p:cNvPicPr/>
          <p:nvPr/>
        </p:nvPicPr>
        <p:blipFill>
          <a:blip r:embed="rId2"/>
          <a:stretch/>
        </p:blipFill>
        <p:spPr>
          <a:xfrm>
            <a:off x="444600" y="212760"/>
            <a:ext cx="8339040" cy="201780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2" descr=""/>
          <p:cNvPicPr/>
          <p:nvPr/>
        </p:nvPicPr>
        <p:blipFill>
          <a:blip r:embed="rId3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pic>
        <p:nvPicPr>
          <p:cNvPr id="69" name="Блок-схема: процесс 4" descr=""/>
          <p:cNvPicPr/>
          <p:nvPr/>
        </p:nvPicPr>
        <p:blipFill>
          <a:blip r:embed="rId4"/>
          <a:stretch/>
        </p:blipFill>
        <p:spPr>
          <a:xfrm>
            <a:off x="79200" y="4462560"/>
            <a:ext cx="2187720" cy="1109520"/>
          </a:xfrm>
          <a:prstGeom prst="rect">
            <a:avLst/>
          </a:prstGeom>
          <a:ln w="0">
            <a:noFill/>
          </a:ln>
        </p:spPr>
      </p:pic>
      <p:pic>
        <p:nvPicPr>
          <p:cNvPr id="70" name="Блок-схема: процесс 10" descr=""/>
          <p:cNvPicPr/>
          <p:nvPr/>
        </p:nvPicPr>
        <p:blipFill>
          <a:blip r:embed="rId5"/>
          <a:stretch/>
        </p:blipFill>
        <p:spPr>
          <a:xfrm>
            <a:off x="2298600" y="4462560"/>
            <a:ext cx="2254320" cy="1109520"/>
          </a:xfrm>
          <a:prstGeom prst="rect">
            <a:avLst/>
          </a:prstGeom>
          <a:ln w="0">
            <a:noFill/>
          </a:ln>
        </p:spPr>
      </p:pic>
      <p:pic>
        <p:nvPicPr>
          <p:cNvPr id="71" name="Блок-схема: процесс 11" descr=""/>
          <p:cNvPicPr/>
          <p:nvPr/>
        </p:nvPicPr>
        <p:blipFill>
          <a:blip r:embed="rId6"/>
          <a:stretch/>
        </p:blipFill>
        <p:spPr>
          <a:xfrm>
            <a:off x="4584600" y="4462560"/>
            <a:ext cx="2187720" cy="1109520"/>
          </a:xfrm>
          <a:prstGeom prst="rect">
            <a:avLst/>
          </a:prstGeom>
          <a:ln w="0">
            <a:noFill/>
          </a:ln>
        </p:spPr>
      </p:pic>
      <p:pic>
        <p:nvPicPr>
          <p:cNvPr id="72" name="Блок-схема: процесс 12" descr=""/>
          <p:cNvPicPr/>
          <p:nvPr/>
        </p:nvPicPr>
        <p:blipFill>
          <a:blip r:embed="rId7"/>
          <a:stretch/>
        </p:blipFill>
        <p:spPr>
          <a:xfrm>
            <a:off x="6765840" y="4462560"/>
            <a:ext cx="2225880" cy="110952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16"/>
          <p:cNvCxnSpPr/>
          <p:nvPr/>
        </p:nvCxnSpPr>
        <p:spPr>
          <a:xfrm flipH="1">
            <a:off x="1213920" y="3500280"/>
            <a:ext cx="3394800" cy="9295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74" name="Прямая со стрелкой 18"/>
          <p:cNvCxnSpPr/>
          <p:nvPr/>
        </p:nvCxnSpPr>
        <p:spPr>
          <a:xfrm flipH="1">
            <a:off x="3357360" y="3500280"/>
            <a:ext cx="1251360" cy="9295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75" name="Прямая со стрелкой 20"/>
          <p:cNvCxnSpPr/>
          <p:nvPr/>
        </p:nvCxnSpPr>
        <p:spPr>
          <a:xfrm>
            <a:off x="4606920" y="3500280"/>
            <a:ext cx="1037520" cy="9295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cxnSp>
        <p:nvCxnSpPr>
          <p:cNvPr id="76" name="Прямая со стрелкой 23"/>
          <p:cNvCxnSpPr/>
          <p:nvPr/>
        </p:nvCxnSpPr>
        <p:spPr>
          <a:xfrm>
            <a:off x="4605840" y="3500280"/>
            <a:ext cx="3180600" cy="9295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Прямоугольник 1"/>
          <p:cNvGrpSpPr/>
          <p:nvPr/>
        </p:nvGrpSpPr>
        <p:grpSpPr>
          <a:xfrm>
            <a:off x="6656400" y="3035160"/>
            <a:ext cx="2182680" cy="1024200"/>
            <a:chOff x="6656400" y="3035160"/>
            <a:chExt cx="2182680" cy="1024200"/>
          </a:xfrm>
        </p:grpSpPr>
        <p:pic>
          <p:nvPicPr>
            <p:cNvPr id="7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6656400" y="3035160"/>
              <a:ext cx="21826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715080" y="3071880"/>
              <a:ext cx="2071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Посм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Прямоугольник 2"/>
          <p:cNvGrpSpPr/>
          <p:nvPr/>
        </p:nvGrpSpPr>
        <p:grpSpPr>
          <a:xfrm>
            <a:off x="152280" y="3035160"/>
            <a:ext cx="2114640" cy="1024200"/>
            <a:chOff x="152280" y="3035160"/>
            <a:chExt cx="2114640" cy="1024200"/>
          </a:xfrm>
        </p:grpSpPr>
        <p:pic>
          <p:nvPicPr>
            <p:cNvPr id="8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52280" y="3035160"/>
              <a:ext cx="21146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14200" y="3071880"/>
              <a:ext cx="2000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Поточ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Прямоугольник 3"/>
          <p:cNvGrpSpPr/>
          <p:nvPr/>
        </p:nvGrpSpPr>
        <p:grpSpPr>
          <a:xfrm>
            <a:off x="5151600" y="5248440"/>
            <a:ext cx="2474640" cy="1023840"/>
            <a:chOff x="5151600" y="5248440"/>
            <a:chExt cx="2474640" cy="1023840"/>
          </a:xfrm>
        </p:grpSpPr>
        <p:pic>
          <p:nvPicPr>
            <p:cNvPr id="84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151600" y="5248440"/>
              <a:ext cx="2474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214960" y="5286240"/>
              <a:ext cx="2357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Игров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рямоугольник 4"/>
          <p:cNvGrpSpPr/>
          <p:nvPr/>
        </p:nvGrpSpPr>
        <p:grpSpPr>
          <a:xfrm>
            <a:off x="1432080" y="5248440"/>
            <a:ext cx="2420640" cy="1023840"/>
            <a:chOff x="1432080" y="5248440"/>
            <a:chExt cx="2420640" cy="1023840"/>
          </a:xfrm>
        </p:grpSpPr>
        <p:pic>
          <p:nvPicPr>
            <p:cNvPr id="87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432080" y="5248440"/>
              <a:ext cx="2420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500120" y="5286240"/>
              <a:ext cx="2286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Индивидуа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Прямоугольник 5"/>
          <p:cNvGrpSpPr/>
          <p:nvPr/>
        </p:nvGrpSpPr>
        <p:grpSpPr>
          <a:xfrm>
            <a:off x="1438200" y="676440"/>
            <a:ext cx="2262240" cy="1023840"/>
            <a:chOff x="1438200" y="676440"/>
            <a:chExt cx="2262240" cy="1023840"/>
          </a:xfrm>
        </p:grpSpPr>
        <p:pic>
          <p:nvPicPr>
            <p:cNvPr id="90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438200" y="676440"/>
              <a:ext cx="22622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500120" y="714240"/>
              <a:ext cx="2143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Фронтальный</a:t>
              </a: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Прямоугольник 6"/>
          <p:cNvGrpSpPr/>
          <p:nvPr/>
        </p:nvGrpSpPr>
        <p:grpSpPr>
          <a:xfrm>
            <a:off x="5084640" y="676440"/>
            <a:ext cx="2327400" cy="1023840"/>
            <a:chOff x="5084640" y="676440"/>
            <a:chExt cx="2327400" cy="1023840"/>
          </a:xfrm>
        </p:grpSpPr>
        <p:pic>
          <p:nvPicPr>
            <p:cNvPr id="93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5084640" y="676440"/>
              <a:ext cx="23274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143680" y="714240"/>
              <a:ext cx="221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onstantia"/>
                </a:rPr>
                <a:t>Группов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Овал 9" descr=""/>
          <p:cNvPicPr/>
          <p:nvPr/>
        </p:nvPicPr>
        <p:blipFill>
          <a:blip r:embed="rId7"/>
          <a:stretch/>
        </p:blipFill>
        <p:spPr>
          <a:xfrm>
            <a:off x="2895480" y="2614680"/>
            <a:ext cx="3200400" cy="1768320"/>
          </a:xfrm>
          <a:prstGeom prst="rect">
            <a:avLst/>
          </a:prstGeom>
          <a:ln w="0">
            <a:noFill/>
          </a:ln>
        </p:spPr>
      </p:pic>
      <p:cxnSp>
        <p:nvCxnSpPr>
          <p:cNvPr id="96" name="Прямая со стрелкой 37"/>
          <p:cNvCxnSpPr/>
          <p:nvPr/>
        </p:nvCxnSpPr>
        <p:spPr>
          <a:xfrm>
            <a:off x="4500720" y="4357440"/>
            <a:ext cx="1894320" cy="92916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97" name="Прямая со стрелкой 39"/>
          <p:cNvCxnSpPr/>
          <p:nvPr/>
        </p:nvCxnSpPr>
        <p:spPr>
          <a:xfrm flipH="1">
            <a:off x="2642760" y="4357440"/>
            <a:ext cx="1858320" cy="92916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98" name="Прямая со стрелкой 41"/>
          <p:cNvCxnSpPr>
            <a:stCxn id="95" idx="2"/>
          </p:cNvCxnSpPr>
          <p:nvPr/>
        </p:nvCxnSpPr>
        <p:spPr>
          <a:xfrm flipH="1">
            <a:off x="2214360" y="3500280"/>
            <a:ext cx="714960" cy="2952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99" name="Прямая со стрелкой 43"/>
          <p:cNvCxnSpPr/>
          <p:nvPr/>
        </p:nvCxnSpPr>
        <p:spPr>
          <a:xfrm>
            <a:off x="6072120" y="3500280"/>
            <a:ext cx="643320" cy="2952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100" name="Прямая со стрелкой 45"/>
          <p:cNvCxnSpPr>
            <a:stCxn id="95" idx="0"/>
          </p:cNvCxnSpPr>
          <p:nvPr/>
        </p:nvCxnSpPr>
        <p:spPr>
          <a:xfrm flipV="1">
            <a:off x="4499640" y="1628280"/>
            <a:ext cx="1751400" cy="101520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  <p:cxnSp>
        <p:nvCxnSpPr>
          <p:cNvPr id="101" name="Прямая со стрелкой 47"/>
          <p:cNvCxnSpPr>
            <a:stCxn id="95" idx="0"/>
          </p:cNvCxnSpPr>
          <p:nvPr/>
        </p:nvCxnSpPr>
        <p:spPr>
          <a:xfrm flipH="1" flipV="1">
            <a:off x="2571480" y="1628280"/>
            <a:ext cx="1929600" cy="1015200"/>
          </a:xfrm>
          <a:prstGeom prst="straightConnector1">
            <a:avLst/>
          </a:prstGeom>
          <a:ln w="9360">
            <a:solidFill>
              <a:srgbClr val="934607"/>
            </a:solidFill>
            <a:miter/>
            <a:tailEnd len="med" type="arrow" w="med"/>
          </a:ln>
        </p:spPr>
      </p:cxnSp>
    </p:spTree>
  </p:cSld>
  <p:transition>
    <p:pull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Рамиля</cp:lastModifiedBy>
  <dcterms:modified xsi:type="dcterms:W3CDTF">2023-09-25T08:29:49Z</dcterms:modified>
  <cp:revision>229</cp:revision>
  <dc:subject/>
  <dc:title>МБОУ  Апраксинская основная общеобразовательная школ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330777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