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6.png" ContentType="image/png"/>
  <Override PartName="/ppt/media/image11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4C8E-3D93-4BC7-9312-E8B83472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2D46-EA0F-464D-B438-E00CFB2B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8B9-7A6C-4572-8726-37F649D8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A832-8510-4F57-94B0-7B2F2094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5A7F-1AD7-423E-92E4-190454AE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4397-3494-43C2-AC79-6EFCAE0D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C76-76A8-453C-9392-728BFE14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2DBB-FF8A-470C-8749-F2F9B8D5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237-60A9-4776-8064-830B69A9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F9D-51DC-44D0-9025-88FFDA77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720F-8539-4147-A9D3-E0754C19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FE0-58DC-4F9E-9803-771B9460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0B7B-846D-4886-9557-DE3E3202AB2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3" descr="C:\Documents and Settings\Администратор\Рабочий стол\а шаблоны презентаций\tarodux-anime2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4" descr=""/>
          <p:cNvPicPr/>
          <p:nvPr/>
        </p:nvPicPr>
        <p:blipFill>
          <a:blip r:embed="rId2"/>
          <a:stretch/>
        </p:blipFill>
        <p:spPr>
          <a:xfrm>
            <a:off x="146160" y="1798560"/>
            <a:ext cx="6692760" cy="5272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0" descr="STL0025L"/>
          <p:cNvPicPr/>
          <p:nvPr/>
        </p:nvPicPr>
        <p:blipFill>
          <a:blip r:embed="rId3"/>
          <a:stretch/>
        </p:blipFill>
        <p:spPr>
          <a:xfrm>
            <a:off x="6254640" y="2779560"/>
            <a:ext cx="2895840" cy="3883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21800" y="2857320"/>
            <a:ext cx="8636040" cy="15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еуннукн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3" descr="C:\Documents and Settings\Администратор\Рабочий стол\а шаблоны презентаций\tarodux-anime2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500040" y="21744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Вид проекта: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Учебный , по физической культуре и анатомии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Тема: «Осанка»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500040" y="1143000"/>
            <a:ext cx="678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Возраст учащихся, на которых рассчитан проект (возраст авторов 13-14 лет, возраст пользователей 1-11 классы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428760" y="1938240"/>
            <a:ext cx="6500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Тип проекта: исследовательский, долгосрочный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Цель проекта: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Определение влияния специальных физических упражнений на коррекцию осанки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школьников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28760" y="4511160"/>
            <a:ext cx="8429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Необходимое оборудование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Сантиметровая лента, секундомер, гимнастические палки (12шт), маты (12шт), шведская стенка, перекладина, гимнастические скамейки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Продукты проекта: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Буклет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Комплексы для коррекции осанки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Справочный материал для проведения родительских собраний на тему: осанка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3" descr="C:\Documents and Settings\Администратор\Рабочий стол\а шаблоны презентаций\tarodux-anime2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4" descr=""/>
          <p:cNvPicPr/>
          <p:nvPr/>
        </p:nvPicPr>
        <p:blipFill>
          <a:blip r:embed="rId2"/>
          <a:stretch/>
        </p:blipFill>
        <p:spPr>
          <a:xfrm>
            <a:off x="281160" y="1994040"/>
            <a:ext cx="8081640" cy="103032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357120" y="714240"/>
            <a:ext cx="4929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Calibri"/>
              </a:rPr>
              <a:t>Правильная осанка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– привычная поза непринуждённо стоящего человека, когда он способен без напряжения держать прямо туловище и голову с небольшими естественными изгибами позвоночника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TextBox 6" descr=""/>
          <p:cNvPicPr/>
          <p:nvPr/>
        </p:nvPicPr>
        <p:blipFill>
          <a:blip r:embed="rId3"/>
          <a:stretch/>
        </p:blipFill>
        <p:spPr>
          <a:xfrm>
            <a:off x="208080" y="2139840"/>
            <a:ext cx="5297400" cy="429732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7" descr=""/>
          <p:cNvPicPr/>
          <p:nvPr/>
        </p:nvPicPr>
        <p:blipFill>
          <a:blip r:embed="rId4"/>
          <a:stretch/>
        </p:blipFill>
        <p:spPr>
          <a:xfrm>
            <a:off x="281160" y="42840"/>
            <a:ext cx="5370480" cy="74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Documents and Settings\Администратор\Рабочий стол\7dd757e177.jpg"/>
          <p:cNvPicPr/>
          <p:nvPr/>
        </p:nvPicPr>
        <p:blipFill>
          <a:blip r:embed="rId5"/>
          <a:stretch/>
        </p:blipFill>
        <p:spPr>
          <a:xfrm>
            <a:off x="5913360" y="433440"/>
            <a:ext cx="3029040" cy="5413320"/>
          </a:xfrm>
          <a:prstGeom prst="rect">
            <a:avLst/>
          </a:prstGeom>
          <a:ln w="0">
            <a:noFill/>
          </a:ln>
        </p:spPr>
      </p:pic>
      <p:pic>
        <p:nvPicPr>
          <p:cNvPr id="60" name="~PP2781.WAV" descr=""/>
          <p:cNvPicPr/>
          <p:nvPr/>
        </p:nvPicPr>
        <p:blipFill>
          <a:blip r:embed="rId6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3" descr="C:\Documents and Settings\Администратор\Рабочий стол\а шаблоны презентаций\tarodux-anime2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4" name="TextBox 4" descr=""/>
          <p:cNvPicPr/>
          <p:nvPr/>
        </p:nvPicPr>
        <p:blipFill>
          <a:blip r:embed="rId2"/>
          <a:stretch/>
        </p:blipFill>
        <p:spPr>
          <a:xfrm>
            <a:off x="281160" y="1994040"/>
            <a:ext cx="8081640" cy="1030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"/>
          <p:cNvSpPr/>
          <p:nvPr/>
        </p:nvSpPr>
        <p:spPr>
          <a:xfrm>
            <a:off x="1000080" y="-2808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лияние осанки на здоровье челове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214200" y="108684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ушение осанки сопровождается расстройством деятельности всех внутренних органов, небольшой жизненной емкостью легких и колебаниями внутригрудного давления. Это, неблагоприятно отражается на функции и сердечно-сосудистой, и дыхательной систем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абость мышц живота и согнутое положение тела вызывают нарушения оттока желчи и перистальтики кишечника. Это, приводит к нарушению пищеварительных процессов и зашлаковыванию организма, снижению иммунитета, простудным заболеваниям, быстрой утомляемости и головным болям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ди с плоской спиной подвержены к постоянным микротравмам головного мозга во время ходьбы, бега и других движений. Отсюда – быстрая утомляемость и частые головные боли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3" descr="C:\Documents and Settings\Администратор\Рабочий стол\а шаблоны презентаций\tarodux-anime2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4" descr=""/>
          <p:cNvPicPr/>
          <p:nvPr/>
        </p:nvPicPr>
        <p:blipFill>
          <a:blip r:embed="rId2"/>
          <a:stretch/>
        </p:blipFill>
        <p:spPr>
          <a:xfrm>
            <a:off x="281160" y="1994040"/>
            <a:ext cx="8081640" cy="10303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>
            <a:off x="1500120" y="28764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ст на правильность осанк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Рисунок 6" descr="Правильная осанка"/>
          <p:cNvPicPr/>
          <p:nvPr/>
        </p:nvPicPr>
        <p:blipFill>
          <a:blip r:embed="rId3"/>
          <a:stretch/>
        </p:blipFill>
        <p:spPr>
          <a:xfrm>
            <a:off x="500040" y="1143000"/>
            <a:ext cx="1714680" cy="37861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7"/>
          <p:cNvSpPr/>
          <p:nvPr/>
        </p:nvSpPr>
        <p:spPr>
          <a:xfrm>
            <a:off x="2714760" y="1000080"/>
            <a:ext cx="5572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ростейший способ оценить свою осанку заключается в следующем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Встаньте вплотную спиной к шкафу или стене. Сомкните стопы, смотрите прямо вперед (голова должна касаться шкафа). Руки опущены. Если ваша ладонь не проходит между поясницей и стеной, то осанка хорошая; в противном случае мышцы брюшного пресса слабы и живот оттягивает позвоночник вперед (лордоз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~PP4076.WAV" descr=""/>
          <p:cNvPicPr/>
          <p:nvPr/>
        </p:nvPicPr>
        <p:blipFill>
          <a:blip r:embed="rId4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3" descr="C:\Documents and Settings\Администратор\Рабочий стол\а шаблоны презентаций\tarodux-anime2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4" descr=""/>
          <p:cNvPicPr/>
          <p:nvPr/>
        </p:nvPicPr>
        <p:blipFill>
          <a:blip r:embed="rId2"/>
          <a:stretch/>
        </p:blipFill>
        <p:spPr>
          <a:xfrm>
            <a:off x="281160" y="1994040"/>
            <a:ext cx="8081640" cy="103032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1" descr=""/>
          <p:cNvPicPr/>
          <p:nvPr/>
        </p:nvPicPr>
        <p:blipFill>
          <a:blip r:embed="rId3"/>
          <a:stretch/>
        </p:blipFill>
        <p:spPr>
          <a:xfrm>
            <a:off x="189000" y="1116000"/>
            <a:ext cx="4187880" cy="492444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785880" y="214200"/>
            <a:ext cx="61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знаки правильной осанк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Picture 4" descr="http://www.krasota.uz/userfiles/images/i15(1).jpg"/>
          <p:cNvPicPr/>
          <p:nvPr/>
        </p:nvPicPr>
        <p:blipFill>
          <a:blip r:embed="rId4"/>
          <a:srcRect l="0" t="0" r="0" b="56"/>
          <a:stretch/>
        </p:blipFill>
        <p:spPr>
          <a:xfrm>
            <a:off x="4714920" y="4297320"/>
            <a:ext cx="4286160" cy="2417760"/>
          </a:xfrm>
          <a:prstGeom prst="rect">
            <a:avLst/>
          </a:prstGeom>
          <a:ln w="25560">
            <a:solidFill>
              <a:srgbClr val="385d8a"/>
            </a:solidFill>
            <a:miter/>
          </a:ln>
        </p:spPr>
      </p:pic>
      <p:pic>
        <p:nvPicPr>
          <p:cNvPr id="82" name="~PP1136.WAV" descr=""/>
          <p:cNvPicPr/>
          <p:nvPr/>
        </p:nvPicPr>
        <p:blipFill>
          <a:blip r:embed="rId5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3" descr="C:\Documents and Settings\Администратор\Рабочий стол\а шаблоны презентаций\tarodux-anime2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4" descr=""/>
          <p:cNvPicPr/>
          <p:nvPr/>
        </p:nvPicPr>
        <p:blipFill>
          <a:blip r:embed="rId2"/>
          <a:stretch/>
        </p:blipFill>
        <p:spPr>
          <a:xfrm>
            <a:off x="281160" y="1994040"/>
            <a:ext cx="8081640" cy="10303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357120" y="289080"/>
            <a:ext cx="857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 нарушениям осанки, отражающим увеличение изгибов позвоночника, относятся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428760" y="1382040"/>
            <a:ext cx="8358120" cy="47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утуловатость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величение грудного кифоза (выгнутости) и уменьшение поясничного лордоза (вогнутости).При сутуловатой и круглой спине грудь западает, плечи, шея и голова наклонены вперед, живот выпячен, ягодицы уплощены, лопатки крыловидно выпячены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лордотическая 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— 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углая спина</a:t>
            </a:r>
            <a:r>
              <a:rPr b="1" lang="en-US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увеличение грудного кифоза (выгнутости) при полном отсутствии поясничного лордоза (вогнутости). Для компенсации отклонения центра тяжести от средней линии человек с такой осанкой стоит, как правило, с чуть согнутыми в коленях ногами. При кругловогнутой спине голова, шея, плечи наклонены вперед, живот выступает, колени максимально разогнуты, мышцы задней поверхности бедер растянуты и истончены по сравнению с мышцами передней поверхности бедер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кифотическая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—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угловогнутая спина – увеличение всех изгибов позвоночника, а также угла наклона таза.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выпрямленная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—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лоская спина – уплощение поясничного лордоза (вогнутости), при котором наклон таза уменьшен, а грудной кифоз выражен плохо. Грудная клетка при этом смещена вперед, нижняя часть живота выпячена, лопатки крыловидные – углы и внутренние их края отстают от спины.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3" descr="C:\Documents and Settings\Администратор\Рабочий стол\а шаблоны презентаций\tarodux-anime2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TextBox 4" descr=""/>
          <p:cNvPicPr/>
          <p:nvPr/>
        </p:nvPicPr>
        <p:blipFill>
          <a:blip r:embed="rId2"/>
          <a:stretch/>
        </p:blipFill>
        <p:spPr>
          <a:xfrm>
            <a:off x="281160" y="1994040"/>
            <a:ext cx="8081640" cy="1030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Картинка 25 из 85327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8"/>
          <p:cNvSpPr/>
          <p:nvPr/>
        </p:nvSpPr>
        <p:spPr>
          <a:xfrm>
            <a:off x="1785960" y="0"/>
            <a:ext cx="557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Будьте здоровы!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hecke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Рамиля</cp:lastModifiedBy>
  <dcterms:modified xsi:type="dcterms:W3CDTF">2023-09-25T08:33:31Z</dcterms:modified>
  <cp:revision>1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337648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</Properties>
</file>