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5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E60-0B89-4BAF-A6F8-745809F3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FF4-03F0-4B81-BC6D-9366C08E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5DB-218D-47D5-A80E-1E85F97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CF6-5840-4D83-BADD-C16C36CC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DFA-82F2-45A1-A340-D94CABF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3CB-C5B6-40C6-8E53-303A67AE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2DD-E8FC-4430-BDA2-FA189536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59A-795D-421F-A945-1370D7E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502-23A0-4CA9-9EA4-D1DCF0F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C2A-A989-434C-A815-46D2DEA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B1A-02B7-45BA-9060-5E7C528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611-8237-44B2-9FD9-9909B97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5FC3-DBAB-4E2E-B1C4-3EDB26983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26320" y="461880"/>
            <a:ext cx="53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677920" y="401796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Класс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Будов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362320" y="1752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емья и семейные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8440" y="306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73440" y="601992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Новокузнецк,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370520" y="106668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2b73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676520" y="1905120"/>
            <a:ext cx="5486400" cy="4419360"/>
          </a:xfrm>
          <a:custGeom>
            <a:avLst/>
            <a:gdLst>
              <a:gd name="textAreaLeft" fmla="*/ 1279440 w 5486400"/>
              <a:gd name="textAreaRight" fmla="*/ 4205520 w 5486400"/>
              <a:gd name="textAreaTop" fmla="*/ 465840 h 4419360"/>
              <a:gd name="textAreaBottom" fmla="*/ 2798280 h 4419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e92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55" name="Содержимое 2"/>
          <p:cNvSpPr/>
          <p:nvPr/>
        </p:nvSpPr>
        <p:spPr>
          <a:xfrm>
            <a:off x="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2b7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едставления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добре и з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порядо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 уважит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 матери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 духов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memories"/>
          <p:cNvPicPr/>
          <p:nvPr/>
        </p:nvPicPr>
        <p:blipFill>
          <a:blip r:embed="rId4"/>
          <a:srcRect l="1764" t="2835" r="2394" b="4252"/>
          <a:stretch/>
        </p:blipFill>
        <p:spPr>
          <a:xfrm>
            <a:off x="4572000" y="152280"/>
            <a:ext cx="4038480" cy="5026320"/>
          </a:xfrm>
          <a:prstGeom prst="rect">
            <a:avLst/>
          </a:prstGeom>
          <a:ln w="25560">
            <a:solidFill>
              <a:srgbClr val="660066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486400" y="0"/>
            <a:ext cx="317016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Содержимое 2"/>
          <p:cNvSpPr/>
          <p:nvPr/>
        </p:nvSpPr>
        <p:spPr>
          <a:xfrm>
            <a:off x="0" y="1219320"/>
            <a:ext cx="8686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трудовой коллект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оральная оп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высшие челове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привязанности (любовь, дружб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пространство для отды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школа добр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ногообразная система отношений с родителями, братьями, сестрами, родными и знаком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ораль и вку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анеры и привы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ировоззрение и убеж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характер и идеал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2b73"/>
                </a:solidFill>
                <a:latin typeface="Franklin Gothic Medium"/>
              </a:rPr>
              <a:t>Основы всего этого закладываютс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200" y="25560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ЬЯ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71" name="il_fi" descr="http://medpravda.com/wp-content/uploads/2012/07/family-dom.jpg"/>
          <p:cNvPicPr/>
          <p:nvPr/>
        </p:nvPicPr>
        <p:blipFill>
          <a:blip r:embed="rId3"/>
          <a:stretch/>
        </p:blipFill>
        <p:spPr>
          <a:xfrm>
            <a:off x="1676520" y="1219320"/>
            <a:ext cx="5790960" cy="4091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981080" y="5638680"/>
            <a:ext cx="45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Счастлив тот, кто счастлив у себя дом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12628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78" name="Содержимое 2"/>
          <p:cNvSpPr/>
          <p:nvPr/>
        </p:nvSpPr>
        <p:spPr>
          <a:xfrm>
            <a:off x="30492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ажд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язан со все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емьи, есть общ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планы, члены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держивают друг др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веряют друг другу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355760" y="2627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1219320"/>
            <a:ext cx="9264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емья начинается с «мы», будь требовательнее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й вместе с человеком, а не вмест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емонстрируй свое превосходство, уважай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удь другом друзей су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упрекай, критикуя, не обвиняй и не уни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пеши сделать доброе дело и не жди наг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верит тот, кто сам обман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ейся вместе, а не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щи в супруге хорошее, говори о его достоин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авай советов, если тебя не прос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лай первым шаг навстречу, если возникает ссора или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бовь и взаимопонимание — основа вашего счаст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980720" y="45720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ЗАПОВ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43000" y="914400"/>
            <a:ext cx="603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-  это  традиции  вашей  семьи, взаимная любовь членов семьи друг к другу,   верность,   преданность,  уважение   к   старшему   поко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143000" y="38088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550"/>
          <p:cNvPicPr/>
          <p:nvPr/>
        </p:nvPicPr>
        <p:blipFill>
          <a:blip r:embed="rId3"/>
          <a:stretch/>
        </p:blipFill>
        <p:spPr>
          <a:xfrm>
            <a:off x="228600" y="4038480"/>
            <a:ext cx="327672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5257800" y="2895480"/>
            <a:ext cx="3124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1" descr=""/>
          <p:cNvPicPr/>
          <p:nvPr/>
        </p:nvPicPr>
        <p:blipFill>
          <a:blip r:embed="rId3"/>
          <a:stretch/>
        </p:blipFill>
        <p:spPr>
          <a:xfrm>
            <a:off x="249120" y="53352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28600" y="1371600"/>
            <a:ext cx="60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ом и родители игр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ющую роль в стано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сихики ребенка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ряжается токами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соких челове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буждений: стре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авать радость себе и близ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дям, делить их гор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могать в тяг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039"/>
          <p:cNvPicPr/>
          <p:nvPr/>
        </p:nvPicPr>
        <p:blipFill>
          <a:blip r:embed="rId4"/>
          <a:stretch/>
        </p:blipFill>
        <p:spPr>
          <a:xfrm>
            <a:off x="5486400" y="457200"/>
            <a:ext cx="3079800" cy="4524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047080" cy="6035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990720" y="304920"/>
            <a:ext cx="679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соответствии с Семейным кодексом Российской Федерации каждый ребенок имеет право жить и воспитываться в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5:38:32Z</dcterms:created>
  <dc:creator>Кирилл</dc:creator>
  <dc:description/>
  <dc:language>en-US</dc:language>
  <cp:lastModifiedBy>Microsoft Office</cp:lastModifiedBy>
  <dcterms:modified xsi:type="dcterms:W3CDTF">2023-09-25T09:0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