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5.png" ContentType="image/pn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C85-37D6-49C4-A552-1862A99F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731-D060-4B02-AFFF-10B3AE38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9AE-E76B-4EA2-A1F3-088BFFE4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752-F5DD-42CD-A874-B25E3931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543-1082-4B51-B967-591666A9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D05-AA12-41B7-BD89-8B07497F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B15-B9F2-4076-9FD6-2A12726B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3C1-4DD2-4255-B2A7-A308C82B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965-9615-49D1-BE4C-A8FB3D2D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4B3-1288-446E-9631-6C8C564F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AC1-6779-4869-AF8F-BCD49F0F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36C-6488-4502-8A90-562F870B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D701-5A9E-44AB-8729-5568055AA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426320" y="461880"/>
            <a:ext cx="539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МБОУ «Средняя общеобразовательная школа №56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677920" y="401796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Класс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Будова Л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362320" y="1752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емья и семейные ц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58440" y="306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673440" y="601992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Verdana"/>
              </a:rPr>
              <a:t>Новокузнецк,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370520" y="1066680"/>
            <a:ext cx="63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2b73"/>
                </a:solidFill>
                <a:latin typeface="Arial"/>
              </a:rPr>
              <a:t>СПАСИБО ЗА ВНИМАНИ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676520" y="1905120"/>
            <a:ext cx="5486400" cy="4419360"/>
          </a:xfrm>
          <a:custGeom>
            <a:avLst/>
            <a:gdLst>
              <a:gd name="textAreaLeft" fmla="*/ 1279440 w 5486400"/>
              <a:gd name="textAreaRight" fmla="*/ 4205520 w 5486400"/>
              <a:gd name="textAreaTop" fmla="*/ 465840 h 4419360"/>
              <a:gd name="textAreaBottom" fmla="*/ 2798280 h 4419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e92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0"/>
            <a:ext cx="8305920" cy="64008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55" name="Содержимое 2"/>
          <p:cNvSpPr/>
          <p:nvPr/>
        </p:nvSpPr>
        <p:spPr>
          <a:xfrm>
            <a:off x="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2b7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клады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едставления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 добре и з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 порядоч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б уважитель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нош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 материа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и духовным ценн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Заголовок 1" descr=""/>
          <p:cNvPicPr/>
          <p:nvPr/>
        </p:nvPicPr>
        <p:blipFill>
          <a:blip r:embed="rId3"/>
          <a:stretch/>
        </p:blipFill>
        <p:spPr>
          <a:xfrm>
            <a:off x="0" y="380880"/>
            <a:ext cx="8924760" cy="1268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memories"/>
          <p:cNvPicPr/>
          <p:nvPr/>
        </p:nvPicPr>
        <p:blipFill>
          <a:blip r:embed="rId4"/>
          <a:srcRect l="1764" t="2835" r="2394" b="4252"/>
          <a:stretch/>
        </p:blipFill>
        <p:spPr>
          <a:xfrm>
            <a:off x="4572000" y="152280"/>
            <a:ext cx="4038480" cy="5026320"/>
          </a:xfrm>
          <a:prstGeom prst="rect">
            <a:avLst/>
          </a:prstGeom>
          <a:ln w="25560">
            <a:solidFill>
              <a:srgbClr val="660066"/>
            </a:solidFill>
            <a:miter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0"/>
            <a:ext cx="8305920" cy="64008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486400" y="0"/>
            <a:ext cx="3170160" cy="3581280"/>
          </a:xfrm>
          <a:prstGeom prst="rect">
            <a:avLst/>
          </a:prstGeom>
          <a:ln w="0">
            <a:noFill/>
          </a:ln>
        </p:spPr>
      </p:pic>
      <p:sp>
        <p:nvSpPr>
          <p:cNvPr id="64" name="Содержимое 2"/>
          <p:cNvSpPr/>
          <p:nvPr/>
        </p:nvSpPr>
        <p:spPr>
          <a:xfrm>
            <a:off x="0" y="1219320"/>
            <a:ext cx="86868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трудовой коллект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моральная оп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высшие челове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привязанности (любовь, дружб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пространство для отды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школа добр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и многообразная система отношений с родителями, братьями, сестрами, родными и знаком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мораль и вкус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манеры и привы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мировоззрение и убеж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ranklin Gothic Medium"/>
              </a:rPr>
              <a:t>характер и идеал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2b73"/>
                </a:solidFill>
                <a:latin typeface="Franklin Gothic Medium"/>
              </a:rPr>
              <a:t>Основы всего этого закладываются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92b73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92b73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04200" y="255600"/>
            <a:ext cx="28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МЬЯ -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0" y="0"/>
            <a:ext cx="8305920" cy="64008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71" name="il_fi" descr="http://medpravda.com/wp-content/uploads/2012/07/family-dom.jpg"/>
          <p:cNvPicPr/>
          <p:nvPr/>
        </p:nvPicPr>
        <p:blipFill>
          <a:blip r:embed="rId3"/>
          <a:stretch/>
        </p:blipFill>
        <p:spPr>
          <a:xfrm>
            <a:off x="1676520" y="1219320"/>
            <a:ext cx="5790960" cy="4091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1981080" y="5638680"/>
            <a:ext cx="45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Счастлив тот, кто счастлив у себя дом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головок 1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812628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78" name="Содержимое 2"/>
          <p:cNvSpPr/>
          <p:nvPr/>
        </p:nvSpPr>
        <p:spPr>
          <a:xfrm>
            <a:off x="30492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аждый чело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язан со всеми чл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емьи, есть общи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 планы, члены сем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ддерживают друг дру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веряют друг другу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Заголовок 1" descr=""/>
          <p:cNvPicPr/>
          <p:nvPr/>
        </p:nvPicPr>
        <p:blipFill>
          <a:blip r:embed="rId3"/>
          <a:stretch/>
        </p:blipFill>
        <p:spPr>
          <a:xfrm>
            <a:off x="0" y="380880"/>
            <a:ext cx="8924760" cy="126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3505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355760" y="2627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1219320"/>
            <a:ext cx="9264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емья начинается с «мы», будь требовательнее к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ешай вместе с человеком, а не вмест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демонстрируй свое превосходство, уважай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Будь другом друзей суп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упрекай, критикуя, не обвиняй и не униж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пеши сделать доброе дело и не жди наг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верит тот, кто сам обман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мейся вместе, а не н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Ищи в супруге хорошее, говори о его достоин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е давай советов, если тебя не прос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елай первым шаг навстречу, если возникает ссора или конфл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Любовь и взаимопонимание — основа вашего счаст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980720" y="457200"/>
            <a:ext cx="50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МЕЙНЫЕ ЗАПОВ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143000" y="914400"/>
            <a:ext cx="603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-  это  традиции  вашей  семьи, взаимная любовь членов семьи друг к другу,   верность,   преданность,  уважение   к   старшему   поко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143000" y="380880"/>
            <a:ext cx="50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МЕЙНЫ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550"/>
          <p:cNvPicPr/>
          <p:nvPr/>
        </p:nvPicPr>
        <p:blipFill>
          <a:blip r:embed="rId3"/>
          <a:stretch/>
        </p:blipFill>
        <p:spPr>
          <a:xfrm>
            <a:off x="228600" y="4038480"/>
            <a:ext cx="3276720" cy="227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666880" y="34290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5257800" y="2895480"/>
            <a:ext cx="3124080" cy="20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101" name="Заголовок 1" descr=""/>
          <p:cNvPicPr/>
          <p:nvPr/>
        </p:nvPicPr>
        <p:blipFill>
          <a:blip r:embed="rId3"/>
          <a:stretch/>
        </p:blipFill>
        <p:spPr>
          <a:xfrm>
            <a:off x="249120" y="533520"/>
            <a:ext cx="8894880" cy="1152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228600" y="1371600"/>
            <a:ext cx="60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ом и родители игр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ешающую роль в становл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сихики ребенка, кото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ряжается токами са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ысоких челове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обуждений: стрем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авать радость себе и близ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людям, делить их горе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омогать в тяго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039"/>
          <p:cNvPicPr/>
          <p:nvPr/>
        </p:nvPicPr>
        <p:blipFill>
          <a:blip r:embed="rId4"/>
          <a:stretch/>
        </p:blipFill>
        <p:spPr>
          <a:xfrm>
            <a:off x="5486400" y="457200"/>
            <a:ext cx="3079800" cy="4524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2b7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Я люблю тебя!"/>
          <p:cNvPicPr/>
          <p:nvPr/>
        </p:nvPicPr>
        <p:blipFill>
          <a:blip r:embed="rId1"/>
          <a:stretch/>
        </p:blipFill>
        <p:spPr>
          <a:xfrm>
            <a:off x="0" y="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Я люблю тебя!"/>
          <p:cNvPicPr/>
          <p:nvPr/>
        </p:nvPicPr>
        <p:blipFill>
          <a:blip r:embed="rId2"/>
          <a:stretch/>
        </p:blipFill>
        <p:spPr>
          <a:xfrm>
            <a:off x="5867280" y="5181480"/>
            <a:ext cx="2894040" cy="125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047080" cy="6035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990720" y="304920"/>
            <a:ext cx="679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 соответствии с Семейным кодексом Российской Федерации каждый ребенок имеет право жить и воспитываться в сем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5:38:32Z</dcterms:created>
  <dc:creator>Кирилл</dc:creator>
  <dc:description/>
  <dc:language>en-US</dc:language>
  <cp:lastModifiedBy>Microsoft Office</cp:lastModifiedBy>
  <dcterms:modified xsi:type="dcterms:W3CDTF">2023-09-25T09:00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