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EB3E-AD04-49B6-9231-1C060BCC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5354-8632-49AD-B17E-D0EE3EB6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BAEB-4611-41B5-B1E8-D0105B89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9AAF-56EC-4A2A-9FD1-5A792DB2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2514-8EC1-4A47-897C-5C06F706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4895-48E8-4D38-883B-D9C32FBF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37DD-FA83-4AC0-B2F4-E643D79D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5CF4-906A-4B76-93C6-2C0A9C09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2A33-8003-4D33-B212-AF53A555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5CE2-9207-40FF-999B-ABA68D3D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07E6-AFA6-4C3D-A6F3-4DAC7C93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32A7-2BB7-419E-AA89-CBC53319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3D2B-F714-4F1D-B4CF-5A8153C1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B750-0E8E-48F0-A487-EE5CD0A7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DF7E-3A41-404D-AFA7-B124AFD8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D02A-6597-4B24-9B7C-1BF868D7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A02F-3109-4588-A7BA-B893C843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DE0C-25A7-4F8D-9773-C7340119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DEAB-1E3C-4E21-BE72-8350B5C8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E8F7-9110-4840-85B6-7DC4E45D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E39-1645-43DE-B41F-F7F83711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5D2-4B4D-4579-9C18-DF1980CA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3E3C-0E2F-49B1-8592-61B517B3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A8FD-2B38-44B3-8649-E80A3C2C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67BF-0F4A-4B2B-8B02-346BAB44F0F1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E962-A156-4298-8591-3867B283404A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text=%25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755640" y="357120"/>
            <a:ext cx="777708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Число имен прилагательны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000760" y="4005360"/>
            <a:ext cx="36432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ховалова Ольга Николаевн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 СОШ №9»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-ца Старопавловская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ский р-н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ропольский край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2571840" y="2286000"/>
            <a:ext cx="378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рок  русского язык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3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МК «Школа Росси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чебник В.П. Канакиной   2 част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539640" y="9079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Как определить окончания имен прилагательны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55640" y="2109960"/>
          <a:ext cx="7848720" cy="3706560"/>
        </p:xfrm>
        <a:graphic>
          <a:graphicData uri="http://schemas.openxmlformats.org/drawingml/2006/table">
            <a:tbl>
              <a:tblPr/>
              <a:tblGrid>
                <a:gridCol w="1962000"/>
                <a:gridCol w="2068560"/>
                <a:gridCol w="1855800"/>
                <a:gridCol w="1962360"/>
              </a:tblGrid>
              <a:tr h="703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Единственное число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н.ч.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Ж. р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. р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. 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ая, -яя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ой,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ый,-и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ое, -ее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ые,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 и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285840" y="7142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642960" y="1500120"/>
            <a:ext cx="8143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долгожданный весна. Из-за далекой синей моря прилетели ласточки. И поют они свои веселая песни про чужая края. Птицы нача-ли вить гнезда в саду и соседняя лес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928800" y="57492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58ed5"/>
                </a:solidFill>
                <a:uFillTx/>
                <a:latin typeface="Times New Roman"/>
                <a:ea typeface="Times New Roman"/>
              </a:rPr>
              <a:t>1 груп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равьте ошибки, подчеркните имена прилагательные во множественном чи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85840" y="7142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785880" y="1143000"/>
            <a:ext cx="784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долгожданн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я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а. Из-за далек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г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н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г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ря прилетели ласточки. И поют они свои весел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сни про чуж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ая. Птицы начали вить гнезда в саду и соседн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м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428840" y="57276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285840" y="7142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714240" y="1714680"/>
            <a:ext cx="8072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на деревьях появляются зеленая листочки. Сквозь землю пробивается свежий трава. Расцветают первое весенние цветы. Все любят тёплый солныш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785880" y="57492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2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равьте ошибки, подчеркните имена прилагательные в единственном чи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285840" y="7142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785880" y="114300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1428840" y="57276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714240" y="1285920"/>
            <a:ext cx="8072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на деревьях появляются зелен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сточки. Сквозь землю пробивается свеж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ава. Расцветают перв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сенние цветы. Все любят тёпл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лныш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285840" y="7142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714240" y="1714680"/>
            <a:ext cx="8072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ец-то пришла весна! Небо сияет яркой  голубой  цветом. Дует свежее и теплое ветерок. На мокрый  земле расцветают белый подснежн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785880" y="57600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3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равьте ошибки, выделите окончания имен прилагательных в единственном чи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285840" y="7142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785880" y="114300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1428840" y="57276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714240" y="1285920"/>
            <a:ext cx="8072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ец-то пришла весна! Небо сияет ярк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олуб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ом. Дует свеж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епл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й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ок. На мокр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мле расцветают бел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снежн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285840" y="7142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714240" y="2071800"/>
            <a:ext cx="8072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весна. Засветило яркая солнце. На крышах домов тают последний сосульки. По мокрой улицам журчат торопливый ручь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785880" y="57600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4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равьте ошибки, выделите окончания имен прилагательных во множественном чи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285840" y="7142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785880" y="114300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1428840" y="57276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714240" y="1285920"/>
            <a:ext cx="8072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весна. Засветило ярк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е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. На крышах домов тают последн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е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ульки. По мокр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лицам журчат тороплив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учь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285840" y="714240"/>
            <a:ext cx="8572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кончи фраз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 прилагательное во множественном числе  имеет окончания_____________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755640" y="393372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Имя  прилагательное изменяется 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__________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Цель урока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азвивать умение определять число имен прилагательных;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тработать умение составлять словосочетания «имя прилагательное + имя существительное»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"/>
          <p:cNvSpPr/>
          <p:nvPr/>
        </p:nvSpPr>
        <p:spPr>
          <a:xfrm>
            <a:off x="285840" y="7142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928800" y="1000080"/>
            <a:ext cx="784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ите ли Вы, что имена прилагательные бывают собственными и нарицательны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ите ли Вы, что имена прилагательные могут обозначать различные признаки: цвет, вкус, форму, размер, запах, внутренние и внешние качества челове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ите ли Вы, что слова легкий, весенний, звонкие, прохладный – это имена прилагательны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ите ли Вы, что имена прилагательные изменяются по числ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ите ли Вы, что имена прилагательные бывают одушевленными и неодушевленны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1214280" y="501120"/>
            <a:ext cx="72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 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ерно, неверн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Улыбающееся лицо 1"/>
          <p:cNvSpPr/>
          <p:nvPr/>
        </p:nvSpPr>
        <p:spPr>
          <a:xfrm>
            <a:off x="3857760" y="4286160"/>
            <a:ext cx="1428480" cy="1357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1428840" y="1428840"/>
            <a:ext cx="6572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я узнал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учился 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было трудно…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было легко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1214280" y="228600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mbria"/>
              </a:rPr>
              <a:t>Спасибо за работу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mbria"/>
              </a:rPr>
              <a:t>Д/з: с.79, упр.137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4360" y="714240"/>
            <a:ext cx="792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сточни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.С. Ситникова, И.Ф. Яценко «Поурочные разработки по русскому языку»3класс М.: «Вако» 2014.-496с. (В помощь школьному учител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.П. Канакина, В.Г. Горецкий «Русский язык» учебник 3 класс 2 часть  М.: «Просвещение» 201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 Картинки  сайт «Википед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. Картинка </a:t>
            </a:r>
            <a:r>
              <a:rPr b="0" lang="en-US" sz="2400" spc="-1" strike="noStrike" u="sng">
                <a:solidFill>
                  <a:srgbClr val="700000"/>
                </a:solidFill>
                <a:uFillTx/>
                <a:latin typeface="Times New Roman"/>
                <a:hlinkClick r:id="rId1"/>
              </a:rPr>
              <a:t>https://yandex.ru/images/search?text=%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2214720" y="478620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39640" y="102888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428840" y="471492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прилагательных выделите окончание, укажите 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857160" y="1013040"/>
            <a:ext cx="778680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берите к данным именам прилагательным подходящие по смыслу имена существительные и запишите получившиеся словосочет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едний …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тёплое …, зелёна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neizvestniy-geniy.ru/images/works/photo/2016/03/1577752_1.jpg"/>
          <p:cNvPicPr/>
          <p:nvPr/>
        </p:nvPicPr>
        <p:blipFill>
          <a:blip r:embed="rId1"/>
          <a:stretch/>
        </p:blipFill>
        <p:spPr>
          <a:xfrm>
            <a:off x="1428840" y="642960"/>
            <a:ext cx="63579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2"/>
          <p:cNvSpPr/>
          <p:nvPr/>
        </p:nvSpPr>
        <p:spPr>
          <a:xfrm>
            <a:off x="1357200" y="4000680"/>
            <a:ext cx="7286760" cy="1500120"/>
          </a:xfrm>
          <a:prstGeom prst="rect">
            <a:avLst/>
          </a:prstGeom>
          <a:solidFill>
            <a:srgbClr val="dc96c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857160" y="785880"/>
            <a:ext cx="78901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делите имена прилагательные на две групп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какому признаку вы это сдела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Белые, пушистый, весёлая, быстрые, красная, спелый,звонк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857240" y="4000680"/>
            <a:ext cx="61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mbria"/>
              </a:rPr>
              <a:t>Сформулируй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mbria"/>
              </a:rPr>
              <a:t>тему уро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s://bumper-stickers.ru/33286-thickbox_default/vozdushnyy-sharik-28.jpg"/>
          <p:cNvPicPr/>
          <p:nvPr/>
        </p:nvPicPr>
        <p:blipFill>
          <a:blip r:embed="rId1"/>
          <a:stretch/>
        </p:blipFill>
        <p:spPr>
          <a:xfrm>
            <a:off x="714240" y="1500120"/>
            <a:ext cx="3214800" cy="321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s://www.mshar.ru/upload/iblock/cb3/cb3c344a145a9e8b80aaa4c64c0901a5.jpg"/>
          <p:cNvPicPr/>
          <p:nvPr/>
        </p:nvPicPr>
        <p:blipFill>
          <a:blip r:embed="rId2"/>
          <a:stretch/>
        </p:blipFill>
        <p:spPr>
          <a:xfrm>
            <a:off x="4714920" y="1357200"/>
            <a:ext cx="3714840" cy="3786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214200" y="8575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57120" y="857520"/>
            <a:ext cx="814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s://bumper-stickers.ru/33286-thickbox_default/vozdushnyy-sharik-28.jpg"/>
          <p:cNvPicPr/>
          <p:nvPr/>
        </p:nvPicPr>
        <p:blipFill>
          <a:blip r:embed="rId1"/>
          <a:stretch/>
        </p:blipFill>
        <p:spPr>
          <a:xfrm>
            <a:off x="857160" y="1571760"/>
            <a:ext cx="3214800" cy="3214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ttps://www.mshar.ru/upload/iblock/cb3/cb3c344a145a9e8b80aaa4c64c0901a5.jpg"/>
          <p:cNvPicPr/>
          <p:nvPr/>
        </p:nvPicPr>
        <p:blipFill>
          <a:blip r:embed="rId2"/>
          <a:stretch/>
        </p:blipFill>
        <p:spPr>
          <a:xfrm>
            <a:off x="4643280" y="1214280"/>
            <a:ext cx="3714840" cy="37864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214200" y="8575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ДИН ПРЕДМЕТ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57120" y="857520"/>
            <a:ext cx="814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НОГО ПРЕДМ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85840" y="1143720"/>
            <a:ext cx="84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ru-RU" sz="1800" spc="-1" strike="noStrike">
                <a:solidFill>
                  <a:srgbClr val="1f497d"/>
                </a:solidFill>
                <a:latin typeface="Times New Roman"/>
              </a:rPr>
              <a:t>Ед.ч.                                                              Мн.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4"/>
          <p:cNvSpPr/>
          <p:nvPr/>
        </p:nvSpPr>
        <p:spPr>
          <a:xfrm>
            <a:off x="1214280" y="404640"/>
            <a:ext cx="72154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С.78, Упр. 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(письмо по памя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955800" y="1857240"/>
            <a:ext cx="77054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2"/>
          <p:cNvSpPr/>
          <p:nvPr/>
        </p:nvSpPr>
        <p:spPr>
          <a:xfrm>
            <a:off x="500040" y="20001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Алгоритм дейст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существительное, связанное с прилагате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род и число у существитель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ть род и число у прилагательного по существитель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"/>
          <p:cNvPicPr/>
          <p:nvPr/>
        </p:nvPicPr>
        <p:blipFill>
          <a:blip r:embed="rId1"/>
          <a:stretch/>
        </p:blipFill>
        <p:spPr>
          <a:xfrm>
            <a:off x="6357960" y="4572000"/>
            <a:ext cx="1963800" cy="18446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714240" y="576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Какие окончания имеют имена прилагательные во множественном чис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Как определить число имен прилагатель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07:43:00Z</dcterms:created>
  <dc:creator>Елена</dc:creator>
  <dc:description/>
  <dc:language>en-US</dc:language>
  <cp:lastModifiedBy>Админ</cp:lastModifiedBy>
  <dcterms:modified xsi:type="dcterms:W3CDTF">2023-03-12T10:05:28Z</dcterms:modified>
  <cp:revision>56</cp:revision>
  <dc:subject/>
  <dc:title>Слайд 1</dc:title>
</cp:coreProperties>
</file>