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145E-09CE-460C-A080-985CE1B6C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21A3-FE95-492F-A8F0-2724779C8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8906-4664-479C-9E78-12F5779C8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B582-8E36-4B1E-9F6C-4E31B0261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AB891-8075-4029-91E8-6776F428C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CADE1-2472-4C2D-9320-9C4B56805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8CAEA-9D79-437C-BB64-4FC6E14B0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EE973-BCBE-4EE3-A29A-5B15B91CC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563D0-5CAD-4433-89BD-5214F1957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350C0-5C98-4E56-8C07-49C57516C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2DA83-077A-4E1D-AAEE-D861B391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3198-F91E-4283-84A6-7A798A0B7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BDAF3-D467-4C4D-800D-18865998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A711F-E4D3-4C40-9F62-1F9D5F52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4315B-D384-4317-B3AB-26B7C0C4F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C247B-471D-4C5C-AF6D-8E26DEF49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8EA46-031C-4BD5-8079-C4475669A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9891-3CFF-44AB-96A9-267839DC1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7C9E-177D-4D79-9C32-E3C314DA2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5EEA-259E-47F7-8759-9D6291D00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A09F-FD56-4839-BFFA-08B505052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80DE-63B7-4009-B58E-F6956393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5EBC-43A8-4A26-ADF9-91C6FE24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5877-EE00-414D-9F6E-EEE90709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D0D24-27DF-4C2A-A90F-0B211FC3E806}" type="slidenum">
              <a:rPr b="0" lang="ru-RU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4471D-00E8-44C4-BCD3-9D3138CDA6FA}" type="slidenum">
              <a:rPr b="0" lang="ru-RU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s://yandex.ru/images/search?text=%25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Заголовок 1"/>
          <p:cNvSpPr/>
          <p:nvPr/>
        </p:nvSpPr>
        <p:spPr>
          <a:xfrm>
            <a:off x="755640" y="357120"/>
            <a:ext cx="7777080" cy="23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Число имен прилагательных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000760" y="4005360"/>
            <a:ext cx="36432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ховалова Ольга Николаевна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 СОШ №9»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-ца Старопавловская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ровский р-н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вропольский край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2571840" y="2286000"/>
            <a:ext cx="3786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Урок  русского языка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3 клас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УМК «Школа России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Учебник В.П. Канакиной   2 часть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1"/>
          <p:cNvSpPr/>
          <p:nvPr/>
        </p:nvSpPr>
        <p:spPr>
          <a:xfrm>
            <a:off x="539640" y="90792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mbria"/>
              </a:rPr>
              <a:t>Как определить окончания имен прилагательных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755640" y="2109960"/>
          <a:ext cx="7848720" cy="3706560"/>
        </p:xfrm>
        <a:graphic>
          <a:graphicData uri="http://schemas.openxmlformats.org/drawingml/2006/table">
            <a:tbl>
              <a:tblPr/>
              <a:tblGrid>
                <a:gridCol w="1962000"/>
                <a:gridCol w="2068560"/>
                <a:gridCol w="1855800"/>
                <a:gridCol w="1962360"/>
              </a:tblGrid>
              <a:tr h="7034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Единственное число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2240">
                      <a:solidFill>
                        <a:srgbClr val="c0504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Мн.ч.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224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Ж. р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224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М. р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224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С. р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224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224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</a:tr>
              <a:tr h="192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-ая, -яя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-ой,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-ый,-ий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-ое, -ее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-ые,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- ие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"/>
          <p:cNvSpPr/>
          <p:nvPr/>
        </p:nvSpPr>
        <p:spPr>
          <a:xfrm>
            <a:off x="285840" y="714240"/>
            <a:ext cx="857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642960" y="1500120"/>
            <a:ext cx="81439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упила долгожданный весна. Из-за далекой синей моря прилетели ласточки. И поют они свои веселая песни про чужая края. Птицы нача-ли вить гнезда в саду и соседняя лес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"/>
          <p:cNvSpPr/>
          <p:nvPr/>
        </p:nvSpPr>
        <p:spPr>
          <a:xfrm>
            <a:off x="928800" y="57492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558ed5"/>
                </a:solidFill>
                <a:uFillTx/>
                <a:latin typeface="Times New Roman"/>
                <a:ea typeface="Times New Roman"/>
              </a:rPr>
              <a:t>1 групп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равьте ошибки, подчеркните имена прилагательные во множественном чис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1"/>
          <p:cNvSpPr/>
          <p:nvPr/>
        </p:nvSpPr>
        <p:spPr>
          <a:xfrm>
            <a:off x="285840" y="714240"/>
            <a:ext cx="857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785880" y="1143000"/>
            <a:ext cx="78483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упила долгожданн</a:t>
            </a: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я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на. Из-за далек</a:t>
            </a: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го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н</a:t>
            </a: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го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ря прилетели ласточки. И поют они свои весел</a:t>
            </a: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ы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сни про чуж</a:t>
            </a: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ы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рая. Птицы начали вить гнезда в саду и соседн</a:t>
            </a: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м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с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"/>
          <p:cNvSpPr/>
          <p:nvPr/>
        </p:nvSpPr>
        <p:spPr>
          <a:xfrm>
            <a:off x="1428840" y="572760"/>
            <a:ext cx="642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Times New Roman"/>
              </a:rPr>
              <a:t>Прове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285840" y="714240"/>
            <a:ext cx="857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714240" y="1714680"/>
            <a:ext cx="8072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ной на деревьях появляются зеленая листочки. Сквозь землю пробивается свежий трава. Расцветают первое весенние цветы. Все любят тёплый солнышк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"/>
          <p:cNvSpPr/>
          <p:nvPr/>
        </p:nvSpPr>
        <p:spPr>
          <a:xfrm>
            <a:off x="785880" y="574920"/>
            <a:ext cx="77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4f81bd"/>
                </a:solidFill>
                <a:uFillTx/>
                <a:latin typeface="Times New Roman"/>
                <a:ea typeface="Times New Roman"/>
              </a:rPr>
              <a:t>2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равьте ошибки, подчеркните имена прилагательные в единственном чис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1"/>
          <p:cNvSpPr/>
          <p:nvPr/>
        </p:nvSpPr>
        <p:spPr>
          <a:xfrm>
            <a:off x="285840" y="714240"/>
            <a:ext cx="857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785880" y="114300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"/>
          <p:cNvSpPr/>
          <p:nvPr/>
        </p:nvSpPr>
        <p:spPr>
          <a:xfrm>
            <a:off x="1428840" y="572760"/>
            <a:ext cx="642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Times New Roman"/>
              </a:rPr>
              <a:t>Прове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4"/>
          <p:cNvSpPr/>
          <p:nvPr/>
        </p:nvSpPr>
        <p:spPr>
          <a:xfrm>
            <a:off x="714240" y="1285920"/>
            <a:ext cx="8072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ной на деревьях появляются зелен</a:t>
            </a: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ы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источки. Сквозь землю пробивается свеж</a:t>
            </a: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я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рава. Расцветают перв</a:t>
            </a: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ы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сенние цветы. Все любят тёпл</a:t>
            </a: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лнышк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1"/>
          <p:cNvSpPr/>
          <p:nvPr/>
        </p:nvSpPr>
        <p:spPr>
          <a:xfrm>
            <a:off x="285840" y="714240"/>
            <a:ext cx="857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714240" y="1714680"/>
            <a:ext cx="80726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ец-то пришла весна! Небо сияет яркой  голубой  цветом. Дует свежее и теплое ветерок. На мокрый  земле расцветают белый подснежни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"/>
          <p:cNvSpPr/>
          <p:nvPr/>
        </p:nvSpPr>
        <p:spPr>
          <a:xfrm>
            <a:off x="785880" y="576000"/>
            <a:ext cx="77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4f81bd"/>
                </a:solidFill>
                <a:uFillTx/>
                <a:latin typeface="Times New Roman"/>
                <a:ea typeface="Times New Roman"/>
              </a:rPr>
              <a:t>3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равьте ошибки, выделите окончания имен прилагательных в единственном чис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1"/>
          <p:cNvSpPr/>
          <p:nvPr/>
        </p:nvSpPr>
        <p:spPr>
          <a:xfrm>
            <a:off x="285840" y="714240"/>
            <a:ext cx="857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5"/>
          <p:cNvSpPr/>
          <p:nvPr/>
        </p:nvSpPr>
        <p:spPr>
          <a:xfrm>
            <a:off x="785880" y="114300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1428840" y="572760"/>
            <a:ext cx="642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Times New Roman"/>
              </a:rPr>
              <a:t>Прове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4"/>
          <p:cNvSpPr/>
          <p:nvPr/>
        </p:nvSpPr>
        <p:spPr>
          <a:xfrm>
            <a:off x="714240" y="1285920"/>
            <a:ext cx="80726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ец-то пришла весна! Небо сияет ярк</a:t>
            </a: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м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голуб</a:t>
            </a: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ым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ветом. Дует свеж</a:t>
            </a: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й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тепл</a:t>
            </a: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ый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терок. На мокр</a:t>
            </a: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й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емле расцветают бел</a:t>
            </a: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ы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дснежни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1"/>
          <p:cNvSpPr/>
          <p:nvPr/>
        </p:nvSpPr>
        <p:spPr>
          <a:xfrm>
            <a:off x="285840" y="714240"/>
            <a:ext cx="857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5"/>
          <p:cNvSpPr/>
          <p:nvPr/>
        </p:nvSpPr>
        <p:spPr>
          <a:xfrm>
            <a:off x="714240" y="2071800"/>
            <a:ext cx="80726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шла весна. Засветило яркая солнце. На крышах домов тают последний сосульки. По мокрой улицам журчат торопливый ручь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"/>
          <p:cNvSpPr/>
          <p:nvPr/>
        </p:nvSpPr>
        <p:spPr>
          <a:xfrm>
            <a:off x="785880" y="576000"/>
            <a:ext cx="77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4f81bd"/>
                </a:solidFill>
                <a:uFillTx/>
                <a:latin typeface="Times New Roman"/>
                <a:ea typeface="Times New Roman"/>
              </a:rPr>
              <a:t>4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равьте ошибки, выделите окончания имен прилагательных во множественном чис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1"/>
          <p:cNvSpPr/>
          <p:nvPr/>
        </p:nvSpPr>
        <p:spPr>
          <a:xfrm>
            <a:off x="285840" y="714240"/>
            <a:ext cx="857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5"/>
          <p:cNvSpPr/>
          <p:nvPr/>
        </p:nvSpPr>
        <p:spPr>
          <a:xfrm>
            <a:off x="785880" y="114300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"/>
          <p:cNvSpPr/>
          <p:nvPr/>
        </p:nvSpPr>
        <p:spPr>
          <a:xfrm>
            <a:off x="1428840" y="572760"/>
            <a:ext cx="642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Times New Roman"/>
              </a:rPr>
              <a:t>Прове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4"/>
          <p:cNvSpPr/>
          <p:nvPr/>
        </p:nvSpPr>
        <p:spPr>
          <a:xfrm>
            <a:off x="714240" y="1285920"/>
            <a:ext cx="80726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шла весна. Засветило ярк</a:t>
            </a: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е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нце. На крышах домов тают последн</a:t>
            </a: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е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ульки. По мокр</a:t>
            </a: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ым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лицам журчат тороплив</a:t>
            </a: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ы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учь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1"/>
          <p:cNvSpPr/>
          <p:nvPr/>
        </p:nvSpPr>
        <p:spPr>
          <a:xfrm>
            <a:off x="285840" y="714240"/>
            <a:ext cx="8572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Закончи фраз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я  прилагательное во множественном числе  имеет окончания_________________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755640" y="393372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</a:rPr>
              <a:t>Имя  прилагательное изменяется </a:t>
            </a: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______________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Цель урока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развивать умение определять число имен прилагательных;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отработать умение составлять словосочетания «имя прилагательное + имя существительное»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Box 1"/>
          <p:cNvSpPr/>
          <p:nvPr/>
        </p:nvSpPr>
        <p:spPr>
          <a:xfrm>
            <a:off x="285840" y="714240"/>
            <a:ext cx="857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5"/>
          <p:cNvSpPr/>
          <p:nvPr/>
        </p:nvSpPr>
        <p:spPr>
          <a:xfrm>
            <a:off x="928800" y="1000080"/>
            <a:ext cx="7848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ите ли Вы, что имена прилагательные бывают собственными и нарицательны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ите ли Вы, что имена прилагательные могут обозначать различные признаки: цвет, вкус, форму, размер, запах, внутренние и внешние качества человек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ите ли Вы, что слова легкий, весенний, звонкие, прохладный – это имена прилагательны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ите ли Вы, что имена прилагательные изменяются по числа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ите ли Вы, что имена прилагательные бывают одушевленными и неодушевленны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"/>
          <p:cNvSpPr/>
          <p:nvPr/>
        </p:nvSpPr>
        <p:spPr>
          <a:xfrm>
            <a:off x="1214280" y="501120"/>
            <a:ext cx="721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гра 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Верно, неверно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Улыбающееся лицо 1"/>
          <p:cNvSpPr/>
          <p:nvPr/>
        </p:nvSpPr>
        <p:spPr>
          <a:xfrm>
            <a:off x="3857760" y="4286160"/>
            <a:ext cx="1428480" cy="13575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3"/>
          <p:cNvSpPr/>
          <p:nvPr/>
        </p:nvSpPr>
        <p:spPr>
          <a:xfrm>
            <a:off x="1428840" y="1428840"/>
            <a:ext cx="6572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роке я узнал…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научился …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было трудно…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было легко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1"/>
          <p:cNvSpPr/>
          <p:nvPr/>
        </p:nvSpPr>
        <p:spPr>
          <a:xfrm>
            <a:off x="1214280" y="2286000"/>
            <a:ext cx="685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mbria"/>
              </a:rPr>
              <a:t>Спасибо за работу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Cambria"/>
              </a:rPr>
              <a:t>Д/з: с.79, упр.137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684360" y="714240"/>
            <a:ext cx="7920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Источник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.С. Ситникова, И.Ф. Яценко «Поурочные разработки по русскому языку»3класс М.: «Вако» 2014.-496с. (В помощь школьному учителю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.П. Канакина, В.Г. Горецкий «Русский язык» учебник 3 класс 2 часть  М.: «Просвещение» 201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3. Картинки  сайт «Википед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4. Картинка </a:t>
            </a:r>
            <a:r>
              <a:rPr b="0" lang="en-US" sz="2400" spc="-1" strike="noStrike" u="sng">
                <a:solidFill>
                  <a:srgbClr val="700000"/>
                </a:solidFill>
                <a:uFillTx/>
                <a:latin typeface="Times New Roman"/>
                <a:hlinkClick r:id="rId1"/>
              </a:rPr>
              <a:t>https://yandex.ru/images/search?text=%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2"/>
          <p:cNvSpPr/>
          <p:nvPr/>
        </p:nvSpPr>
        <p:spPr>
          <a:xfrm>
            <a:off x="2214720" y="4786200"/>
            <a:ext cx="400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539640" y="1028880"/>
            <a:ext cx="82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1428840" y="4714920"/>
            <a:ext cx="69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 прилагательных выделите окончание, укажите р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"/>
          <p:cNvSpPr/>
          <p:nvPr/>
        </p:nvSpPr>
        <p:spPr>
          <a:xfrm>
            <a:off x="857160" y="1013040"/>
            <a:ext cx="778680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берите к данным именам прилагательным подходящие по смыслу имена существительные и запишите получившиеся словосочет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ледний …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тёплое …, зелёная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http://neizvestniy-geniy.ru/images/works/photo/2016/03/1577752_1.jpg"/>
          <p:cNvPicPr/>
          <p:nvPr/>
        </p:nvPicPr>
        <p:blipFill>
          <a:blip r:embed="rId1"/>
          <a:stretch/>
        </p:blipFill>
        <p:spPr>
          <a:xfrm>
            <a:off x="1428840" y="642960"/>
            <a:ext cx="635796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2"/>
          <p:cNvSpPr/>
          <p:nvPr/>
        </p:nvSpPr>
        <p:spPr>
          <a:xfrm>
            <a:off x="1357200" y="4000680"/>
            <a:ext cx="7286760" cy="1500120"/>
          </a:xfrm>
          <a:prstGeom prst="rect">
            <a:avLst/>
          </a:prstGeom>
          <a:solidFill>
            <a:srgbClr val="dc96c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857160" y="785880"/>
            <a:ext cx="789012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зделите имена прилагательные на две групп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какому признаку вы это сделает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</a:rPr>
              <a:t>Белые, пушистый, весёлая, быстрые, красная, спелый,звонк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1857240" y="4000680"/>
            <a:ext cx="612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mbria"/>
              </a:rPr>
              <a:t>Сформулируйт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mbria"/>
              </a:rPr>
              <a:t>тему уро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https://bumper-stickers.ru/33286-thickbox_default/vozdushnyy-sharik-28.jpg"/>
          <p:cNvPicPr/>
          <p:nvPr/>
        </p:nvPicPr>
        <p:blipFill>
          <a:blip r:embed="rId1"/>
          <a:stretch/>
        </p:blipFill>
        <p:spPr>
          <a:xfrm>
            <a:off x="714240" y="1500120"/>
            <a:ext cx="3214800" cy="3214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https://www.mshar.ru/upload/iblock/cb3/cb3c344a145a9e8b80aaa4c64c0901a5.jpg"/>
          <p:cNvPicPr/>
          <p:nvPr/>
        </p:nvPicPr>
        <p:blipFill>
          <a:blip r:embed="rId2"/>
          <a:stretch/>
        </p:blipFill>
        <p:spPr>
          <a:xfrm>
            <a:off x="4714920" y="1357200"/>
            <a:ext cx="3714840" cy="378648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4"/>
          <p:cNvSpPr/>
          <p:nvPr/>
        </p:nvSpPr>
        <p:spPr>
          <a:xfrm>
            <a:off x="214200" y="8575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357120" y="857520"/>
            <a:ext cx="814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https://bumper-stickers.ru/33286-thickbox_default/vozdushnyy-sharik-28.jpg"/>
          <p:cNvPicPr/>
          <p:nvPr/>
        </p:nvPicPr>
        <p:blipFill>
          <a:blip r:embed="rId1"/>
          <a:stretch/>
        </p:blipFill>
        <p:spPr>
          <a:xfrm>
            <a:off x="857160" y="1571760"/>
            <a:ext cx="3214800" cy="3214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https://www.mshar.ru/upload/iblock/cb3/cb3c344a145a9e8b80aaa4c64c0901a5.jpg"/>
          <p:cNvPicPr/>
          <p:nvPr/>
        </p:nvPicPr>
        <p:blipFill>
          <a:blip r:embed="rId2"/>
          <a:stretch/>
        </p:blipFill>
        <p:spPr>
          <a:xfrm>
            <a:off x="4643280" y="1214280"/>
            <a:ext cx="3714840" cy="37864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4"/>
          <p:cNvSpPr/>
          <p:nvPr/>
        </p:nvSpPr>
        <p:spPr>
          <a:xfrm>
            <a:off x="214200" y="8575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ДИН ПРЕДМЕТ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357120" y="857520"/>
            <a:ext cx="814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НОГО ПРЕДМЕ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285840" y="1143720"/>
            <a:ext cx="84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0" lang="ru-RU" sz="1800" spc="-1" strike="noStrike">
                <a:solidFill>
                  <a:srgbClr val="1f497d"/>
                </a:solidFill>
                <a:latin typeface="Times New Roman"/>
              </a:rPr>
              <a:t>Ед.ч.                                                              Мн.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4"/>
          <p:cNvSpPr/>
          <p:nvPr/>
        </p:nvSpPr>
        <p:spPr>
          <a:xfrm>
            <a:off x="1214280" y="404640"/>
            <a:ext cx="721548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mbria"/>
              </a:rPr>
              <a:t>Работа по учебни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С.78, Упр. 1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(письмо по памят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"/>
          <p:cNvSpPr/>
          <p:nvPr/>
        </p:nvSpPr>
        <p:spPr>
          <a:xfrm>
            <a:off x="955800" y="1857240"/>
            <a:ext cx="770544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2"/>
          <p:cNvSpPr/>
          <p:nvPr/>
        </p:nvSpPr>
        <p:spPr>
          <a:xfrm>
            <a:off x="500040" y="2000160"/>
            <a:ext cx="8064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Алгоритм действ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 существительное, связанное с прилагатель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ь род и число у существительн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ать род и число у прилагательного по существительно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3" descr=""/>
          <p:cNvPicPr/>
          <p:nvPr/>
        </p:nvPicPr>
        <p:blipFill>
          <a:blip r:embed="rId1"/>
          <a:stretch/>
        </p:blipFill>
        <p:spPr>
          <a:xfrm>
            <a:off x="6357960" y="4572000"/>
            <a:ext cx="1963800" cy="184464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"/>
          <p:cNvSpPr/>
          <p:nvPr/>
        </p:nvSpPr>
        <p:spPr>
          <a:xfrm>
            <a:off x="714240" y="5760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Какие окончания имеют имена прилагательные во множественном числ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Как определить число имен прилагательны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8T07:43:00Z</dcterms:created>
  <dc:creator>Елена</dc:creator>
  <dc:description/>
  <dc:language>en-US</dc:language>
  <cp:lastModifiedBy>Админ</cp:lastModifiedBy>
  <dcterms:modified xsi:type="dcterms:W3CDTF">2023-03-12T10:05:28Z</dcterms:modified>
  <cp:revision>56</cp:revision>
  <dc:subject/>
  <dc:title>Слайд 1</dc:title>
</cp:coreProperties>
</file>