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FD4B-467C-4996-B943-2F297450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004C-9E8A-4EA5-8EF7-03E22177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6640-B207-4974-9C86-34094D77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8CCE-2B10-4C8B-9151-5EF92523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BB81-5240-4306-A640-83600F1F4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1E7D-5A46-4F71-AEB6-71D2A6D6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EB15-01E4-490A-A502-EB5A3192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14C7-61ED-4289-86C7-AC4539D8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A75B-F12C-4C37-9A06-A35A5DFD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B64F-DC1C-4CA5-A2F9-104780F8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F1A9-E579-4303-BA2B-2DC53B0F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8F6F-2F1B-443B-8847-E5EA91B7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ECD5-54B9-41C5-A043-90064736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3537-2A0B-45EF-B8A0-ED8235DD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510C-41FA-4AD6-8AFC-1949426B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3570-C502-40E8-AF23-586935BD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70EF-7B17-4D54-8F32-215C04D3B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97C1-905C-4A47-A2E7-62DBA33B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93DE-7710-4B31-BDBF-1E80847B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A162-64C1-41AC-9596-B157EC6C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2596-6F1A-4797-BEC7-41167B6D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B344-7D1C-4583-BAA5-F13DA12F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A6B9-C218-49DC-A461-4DA9875D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F7D4-FD1B-47B0-835F-4F72FFC7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3333-0209-444D-BDCD-AFF05AEB2A5C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07F3-80D1-46E6-903E-341C45CA951C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yandex.ru/images/search?text=%25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1"/>
          <p:cNvSpPr/>
          <p:nvPr/>
        </p:nvSpPr>
        <p:spPr>
          <a:xfrm>
            <a:off x="755640" y="357120"/>
            <a:ext cx="7777080" cy="23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Число имен прилагательны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000760" y="4005360"/>
            <a:ext cx="36432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ховалова Ольга Николаевна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 СОШ №9»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-ца Старопавловская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овский р-н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ропольский край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2571840" y="2286000"/>
            <a:ext cx="378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Урок  русского язык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3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УМК «Школа Росси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Учебник В.П. Канакиной   2 част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539640" y="90792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mbria"/>
              </a:rPr>
              <a:t>Как определить окончания имен прилагательны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55640" y="2109960"/>
          <a:ext cx="7848720" cy="3706560"/>
        </p:xfrm>
        <a:graphic>
          <a:graphicData uri="http://schemas.openxmlformats.org/drawingml/2006/table">
            <a:tbl>
              <a:tblPr/>
              <a:tblGrid>
                <a:gridCol w="1962000"/>
                <a:gridCol w="2068560"/>
                <a:gridCol w="1855800"/>
                <a:gridCol w="1962360"/>
              </a:tblGrid>
              <a:tr h="7034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Единственное число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н.ч.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Ж. р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. р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. 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19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ая, -яя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ой,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ый,-и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ое, -ее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ые,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 и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285840" y="71424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642960" y="1500120"/>
            <a:ext cx="81439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ила долгожданный весна. Из-за далекой синей моря прилетели ласточки. И поют они свои веселая песни про чужая края. Птицы нача-ли вить гнезда в саду и соседняя лес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928800" y="57492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558ed5"/>
                </a:solidFill>
                <a:uFillTx/>
                <a:latin typeface="Times New Roman"/>
                <a:ea typeface="Times New Roman"/>
              </a:rPr>
              <a:t>1 груп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равьте ошибки, подчеркните имена прилагательные во множественном чис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285840" y="71424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785880" y="1143000"/>
            <a:ext cx="7848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ила долгожданн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я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а. Из-за далек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г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н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г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ря прилетели ласточки. И поют они свои весел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сни про чуж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ая. Птицы начали вить гнезда в саду и соседн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м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428840" y="57276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285840" y="71424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714240" y="1714680"/>
            <a:ext cx="8072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й на деревьях появляются зеленая листочки. Сквозь землю пробивается свежий трава. Расцветают первое весенние цветы. Все любят тёплый солнышк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785880" y="57492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f81bd"/>
                </a:solidFill>
                <a:uFillTx/>
                <a:latin typeface="Times New Roman"/>
                <a:ea typeface="Times New Roman"/>
              </a:rPr>
              <a:t>2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равьте ошибки, подчеркните имена прилагательные в единственном чис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285840" y="71424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785880" y="114300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"/>
          <p:cNvSpPr/>
          <p:nvPr/>
        </p:nvSpPr>
        <p:spPr>
          <a:xfrm>
            <a:off x="1428840" y="57276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4"/>
          <p:cNvSpPr/>
          <p:nvPr/>
        </p:nvSpPr>
        <p:spPr>
          <a:xfrm>
            <a:off x="714240" y="1285920"/>
            <a:ext cx="8072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й на деревьях появляются зелен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сточки. Сквозь землю пробивается свеж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ава. Расцветают перв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сенние цветы. Все любят тёпл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лнышк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285840" y="71424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714240" y="1714680"/>
            <a:ext cx="8072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ец-то пришла весна! Небо сияет яркой  голубой  цветом. Дует свежее и теплое ветерок. На мокрый  земле расцветают белый подснежн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"/>
          <p:cNvSpPr/>
          <p:nvPr/>
        </p:nvSpPr>
        <p:spPr>
          <a:xfrm>
            <a:off x="785880" y="57600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f81bd"/>
                </a:solidFill>
                <a:uFillTx/>
                <a:latin typeface="Times New Roman"/>
                <a:ea typeface="Times New Roman"/>
              </a:rPr>
              <a:t>3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равьте ошибки, выделите окончания имен прилагательных в единственном чис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285840" y="71424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785880" y="114300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1428840" y="57276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714240" y="1285920"/>
            <a:ext cx="8072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ец-то пришла весна! Небо сияет ярк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голуб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м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ом. Дует свеж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й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тепл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й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ок. На мокр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й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емле расцветают бел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снежн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285840" y="71424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714240" y="2071800"/>
            <a:ext cx="8072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а весна. Засветило яркая солнце. На крышах домов тают последний сосульки. По мокрой улицам журчат торопливый ручь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785880" y="57600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f81bd"/>
                </a:solidFill>
                <a:uFillTx/>
                <a:latin typeface="Times New Roman"/>
                <a:ea typeface="Times New Roman"/>
              </a:rPr>
              <a:t>4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равьте ошибки, выделите окончания имен прилагательных во множественном чис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285840" y="71424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785880" y="114300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1428840" y="57276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4"/>
          <p:cNvSpPr/>
          <p:nvPr/>
        </p:nvSpPr>
        <p:spPr>
          <a:xfrm>
            <a:off x="714240" y="1285920"/>
            <a:ext cx="8072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а весна. Засветило ярк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е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. На крышах домов тают последн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е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ульки. По мокр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м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лицам журчат тороплив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учь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285840" y="714240"/>
            <a:ext cx="8572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кончи фраз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я  прилагательное во множественном числе  имеет окончания_________________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755640" y="393372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Имя  прилагательное изменяется 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___________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Цель урока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развивать умение определять число имен прилагательных;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отработать умение составлять словосочетания «имя прилагательное + имя существительное»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1"/>
          <p:cNvSpPr/>
          <p:nvPr/>
        </p:nvSpPr>
        <p:spPr>
          <a:xfrm>
            <a:off x="285840" y="71424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928800" y="1000080"/>
            <a:ext cx="784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ите ли Вы, что имена прилагательные бывают собственными и нарицательны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ите ли Вы, что имена прилагательные могут обозначать различные признаки: цвет, вкус, форму, размер, запах, внутренние и внешние качества челове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ите ли Вы, что слова легкий, весенний, звонкие, прохладный – это имена прилагательны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ите ли Вы, что имена прилагательные изменяются по числ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ите ли Вы, что имена прилагательные бывают одушевленными и неодушевленны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"/>
          <p:cNvSpPr/>
          <p:nvPr/>
        </p:nvSpPr>
        <p:spPr>
          <a:xfrm>
            <a:off x="1214280" y="501120"/>
            <a:ext cx="721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а 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Верно, неверн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Улыбающееся лицо 1"/>
          <p:cNvSpPr/>
          <p:nvPr/>
        </p:nvSpPr>
        <p:spPr>
          <a:xfrm>
            <a:off x="3857760" y="4286160"/>
            <a:ext cx="1428480" cy="13575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1428840" y="1428840"/>
            <a:ext cx="6572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е я узнал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аучился 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было трудно…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было легко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1214280" y="2286000"/>
            <a:ext cx="685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mbria"/>
              </a:rPr>
              <a:t>Спасибо за работу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Д/з: с.79, упр.137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4360" y="714240"/>
            <a:ext cx="7920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сточник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.С. Ситникова, И.Ф. Яценко «Поурочные разработки по русскому языку»3класс М.: «Вако» 2014.-496с. (В помощь школьному учител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.П. Канакина, В.Г. Горецкий «Русский язык» учебник 3 класс 2 часть  М.: «Просвещение» 201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. Картинки  сайт «Википед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. Картинка </a:t>
            </a:r>
            <a:r>
              <a:rPr b="0" lang="en-US" sz="2400" spc="-1" strike="noStrike" u="sng">
                <a:solidFill>
                  <a:srgbClr val="700000"/>
                </a:solidFill>
                <a:uFillTx/>
                <a:latin typeface="Times New Roman"/>
                <a:hlinkClick r:id="rId1"/>
              </a:rPr>
              <a:t>https://yandex.ru/images/search?text=%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2"/>
          <p:cNvSpPr/>
          <p:nvPr/>
        </p:nvSpPr>
        <p:spPr>
          <a:xfrm>
            <a:off x="2214720" y="4786200"/>
            <a:ext cx="40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39640" y="102888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1428840" y="471492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прилагательных выделите окончание, укажите 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857160" y="1013040"/>
            <a:ext cx="778680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берите к данным именам прилагательным подходящие по смыслу имена существительные и запишите получившиеся словосочет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ледний …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тёплое …, зелёна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neizvestniy-geniy.ru/images/works/photo/2016/03/1577752_1.jpg"/>
          <p:cNvPicPr/>
          <p:nvPr/>
        </p:nvPicPr>
        <p:blipFill>
          <a:blip r:embed="rId1"/>
          <a:stretch/>
        </p:blipFill>
        <p:spPr>
          <a:xfrm>
            <a:off x="1428840" y="642960"/>
            <a:ext cx="63579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2"/>
          <p:cNvSpPr/>
          <p:nvPr/>
        </p:nvSpPr>
        <p:spPr>
          <a:xfrm>
            <a:off x="1357200" y="4000680"/>
            <a:ext cx="7286760" cy="1500120"/>
          </a:xfrm>
          <a:prstGeom prst="rect">
            <a:avLst/>
          </a:prstGeom>
          <a:solidFill>
            <a:srgbClr val="dc96c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857160" y="785880"/>
            <a:ext cx="789012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делите имена прилагательные на две групп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какому признаку вы это сделае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Белые, пушистый, весёлая, быстрые, красная, спелый,звонк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1857240" y="4000680"/>
            <a:ext cx="612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mbria"/>
              </a:rPr>
              <a:t>Сформулируйт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mbria"/>
              </a:rPr>
              <a:t>тему уро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s://bumper-stickers.ru/33286-thickbox_default/vozdushnyy-sharik-28.jpg"/>
          <p:cNvPicPr/>
          <p:nvPr/>
        </p:nvPicPr>
        <p:blipFill>
          <a:blip r:embed="rId1"/>
          <a:stretch/>
        </p:blipFill>
        <p:spPr>
          <a:xfrm>
            <a:off x="714240" y="1500120"/>
            <a:ext cx="3214800" cy="3214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s://www.mshar.ru/upload/iblock/cb3/cb3c344a145a9e8b80aaa4c64c0901a5.jpg"/>
          <p:cNvPicPr/>
          <p:nvPr/>
        </p:nvPicPr>
        <p:blipFill>
          <a:blip r:embed="rId2"/>
          <a:stretch/>
        </p:blipFill>
        <p:spPr>
          <a:xfrm>
            <a:off x="4714920" y="1357200"/>
            <a:ext cx="3714840" cy="37864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214200" y="8575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357120" y="857520"/>
            <a:ext cx="814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s://bumper-stickers.ru/33286-thickbox_default/vozdushnyy-sharik-28.jpg"/>
          <p:cNvPicPr/>
          <p:nvPr/>
        </p:nvPicPr>
        <p:blipFill>
          <a:blip r:embed="rId1"/>
          <a:stretch/>
        </p:blipFill>
        <p:spPr>
          <a:xfrm>
            <a:off x="857160" y="1571760"/>
            <a:ext cx="3214800" cy="3214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https://www.mshar.ru/upload/iblock/cb3/cb3c344a145a9e8b80aaa4c64c0901a5.jpg"/>
          <p:cNvPicPr/>
          <p:nvPr/>
        </p:nvPicPr>
        <p:blipFill>
          <a:blip r:embed="rId2"/>
          <a:stretch/>
        </p:blipFill>
        <p:spPr>
          <a:xfrm>
            <a:off x="4643280" y="1214280"/>
            <a:ext cx="3714840" cy="37864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4"/>
          <p:cNvSpPr/>
          <p:nvPr/>
        </p:nvSpPr>
        <p:spPr>
          <a:xfrm>
            <a:off x="214200" y="8575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ДИН ПРЕДМЕТ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357120" y="857520"/>
            <a:ext cx="814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НОГО ПРЕДМЕ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285840" y="1143720"/>
            <a:ext cx="84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Ед.ч.                                                              Мн.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4"/>
          <p:cNvSpPr/>
          <p:nvPr/>
        </p:nvSpPr>
        <p:spPr>
          <a:xfrm>
            <a:off x="1214280" y="404640"/>
            <a:ext cx="72154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mbria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С.78, Упр. 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(письмо по памя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955800" y="1857240"/>
            <a:ext cx="77054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2"/>
          <p:cNvSpPr/>
          <p:nvPr/>
        </p:nvSpPr>
        <p:spPr>
          <a:xfrm>
            <a:off x="500040" y="2000160"/>
            <a:ext cx="80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Алгоритм действ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существительное, связанное с прилагатель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род и число у существитель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ть род и число у прилагательного по существительн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3" descr=""/>
          <p:cNvPicPr/>
          <p:nvPr/>
        </p:nvPicPr>
        <p:blipFill>
          <a:blip r:embed="rId1"/>
          <a:stretch/>
        </p:blipFill>
        <p:spPr>
          <a:xfrm>
            <a:off x="6357960" y="4572000"/>
            <a:ext cx="1963800" cy="18446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"/>
          <p:cNvSpPr/>
          <p:nvPr/>
        </p:nvSpPr>
        <p:spPr>
          <a:xfrm>
            <a:off x="714240" y="576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Какие окончания имеют имена прилагательные во множественном чис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Как определить число имен прилагатель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07:43:00Z</dcterms:created>
  <dc:creator>Елена</dc:creator>
  <dc:description/>
  <dc:language>en-US</dc:language>
  <cp:lastModifiedBy>Админ</cp:lastModifiedBy>
  <dcterms:modified xsi:type="dcterms:W3CDTF">2023-03-12T10:05:28Z</dcterms:modified>
  <cp:revision>56</cp:revision>
  <dc:subject/>
  <dc:title>Слайд 1</dc:title>
</cp:coreProperties>
</file>