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227-B8C2-4B29-9FAC-0485BF19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810-F332-4447-884E-0F506DC8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3D7-FA52-4B27-9BF5-58F30B46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9E6-8862-4B81-999A-E1B24A8A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FA8-9EDD-457B-9F62-78768FC9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FDE-3143-40B1-9590-F19A728E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ACD-0F68-4E37-A679-F12A4FEF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505-CDBD-4738-978B-E5BA132D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B3A-02F3-47C5-B275-D5C816F3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A90-7D37-4F2B-A51B-948F1C4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FD0-D7FF-4E70-A26D-45AED6DA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D38-404C-4F13-9D3D-9EE3EF92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4D82-7069-43BD-B8BA-8DFF7DD59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вила противопожарной безопасности в новогодние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зд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7821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db9f93f2565b"/>
          <p:cNvPicPr/>
          <p:nvPr/>
        </p:nvPicPr>
        <p:blipFill>
          <a:blip r:embed="rId1"/>
          <a:stretch/>
        </p:blipFill>
        <p:spPr>
          <a:xfrm>
            <a:off x="2556000" y="2708280"/>
            <a:ext cx="4329000" cy="360036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 возникновении    пожара немедленно сообщить в пожарную охрану по телефон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01».</a:t>
            </a: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 зажигайте фейерверки, свечи или бенгальские огни без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 применяйте средства пиротехники в поме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hrist"/>
          <p:cNvPicPr/>
          <p:nvPr/>
        </p:nvPicPr>
        <p:blipFill>
          <a:blip r:embed="rId1"/>
          <a:stretch/>
        </p:blipFill>
        <p:spPr>
          <a:xfrm>
            <a:off x="2556000" y="1628640"/>
            <a:ext cx="4294080" cy="47912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367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и использовать  бенгальские огни,  петарды, хлопушки и другие средства пиро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жары от неправильного их применения уносят жизни сотен людей и уничтожают все на своем пу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, люд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41036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 горении опасен ядовитый дым, поэтому, покидая помещение,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 эвакуации из помещения не толкаться, не создавать паники и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помнить детям и взрослым необходимо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admin</cp:lastModifiedBy>
  <dcterms:modified xsi:type="dcterms:W3CDTF">2023-09-27T07:41:10Z</dcterms:modified>
  <cp:revision>13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