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gif" ContentType="image/gif"/>
  <Override PartName="/ppt/media/image10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2AB4-C06A-4BAC-B0CF-4B7BE1CA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AFD-1D59-4F47-9EC1-C3F5F2EC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A0B-3A53-4C79-A20A-B7FC6522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4385-377F-49AA-B26F-55A19939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3AA-0E25-418F-9B1A-ADA497F4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8C00-595B-49AE-B543-7B2ED85E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BBE4-C0A7-4B44-B069-49C4C90E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B46-FA34-4689-9C14-5C268914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D2B3-932E-446E-82C5-22EA5E5B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1019-3700-4EB6-BDE4-9CCABD4A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1AC9-6E1A-4D20-A75E-85368D18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5F5-25B1-4339-9E12-857E4A45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d22e"/>
            </a:gs>
            <a:gs pos="100000">
              <a:srgbClr val="b434b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C102-BFB2-4DDE-A3A5-1C7DD41C64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авила противопожарной безопасности в новогодние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азд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7821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db9f93f2565b"/>
          <p:cNvPicPr/>
          <p:nvPr/>
        </p:nvPicPr>
        <p:blipFill>
          <a:blip r:embed="rId1"/>
          <a:stretch/>
        </p:blipFill>
        <p:spPr>
          <a:xfrm>
            <a:off x="2556000" y="2708280"/>
            <a:ext cx="4329000" cy="3600360"/>
          </a:xfrm>
          <a:prstGeom prst="rect">
            <a:avLst/>
          </a:prstGeom>
          <a:ln w="3492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360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 возникновении    пожара немедленно сообщить в пожарную охрану по телефону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01».</a:t>
            </a:r>
            <a:br>
              <a:rPr sz="2800"/>
            </a:b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Рисунок2О"/>
          <p:cNvPicPr/>
          <p:nvPr/>
        </p:nvPicPr>
        <p:blipFill>
          <a:blip r:embed="rId1"/>
          <a:stretch/>
        </p:blipFill>
        <p:spPr>
          <a:xfrm>
            <a:off x="4336920" y="1413000"/>
            <a:ext cx="43498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За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 зажигайте фейерверки, свечи или бенгальские огни без взросл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 применяйте средства пиротехники в помещ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9r2"/>
          <p:cNvPicPr/>
          <p:nvPr/>
        </p:nvPicPr>
        <p:blipFill>
          <a:blip r:embed="rId1"/>
          <a:stretch/>
        </p:blipFill>
        <p:spPr>
          <a:xfrm rot="20881800">
            <a:off x="5110200" y="1356840"/>
            <a:ext cx="40338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Text_4"/>
          <p:cNvPicPr/>
          <p:nvPr/>
        </p:nvPicPr>
        <p:blipFill>
          <a:blip r:embed="rId1"/>
          <a:stretch/>
        </p:blipFill>
        <p:spPr>
          <a:xfrm>
            <a:off x="2119320" y="484200"/>
            <a:ext cx="4905360" cy="723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newy39"/>
          <p:cNvPicPr/>
          <p:nvPr/>
        </p:nvPicPr>
        <p:blipFill>
          <a:blip r:embed="rId2"/>
          <a:stretch/>
        </p:blipFill>
        <p:spPr>
          <a:xfrm>
            <a:off x="2335320" y="1773360"/>
            <a:ext cx="3316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ab0ba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авила безопасного поведения при проведении новогодней ё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Christ"/>
          <p:cNvPicPr/>
          <p:nvPr/>
        </p:nvPicPr>
        <p:blipFill>
          <a:blip r:embed="rId1"/>
          <a:stretch/>
        </p:blipFill>
        <p:spPr>
          <a:xfrm>
            <a:off x="2556000" y="1628640"/>
            <a:ext cx="4294080" cy="47912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3672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о время проведения новогодней ёлки запрещается приносить с собой и использовать  бенгальские огни,  петарды, хлопушки и другие средства пиротех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014"/>
          <p:cNvPicPr/>
          <p:nvPr/>
        </p:nvPicPr>
        <p:blipFill>
          <a:blip r:embed="rId1"/>
          <a:stretch/>
        </p:blipFill>
        <p:spPr>
          <a:xfrm>
            <a:off x="4356000" y="1417680"/>
            <a:ext cx="4464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b6c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newy41"/>
          <p:cNvPicPr/>
          <p:nvPr/>
        </p:nvPicPr>
        <p:blipFill>
          <a:blip r:embed="rId1"/>
          <a:stretch/>
        </p:blipFill>
        <p:spPr>
          <a:xfrm>
            <a:off x="5508720" y="1628640"/>
            <a:ext cx="3166920" cy="2872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95280" y="549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юбые пиротехнические изделия сами по себе представляют огромную опас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жары от неправильного их применения уносят жизни сотен людей и уничтожают все на своем пу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Хлопушки, бенгальские огни, фейерверки и свечи зажигайте только вдали от ёлки, занавесей, других горючих предметов, людей, одетых в новогодние костю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newy34"/>
          <p:cNvPicPr/>
          <p:nvPr/>
        </p:nvPicPr>
        <p:blipFill>
          <a:blip r:embed="rId1"/>
          <a:stretch/>
        </p:blipFill>
        <p:spPr>
          <a:xfrm>
            <a:off x="4716360" y="981000"/>
            <a:ext cx="39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c4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Если во время новогоднего праздника у вас на ёлке загорелась гирлянда – не паникуй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обходимо обесточить гирлянду, выдернув сетевую вилку из роз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3m4"/>
          <p:cNvPicPr/>
          <p:nvPr/>
        </p:nvPicPr>
        <p:blipFill>
          <a:blip r:embed="rId1"/>
          <a:stretch/>
        </p:blipFill>
        <p:spPr>
          <a:xfrm rot="1564200">
            <a:off x="4201920" y="1800000"/>
            <a:ext cx="4599000" cy="145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ani-lights-left-29x120"/>
          <p:cNvPicPr/>
          <p:nvPr/>
        </p:nvPicPr>
        <p:blipFill>
          <a:blip r:embed="rId2"/>
          <a:stretch/>
        </p:blipFill>
        <p:spPr>
          <a:xfrm rot="5400000">
            <a:off x="6466320" y="3695040"/>
            <a:ext cx="747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410364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 горении опасен ядовитый дым, поэтому, покидая помещение, необходимо дышать через тк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 эвакуации из помещения не толкаться, не создавать паники и пробки в двер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Рисунок1"/>
          <p:cNvPicPr/>
          <p:nvPr/>
        </p:nvPicPr>
        <p:blipFill>
          <a:blip r:embed="rId1"/>
          <a:stretch/>
        </p:blipFill>
        <p:spPr>
          <a:xfrm>
            <a:off x="5364000" y="1844640"/>
            <a:ext cx="2870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 горении элементов ёлки опасен ядовитый ды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1m5"/>
          <p:cNvPicPr/>
          <p:nvPr/>
        </p:nvPicPr>
        <p:blipFill>
          <a:blip r:embed="rId1"/>
          <a:stretch/>
        </p:blipFill>
        <p:spPr>
          <a:xfrm>
            <a:off x="4643280" y="1428840"/>
            <a:ext cx="424836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помнить детям и взрослым необходимо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аще в пожарах гибнут от дым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Рисунок1"/>
          <p:cNvPicPr/>
          <p:nvPr/>
        </p:nvPicPr>
        <p:blipFill>
          <a:blip r:embed="rId1"/>
          <a:stretch/>
        </p:blipFill>
        <p:spPr>
          <a:xfrm>
            <a:off x="5184720" y="549360"/>
            <a:ext cx="31957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07:34Z</dcterms:created>
  <dc:creator>MICHAEL</dc:creator>
  <dc:description/>
  <dc:language>en-US</dc:language>
  <cp:lastModifiedBy>admin</cp:lastModifiedBy>
  <dcterms:modified xsi:type="dcterms:W3CDTF">2023-09-27T07:41:10Z</dcterms:modified>
  <cp:revision>13</cp:revision>
  <dc:subject/>
  <dc:title>Поведение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19000000000001024140</vt:lpwstr>
  </property>
</Properties>
</file>