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6.jpeg" ContentType="image/jpeg"/>
  <Override PartName="/ppt/media/image23.png" ContentType="image/png"/>
  <Override PartName="/ppt/media/image21.jpeg" ContentType="image/jpeg"/>
  <Override PartName="/ppt/media/image2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2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75B-0539-44B6-8029-EA0151E4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888-4C31-4819-86BD-7E08CFB8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834-9D95-4F91-AC54-56AAC571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C6B-034C-40D2-B139-A5969C40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523-CFEF-45FA-8AC3-CB77FADB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E36-C008-476C-B27A-BD6CC819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6669-6089-4744-A0E2-37089F44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0DC-9529-4AE1-8BC8-67013FE6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141-2DA1-46A1-AB17-CBF91E2A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3AD-41FE-40DD-AC1B-59024E09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A36-4870-438F-BEDE-791571AB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425-7B76-401F-83BF-5F261266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71D-2699-48AD-8EE3-05B46FEDE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6120" y="357120"/>
            <a:ext cx="5029200" cy="20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грирован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- 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929040"/>
            <a:ext cx="471492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физике и математи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454640" y="4329000"/>
            <a:ext cx="3650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3172760" y="4146480"/>
            <a:ext cx="72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school83.centerstart.ru/sites/default/files/u11/ataturk-matematik-292fde.jpg"/>
          <p:cNvPicPr/>
          <p:nvPr/>
        </p:nvPicPr>
        <p:blipFill>
          <a:blip r:embed="rId1"/>
          <a:stretch/>
        </p:blipFill>
        <p:spPr>
          <a:xfrm>
            <a:off x="4929120" y="3241800"/>
            <a:ext cx="3929040" cy="2973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school83.centerstart.ru/sites/default/files/u11/321.gif"/>
          <p:cNvPicPr/>
          <p:nvPr/>
        </p:nvPicPr>
        <p:blipFill>
          <a:blip r:embed="rId2"/>
          <a:stretch/>
        </p:blipFill>
        <p:spPr>
          <a:xfrm>
            <a:off x="285840" y="204840"/>
            <a:ext cx="34956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14200" y="20718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6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Выноска-облако 10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214200" y="2928960"/>
            <a:ext cx="892980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Давление  атмосферы,  равное  давлению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столба   ртути  высотой   760 м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(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р</a:t>
            </a:r>
            <a:r>
              <a:rPr b="1" lang="ru-RU" sz="2200" spc="-1" strike="noStrike" baseline="-25000">
                <a:solidFill>
                  <a:srgbClr val="c00000"/>
                </a:solidFill>
                <a:latin typeface="Century Gothic"/>
              </a:rPr>
              <a:t>0</a:t>
            </a: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 = 760 мм рт. ст. = 101 300 Па = 1013 г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  </a:t>
            </a: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называю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А) нормальным атмосферным давл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Б) артериальным давл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В) гидравлическим давл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214200" y="171468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7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Выноска-облако 10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214200" y="2425680"/>
            <a:ext cx="8929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entury Gothic"/>
              </a:rPr>
              <a:t>Какой ученый впервые измерил  атмосферное давлени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</a:rPr>
              <a:t>А) Авога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</a:rPr>
              <a:t>Б)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</a:rPr>
              <a:t>В) Торриче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</a:rPr>
              <a:t>Г)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</a:rPr>
              <a:t>Д) Мендел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214200" y="2286000"/>
            <a:ext cx="892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8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Как  рассчитать  силу,  с  какой  давит атм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  </a:t>
            </a: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на Землю 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и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 тела, находящиеся на 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а) 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F </a:t>
            </a: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=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  p ∙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б) 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F =  </a:t>
            </a:r>
            <a:r>
              <a:rPr b="1" lang="el-GR" sz="2400" spc="-1" strike="noStrike">
                <a:solidFill>
                  <a:srgbClr val="376092"/>
                </a:solidFill>
                <a:latin typeface="Century Gothic"/>
              </a:rPr>
              <a:t>ρ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 ∙ g ∙ V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в) </a:t>
            </a:r>
            <a:r>
              <a:rPr b="1" lang="en-US" sz="2400" spc="-1" strike="noStrike">
                <a:solidFill>
                  <a:srgbClr val="376092"/>
                </a:solidFill>
                <a:latin typeface="Century Gothic"/>
              </a:rPr>
              <a:t>F = m ∙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г) среди ответов нет вер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ыноска-облако 10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rcRect l="15432" t="9970" r="19167" b="13120"/>
          <a:stretch/>
        </p:blipFill>
        <p:spPr>
          <a:xfrm>
            <a:off x="1571760" y="606600"/>
            <a:ext cx="5761080" cy="432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0" y="5429160"/>
            <a:ext cx="885816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26680" indent="-425160"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авление внутри стакана становится больше атмосферног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26680" indent="-42516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вление внутри стакана становится меньше атмосфер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6680" indent="-42516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вление внутри стакана становится равно атмосферном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668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668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14200" y="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чему атмосферное давление удерживает бума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верх 5"/>
          <p:cNvSpPr/>
          <p:nvPr/>
        </p:nvSpPr>
        <p:spPr>
          <a:xfrm>
            <a:off x="2357280" y="3786120"/>
            <a:ext cx="785880" cy="92880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верх 6"/>
          <p:cNvSpPr/>
          <p:nvPr/>
        </p:nvSpPr>
        <p:spPr>
          <a:xfrm rot="10800000">
            <a:off x="4428720" y="1643040"/>
            <a:ext cx="785880" cy="92880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799160" y="157176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вление воды  внутри ста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438200" y="46306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вление атмо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трелка вверх 9"/>
          <p:cNvSpPr/>
          <p:nvPr/>
        </p:nvSpPr>
        <p:spPr>
          <a:xfrm>
            <a:off x="6357960" y="3786120"/>
            <a:ext cx="785880" cy="92880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6208920" y="46306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вление атмо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852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89000"/>
            <a:ext cx="8607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 массе 60 кг и росте 1,6м площадь поверхности  человека равна 1,6 м . Рассчитайте силу, с которой атмосфера давит на тело человека (при нормальном атмосферном давлен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3141720"/>
            <a:ext cx="403848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11160" y="2421000"/>
            <a:ext cx="90979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34920" y="620640"/>
            <a:ext cx="90867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0200" y="-3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Сравн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0840" y="1092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ес камаз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100 к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1080" y="112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ил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, действующая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на тело человек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162 к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"/>
          <p:cNvSpPr/>
          <p:nvPr/>
        </p:nvSpPr>
        <p:spPr>
          <a:xfrm>
            <a:off x="4681440" y="1938240"/>
            <a:ext cx="0" cy="3745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304920" y="3798720"/>
            <a:ext cx="403848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rcRect l="13675" t="26417" r="48592" b="9424"/>
          <a:stretch/>
        </p:blipFill>
        <p:spPr>
          <a:xfrm>
            <a:off x="5261040" y="2997360"/>
            <a:ext cx="2881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rcRect l="0" t="0" r="0" b="9508"/>
          <a:stretch/>
        </p:blipFill>
        <p:spPr>
          <a:xfrm>
            <a:off x="684360" y="719280"/>
            <a:ext cx="7632720" cy="5178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Image579"/>
          <p:cNvPicPr/>
          <p:nvPr/>
        </p:nvPicPr>
        <p:blipFill>
          <a:blip r:embed="rId2"/>
          <a:stretch/>
        </p:blipFill>
        <p:spPr>
          <a:xfrm>
            <a:off x="4638600" y="861840"/>
            <a:ext cx="35337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какой силой давит атмосфера на пол  в классе площадью 40 метров квадратных при нормальном атмосферном давлен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   4 ×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кН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   4 ×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4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      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       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4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80"/>
          </a:xfrm>
          <a:prstGeom prst="rect">
            <a:avLst/>
          </a:prstGeom>
          <a:noFill/>
          <a:ln w="0">
            <a:noFill/>
          </a:ln>
        </p:spPr>
        <p:txBody>
          <a:bodyPr tIns="12960" bIns="12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Объект 1" descr=""/>
          <p:cNvPicPr/>
          <p:nvPr/>
        </p:nvPicPr>
        <p:blipFill>
          <a:blip r:embed="rId1"/>
          <a:stretch/>
        </p:blipFill>
        <p:spPr>
          <a:xfrm>
            <a:off x="96840" y="682560"/>
            <a:ext cx="90774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36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Gothic"/>
              </a:rPr>
              <a:t>Как называется раздел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entury Gothic"/>
              </a:rPr>
              <a:t>  физики, который мы изучили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0200" y="-3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Сравн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0840" y="1092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ила, действующая на пол класс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4000 к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1080" y="112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Сил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, действующая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на тело человек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162 к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ая соединительная линия 2"/>
          <p:cNvSpPr/>
          <p:nvPr/>
        </p:nvSpPr>
        <p:spPr>
          <a:xfrm>
            <a:off x="4681440" y="1938240"/>
            <a:ext cx="0" cy="3745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rcRect l="13675" t="26417" r="48592" b="9424"/>
          <a:stretch/>
        </p:blipFill>
        <p:spPr>
          <a:xfrm>
            <a:off x="5261040" y="2997360"/>
            <a:ext cx="2881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325764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о атмосферное давление в местностях, лежащих на уровне моря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pazitiff.info/uploads/posts/2012-12/thumbs/1356905924_italy-012.jpg"/>
          <p:cNvPicPr/>
          <p:nvPr/>
        </p:nvPicPr>
        <p:blipFill>
          <a:blip r:embed="rId1"/>
          <a:stretch/>
        </p:blipFill>
        <p:spPr>
          <a:xfrm>
            <a:off x="3071880" y="500040"/>
            <a:ext cx="59292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1195920" y="1571760"/>
            <a:ext cx="7332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hinaOne"/>
              </a:rPr>
              <a:t>нормальное атмосфер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hinaOne"/>
              </a:rPr>
              <a:t>р</a:t>
            </a:r>
            <a:r>
              <a:rPr b="1" lang="ru-RU" sz="2800" spc="-1" strike="noStrike" baseline="-25000">
                <a:solidFill>
                  <a:srgbClr val="c00000"/>
                </a:solidFill>
                <a:latin typeface="ChinaOne"/>
              </a:rPr>
              <a:t>0</a:t>
            </a:r>
            <a:r>
              <a:rPr b="1" lang="ru-RU" sz="2800" spc="-1" strike="noStrike">
                <a:solidFill>
                  <a:srgbClr val="c00000"/>
                </a:solidFill>
                <a:latin typeface="ChinaOne"/>
              </a:rPr>
              <a:t> =760 мм рт. ст. =101 300 Па =1013 г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4"/>
          <p:cNvSpPr/>
          <p:nvPr/>
        </p:nvSpPr>
        <p:spPr>
          <a:xfrm>
            <a:off x="571680" y="1571760"/>
            <a:ext cx="835812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-20880" y="1785960"/>
            <a:ext cx="4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hinaOne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D:\маме\Анимация\14.gif"/>
          <p:cNvPicPr/>
          <p:nvPr/>
        </p:nvPicPr>
        <p:blipFill>
          <a:blip r:embed="rId1"/>
          <a:stretch/>
        </p:blipFill>
        <p:spPr>
          <a:xfrm>
            <a:off x="2143080" y="414324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9"/>
          <p:cNvSpPr/>
          <p:nvPr/>
        </p:nvSpPr>
        <p:spPr>
          <a:xfrm>
            <a:off x="88200" y="478620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hinaOne"/>
              </a:rPr>
              <a:t>высо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7368840" y="421488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hinaOne"/>
              </a:rPr>
              <a:t>низ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ыноска-облако 12"/>
          <p:cNvSpPr/>
          <p:nvPr/>
        </p:nvSpPr>
        <p:spPr>
          <a:xfrm>
            <a:off x="5143680" y="3786120"/>
            <a:ext cx="1857240" cy="714600"/>
          </a:xfrm>
          <a:prstGeom prst="cloudCallout">
            <a:avLst>
              <a:gd name="adj1" fmla="val -16527"/>
              <a:gd name="adj2" fmla="val 33699"/>
            </a:avLst>
          </a:prstGeom>
          <a:solidFill>
            <a:srgbClr val="7f7f7f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4"/>
          <p:cNvSpPr/>
          <p:nvPr/>
        </p:nvSpPr>
        <p:spPr>
          <a:xfrm>
            <a:off x="6714360" y="4500720"/>
            <a:ext cx="71640" cy="14256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5"/>
          <p:cNvSpPr/>
          <p:nvPr/>
        </p:nvSpPr>
        <p:spPr>
          <a:xfrm>
            <a:off x="6357960" y="4714920"/>
            <a:ext cx="7128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>
            <a:off x="5857920" y="4643280"/>
            <a:ext cx="7128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>
            <a:off x="6786720" y="4857840"/>
            <a:ext cx="7128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19"/>
          <p:cNvSpPr/>
          <p:nvPr/>
        </p:nvSpPr>
        <p:spPr>
          <a:xfrm>
            <a:off x="5500800" y="4572000"/>
            <a:ext cx="7128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20"/>
          <p:cNvSpPr/>
          <p:nvPr/>
        </p:nvSpPr>
        <p:spPr>
          <a:xfrm>
            <a:off x="6214320" y="5000760"/>
            <a:ext cx="7164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1"/>
          <p:cNvSpPr/>
          <p:nvPr/>
        </p:nvSpPr>
        <p:spPr>
          <a:xfrm>
            <a:off x="5785560" y="4929120"/>
            <a:ext cx="7164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3"/>
          <p:cNvSpPr/>
          <p:nvPr/>
        </p:nvSpPr>
        <p:spPr>
          <a:xfrm>
            <a:off x="6071400" y="5214960"/>
            <a:ext cx="7164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4"/>
          <p:cNvSpPr/>
          <p:nvPr/>
        </p:nvSpPr>
        <p:spPr>
          <a:xfrm>
            <a:off x="7143840" y="5000760"/>
            <a:ext cx="71280" cy="14292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5"/>
          <p:cNvSpPr/>
          <p:nvPr/>
        </p:nvSpPr>
        <p:spPr>
          <a:xfrm>
            <a:off x="6643800" y="5143680"/>
            <a:ext cx="71280" cy="142560"/>
          </a:xfrm>
          <a:prstGeom prst="line">
            <a:avLst/>
          </a:prstGeom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entury Goth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357200"/>
            <a:ext cx="8896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тмосферное давление на различных высот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://ru.static.z-dn.net/files/d2e/c2b2e44ba5258e1166c3ba8c5cfee9e0.jpg"/>
          <p:cNvPicPr/>
          <p:nvPr/>
        </p:nvPicPr>
        <p:blipFill>
          <a:blip r:embed="rId1"/>
          <a:stretch/>
        </p:blipFill>
        <p:spPr>
          <a:xfrm>
            <a:off x="1928880" y="2249640"/>
            <a:ext cx="542916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происходит с альпинистами, когда они совершают   восхождение  на гор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www.x-team.ru/upload/blog/e8a/e8a87176832f78a391d1446ef65700ad.jpg"/>
          <p:cNvPicPr/>
          <p:nvPr/>
        </p:nvPicPr>
        <p:blipFill>
          <a:blip r:embed="rId1"/>
          <a:stretch/>
        </p:blipFill>
        <p:spPr>
          <a:xfrm>
            <a:off x="1428840" y="1785960"/>
            <a:ext cx="60008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ьпинисты на отдых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dozor.kharkov.ua/content/documents/11420/1141944/thumb-big-420x305-30c2.jpg"/>
          <p:cNvPicPr/>
          <p:nvPr/>
        </p:nvPicPr>
        <p:blipFill>
          <a:blip r:embed="rId1"/>
          <a:stretch/>
        </p:blipFill>
        <p:spPr>
          <a:xfrm>
            <a:off x="1714680" y="1714680"/>
            <a:ext cx="578628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500040" y="21420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тмосферное давление на различных высот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010"/>
          <p:cNvPicPr/>
          <p:nvPr/>
        </p:nvPicPr>
        <p:blipFill>
          <a:blip r:embed="rId1"/>
          <a:stretch/>
        </p:blipFill>
        <p:spPr>
          <a:xfrm>
            <a:off x="1285920" y="2428920"/>
            <a:ext cx="6429240" cy="395424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428760" y="1857240"/>
            <a:ext cx="82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648г. Опыт Паскаля на горе Пью-де-Д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давление с высотой2"/>
          <p:cNvPicPr/>
          <p:nvPr/>
        </p:nvPicPr>
        <p:blipFill>
          <a:blip r:embed="rId1"/>
          <a:stretch/>
        </p:blipFill>
        <p:spPr>
          <a:xfrm>
            <a:off x="0" y="0"/>
            <a:ext cx="261792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даление с высотой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ВЫС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Т 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ММ РТ.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580120" y="285840"/>
            <a:ext cx="39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ные установ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 увеличением высоты давление УМЕНЬШАЕ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ttp://ru.static.z-dn.net/files/d2e/c2b2e44ba5258e1166c3ba8c5cfee9e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04"/>
          <p:cNvPicPr/>
          <p:nvPr/>
        </p:nvPicPr>
        <p:blipFill>
          <a:blip r:embed="rId1"/>
          <a:stretch/>
        </p:blipFill>
        <p:spPr>
          <a:xfrm>
            <a:off x="749160" y="857160"/>
            <a:ext cx="7894800" cy="58024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-14328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   давления   на   различных   высот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учи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ление твёрдых тел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идкостей и газ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зывается такая зависимость?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. Гипербол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. Парабол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 Линейная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04"/>
          <p:cNvPicPr/>
          <p:nvPr/>
        </p:nvPicPr>
        <p:blipFill>
          <a:blip r:embed="rId1"/>
          <a:stretch/>
        </p:blipFill>
        <p:spPr>
          <a:xfrm>
            <a:off x="749160" y="857160"/>
            <a:ext cx="7894800" cy="5802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-14328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ИПЕРБ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зываю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ысото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10800"/>
            <a:ext cx="91440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бор, который  измеряет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 …….…..ое  давление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, и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- - - -ту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над уровнем мор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http://static2.insales.ru/images/products/1/4446/4542814/large_23.jpg"/>
          <p:cNvPicPr/>
          <p:nvPr/>
        </p:nvPicPr>
        <p:blipFill>
          <a:blip r:embed="rId1"/>
          <a:stretch/>
        </p:blipFill>
        <p:spPr>
          <a:xfrm>
            <a:off x="490680" y="1700280"/>
            <a:ext cx="485748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128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ьпинисты  и    пилоты ( в авиации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10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отомер  использую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11" descr="899"/>
          <p:cNvPicPr/>
          <p:nvPr/>
        </p:nvPicPr>
        <p:blipFill>
          <a:blip r:embed="rId1"/>
          <a:stretch/>
        </p:blipFill>
        <p:spPr>
          <a:xfrm>
            <a:off x="1285920" y="2071800"/>
            <a:ext cx="6094440" cy="457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000680" y="2143080"/>
            <a:ext cx="3373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34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334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 подножия горы  барометр показыва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60 мм рт.ст., а на вершине 722 рт.ст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ва примерно высота гор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637000"/>
          <a:ext cx="7704000" cy="4022640"/>
        </p:xfrm>
        <a:graphic>
          <a:graphicData uri="http://schemas.openxmlformats.org/drawingml/2006/table">
            <a:tbl>
              <a:tblPr/>
              <a:tblGrid>
                <a:gridCol w="2692080"/>
                <a:gridCol w="50119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н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шени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= 760 мм рт.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 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=  722 мм рт.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?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:          ? 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052640"/>
          <a:ext cx="8785440" cy="5661000"/>
        </p:xfrm>
        <a:graphic>
          <a:graphicData uri="http://schemas.openxmlformats.org/drawingml/2006/table">
            <a:tbl>
              <a:tblPr/>
              <a:tblGrid>
                <a:gridCol w="2673360"/>
                <a:gridCol w="6112080"/>
              </a:tblGrid>
              <a:tr h="8665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ш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9572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= 760 мм рт.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r>
                        <a:rPr b="1" lang="ru-RU" sz="24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 2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=  722 мм рт.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– 722 = 38 ( мм рт.ст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38×12= 456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9876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йти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?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: высота горы   456 м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7640" y="692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Землю и все тела, находящиеся на ней действует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какое     давление?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о  имеет важное значение для жизни человека, потому что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делает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давление, которое действует внутри тела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ородах и в местностях, лежа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 уровне мор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атмосферное   давление     равно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мм рт.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 подъём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гору  через  каждые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метров   атмосферное  давление  уменьшаетс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мм рт.с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по учебнику п.___46_____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жнение 23 (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14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шение жю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http://3.bp.blogspot.com/-iYxdh0o7i18/TZpG34imteI/AAAAAAAAAFg/SFhFq3vIpeY/s1600/7543.jpg"/>
          <p:cNvPicPr/>
          <p:nvPr/>
        </p:nvPicPr>
        <p:blipFill>
          <a:blip r:embed="rId2"/>
          <a:stretch/>
        </p:blipFill>
        <p:spPr>
          <a:xfrm>
            <a:off x="1469880" y="2133720"/>
            <a:ext cx="5832720" cy="437328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4" descr=""/>
          <p:cNvPicPr/>
          <p:nvPr/>
        </p:nvPicPr>
        <p:blipFill>
          <a:blip r:embed="rId3"/>
          <a:stretch/>
        </p:blipFill>
        <p:spPr>
          <a:xfrm>
            <a:off x="285840" y="1011240"/>
            <a:ext cx="8199360" cy="9208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3635280" y="3605040"/>
            <a:ext cx="1441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__?__ клас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http://babiki.ru/uploads/images/00/97/09/2012/07/03/cd0e14.jpg"/>
          <p:cNvPicPr/>
          <p:nvPr/>
        </p:nvPicPr>
        <p:blipFill>
          <a:blip r:embed="rId1"/>
          <a:stretch/>
        </p:blipFill>
        <p:spPr>
          <a:xfrm>
            <a:off x="857160" y="64296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КТРОН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ЛЕС  ВОПР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-облако 5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3071880" y="19288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1214280" y="2684520"/>
            <a:ext cx="69296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Давлением называют величину, равную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entury Gothic"/>
              </a:rPr>
              <a:t>а) … силе, действующей на единицу площади опо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entury Gothic"/>
              </a:rPr>
              <a:t>б) … отношению силы, действующей перпендикулярно к поверхности, к площади этой поверх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entury Gothic"/>
              </a:rPr>
              <a:t>в) … отношению силы, действующей на поверхность, к площади этой поверх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Выноска-облако 5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3071880" y="19288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7120" y="2714760"/>
            <a:ext cx="8358120" cy="35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Единица измерения д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а) 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б) 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в)  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entury Gothic"/>
              </a:rPr>
              <a:t>г) 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Выноска-облако 5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1071720" y="2286000"/>
            <a:ext cx="642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Как называется воздушная оболочка, окружающая  Зем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а) лит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б) гидр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в) атм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г)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носка-облако 6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1571760" y="2286000"/>
            <a:ext cx="678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4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На какую высоту простирается атмосфер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а) до 5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б) до 1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в) до 5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entury Gothic"/>
              </a:rPr>
              <a:t>г) четкой границы у атмосферы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214200" y="22860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ChinaOne"/>
              </a:rPr>
              <a:t>ВОПРОС №5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D:\маме\bg001.gif"/>
          <p:cNvPicPr/>
          <p:nvPr/>
        </p:nvPicPr>
        <p:blipFill>
          <a:blip r:embed="rId1"/>
          <a:stretch/>
        </p:blipFill>
        <p:spPr>
          <a:xfrm>
            <a:off x="357120" y="357120"/>
            <a:ext cx="2584440" cy="1714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9"/>
          <p:cNvSpPr/>
          <p:nvPr/>
        </p:nvSpPr>
        <p:spPr>
          <a:xfrm>
            <a:off x="3551040" y="500040"/>
            <a:ext cx="37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hinaOne"/>
              </a:rPr>
              <a:t>Лес вопро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-облако 10"/>
          <p:cNvSpPr/>
          <p:nvPr/>
        </p:nvSpPr>
        <p:spPr>
          <a:xfrm>
            <a:off x="3000240" y="214200"/>
            <a:ext cx="5643720" cy="1428840"/>
          </a:xfrm>
          <a:prstGeom prst="cloudCallout">
            <a:avLst>
              <a:gd name="adj1" fmla="val -49842"/>
              <a:gd name="adj2" fmla="val 9800"/>
            </a:avLst>
          </a:prstGeom>
          <a:noFill/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642960" y="3105000"/>
            <a:ext cx="77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hinaOne"/>
              </a:rPr>
              <a:t>Как определяют атмосферное давлени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hinaOne"/>
              </a:rPr>
              <a:t>А) по    формуле    </a:t>
            </a:r>
            <a:r>
              <a:rPr b="1" lang="en-US" sz="2200" spc="-1" strike="noStrike">
                <a:solidFill>
                  <a:srgbClr val="c00000"/>
                </a:solidFill>
                <a:latin typeface="ChinaOne"/>
              </a:rPr>
              <a:t>p = </a:t>
            </a:r>
            <a:r>
              <a:rPr b="1" lang="el-GR" sz="2200" spc="-1" strike="noStrike">
                <a:solidFill>
                  <a:srgbClr val="c00000"/>
                </a:solidFill>
                <a:latin typeface="ChinaOne"/>
              </a:rPr>
              <a:t>ρ</a:t>
            </a:r>
            <a:r>
              <a:rPr b="1" lang="en-US" sz="2200" spc="-1" strike="noStrike">
                <a:solidFill>
                  <a:srgbClr val="c00000"/>
                </a:solidFill>
                <a:latin typeface="ChinaOne"/>
              </a:rPr>
              <a:t>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hinaOne"/>
              </a:rPr>
              <a:t>Б)  с помощью ртутного барометр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hinaOne"/>
              </a:rPr>
              <a:t>или барометра-анерои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hinaOne"/>
              </a:rPr>
              <a:t>В) с помощью термометра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рина кошечка</dc:creator>
  <dc:description/>
  <dc:language>en-US</dc:language>
  <cp:lastModifiedBy>Алла</cp:lastModifiedBy>
  <dcterms:modified xsi:type="dcterms:W3CDTF">2023-09-27T19:33:20Z</dcterms:modified>
  <cp:revision>32</cp:revision>
  <dc:subject/>
  <dc:title>Интегрированный  урок - виктор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1100000000000102a0010207f7000400038000</vt:lpwstr>
  </property>
</Properties>
</file>