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390B-37C4-4BA4-B585-4D13FB1B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307-6DB3-4B3D-9D0A-48B48ED16FC5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43DB-456B-4A72-AAFC-20DC0276A18F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EABE-99DA-4400-B494-4A16147B2552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63A2-69DC-4E03-88D5-B91169A85526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63BC-2337-4EC3-9811-94C16960AA0E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E0BA-DAF9-4A0E-9A7C-4A5EBB1F600E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F82-874D-476C-91FE-35177B7A5A00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52280" y="144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4548"/>
                </a:solidFill>
                <a:latin typeface="Monotype Corsiva"/>
              </a:rPr>
              <a:t>Муниципальное бюджетное дошкольное образовательное учреждение Урской детский сад «Росинка»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36600" y="4876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4548"/>
                </a:solidFill>
                <a:latin typeface="Monotype Corsiva"/>
              </a:rPr>
              <a:t>Подготовила: воспитатель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4548"/>
                </a:solidFill>
                <a:latin typeface="Monotype Corsiva"/>
              </a:rPr>
              <a:t>МБДОУ Урской детский сад «Росинка»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4548"/>
                </a:solidFill>
                <a:latin typeface="Monotype Corsiva"/>
              </a:rPr>
              <a:t>Пьянкова Татьяна Александровна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182520" y="1146240"/>
            <a:ext cx="8113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548"/>
                </a:solidFill>
                <a:latin typeface="Monotype Corsiva"/>
              </a:rPr>
              <a:t>Работа с родителями. 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Консультации на тему :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«Малые фольклорные  формы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«Рождественские посиделки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«Широкая масленица»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Оформление альбома «Скороговорки в картинках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38160" y="266760"/>
            <a:ext cx="8839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54548"/>
                </a:solidFill>
                <a:uFillTx/>
                <a:latin typeface="Monotype Corsiva"/>
              </a:rPr>
              <a:t>В результате совместной деятельности воспитанников, их родителей и педагогов ДОУ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545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Дети приобщились к высокохудожественной литературе и театральной деятельности, расширили кругозор о сказках, их авторах, персонажах, сформировали запас литературных впечатлений, научились сказки сочинять, иллюстрировать, инсценировать.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545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Родители воспитанников проявили интерес к чтению художественной литературы, осознали роль сказки в нравственно-эстетическом воспитании личности ребёнка, а также ежедневно старались читать детям по вечерам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545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Технология проектирования делает дошкольников активными участниками воспитательного процесса, ведёт к саморазвитию детей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548"/>
                </a:solidFill>
                <a:latin typeface="Monotype Corsiva"/>
              </a:rPr>
              <a:t>ЦЕЛЬ ПРОЕКТА: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приобщать детей к высокохудожественной литературе, формировать у них запас литературных, художественных впечатлений,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прививать интерес к театральной деятельности,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научить детей сочинять сказки,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  <a:p>
            <a:pPr marL="260640" indent="-260640">
              <a:lnSpc>
                <a:spcPct val="150000"/>
              </a:lnSpc>
              <a:spcBef>
                <a:spcPts val="700"/>
              </a:spcBef>
              <a:buClr>
                <a:srgbClr val="0545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раскрывать ценности совместного творчества детей и их родителей.</a:t>
            </a:r>
            <a:br>
              <a:rPr sz="2800"/>
            </a:br>
            <a:r>
              <a:rPr b="0" lang="ru-RU" sz="2800" spc="-1" strike="noStrike">
                <a:solidFill>
                  <a:srgbClr val="054548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54548"/>
                </a:solidFill>
                <a:latin typeface="Monotype Corsiva"/>
              </a:rPr>
              <a:t>Задачи проекта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4548"/>
                </a:solidFill>
                <a:latin typeface="Microsoft Sans Serif"/>
              </a:rPr>
              <a:t>1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. Знакомить с различными видами сказочных произведений, учить узнавать персонажи сказок, знать название и автора, пересказывать содержание, высказывать своё отношение к героям сказки; закреплять умения использовать средства выразительности (позы, жесты, мимику, интонации, движения) и разные виды театров (пальчиковый, театр картинок, кукольный) ; совершенствовать навыки самостоятельно сочинять сказку для постановки, драматизации, распределять между собой обязанности и роли. 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2. Развивать творческую самостоятельность и эстетический вкус дошкольников в организации театрализованных игр, в создании и передаче образов, отчётливость произношения, традиции семейного чтения. 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3. Воспитывать партнёрские отношения между детьми, коммуникативные качества, создавать радостный эмоциональный настрой, поощрять творческую инициативу.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54548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Проект «В гостях у сказки»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основан на интеграции следующих видов деятельности :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5454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познавательно – исследовательской ,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5454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ИЗО – деятельности ,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buClr>
                <a:srgbClr val="05454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54548"/>
                </a:solidFill>
                <a:latin typeface="Monotype Corsiva"/>
              </a:rPr>
              <a:t>чтение художественной литературы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54548"/>
              </a:solidFill>
              <a:latin typeface="Monotype Corsiv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6091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очные темы наиболее интересны и доступны пониманию ребёнка.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ка обогащает социальный и предметный опыт детей, помогает расширить нравственное представление о проявлении добра и зла , развивает творческое мышление  дошкольника.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ки способствуют развитию выразительности речи ,а так же творчеству самих детей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4548"/>
                </a:solidFill>
                <a:latin typeface="Monotype Corsiva"/>
              </a:rPr>
              <a:t>Подготовительный этап проекта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На подготовительном этапе к проекту пополнили библиотеку сказками, рассказывали  и рисовали свои любимые сказки , любимых сказочных героев, просто рассматривали иллюстрированные книжки со сказкам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4548"/>
                </a:solidFill>
                <a:latin typeface="Monotype Corsiva"/>
              </a:rPr>
              <a:t>Образовательная деятельность</a:t>
            </a:r>
            <a:br>
              <a:rPr sz="4400"/>
            </a:b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2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4548"/>
                </a:solidFill>
                <a:latin typeface="Monotype Corsiva"/>
              </a:rPr>
              <a:t>Чтение русских народных сказок: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Морозко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Царевна лягуш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Конёк горбуно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Гуси лебеди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Иван-царевич и серый вол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Зимовье зверей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Летучий корабль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4548"/>
                </a:solidFill>
                <a:latin typeface="Monotype Corsiva"/>
              </a:rPr>
              <a:t>Чтение авторских сказок: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В. Ф. Одоевский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Мороз Иванович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Г. Х. Андерсен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Ромаш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Дюймовоч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К. Ушинский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лепая лошадь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В. Даль 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тарик-годови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5454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8380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познание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Как создаётся книга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Гипербола как художественный приём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Театр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Проблема прекрасного в искусстве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развитие речи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Беседа о сказках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Русские народные сказк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по творческому рассказыванию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Забавные приключения рыжего котёнка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оставление описательного рассказа объект яблоко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очиняем сказку про Золушку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очинение сказок о медвежонке и зайчонке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рисование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Животные из сказок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Мой любимый сказочный герой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Волшебные предметы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Фантастическое яблоко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Отрицательные герои сказок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 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лепка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Сказк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Лиса и колобок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, 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Избушка Бабы-Яг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4548"/>
                </a:solidFill>
                <a:latin typeface="Microsoft Sans Serif"/>
              </a:rPr>
              <a:t>НОД конструирование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«</a:t>
            </a:r>
            <a:r>
              <a:rPr b="0" lang="ru-RU" sz="2000" spc="-1" strike="noStrike">
                <a:solidFill>
                  <a:srgbClr val="054548"/>
                </a:solidFill>
                <a:latin typeface="Microsoft Sans Serif"/>
              </a:rPr>
              <a:t>Изготовление элементов декорации</a:t>
            </a:r>
            <a:r>
              <a:rPr b="0" lang="en-US" sz="2000" spc="-1" strike="noStrike">
                <a:solidFill>
                  <a:srgbClr val="054548"/>
                </a:solidFill>
                <a:latin typeface="Microsoft Sans Serif"/>
              </a:rPr>
              <a:t>»</a:t>
            </a: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54548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-1361880" y="195120"/>
            <a:ext cx="121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54548"/>
                </a:solidFill>
                <a:uFillTx/>
                <a:latin typeface="Monotype Corsiva"/>
              </a:rPr>
              <a:t>Непосредственно образовательная деятельность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4548"/>
                </a:solidFill>
                <a:latin typeface="Monotype Corsiva"/>
              </a:rPr>
              <a:t>Просмотр мультфильмов</a:t>
            </a:r>
            <a:r>
              <a:rPr b="1" lang="ru-RU" sz="4400" spc="-1" strike="noStrike">
                <a:solidFill>
                  <a:srgbClr val="054548"/>
                </a:solidFill>
                <a:latin typeface="Microsoft Sans Serif"/>
              </a:rPr>
              <a:t>: 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9144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Золотая антилоп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Валидуб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Дедушка и внуче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Олени и вол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Сказка старого дуб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Полкан и Шавка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,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54548"/>
                </a:solidFill>
                <a:latin typeface="Monotype Corsiva"/>
              </a:rPr>
              <a:t>Аленький цветочек</a:t>
            </a:r>
            <a:r>
              <a:rPr b="0" lang="en-US" sz="3200" spc="-1" strike="noStrike">
                <a:solidFill>
                  <a:srgbClr val="054548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19alena13@mail.ru</cp:lastModifiedBy>
  <dcterms:modified xsi:type="dcterms:W3CDTF">2023-09-27T01:54:58Z</dcterms:modified>
  <cp:revision>291</cp:revision>
  <dc:subject/>
  <dc:title>Name of presentation</dc:title>
</cp:coreProperties>
</file>