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9A84-5EC1-4F00-A91D-163AF15F7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905A-F84D-4387-A633-1E703EA8EA42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3DC0-6ADF-4807-B889-E1FA80825CB5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3A57-7016-45E3-A266-7543164AAAC0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269F-BCFD-49DC-9DD9-00593BB3D9C9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7F2E-F4CB-451B-8E09-C9AE74C01E26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68DC-0D9A-40A1-9B2C-01B6D6C5C5E5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5EA9-BDC5-4781-852D-B30E64114B8D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52280" y="144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4548"/>
                </a:solidFill>
                <a:latin typeface="Monotype Corsiva"/>
              </a:rPr>
              <a:t>Муниципальное бюджетное дошкольное образовательное учреждение Урской детский сад «Росинка»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236600" y="4876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4548"/>
                </a:solidFill>
                <a:latin typeface="Monotype Corsiva"/>
              </a:rPr>
              <a:t>Подготовила: воспитатель 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4548"/>
                </a:solidFill>
                <a:latin typeface="Monotype Corsiva"/>
              </a:rPr>
              <a:t>МБДОУ Урской детский сад «Росинка»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4548"/>
                </a:solidFill>
                <a:latin typeface="Monotype Corsiva"/>
              </a:rPr>
              <a:t>Пьянкова Татьяна Александровна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</p:txBody>
      </p:sp>
      <p:pic>
        <p:nvPicPr>
          <p:cNvPr id="47" name="Прямоугольник 3" descr=""/>
          <p:cNvPicPr/>
          <p:nvPr/>
        </p:nvPicPr>
        <p:blipFill>
          <a:blip r:embed="rId2"/>
          <a:stretch/>
        </p:blipFill>
        <p:spPr>
          <a:xfrm>
            <a:off x="182520" y="1146240"/>
            <a:ext cx="81136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933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4548"/>
                </a:solidFill>
                <a:latin typeface="Monotype Corsiva"/>
              </a:rPr>
              <a:t>Работа с родителями. 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52120" y="60912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Microsoft Sans Serif"/>
              </a:rPr>
              <a:t> </a:t>
            </a:r>
            <a:endParaRPr b="0" lang="en-US" sz="18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Консультации на тему :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5454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«Малые фольклорные  формы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5454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«Рождественские посиделки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5454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«Широкая масленица».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Оформление альбома «Скороговорки в картинках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38160" y="266760"/>
            <a:ext cx="8839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54548"/>
                </a:solidFill>
                <a:uFillTx/>
                <a:latin typeface="Monotype Corsiva"/>
              </a:rPr>
              <a:t>В результате совместной деятельности воспитанников, их родителей и педагогов ДОУ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545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Дети приобщились к высокохудожественной литературе и театральной деятельности, расширили кругозор о сказках, их авторах, персонажах, сформировали запас литературных впечатлений, научились сказки сочинять, иллюстрировать, инсценировать.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545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Родители воспитанников проявили интерес к чтению художественной литературы, осознали роль сказки в нравственно-эстетическом воспитании личности ребёнка, а также ежедневно старались читать детям по вечерам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545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Технология проектирования делает дошкольников активными участниками воспитательного процесса, ведёт к саморазвитию детей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4548"/>
                </a:solidFill>
                <a:latin typeface="Monotype Corsiva"/>
              </a:rPr>
              <a:t>ЦЕЛЬ ПРОЕКТА: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50000"/>
              </a:lnSpc>
              <a:spcBef>
                <a:spcPts val="700"/>
              </a:spcBef>
              <a:buClr>
                <a:srgbClr val="0545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приобщать детей к высокохудожественной литературе, формировать у них запас литературных, художественных впечатлений, 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  <a:p>
            <a:pPr marL="260640" indent="-260640">
              <a:lnSpc>
                <a:spcPct val="150000"/>
              </a:lnSpc>
              <a:spcBef>
                <a:spcPts val="700"/>
              </a:spcBef>
              <a:buClr>
                <a:srgbClr val="0545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прививать интерес к театральной деятельности, 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  <a:p>
            <a:pPr marL="260640" indent="-260640">
              <a:lnSpc>
                <a:spcPct val="150000"/>
              </a:lnSpc>
              <a:spcBef>
                <a:spcPts val="700"/>
              </a:spcBef>
              <a:buClr>
                <a:srgbClr val="0545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научить детей сочинять сказки, 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  <a:p>
            <a:pPr marL="260640" indent="-260640">
              <a:lnSpc>
                <a:spcPct val="150000"/>
              </a:lnSpc>
              <a:spcBef>
                <a:spcPts val="700"/>
              </a:spcBef>
              <a:buClr>
                <a:srgbClr val="0545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раскрывать ценности совместного творчества детей и их родителей.</a:t>
            </a:r>
            <a:br>
              <a:rPr sz="2800"/>
            </a:b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933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54548"/>
                </a:solidFill>
                <a:latin typeface="Monotype Corsiva"/>
              </a:rPr>
              <a:t>Задачи проекта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60912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4548"/>
                </a:solidFill>
                <a:latin typeface="Microsoft Sans Serif"/>
              </a:rPr>
              <a:t>1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. Знакомить с различными видами сказочных произведений, учить узнавать персонажи сказок, знать название и автора, пересказывать содержание, высказывать своё отношение к героям сказки; закреплять умения использовать средства выразительности (позы, жесты, мимику, интонации, движения) и разные виды театров (пальчиковый, театр картинок, кукольный) ; совершенствовать навыки самостоятельно сочинять сказку для постановки, драматизации, распределять между собой обязанности и роли. 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2. Развивать творческую самостоятельность и эстетический вкус дошкольников в организации театрализованных игр, в создании и передаче образов, отчётливость произношения, традиции семейного чтения. 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3. Воспитывать партнёрские отношения между детьми, коммуникативные качества, создавать радостный эмоциональный настрой, поощрять творческую инициативу.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9339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54548"/>
              </a:solidFill>
              <a:latin typeface="Monotype Corsi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60912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Проект «В гостях у сказки» 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основан на интеграции следующих видов деятельности : 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5454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познавательно – исследовательской ,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5454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ИЗО – деятельности , 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5454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чтение художественной литературы 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9339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54548"/>
              </a:solidFill>
              <a:latin typeface="Monotype Corsiv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60912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казочные темы наиболее интересны и доступны пониманию ребёнка.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казка обогащает социальный и предметный опыт детей, помогает расширить нравственное представление о проявлении добра и зла , развивает творческое мышление  дошкольника.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казки способствуют развитию выразительности речи ,а так же творчеству самих детей.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933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4548"/>
                </a:solidFill>
                <a:latin typeface="Monotype Corsiva"/>
              </a:rPr>
              <a:t>Подготовительный этап проекта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На подготовительном этапе к проекту пополнили библиотеку сказками, рассказывали  и рисовали свои любимые сказки , любимых сказочных героев, просто рассматривали иллюстрированные книжки со сказками.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4548"/>
                </a:solidFill>
                <a:latin typeface="Monotype Corsiva"/>
              </a:rPr>
              <a:t>Образовательная деятельность</a:t>
            </a:r>
            <a:br>
              <a:rPr sz="4400"/>
            </a:b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2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4548"/>
                </a:solidFill>
                <a:latin typeface="Monotype Corsiva"/>
              </a:rPr>
              <a:t>Чтение русских народных сказок: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Морозко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Царевна лягушк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Конёк горбуно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Гуси лебеди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Иван-царевич и серый вол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Зимовье зверей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Летучий корабль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4548"/>
                </a:solidFill>
                <a:latin typeface="Monotype Corsiva"/>
              </a:rPr>
              <a:t>Чтение авторских сказок: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В. Ф. Одоевский 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Мороз Иванович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Г. Х. Андерсен 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Ромашк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Дюймовочк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К. Ушинский 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лепая лошадь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В. Даль 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тарик-годови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5454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8380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познание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Как создаётся книга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Гипербола как художественный приём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Театр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Проблема прекрасного в искусстве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развитие речи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Беседа о сказках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Русские народные сказки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по творческому рассказыванию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Забавные приключения рыжего котёнка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Составление описательного рассказа объект яблоко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Сочиняем сказку про Золушку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Сочинение сказок о медвежонке и зайчонке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рисование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Животные из сказок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Мой любимый сказочный герой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Волшебные предметы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Фантастическое яблоко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Отрицательные герои сказок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 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лепка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Сказки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Лиса и колобок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Избушка Бабы-Яги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конструирование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Изготовление элементов декорации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-1361880" y="195120"/>
            <a:ext cx="121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54548"/>
                </a:solidFill>
                <a:uFillTx/>
                <a:latin typeface="Monotype Corsiva"/>
              </a:rPr>
              <a:t>Непосредственно образовательная деятельность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4548"/>
                </a:solidFill>
                <a:latin typeface="Monotype Corsiva"/>
              </a:rPr>
              <a:t>Просмотр мультфильмов</a:t>
            </a:r>
            <a:r>
              <a:rPr b="1" lang="ru-RU" sz="44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9144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Золотая антилоп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Валидуб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Дедушка и внуче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Олени и вол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казка старого дуб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Полкан и Шавк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Аленький цветоче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19alena13@mail.ru</cp:lastModifiedBy>
  <dcterms:modified xsi:type="dcterms:W3CDTF">2023-09-27T01:54:58Z</dcterms:modified>
  <cp:revision>291</cp:revision>
  <dc:subject/>
  <dc:title>Name of presentation</dc:title>
</cp:coreProperties>
</file>