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5D6-A6A9-4448-9CB2-DB329639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2A5-0D7D-4ED1-903D-E2A1C1F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DBB-1BBD-4D1A-9E9D-897B994B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668-1F83-4254-B259-3130A7E7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6DFAE-4E4C-4219-BF07-438A48E0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B2E6E-4613-4C34-BE4D-10E09882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23AE-EADE-4DDF-88F6-4BA79258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CD63B-6882-47D4-8CF2-97D8643A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0047A-2704-45BE-9485-36E2E9DD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B1358-7FB6-4B36-9248-12EB9066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35C7B-A469-45DA-AE8C-4C3376E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398-10B7-4EB5-950E-08FEC62A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579A1-433F-4DEC-A639-4B9EB9DE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5201-8829-48E0-972F-3C96DDB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5D1C5-B249-4170-8A24-6F34514F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F32C5-A70E-48AC-B6AC-027606A1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6472B-5914-44AC-8380-6013B8B8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F1B1D-782D-46F3-93CF-3D3EF887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85932-9F0D-4823-91C9-9F007898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F8115-C26D-4125-8509-CEE9FDE8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087FC-B4C0-43E5-8D25-015CEA6A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40518-F6FE-4F0E-8A0A-3AB715C4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EFE-B264-477F-8759-E9A66754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86299-9501-4076-93DE-F05F05D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84329-70AD-4F4F-89D6-342D713F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4360A-1C94-4A5A-B219-E5F1320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78090-54BB-4C02-8924-3DA19619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DB2C3-514C-465D-A48E-8A6D35D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6F232-DB8A-415D-ADD0-D248B655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467F9-A4CE-439C-8783-1B78FDCC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B536-509F-438A-BDEB-46C08477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FB59-79A2-44CF-A0C0-B0B2C974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9EF4-058F-4855-8D66-50DE709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F3F-4632-44DB-940E-25329722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6276C-A4CF-421A-B9A2-CD28A90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40F5-A3AB-4122-BB09-CE620E4D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B5BB-12B4-4867-B767-9223F85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57706-9A57-4CC4-9A55-5F4BC0B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3C52-85BA-418D-B54D-ABD0048C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E142-4A98-41F4-9575-0853006D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D9AA-12BF-4397-A99D-9A7A7DC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F72B-308B-4044-8065-8F99CB4B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B1C7-014B-4A38-8055-ACAE1B0F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38E-CFE7-4498-B645-53C907D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829-D857-415A-8CF2-913BC555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5B5-5957-4377-94B2-A898481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CC0-6E1F-4283-A4DE-A94B36C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081-7500-4086-AAEC-A1195311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" name="Прямоугольник 12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7" name="Прямоугольник 14"/>
          <p:cNvSpPr/>
          <p:nvPr/>
        </p:nvSpPr>
        <p:spPr>
          <a:xfrm>
            <a:off x="27612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990720" y="0"/>
            <a:ext cx="18216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9" name="Прямоугольник 17"/>
          <p:cNvSpPr/>
          <p:nvPr/>
        </p:nvSpPr>
        <p:spPr>
          <a:xfrm>
            <a:off x="1141560" y="0"/>
            <a:ext cx="22968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0" name="Прямая соединительная линия 18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" name="Прямая соединительная линия 19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" name="Прямая соединительная линия 20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" name="Прямая соединительная линия 23"/>
          <p:cNvSpPr/>
          <p:nvPr/>
        </p:nvSpPr>
        <p:spPr>
          <a:xfrm>
            <a:off x="172692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4" name="Прямая соединительная линия 2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" name="Прямая соединительная линия 25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7" name="Овал 27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8" name="Овал 28"/>
          <p:cNvSpPr/>
          <p:nvPr/>
        </p:nvSpPr>
        <p:spPr>
          <a:xfrm>
            <a:off x="1309680" y="486720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9" name="Овал 29"/>
          <p:cNvSpPr/>
          <p:nvPr/>
        </p:nvSpPr>
        <p:spPr>
          <a:xfrm>
            <a:off x="1090440" y="5500800"/>
            <a:ext cx="137880" cy="13608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0" name="Овал 30"/>
          <p:cNvSpPr/>
          <p:nvPr/>
        </p:nvSpPr>
        <p:spPr>
          <a:xfrm>
            <a:off x="1663560" y="5788080"/>
            <a:ext cx="274320" cy="27432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1" name="Овал 31"/>
          <p:cNvSpPr/>
          <p:nvPr/>
        </p:nvSpPr>
        <p:spPr>
          <a:xfrm>
            <a:off x="1905120" y="4495680"/>
            <a:ext cx="364680" cy="36468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 rot="5400000">
            <a:off x="7764840" y="117468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912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20F94532-5867-4A5B-A9EC-72D9A521EA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9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00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100000"/>
              </a:lnSpc>
              <a:spcBef>
                <a:spcPts val="320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50873CE0-B85A-4183-8D90-9FCA4B7216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5E5763EC-6C06-4E89-A1A6-5E22F84D3A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9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000" cy="54900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lt1"/>
              </a:solidFill>
              <a:latin typeface="Century Schoolbook"/>
              <a:ea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09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 rot="5400000">
            <a:off x="6990120" y="373716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12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3FA440FA-3A57-4438-806A-B94E26184E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Интеллектуальная игра </a:t>
            </a:r>
            <a:br>
              <a:rPr sz="3600"/>
            </a:br>
            <a:r>
              <a:rPr b="1" lang="ru-RU" sz="36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«Финансовая грамотность – это весело!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6578280" cy="28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4. О налогах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43480" cy="311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Местный священник организовал отдел налоговой полиции, единственный работник которой проследил за своевременной сдачей налога у самой неорганизованной части насел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500040" y="5572080"/>
            <a:ext cx="757188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попе и его работнике Бал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5. Внимание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15120" cy="3614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продаже появились фальсифицированные фрукты, употребление которых приводит к негативным последствиям, таким, как продолжительный летаргический со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ежде, чем приобретать фрукты, требуйте сертификат соответствия и лицензию на право торговл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500040" y="5572080"/>
            <a:ext cx="757188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мертвой царевне и о семи богаты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6. Проблемы молодеж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6400" cy="397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оциологический опрос молодых девушек показал, что одна треть опрошенных решила сделать карьеру в области общественного питания, одна треть - посвятить себя ткацкому делу, остальные же надеются на удачное замужество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500040" y="5572080"/>
            <a:ext cx="757188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царе Сал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4240" y="1285920"/>
            <a:ext cx="74671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 </a:t>
            </a:r>
            <a:br>
              <a:rPr sz="44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3. </a:t>
            </a:r>
            <a:br>
              <a:rPr sz="44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ПЕРЕСТАНОВКА”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4671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 </a:t>
            </a:r>
            <a:br>
              <a:rPr sz="3000"/>
            </a:br>
            <a:r>
              <a:rPr b="1" lang="ru-RU" sz="36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Нырок = место купли-продажи товаров и услуг, заключения торговых сделок.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214800"/>
            <a:ext cx="7467120" cy="32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500120" y="4857840"/>
            <a:ext cx="4785840" cy="856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Ры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467120" cy="42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2. Лак + мера = информация о продукте, имеющая целью его продвижение на рынок.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857840"/>
            <a:ext cx="7467120" cy="16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1643040" y="5429160"/>
            <a:ext cx="5571720" cy="10713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357760" cy="42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600"/>
            </a:br>
            <a:br>
              <a:rPr sz="3600"/>
            </a:br>
            <a:r>
              <a:rPr b="1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есто + мир + сан = набор одноимённой продукции (услуг), конкретизируемой по наименованиям, видам, сортам и т.д</a:t>
            </a:r>
            <a:r>
              <a:rPr b="0" lang="ru-RU" sz="4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br>
              <a:rPr sz="3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714760"/>
            <a:ext cx="7467120" cy="37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1285920" y="5214960"/>
            <a:ext cx="6143400" cy="1213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Ассорт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14356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Овод + рог = добровольное соглашение двух или нескольких лиц, заключаемое на предмет выполнения каждым из них принимаемых обязательств по отношению к другим участникам.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4429080"/>
            <a:ext cx="746712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500120" y="4714920"/>
            <a:ext cx="5928840" cy="1142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ого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4671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иф + кит + сера = документ, подтверждающий соответствие продукции и услуг установленным требованиям.</a:t>
            </a:r>
            <a:br>
              <a:rPr sz="3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929120"/>
            <a:ext cx="746712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00080" y="5357880"/>
            <a:ext cx="6643440" cy="10713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ертифи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000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Твора = продукт труда, предназначенный для обмена или продажи.</a:t>
            </a:r>
            <a:br>
              <a:rPr sz="3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5143680"/>
            <a:ext cx="7467120" cy="132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85920" y="5715000"/>
            <a:ext cx="642888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ов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8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 u="sng" cap="small">
                <a:solidFill>
                  <a:srgbClr val="575f6d"/>
                </a:solidFill>
                <a:uFillTx/>
                <a:latin typeface="Century Schoolbook"/>
                <a:ea typeface="Arial"/>
              </a:rPr>
              <a:t>Цель</a:t>
            </a: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: формирование основ финансовой грамот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Обучающ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сегодня Вы познакомитесь с основными понятиямив области финансовой грамо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Вы будете развивать внимание, речь, логическое мышление, умение анализировать информа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Воспитательн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Вы будете формировать культуру общения в коллектив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1714680"/>
            <a:ext cx="746712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4. </a:t>
            </a:r>
            <a:br>
              <a:rPr sz="5400"/>
            </a:b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ЧЕРНЫЙ ЯЩИК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1214280"/>
            <a:ext cx="746712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5. </a:t>
            </a:r>
            <a:br>
              <a:rPr sz="4800"/>
            </a:br>
            <a:r>
              <a:rPr b="1" lang="ru-RU" sz="48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ЭКОНОМИЧЕСКИЕ РЕБУС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56" name="Рисунок 2" descr="hello_html_m60ad6ef1.png"/>
          <p:cNvPicPr/>
          <p:nvPr/>
        </p:nvPicPr>
        <p:blipFill>
          <a:blip r:embed="rId1"/>
          <a:stretch/>
        </p:blipFill>
        <p:spPr>
          <a:xfrm>
            <a:off x="428760" y="428760"/>
            <a:ext cx="8071920" cy="4860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714240" y="5572080"/>
            <a:ext cx="7357680" cy="856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об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59" name="Рисунок 1" descr="hello_html_m6a7bbdbe.png"/>
          <p:cNvPicPr/>
          <p:nvPr/>
        </p:nvPicPr>
        <p:blipFill>
          <a:blip r:embed="rId1"/>
          <a:stretch/>
        </p:blipFill>
        <p:spPr>
          <a:xfrm>
            <a:off x="500040" y="357120"/>
            <a:ext cx="7286400" cy="4725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3"/>
          <p:cNvSpPr/>
          <p:nvPr/>
        </p:nvSpPr>
        <p:spPr>
          <a:xfrm>
            <a:off x="642960" y="5429160"/>
            <a:ext cx="714348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ень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62" name="Рисунок 4" descr="hello_html_49eb4919.png"/>
          <p:cNvPicPr/>
          <p:nvPr/>
        </p:nvPicPr>
        <p:blipFill>
          <a:blip r:embed="rId1"/>
          <a:stretch/>
        </p:blipFill>
        <p:spPr>
          <a:xfrm>
            <a:off x="857160" y="571680"/>
            <a:ext cx="7071840" cy="46638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3"/>
          <p:cNvSpPr/>
          <p:nvPr/>
        </p:nvSpPr>
        <p:spPr>
          <a:xfrm>
            <a:off x="1071720" y="5500800"/>
            <a:ext cx="664344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1428840"/>
            <a:ext cx="746712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6. </a:t>
            </a:r>
            <a:br>
              <a:rPr sz="5400"/>
            </a:br>
            <a:r>
              <a:rPr b="1" lang="ru-RU" sz="54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Игра “Быль и сказка”</a:t>
            </a:r>
            <a:br>
              <a:rPr sz="3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Зада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714240" y="1285920"/>
            <a:ext cx="76435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а сказочная героиня рекламирует конфеты и кондитерски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14240" y="2571840"/>
            <a:ext cx="76435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 сказочная героиня маленькая 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714240" y="3857760"/>
            <a:ext cx="764352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На своем пути она встречает хищного зв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714240" y="5143680"/>
            <a:ext cx="7571880" cy="785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Её путь лежит через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pic>
        <p:nvPicPr>
          <p:cNvPr id="271" name="Рисунок 12" descr="hello_html_66a17269.png"/>
          <p:cNvPicPr/>
          <p:nvPr/>
        </p:nvPicPr>
        <p:blipFill>
          <a:blip r:embed="rId1"/>
          <a:stretch/>
        </p:blipFill>
        <p:spPr>
          <a:xfrm>
            <a:off x="0" y="-23760"/>
            <a:ext cx="4142880" cy="68814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1" descr="hello_html_457575c0.jpg"/>
          <p:cNvPicPr/>
          <p:nvPr/>
        </p:nvPicPr>
        <p:blipFill>
          <a:blip r:embed="rId2"/>
          <a:stretch/>
        </p:blipFill>
        <p:spPr>
          <a:xfrm>
            <a:off x="3724200" y="571680"/>
            <a:ext cx="50004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2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642960" y="1643040"/>
            <a:ext cx="785772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от сказочный герой рекламирует ков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642960" y="2857680"/>
            <a:ext cx="778644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т сказочный герой имеет друга-д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143240"/>
            <a:ext cx="77148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Джин живет в лам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"/>
          <p:cNvSpPr/>
          <p:nvPr/>
        </p:nvSpPr>
        <p:spPr>
          <a:xfrm>
            <a:off x="714240" y="5357880"/>
            <a:ext cx="77148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Герой имеет очень много приклю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0" descr="hello_html_m7042c80e.jpg"/>
          <p:cNvPicPr/>
          <p:nvPr/>
        </p:nvPicPr>
        <p:blipFill>
          <a:blip r:embed="rId1"/>
          <a:stretch/>
        </p:blipFill>
        <p:spPr>
          <a:xfrm>
            <a:off x="0" y="357120"/>
            <a:ext cx="4060440" cy="61434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hello_html_m71ee1264.jpg"/>
          <p:cNvPicPr/>
          <p:nvPr/>
        </p:nvPicPr>
        <p:blipFill>
          <a:blip r:embed="rId2"/>
          <a:stretch/>
        </p:blipFill>
        <p:spPr>
          <a:xfrm>
            <a:off x="4572000" y="357120"/>
            <a:ext cx="40860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500040" y="357120"/>
            <a:ext cx="8000640" cy="5571720"/>
          </a:xfrm>
          <a:prstGeom prst="rect">
            <a:avLst/>
          </a:prstGeom>
          <a:solidFill>
            <a:schemeClr val="bg2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ермин </a:t>
            </a:r>
            <a:r>
              <a:rPr b="1" lang="ru-RU" sz="4800" spc="-1" strike="noStrike">
                <a:solidFill>
                  <a:srgbClr val="00b0f0"/>
                </a:solidFill>
                <a:latin typeface="Century Schoolbook"/>
                <a:ea typeface="Arial"/>
              </a:rPr>
              <a:t>finansia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 возник в XIII-XV вв. и переводится с латинского как наличные средства, дох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642960" y="1714680"/>
            <a:ext cx="7500600" cy="9284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и герои рекламирует лакокрасочные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642960" y="278604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История об этих героях основана на реальных событ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642960" y="4000680"/>
            <a:ext cx="757188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Девиз этих героев “Один за всех и все за одног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14240" y="542916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Про них сняты не только мультфильмы, но и кинофиль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8" descr="hello_html_2f62ed7b.jpg"/>
          <p:cNvPicPr/>
          <p:nvPr/>
        </p:nvPicPr>
        <p:blipFill>
          <a:blip r:embed="rId1"/>
          <a:stretch/>
        </p:blipFill>
        <p:spPr>
          <a:xfrm>
            <a:off x="214200" y="500040"/>
            <a:ext cx="4285800" cy="58575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7" descr="hello_html_m4b0c0e64.jpg"/>
          <p:cNvPicPr/>
          <p:nvPr/>
        </p:nvPicPr>
        <p:blipFill>
          <a:blip r:embed="rId2"/>
          <a:stretch/>
        </p:blipFill>
        <p:spPr>
          <a:xfrm>
            <a:off x="4732200" y="1785960"/>
            <a:ext cx="39114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Задание 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714240" y="1285920"/>
            <a:ext cx="7500600" cy="1142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Эта сказочная героиня рекламирует меховые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642960" y="292896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Это сказочная героиня очень сурова, строга и хол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4"/>
          <p:cNvSpPr/>
          <p:nvPr/>
        </p:nvSpPr>
        <p:spPr>
          <a:xfrm>
            <a:off x="714240" y="421488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Ее время правления – это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714240" y="5500800"/>
            <a:ext cx="7500600" cy="9997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Она совершает жестокий поступок по отношению к паре маленьких реб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6" descr="hello_html_m5c718e62.jpg"/>
          <p:cNvPicPr/>
          <p:nvPr/>
        </p:nvPicPr>
        <p:blipFill>
          <a:blip r:embed="rId1"/>
          <a:stretch/>
        </p:blipFill>
        <p:spPr>
          <a:xfrm>
            <a:off x="0" y="1000080"/>
            <a:ext cx="4468320" cy="414288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hello_html_m6e9614e0.jpg"/>
          <p:cNvPicPr/>
          <p:nvPr/>
        </p:nvPicPr>
        <p:blipFill>
          <a:blip r:embed="rId2"/>
          <a:stretch/>
        </p:blipFill>
        <p:spPr>
          <a:xfrm>
            <a:off x="4468680" y="1000080"/>
            <a:ext cx="4478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РАУНД №7. </a:t>
            </a:r>
            <a:br>
              <a:rPr sz="3000"/>
            </a:b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КОНКУРС-ИГРА “БЛИЦ - ОПРОС”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Рисунок 14" descr="hello_html_m492eb721.jpg"/>
          <p:cNvPicPr/>
          <p:nvPr/>
        </p:nvPicPr>
        <p:blipFill>
          <a:blip r:embed="rId1"/>
          <a:stretch/>
        </p:blipFill>
        <p:spPr>
          <a:xfrm>
            <a:off x="500040" y="1643040"/>
            <a:ext cx="7714800" cy="44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ПОДВЕДЕНИЕ ИТОГОВ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571680" y="1357200"/>
            <a:ext cx="7786440" cy="1142640"/>
          </a:xfrm>
          <a:prstGeom prst="rect">
            <a:avLst/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lt1"/>
                </a:solidFill>
                <a:latin typeface="Century Schoolbook"/>
                <a:ea typeface="Arial"/>
              </a:rPr>
              <a:t>Будьте внимательны к своим финансам и до новых встреч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http://images.easyfreeclipart.com/227/14-owl-clip-art-for-teachers-free-cliparts-that-you-can-download-to--227153."/>
          <p:cNvPicPr/>
          <p:nvPr/>
        </p:nvPicPr>
        <p:blipFill>
          <a:blip r:embed="rId1"/>
          <a:stretch/>
        </p:blipFill>
        <p:spPr>
          <a:xfrm>
            <a:off x="2357280" y="2643120"/>
            <a:ext cx="382068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  <a:ea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000" spc="-1" strike="noStrike" cap="small">
              <a:solidFill>
                <a:srgbClr val="575f6d"/>
              </a:solidFill>
              <a:latin typeface="Century Schoolbook"/>
              <a:ea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357120" y="285840"/>
            <a:ext cx="8214840" cy="6214680"/>
          </a:xfrm>
          <a:prstGeom prst="rect">
            <a:avLst/>
          </a:prstGeom>
          <a:solidFill>
            <a:schemeClr val="bg2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entury Schoolbook"/>
                <a:ea typeface="Arial"/>
              </a:rPr>
              <a:t>Финансовая грамотность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– понимание основных финансовых понятий и использование этой информации для принятия разумных решений, способствующих благосостоянию люд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Раунд №1. РАЗМИ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http://vality.ru/wp-content/uploads/2017/08/1-503.jpg"/>
          <p:cNvPicPr/>
          <p:nvPr/>
        </p:nvPicPr>
        <p:blipFill>
          <a:blip r:embed="rId1"/>
          <a:stretch/>
        </p:blipFill>
        <p:spPr>
          <a:xfrm>
            <a:off x="781200" y="1706400"/>
            <a:ext cx="725940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46712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  <a:ea typeface="Arial"/>
              </a:rPr>
              <a:t>РАУНД №2. . ЭКОНОМИЧЕСКАЯ ВИКТОРИНА “СКАЗКИ ПУШКИНА ГЛАЗАМИ ЭКОНОМИСТА”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7643520" cy="42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1. Международные отношения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елегация работников торговли, возвращаясь с международной ярмарки, нанесла визит правительству небольшого островного государства. Встреча прошла в теплой, дружеской обстановк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428760" y="5429160"/>
            <a:ext cx="7571880" cy="7138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2. На страже отечества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467120" cy="39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авительство намерено сократить расходы военно-промышленного комплекса, купив биологический наблюдательный прибор, реагирующий на приближающегося неприятел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500040" y="5572080"/>
            <a:ext cx="757188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золотом Пет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  <a:ea typeface="Arial"/>
              </a:rPr>
              <a:t>3. Вести из российской глубинки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российской провинции, пенсионер С. нашел оригинальный способ улучшения материального положения своей супруги. К сожалению, непомерные запросы последней привели к плачевным результата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285840" y="5572080"/>
            <a:ext cx="7786440" cy="642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b32c1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азка о рыбаке и золотой  рыб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40</TotalTime>
  <Application>LibreOffice/7.4.7.2$Linux_X86_64 LibreOffice_project/40$Build-2</Application>
  <AppVersion>15.0000</AppVersion>
  <Paragraphs>7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21:19:25Z</dcterms:created>
  <dc:creator>Admin</dc:creator>
  <dc:description/>
  <dc:language>en-US</dc:language>
  <cp:lastModifiedBy>Пользователь Windows</cp:lastModifiedBy>
  <dcterms:modified xsi:type="dcterms:W3CDTF">2023-09-28T08:48:01Z</dcterms:modified>
  <cp:revision>53</cp:revision>
  <dc:subject/>
  <dc:title>Интеллектуальная викторина по финансовой грамот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6</vt:r8>
  </property>
  <property fmtid="{D5CDD505-2E9C-101B-9397-08002B2CF9AE}" pid="4" name="_TemplateID">
    <vt:lpwstr>TC010184561049</vt:lpwstr>
  </property>
</Properties>
</file>