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502-31C1-495C-BD5A-DC1F4304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20B-55F9-41C7-B3BA-4DEDB917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B70-D321-4549-9FC2-300617C9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3FA-A1CB-4224-B22A-FFA1289C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A86C-989E-4088-8585-F4739F4D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4E289-C9F0-42F9-BD84-EF1D10AC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A9DDA-AEC6-4678-8E35-5E6AF18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D81DE-F0A8-43DC-99A8-96C6782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76124-A063-4F5F-84D4-B3C7350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3D439-DF70-4B53-B0C5-BCE50FBE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EC300-0812-4BA3-BCA3-F335BEF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C1C-67FB-498E-99B9-60D9B8A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58BCA-BB5B-4BF8-B59E-4BA19CF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CACCB-AFA3-4B01-BC37-6533360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F45B8-FB3A-41E0-A181-E3FB9456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362A1-8C19-4BCE-9910-C5EB29BA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8ACEE-3159-4E03-B4ED-A49162CF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19647-BDE8-4DB9-844D-72160997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89965-D1B1-40E3-A160-74875EA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CA4B8-B148-43EF-8265-8DF81A1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C1E5C-090B-4DD1-BCCF-021C840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C0DAF-7D79-413F-8035-52D2F82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400-6AD1-494B-BDEE-A50B907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7C1F-2EAA-475A-B6E4-86C44DD5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907C5-8FCB-44DF-8158-B617DDD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C194C-2001-4197-8E29-FC98451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54145-60C8-4575-B485-D0FC824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AF170-F545-4D8B-8E96-39BA503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60625-84E2-4711-B4B5-0E36F854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0F6E4-E788-4F68-BD21-C8CA891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1ED6-F3F1-4DF6-8589-0FA1CCE7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FC50-BC51-447F-BC40-6EA7084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471D-5686-42F2-830C-BEA8A3D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95E-901A-4BD6-9365-940C569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DA22-FA1B-4C3B-8EC9-BEC2F7D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2460-39A6-47FF-A2B8-C866A1D0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6AA5-B934-495C-ABA2-2FC72877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0A905-9F78-42C6-852B-D169E051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1DFC-1FCB-4EE9-B92A-C9FB762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17FF1-D5B8-400B-97DC-E90896C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5B34-8840-4B75-9501-5B308FC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B452-F6B1-4200-9DF6-DFB2B4A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9DC6-46C0-4ABD-B2BD-8ECAE14D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DA0-477D-4A6B-88C0-ED260171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06D-373D-4C7C-88A4-29165614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BB5-8168-45EB-96EB-D91CA87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55D-9273-40A7-A42F-808ECA1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C1A-9328-4A58-B002-923D8FC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" name="Прямоугольник 12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7" name="Прямоугольник 14"/>
          <p:cNvSpPr/>
          <p:nvPr/>
        </p:nvSpPr>
        <p:spPr>
          <a:xfrm>
            <a:off x="27612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990720" y="0"/>
            <a:ext cx="18216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9" name="Прямоугольник 17"/>
          <p:cNvSpPr/>
          <p:nvPr/>
        </p:nvSpPr>
        <p:spPr>
          <a:xfrm>
            <a:off x="1141560" y="0"/>
            <a:ext cx="22968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0" name="Прямая соединительная линия 18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" name="Прямая соединительная линия 19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" name="Прямая соединительная линия 20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" name="Прямая соединительная линия 23"/>
          <p:cNvSpPr/>
          <p:nvPr/>
        </p:nvSpPr>
        <p:spPr>
          <a:xfrm>
            <a:off x="172692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" name="Прямая соединительная линия 2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" name="Прямая соединительная линия 25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7" name="Овал 27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8" name="Овал 28"/>
          <p:cNvSpPr/>
          <p:nvPr/>
        </p:nvSpPr>
        <p:spPr>
          <a:xfrm>
            <a:off x="1309680" y="486720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9" name="Овал 29"/>
          <p:cNvSpPr/>
          <p:nvPr/>
        </p:nvSpPr>
        <p:spPr>
          <a:xfrm>
            <a:off x="1090440" y="5500800"/>
            <a:ext cx="137880" cy="13608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0" name="Овал 30"/>
          <p:cNvSpPr/>
          <p:nvPr/>
        </p:nvSpPr>
        <p:spPr>
          <a:xfrm>
            <a:off x="1663560" y="5788080"/>
            <a:ext cx="274320" cy="27432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1" name="Овал 31"/>
          <p:cNvSpPr/>
          <p:nvPr/>
        </p:nvSpPr>
        <p:spPr>
          <a:xfrm>
            <a:off x="1905120" y="4495680"/>
            <a:ext cx="364680" cy="36468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 rot="5400000">
            <a:off x="7764840" y="117468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912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94627756-54E8-4194-845A-5D49D26058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9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00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320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CAE66D4A-7BE9-4AE6-B45C-AAB8B9B61B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C1763043-34AD-413B-934B-A751CFE374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9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4D303837-B97A-4B66-8334-7E3644D0DA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Интеллектуальная игра </a:t>
            </a:r>
            <a:br>
              <a:rPr sz="3600"/>
            </a:b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«Финансовая грамотность – это весело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6578280" cy="28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4. О налогах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43480" cy="311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Местный священник организовал отдел налоговой полиции, единственный работник которой проследил за своевременной сдачей налога у самой неорганизованной части насел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500040" y="5572080"/>
            <a:ext cx="75718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попе и его работнике Бал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5. Внимание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15120" cy="3614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500040" y="55720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мертвой царевне и о семи богаты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6. Проблемы молодеж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6400" cy="39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циологический опрос молодых девушек показал, что одна треть опрошенных решила сделать карьеру в области общественного питания, одна треть - посвятить себя ткацкому делу, остальные же надеются на удачное замужеств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4671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3. 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ПЕРЕСТАНОВКА”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4671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3000"/>
            </a:b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Нырок = место купли-продажи товаров и услуг, заключения торговых сделок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7467120" cy="32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500120" y="4857840"/>
            <a:ext cx="478584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ы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46712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Лак + мера = информация о продукте, имеющая целью его продвижение на рынок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857840"/>
            <a:ext cx="7467120" cy="16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1643040" y="5429160"/>
            <a:ext cx="557172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35776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есто + мир + сан = набор одноимённой продукции (услуг), конкретизируемой по наименованиям, видам, сортам и т.д</a:t>
            </a:r>
            <a:r>
              <a:rPr b="0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br>
              <a:rPr sz="3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746712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285920" y="5214960"/>
            <a:ext cx="6143400" cy="1213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Ассорт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14356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Овод + рог = добровольное соглашение двух или нескольких лиц, заключаемое на предмет выполнения каждым из них принимаемых обязательств по отношению к другим участникам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429080"/>
            <a:ext cx="746712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500120" y="4714920"/>
            <a:ext cx="592884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ого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4671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иф + кит + сера = документ, подтверждающий соответствие продукции и услуг установленным требованиям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929120"/>
            <a:ext cx="746712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00080" y="5357880"/>
            <a:ext cx="664344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ертифи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000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вора = продукт труда, предназначенный для обмена или продажи.</a:t>
            </a:r>
            <a:br>
              <a:rPr sz="3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5143680"/>
            <a:ext cx="7467120" cy="132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85920" y="5715000"/>
            <a:ext cx="6428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в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 u="sng" cap="small">
                <a:solidFill>
                  <a:srgbClr val="575f6d"/>
                </a:solidFill>
                <a:uFillTx/>
                <a:latin typeface="Century Schoolbook"/>
                <a:ea typeface="Arial"/>
              </a:rPr>
              <a:t>Цель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: формирование основ финансовой грамот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Обучающ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сегодня Вы познакомитесь с основными понятиямив области финансовой грамо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ы будете развивать внимание, речь, логическое мышление, умение анализировать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Воспитательн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Вы будете формировать культуру общения в коллектив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746712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4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ЧЕРНЫЙ ЯЩИ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1214280"/>
            <a:ext cx="74671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5. </a:t>
            </a:r>
            <a:br>
              <a:rPr sz="4800"/>
            </a:b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ЭКОНОМИЧЕСКИЕ РЕБУС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6" name="Рисунок 2" descr="hello_html_m60ad6ef1.png"/>
          <p:cNvPicPr/>
          <p:nvPr/>
        </p:nvPicPr>
        <p:blipFill>
          <a:blip r:embed="rId1"/>
          <a:stretch/>
        </p:blipFill>
        <p:spPr>
          <a:xfrm>
            <a:off x="428760" y="428760"/>
            <a:ext cx="8071920" cy="4860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714240" y="5572080"/>
            <a:ext cx="735768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9" name="Рисунок 1" descr="hello_html_m6a7bbdbe.png"/>
          <p:cNvPicPr/>
          <p:nvPr/>
        </p:nvPicPr>
        <p:blipFill>
          <a:blip r:embed="rId1"/>
          <a:stretch/>
        </p:blipFill>
        <p:spPr>
          <a:xfrm>
            <a:off x="500040" y="357120"/>
            <a:ext cx="7286400" cy="4725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3"/>
          <p:cNvSpPr/>
          <p:nvPr/>
        </p:nvSpPr>
        <p:spPr>
          <a:xfrm>
            <a:off x="642960" y="5429160"/>
            <a:ext cx="71434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62" name="Рисунок 4" descr="hello_html_49eb4919.png"/>
          <p:cNvPicPr/>
          <p:nvPr/>
        </p:nvPicPr>
        <p:blipFill>
          <a:blip r:embed="rId1"/>
          <a:stretch/>
        </p:blipFill>
        <p:spPr>
          <a:xfrm>
            <a:off x="857160" y="571680"/>
            <a:ext cx="7071840" cy="46638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1071720" y="5500800"/>
            <a:ext cx="664344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746712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6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Быль и сказка”</a:t>
            </a:r>
            <a:br>
              <a:rPr sz="3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Зада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714240" y="128592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конфеты и кондитерски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14240" y="257184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маленькая 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14240" y="3857760"/>
            <a:ext cx="764352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На своем пути она встречает хищного зв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714240" y="5143680"/>
            <a:ext cx="7571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Её путь лежит через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71" name="Рисунок 12" descr="hello_html_66a17269.png"/>
          <p:cNvPicPr/>
          <p:nvPr/>
        </p:nvPicPr>
        <p:blipFill>
          <a:blip r:embed="rId1"/>
          <a:stretch/>
        </p:blipFill>
        <p:spPr>
          <a:xfrm>
            <a:off x="0" y="-23760"/>
            <a:ext cx="4142880" cy="68814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hello_html_457575c0.jpg"/>
          <p:cNvPicPr/>
          <p:nvPr/>
        </p:nvPicPr>
        <p:blipFill>
          <a:blip r:embed="rId2"/>
          <a:stretch/>
        </p:blipFill>
        <p:spPr>
          <a:xfrm>
            <a:off x="3724200" y="57168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2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642960" y="1643040"/>
            <a:ext cx="78577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от сказочный герой рекламирует ков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642960" y="2857680"/>
            <a:ext cx="778644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т сказочный герой имеет друга-д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14324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жин живет в лам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714240" y="535788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Герой имеет очень много приклю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0" descr="hello_html_m7042c80e.jpg"/>
          <p:cNvPicPr/>
          <p:nvPr/>
        </p:nvPicPr>
        <p:blipFill>
          <a:blip r:embed="rId1"/>
          <a:stretch/>
        </p:blipFill>
        <p:spPr>
          <a:xfrm>
            <a:off x="0" y="357120"/>
            <a:ext cx="4060440" cy="61434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hello_html_m71ee1264.jpg"/>
          <p:cNvPicPr/>
          <p:nvPr/>
        </p:nvPicPr>
        <p:blipFill>
          <a:blip r:embed="rId2"/>
          <a:stretch/>
        </p:blipFill>
        <p:spPr>
          <a:xfrm>
            <a:off x="4572000" y="357120"/>
            <a:ext cx="4086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500040" y="357120"/>
            <a:ext cx="8000640" cy="557172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ермин </a:t>
            </a:r>
            <a:r>
              <a:rPr b="1" lang="ru-RU" sz="4800" spc="-1" strike="noStrike">
                <a:solidFill>
                  <a:srgbClr val="00b0f0"/>
                </a:solidFill>
                <a:latin typeface="Century Schoolbook"/>
                <a:ea typeface="Arial"/>
              </a:rPr>
              <a:t>finansia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озник в XIII-XV вв. и переводится с латинского как наличные средства, дох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642960" y="1714680"/>
            <a:ext cx="750060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и герои рекламирует лакокрасочные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642960" y="278604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История об этих героях основана на реальных соб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642960" y="40006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евиз этих героев “Один за всех и все за одно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14240" y="54291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Про них сняты не только мультфильмы, но и кино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8" descr="hello_html_2f62ed7b.jpg"/>
          <p:cNvPicPr/>
          <p:nvPr/>
        </p:nvPicPr>
        <p:blipFill>
          <a:blip r:embed="rId1"/>
          <a:stretch/>
        </p:blipFill>
        <p:spPr>
          <a:xfrm>
            <a:off x="214200" y="500040"/>
            <a:ext cx="4285800" cy="58575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hello_html_m4b0c0e64.jpg"/>
          <p:cNvPicPr/>
          <p:nvPr/>
        </p:nvPicPr>
        <p:blipFill>
          <a:blip r:embed="rId2"/>
          <a:stretch/>
        </p:blipFill>
        <p:spPr>
          <a:xfrm>
            <a:off x="4732200" y="1785960"/>
            <a:ext cx="3911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714240" y="1285920"/>
            <a:ext cx="750060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меховы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642960" y="29289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очень сурова, строга и хол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714240" y="421488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Ее время правления – это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714240" y="550080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Она совершает жестокий поступок по отношению к паре маленьких ре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6" descr="hello_html_m5c718e62.jpg"/>
          <p:cNvPicPr/>
          <p:nvPr/>
        </p:nvPicPr>
        <p:blipFill>
          <a:blip r:embed="rId1"/>
          <a:stretch/>
        </p:blipFill>
        <p:spPr>
          <a:xfrm>
            <a:off x="0" y="1000080"/>
            <a:ext cx="4468320" cy="41428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hello_html_m6e9614e0.jpg"/>
          <p:cNvPicPr/>
          <p:nvPr/>
        </p:nvPicPr>
        <p:blipFill>
          <a:blip r:embed="rId2"/>
          <a:stretch/>
        </p:blipFill>
        <p:spPr>
          <a:xfrm>
            <a:off x="4468680" y="1000080"/>
            <a:ext cx="4478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7. </a:t>
            </a:r>
            <a:br>
              <a:rPr sz="3000"/>
            </a:b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КОНКУРС-ИГРА “БЛИЦ - ОПРОС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Рисунок 14" descr="hello_html_m492eb721.jpg"/>
          <p:cNvPicPr/>
          <p:nvPr/>
        </p:nvPicPr>
        <p:blipFill>
          <a:blip r:embed="rId1"/>
          <a:stretch/>
        </p:blipFill>
        <p:spPr>
          <a:xfrm>
            <a:off x="500040" y="1643040"/>
            <a:ext cx="7714800" cy="44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ПОДВЕДЕНИЕ ИТОГОВ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571680" y="1357200"/>
            <a:ext cx="7786440" cy="1142640"/>
          </a:xfrm>
          <a:prstGeom prst="rect">
            <a:avLst/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entury Schoolbook"/>
                <a:ea typeface="Arial"/>
              </a:rPr>
              <a:t>Будьте внимательны к своим финансам и до новых встр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http://images.easyfreeclipart.com/227/14-owl-clip-art-for-teachers-free-cliparts-that-you-can-download-to--227153."/>
          <p:cNvPicPr/>
          <p:nvPr/>
        </p:nvPicPr>
        <p:blipFill>
          <a:blip r:embed="rId1"/>
          <a:stretch/>
        </p:blipFill>
        <p:spPr>
          <a:xfrm>
            <a:off x="2357280" y="2643120"/>
            <a:ext cx="38206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357120" y="285840"/>
            <a:ext cx="8214840" cy="621468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Финансовая грамотность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понимание основных финансовых понятий и использование этой информации для принятия разумных решений, способствующих благосостоянию люд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1. РАЗМИ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http://vality.ru/wp-content/uploads/2017/08/1-503.jpg"/>
          <p:cNvPicPr/>
          <p:nvPr/>
        </p:nvPicPr>
        <p:blipFill>
          <a:blip r:embed="rId1"/>
          <a:stretch/>
        </p:blipFill>
        <p:spPr>
          <a:xfrm>
            <a:off x="781200" y="1706400"/>
            <a:ext cx="725940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46712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2. . ЭКОНОМИЧЕСКАЯ ВИКТОРИНА “СКАЗКИ ПУШКИНА ГЛАЗАМИ ЭКОНОМИСТА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7643520" cy="42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Международные отношения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легация работников торговли, возвращаясь с международной ярмарки, нанесла визит правительству небольшого островного государства. Встреча прошла в теплой, дружеской обстановк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428760" y="5429160"/>
            <a:ext cx="7571880" cy="7138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На страже отечест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467120" cy="39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авительство намерено сократить расходы военно-промышленного комплекса, купив биологический наблюдательный прибор, реагирующий на приближающегося неприятел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золотом Пе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3. Вести из российской глубинк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российской провинции, пенсионер С. нашел оригинальный способ улучшения материального положения своей супруги. К сожалению, непомерные запросы последней привели к плачевным результата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285840" y="5572080"/>
            <a:ext cx="778644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рыбаке и золотой  ры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40</TotalTime>
  <Application>LibreOffice/7.4.7.2$Linux_X86_64 LibreOffice_project/40$Build-2</Application>
  <AppVersion>15.0000</AppVersion>
  <Paragraphs>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21:19:25Z</dcterms:created>
  <dc:creator>Admin</dc:creator>
  <dc:description/>
  <dc:language>en-US</dc:language>
  <cp:lastModifiedBy>Пользователь Windows</cp:lastModifiedBy>
  <dcterms:modified xsi:type="dcterms:W3CDTF">2023-09-28T08:48:01Z</dcterms:modified>
  <cp:revision>53</cp:revision>
  <dc:subject/>
  <dc:title>Интеллектуальная викторина по финансовой грамот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  <property fmtid="{D5CDD505-2E9C-101B-9397-08002B2CF9AE}" pid="4" name="_TemplateID">
    <vt:lpwstr>TC010184561049</vt:lpwstr>
  </property>
</Properties>
</file>