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DBF-AF78-4D77-8FD1-5BA9D8BE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373-2E2B-4739-B614-E6E65A70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03A-7423-4283-A222-948ACC1C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5A5-3D6F-4622-A6C4-66A31594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DD960-D876-4E57-B69D-09741DD0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43DC8-078D-4A1B-934C-A24B01E7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4CBD5-28EC-468C-B207-D010BF69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9ECDB-2223-4578-A1C0-12DEA892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A0D29-9F03-406C-B89B-F26DE392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9BB57-B4AB-421D-A635-E06DEA2E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B35E4-AC99-4F1C-BDC7-870F40A3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5E4-3D59-48C1-9966-40D7F577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CC9C6-D4DE-4C0B-9044-36CA7BD7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427BC-7112-4595-96A9-D04C4581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E10A9-402E-43DA-A92C-95100415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D7F05-6696-4A97-B896-41FCC8CF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93FFD-C370-453A-8884-D4493577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C78A3-A31E-41C4-822E-23F2CE7C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8D828-F44A-4C6E-9121-578632C3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40B6F-9332-443E-9BF3-FE64A49A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51E89-D445-46CA-82BB-ACBF7C38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A197C-471B-4D2C-972B-1350D58B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508-0FD5-4E0E-A113-D0619576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28F7F-A23E-497E-8CC4-CCAF3541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DE53B-2739-4D37-AD6F-92DC4B5A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C0A7C-3EAD-4341-BD47-2A6D87EA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C2A91-6308-4978-AFE1-3EB01737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2CCFD-77D1-4547-BE7B-6D0C8436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8FB08-65CD-4D2C-BAB4-F5529CE5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EB5B9-A883-49B1-8052-919AB2C2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8DF5E-452D-47F0-9380-C54F2A35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156F-7675-4C75-9C18-B7C14CBD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5BBCA-9DEC-4454-8572-F2D03B3F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8A2-BE1D-42FF-9FA5-F766F916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B7FF-E9B8-45F3-90E3-B2CC2EE0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0F86-5EFB-4FCF-9F29-6074AC99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AEC9B-A13D-49D3-8232-8B90C5E2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3B82-C1B4-4CDB-B59E-6507A2A9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006A-7B20-49B5-B352-EDEE0E4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F7184-6773-439C-9E3E-2510B4F4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EFEE4-6BEE-46FB-BB9C-B8D916DA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A5E9-6983-4939-9C24-D65FEA47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8C5F-5452-4889-867B-24B39E9F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F16-291B-489E-B6BC-54D8322F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96B-FE1C-4E61-9E03-29392184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38C-EF4A-46C4-9047-A2EC3141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BA7-E4B9-4A2C-BAC8-17059F14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89E-29CE-489A-920D-2AF33E1E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9000" cy="54900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6" name="Прямоугольник 12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7" name="Прямоугольник 14"/>
          <p:cNvSpPr/>
          <p:nvPr/>
        </p:nvSpPr>
        <p:spPr>
          <a:xfrm>
            <a:off x="27612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990720" y="0"/>
            <a:ext cx="18216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9" name="Прямоугольник 17"/>
          <p:cNvSpPr/>
          <p:nvPr/>
        </p:nvSpPr>
        <p:spPr>
          <a:xfrm>
            <a:off x="1141560" y="0"/>
            <a:ext cx="22968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0" name="Прямая соединительная линия 18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" name="Прямая соединительная линия 19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" name="Прямая соединительная линия 20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" name="Прямая соединительная линия 23"/>
          <p:cNvSpPr/>
          <p:nvPr/>
        </p:nvSpPr>
        <p:spPr>
          <a:xfrm>
            <a:off x="172692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" name="Прямая соединительная линия 2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" name="Прямая соединительная линия 25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7" name="Овал 27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8" name="Овал 28"/>
          <p:cNvSpPr/>
          <p:nvPr/>
        </p:nvSpPr>
        <p:spPr>
          <a:xfrm>
            <a:off x="1309680" y="486720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9" name="Овал 29"/>
          <p:cNvSpPr/>
          <p:nvPr/>
        </p:nvSpPr>
        <p:spPr>
          <a:xfrm>
            <a:off x="1090440" y="5500800"/>
            <a:ext cx="137880" cy="13608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20" name="Овал 30"/>
          <p:cNvSpPr/>
          <p:nvPr/>
        </p:nvSpPr>
        <p:spPr>
          <a:xfrm>
            <a:off x="1663560" y="5788080"/>
            <a:ext cx="274320" cy="27432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21" name="Овал 31"/>
          <p:cNvSpPr/>
          <p:nvPr/>
        </p:nvSpPr>
        <p:spPr>
          <a:xfrm>
            <a:off x="1905120" y="4495680"/>
            <a:ext cx="364680" cy="36468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 rot="5400000">
            <a:off x="7764840" y="117468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912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5BE1BB49-8B00-4401-AF45-D632C9F558D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9000" cy="54900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  <a:ea typeface="Arial"/>
              </a:rPr>
              <a:t>Второй уровень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9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00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100000"/>
              </a:lnSpc>
              <a:spcBef>
                <a:spcPts val="320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09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12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41A96AB8-103B-4037-88A8-6935735571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120" y="373716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000" cy="54900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09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12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ADF7140B-F7D3-4B75-8C4F-0CADAA0F54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9"/>
          </p:nvPr>
        </p:nvSpPr>
        <p:spPr>
          <a:xfrm rot="5400000">
            <a:off x="6990120" y="373716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000" cy="54900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09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1"/>
          </p:nvPr>
        </p:nvSpPr>
        <p:spPr>
          <a:xfrm rot="5400000">
            <a:off x="6990120" y="373716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2"/>
          </p:nvPr>
        </p:nvSpPr>
        <p:spPr>
          <a:xfrm>
            <a:off x="8129520" y="5734080"/>
            <a:ext cx="60912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586676BF-D3C2-40BC-A089-FA7183FBBF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3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Интеллектуальная игра </a:t>
            </a:r>
            <a:br>
              <a:rPr sz="3600"/>
            </a:br>
            <a:r>
              <a:rPr b="1" lang="ru-RU" sz="36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«Финансовая грамотность – это весело!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6578280" cy="28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4. О налогах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43480" cy="311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Местный священник организовал отдел налоговой полиции, единственный работник которой проследил за своевременной сдачей налога у самой неорганизованной части насел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500040" y="5572080"/>
            <a:ext cx="757188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попе и его работнике Бал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5. Внимание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15120" cy="3614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В продаже появились фальсифицированные фрукты, употребление которых приводит к негативным последствиям, таким, как продолжительный летаргический сон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режде, чем приобретать фрукты, требуйте сертификат соответствия и лицензию на право торговл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500040" y="5572080"/>
            <a:ext cx="757188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мертвой царевне и о семи богатыр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6. Проблемы молодеж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6400" cy="3971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оциологический опрос молодых девушек показал, что одна треть опрошенных решила сделать карьеру в области общественного питания, одна треть - посвятить себя ткацкому делу, остальные же надеются на удачное замужество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500040" y="5572080"/>
            <a:ext cx="7571880" cy="6426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царе Сал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4240" y="1285920"/>
            <a:ext cx="74671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 </a:t>
            </a:r>
            <a:br>
              <a:rPr sz="4400"/>
            </a:br>
            <a:r>
              <a:rPr b="1" lang="ru-RU" sz="4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3. </a:t>
            </a:r>
            <a:br>
              <a:rPr sz="4400"/>
            </a:br>
            <a:r>
              <a:rPr b="1" lang="ru-RU" sz="4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ИГРА “ПЕРЕСТАНОВКА”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46712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 </a:t>
            </a:r>
            <a:br>
              <a:rPr sz="3000"/>
            </a:br>
            <a:r>
              <a:rPr b="1" lang="ru-RU" sz="36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1. Нырок = место купли-продажи товаров и услуг, заключения торговых сделок.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3214800"/>
            <a:ext cx="7467120" cy="32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500120" y="4857840"/>
            <a:ext cx="4785840" cy="8568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Ры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467120" cy="42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2. Лак + мера = информация о продукте, имеющая целью его продвижение на рынок.</a:t>
            </a:r>
            <a:br>
              <a:rPr sz="3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4857840"/>
            <a:ext cx="7467120" cy="16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1643040" y="5429160"/>
            <a:ext cx="5571720" cy="10713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Рекл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357760" cy="42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3600"/>
            </a:br>
            <a:br>
              <a:rPr sz="3600"/>
            </a:br>
            <a:r>
              <a:rPr b="1" lang="ru-RU" sz="4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Тесто + мир + сан = набор одноимённой продукции (услуг), конкретизируемой по наименованиям, видам, сортам и т.д</a:t>
            </a:r>
            <a:r>
              <a:rPr b="0" lang="ru-RU" sz="4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br>
              <a:rPr sz="3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714760"/>
            <a:ext cx="7467120" cy="37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1285920" y="5214960"/>
            <a:ext cx="6143400" cy="1213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Ассорт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14356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Овод + рог = добровольное соглашение двух или нескольких лиц, заключаемое на предмет выполнения каждым из них принимаемых обязательств по отношению к другим участникам.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4429080"/>
            <a:ext cx="746712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500120" y="4714920"/>
            <a:ext cx="5928840" cy="11426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огов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4671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Тиф + кит + сера = документ, подтверждающий соответствие продукции и услуг установленным требованиям.</a:t>
            </a:r>
            <a:br>
              <a:rPr sz="3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929120"/>
            <a:ext cx="746712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00080" y="5357880"/>
            <a:ext cx="6643440" cy="10713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ертифи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000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Твора = продукт труда, предназначенный для обмена или продажи.</a:t>
            </a:r>
            <a:br>
              <a:rPr sz="3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5143680"/>
            <a:ext cx="7467120" cy="132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85920" y="5715000"/>
            <a:ext cx="6428880" cy="7855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Тов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6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38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ru-RU" sz="3000" spc="-1" strike="noStrike" u="sng" cap="small">
                <a:solidFill>
                  <a:srgbClr val="575f6d"/>
                </a:solidFill>
                <a:uFillTx/>
                <a:latin typeface="Century Schoolbook"/>
                <a:ea typeface="Arial"/>
              </a:rPr>
              <a:t>Цель</a:t>
            </a: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: формирование основ финансовой грамот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Обучающа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: сегодня Вы познакомитесь с основными понятиямив области финансовой грамот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Развивающая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Вы будете развивать внимание, речь, логическое мышление, умение анализировать информа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Воспитательна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: Вы будете формировать культуру общения в коллектив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1714680"/>
            <a:ext cx="7467120" cy="23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4. </a:t>
            </a:r>
            <a:br>
              <a:rPr sz="5400"/>
            </a:br>
            <a:r>
              <a:rPr b="1" lang="ru-RU" sz="5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ИГРА “ЧЕРНЫЙ ЯЩИК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1214280"/>
            <a:ext cx="746712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5. </a:t>
            </a:r>
            <a:br>
              <a:rPr sz="4800"/>
            </a:br>
            <a:r>
              <a:rPr b="1" lang="ru-RU" sz="48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ЭКОНОМИЧЕСКИЕ РЕБУС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pic>
        <p:nvPicPr>
          <p:cNvPr id="256" name="Рисунок 2" descr="hello_html_m60ad6ef1.png"/>
          <p:cNvPicPr/>
          <p:nvPr/>
        </p:nvPicPr>
        <p:blipFill>
          <a:blip r:embed="rId1"/>
          <a:stretch/>
        </p:blipFill>
        <p:spPr>
          <a:xfrm>
            <a:off x="428760" y="428760"/>
            <a:ext cx="8071920" cy="48607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5"/>
          <p:cNvSpPr/>
          <p:nvPr/>
        </p:nvSpPr>
        <p:spPr>
          <a:xfrm>
            <a:off x="714240" y="5572080"/>
            <a:ext cx="7357680" cy="8568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обств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pic>
        <p:nvPicPr>
          <p:cNvPr id="259" name="Рисунок 1" descr="hello_html_m6a7bbdbe.png"/>
          <p:cNvPicPr/>
          <p:nvPr/>
        </p:nvPicPr>
        <p:blipFill>
          <a:blip r:embed="rId1"/>
          <a:stretch/>
        </p:blipFill>
        <p:spPr>
          <a:xfrm>
            <a:off x="500040" y="357120"/>
            <a:ext cx="7286400" cy="47257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3"/>
          <p:cNvSpPr/>
          <p:nvPr/>
        </p:nvSpPr>
        <p:spPr>
          <a:xfrm>
            <a:off x="642960" y="5429160"/>
            <a:ext cx="714348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ень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pic>
        <p:nvPicPr>
          <p:cNvPr id="262" name="Рисунок 4" descr="hello_html_49eb4919.png"/>
          <p:cNvPicPr/>
          <p:nvPr/>
        </p:nvPicPr>
        <p:blipFill>
          <a:blip r:embed="rId1"/>
          <a:stretch/>
        </p:blipFill>
        <p:spPr>
          <a:xfrm>
            <a:off x="857160" y="571680"/>
            <a:ext cx="7071840" cy="46638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3"/>
          <p:cNvSpPr/>
          <p:nvPr/>
        </p:nvSpPr>
        <p:spPr>
          <a:xfrm>
            <a:off x="1071720" y="5500800"/>
            <a:ext cx="6643440" cy="7855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0040" y="1428840"/>
            <a:ext cx="7467120" cy="35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6. </a:t>
            </a:r>
            <a:br>
              <a:rPr sz="5400"/>
            </a:br>
            <a:r>
              <a:rPr b="1" lang="ru-RU" sz="5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Игра “Быль и сказка”</a:t>
            </a:r>
            <a:br>
              <a:rPr sz="3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1. Задани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714240" y="1285920"/>
            <a:ext cx="764352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Эта сказочная героиня рекламирует конфеты и кондитерские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714240" y="2571840"/>
            <a:ext cx="764352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Это сказочная героиня маленькая дев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714240" y="3857760"/>
            <a:ext cx="764352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На своем пути она встречает хищного зв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714240" y="5143680"/>
            <a:ext cx="7571880" cy="7855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Её путь лежит через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pic>
        <p:nvPicPr>
          <p:cNvPr id="271" name="Рисунок 12" descr="hello_html_66a17269.png"/>
          <p:cNvPicPr/>
          <p:nvPr/>
        </p:nvPicPr>
        <p:blipFill>
          <a:blip r:embed="rId1"/>
          <a:stretch/>
        </p:blipFill>
        <p:spPr>
          <a:xfrm>
            <a:off x="0" y="-23760"/>
            <a:ext cx="4142880" cy="68814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1" descr="hello_html_457575c0.jpg"/>
          <p:cNvPicPr/>
          <p:nvPr/>
        </p:nvPicPr>
        <p:blipFill>
          <a:blip r:embed="rId2"/>
          <a:stretch/>
        </p:blipFill>
        <p:spPr>
          <a:xfrm>
            <a:off x="3724200" y="571680"/>
            <a:ext cx="50004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Задание 2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642960" y="1643040"/>
            <a:ext cx="785772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Этот сказочный герой рекламирует ков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642960" y="2857680"/>
            <a:ext cx="778644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Этот сказочный герой имеет друга-дж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714240" y="4143240"/>
            <a:ext cx="77148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Джин живет в лам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5"/>
          <p:cNvSpPr/>
          <p:nvPr/>
        </p:nvSpPr>
        <p:spPr>
          <a:xfrm>
            <a:off x="714240" y="5357880"/>
            <a:ext cx="77148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Герой имеет очень много приклю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10" descr="hello_html_m7042c80e.jpg"/>
          <p:cNvPicPr/>
          <p:nvPr/>
        </p:nvPicPr>
        <p:blipFill>
          <a:blip r:embed="rId1"/>
          <a:stretch/>
        </p:blipFill>
        <p:spPr>
          <a:xfrm>
            <a:off x="0" y="357120"/>
            <a:ext cx="4060440" cy="614340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9" descr="hello_html_m71ee1264.jpg"/>
          <p:cNvPicPr/>
          <p:nvPr/>
        </p:nvPicPr>
        <p:blipFill>
          <a:blip r:embed="rId2"/>
          <a:stretch/>
        </p:blipFill>
        <p:spPr>
          <a:xfrm>
            <a:off x="4572000" y="357120"/>
            <a:ext cx="40860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sp>
        <p:nvSpPr>
          <p:cNvPr id="209" name="Прямоугольник 10"/>
          <p:cNvSpPr/>
          <p:nvPr/>
        </p:nvSpPr>
        <p:spPr>
          <a:xfrm>
            <a:off x="500040" y="357120"/>
            <a:ext cx="8000640" cy="5571720"/>
          </a:xfrm>
          <a:prstGeom prst="rect">
            <a:avLst/>
          </a:prstGeom>
          <a:solidFill>
            <a:schemeClr val="bg2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Термин </a:t>
            </a:r>
            <a:r>
              <a:rPr b="1" lang="ru-RU" sz="4800" spc="-1" strike="noStrike">
                <a:solidFill>
                  <a:srgbClr val="00b0f0"/>
                </a:solidFill>
                <a:latin typeface="Century Schoolbook"/>
                <a:ea typeface="Arial"/>
              </a:rPr>
              <a:t>finansia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 возник в XIII-XV вв. и переводится с латинского как наличные средства, дох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Задание 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642960" y="1714680"/>
            <a:ext cx="750060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Эти герои рекламирует лакокрасочные из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642960" y="278604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История об этих героях основана на реальных событ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642960" y="4000680"/>
            <a:ext cx="757188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Девиз этих героев “Один за всех и все за одного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714240" y="542916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Про них сняты не только мультфильмы, но и кинофиль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8" descr="hello_html_2f62ed7b.jpg"/>
          <p:cNvPicPr/>
          <p:nvPr/>
        </p:nvPicPr>
        <p:blipFill>
          <a:blip r:embed="rId1"/>
          <a:stretch/>
        </p:blipFill>
        <p:spPr>
          <a:xfrm>
            <a:off x="214200" y="500040"/>
            <a:ext cx="4285800" cy="58575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7" descr="hello_html_m4b0c0e64.jpg"/>
          <p:cNvPicPr/>
          <p:nvPr/>
        </p:nvPicPr>
        <p:blipFill>
          <a:blip r:embed="rId2"/>
          <a:stretch/>
        </p:blipFill>
        <p:spPr>
          <a:xfrm>
            <a:off x="4732200" y="1785960"/>
            <a:ext cx="391140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Задание 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714240" y="1285920"/>
            <a:ext cx="7500600" cy="11426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Эта сказочная героиня рекламирует меховые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"/>
          <p:cNvSpPr/>
          <p:nvPr/>
        </p:nvSpPr>
        <p:spPr>
          <a:xfrm>
            <a:off x="642960" y="292896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Это сказочная героиня очень сурова, строга и хол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4"/>
          <p:cNvSpPr/>
          <p:nvPr/>
        </p:nvSpPr>
        <p:spPr>
          <a:xfrm>
            <a:off x="714240" y="421488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Ее время правления – это з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714240" y="550080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Она совершает жестокий поступок по отношению к паре маленьких реб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6" descr="hello_html_m5c718e62.jpg"/>
          <p:cNvPicPr/>
          <p:nvPr/>
        </p:nvPicPr>
        <p:blipFill>
          <a:blip r:embed="rId1"/>
          <a:stretch/>
        </p:blipFill>
        <p:spPr>
          <a:xfrm>
            <a:off x="0" y="1000080"/>
            <a:ext cx="4468320" cy="414288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5" descr="hello_html_m6e9614e0.jpg"/>
          <p:cNvPicPr/>
          <p:nvPr/>
        </p:nvPicPr>
        <p:blipFill>
          <a:blip r:embed="rId2"/>
          <a:stretch/>
        </p:blipFill>
        <p:spPr>
          <a:xfrm>
            <a:off x="4468680" y="1000080"/>
            <a:ext cx="4478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РАУНД №7. </a:t>
            </a:r>
            <a:br>
              <a:rPr sz="3000"/>
            </a:b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КОНКУРС-ИГРА “БЛИЦ - ОПРОС”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Рисунок 14" descr="hello_html_m492eb721.jpg"/>
          <p:cNvPicPr/>
          <p:nvPr/>
        </p:nvPicPr>
        <p:blipFill>
          <a:blip r:embed="rId1"/>
          <a:stretch/>
        </p:blipFill>
        <p:spPr>
          <a:xfrm>
            <a:off x="500040" y="1643040"/>
            <a:ext cx="7714800" cy="44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ПОДВЕДЕНИЕ ИТОГОВ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571680" y="1357200"/>
            <a:ext cx="7786440" cy="1142640"/>
          </a:xfrm>
          <a:prstGeom prst="rect">
            <a:avLst/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chemeClr val="lt1"/>
                </a:solidFill>
                <a:latin typeface="Century Schoolbook"/>
                <a:ea typeface="Arial"/>
              </a:rPr>
              <a:t>Будьте внимательны к своим финансам и до новых встреч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http://images.easyfreeclipart.com/227/14-owl-clip-art-for-teachers-free-cliparts-that-you-can-download-to--227153."/>
          <p:cNvPicPr/>
          <p:nvPr/>
        </p:nvPicPr>
        <p:blipFill>
          <a:blip r:embed="rId1"/>
          <a:stretch/>
        </p:blipFill>
        <p:spPr>
          <a:xfrm>
            <a:off x="2357280" y="2643120"/>
            <a:ext cx="382068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sp>
        <p:nvSpPr>
          <p:cNvPr id="211" name="Прямоугольник 10"/>
          <p:cNvSpPr/>
          <p:nvPr/>
        </p:nvSpPr>
        <p:spPr>
          <a:xfrm>
            <a:off x="357120" y="285840"/>
            <a:ext cx="8214840" cy="6214680"/>
          </a:xfrm>
          <a:prstGeom prst="rect">
            <a:avLst/>
          </a:prstGeom>
          <a:solidFill>
            <a:schemeClr val="bg2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Финансовая грамотность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– понимание основных финансовых понятий и использование этой информации для принятия разумных решений, способствующих благосостоянию люд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1. РАЗМИ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http://vality.ru/wp-content/uploads/2017/08/1-503.jpg"/>
          <p:cNvPicPr/>
          <p:nvPr/>
        </p:nvPicPr>
        <p:blipFill>
          <a:blip r:embed="rId1"/>
          <a:stretch/>
        </p:blipFill>
        <p:spPr>
          <a:xfrm>
            <a:off x="781200" y="1706400"/>
            <a:ext cx="7259400" cy="40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46712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РАУНД №2. . ЭКОНОМИЧЕСКАЯ ВИКТОРИНА “СКАЗКИ ПУШКИНА ГЛАЗАМИ ЭКОНОМИСТА”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7643520" cy="42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1. Международные отношения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елегация работников торговли, возвращаясь с международной ярмарки, нанесла визит правительству небольшого островного государства. Встреча прошла в теплой, дружеской обстановк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428760" y="5429160"/>
            <a:ext cx="7571880" cy="7138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2. На страже отечества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467120" cy="39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равительство намерено сократить расходы военно-промышленного комплекса, купив биологический наблюдательный прибор, реагирующий на приближающегося неприятеля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500040" y="5572080"/>
            <a:ext cx="7571880" cy="6426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золотом Пет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3. Вести из российской глубинки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В российской провинции, пенсионер С. нашел оригинальный способ улучшения материального положения своей супруги. К сожалению, непомерные запросы последней привели к плачевным результата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285840" y="5572080"/>
            <a:ext cx="7786440" cy="6426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рыбаке и золотой  рыб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440</TotalTime>
  <Application>LibreOffice/7.4.7.2$Linux_X86_64 LibreOffice_project/40$Build-2</Application>
  <AppVersion>15.0000</AppVersion>
  <Paragraphs>71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21:19:25Z</dcterms:created>
  <dc:creator>Admin</dc:creator>
  <dc:description/>
  <dc:language>en-US</dc:language>
  <cp:lastModifiedBy>Пользователь Windows</cp:lastModifiedBy>
  <dcterms:modified xsi:type="dcterms:W3CDTF">2023-09-28T08:48:01Z</dcterms:modified>
  <cp:revision>53</cp:revision>
  <dc:subject/>
  <dc:title>Интеллектуальная викторина по финансовой грамот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6</vt:r8>
  </property>
  <property fmtid="{D5CDD505-2E9C-101B-9397-08002B2CF9AE}" pid="4" name="_TemplateID">
    <vt:lpwstr>TC010184561049</vt:lpwstr>
  </property>
</Properties>
</file>