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FC5-8659-469C-AD35-61295C36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77D-332D-497B-B56F-25DB7164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453-9456-4262-9106-4DDC4C46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EF2-44E6-42ED-AF3B-8845FB50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FE9-6123-452D-A1FA-85229672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F86-FBDD-465D-B7D9-19E92202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13E-DAEE-4D29-970E-993EE1B9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AB4-34EB-4DF2-8960-2F296FA1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122480"/>
            <a:ext cx="77720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85E-67A1-4681-B254-9C163587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D61-CE40-443C-9211-1C1D4F91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915-48C9-46C9-8CC3-2BB5EEA4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24B-3038-49B7-865E-DDE097A0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  <a:ea typeface="Arial"/>
              </a:rPr>
              <a:t>Образец заголов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08F18A3-5985-4520-918B-2F855C1B92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7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7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6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  <a:ea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6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6</TotalTime>
  <Application>LibreOffice/7.4.7.2$Linux_X86_64 LibreOffice_project/40$Build-2</Application>
  <AppVersion>15.0000</AppVersion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5T13:39:20Z</dcterms:created>
  <dc:creator>Виталий Петренко</dc:creator>
  <dc:description/>
  <dc:language>en-US</dc:language>
  <cp:lastModifiedBy>User_1</cp:lastModifiedBy>
  <dcterms:modified xsi:type="dcterms:W3CDTF">2023-09-28T08:57:41Z</dcterms:modified>
  <cp:revision>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2</vt:r8>
  </property>
</Properties>
</file>