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D2A-B903-45B4-B617-CC7D0264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14AD-C3EC-4AFB-B9E2-2128829D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574-0B33-41C8-8E0F-9FB59005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580E-AF8F-4FE0-AB31-64D3B938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8305-0CF0-402A-B69B-1746E8D8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C177-3226-4E8E-BEBC-B648EBD8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E4A-3437-4092-AE37-BB4BE944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AEC0-8DE3-474D-9D64-48B1A44E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122480"/>
            <a:ext cx="77720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D15-AA64-4E19-866C-117E39D8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C6A5-FFD2-44B7-9DB0-112E2CE2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67F-6587-4D23-973F-20B50630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28CE-268F-4EF4-84B9-F7964873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  <a:ea typeface="Arial"/>
              </a:rPr>
              <a:t>Образец заголов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63194D8-DAEE-4F04-ABCB-F7C131B3D8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68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7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7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4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6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6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6</TotalTime>
  <Application>LibreOffice/7.4.7.2$Linux_X86_64 LibreOffice_project/40$Build-2</Application>
  <AppVersion>15.0000</AppVersion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5T13:39:20Z</dcterms:created>
  <dc:creator>Виталий Петренко</dc:creator>
  <dc:description/>
  <dc:language>en-US</dc:language>
  <cp:lastModifiedBy>User_1</cp:lastModifiedBy>
  <dcterms:modified xsi:type="dcterms:W3CDTF">2023-09-28T08:57:41Z</dcterms:modified>
  <cp:revision>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2</vt:r8>
  </property>
</Properties>
</file>