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092-BBDF-4740-9463-883CF08A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21A-AB77-4A64-8C00-34D7B420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721-FED5-41EB-9F88-38D79B45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08E-A37F-4711-B8C7-987B7560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9E4-CC5E-4A19-80F4-B5D0FB34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831-8E30-46E2-A848-188268E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A43-BD8D-4B1D-BFA2-3281CB57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D9A-7BFA-4CFC-81D1-B618A36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122480"/>
            <a:ext cx="77720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6A8-A0AF-4FD1-9CBF-D2E86FE6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218-854E-41DF-A0C9-606E67CD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7AE-198A-44AB-8721-0497F20F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3A6-F682-4361-A30B-076671CD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  <a:ea typeface="Arial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1CE11E4-2C0F-49A7-8600-E43A01B95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6</TotalTime>
  <Application>LibreOffice/7.4.7.2$Linux_X86_64 LibreOffice_project/40$Build-2</Application>
  <AppVersion>15.0000</AppVersion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5T13:39:20Z</dcterms:created>
  <dc:creator>Виталий Петренко</dc:creator>
  <dc:description/>
  <dc:language>en-US</dc:language>
  <cp:lastModifiedBy>User_1</cp:lastModifiedBy>
  <dcterms:modified xsi:type="dcterms:W3CDTF">2023-09-28T08:57:41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