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A5A-8D50-48DE-AC1C-16609978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9AF4-426F-40B0-B6D1-8CD332C5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9DB-EE56-4958-BC95-B5332B3F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78FE-29EA-4670-8D2D-3AD09012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3C7-602D-4595-9CAA-5A4E6545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4116-85F9-4FFA-8DF8-3E78F95E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D5AC-BD23-47BC-97EF-67622C65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5C0-F1BB-465B-833E-F9F01C53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670-67D6-4E8A-9275-0752BC1C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DF48-F7DA-4B0E-8F0F-E872B95A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55C-ECDE-42B6-B1A4-76D0B00B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C0D2-C245-45ED-843E-000BE7F5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A091-E793-4503-BC87-636D3748949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3600" y="1302840"/>
            <a:ext cx="8172360" cy="19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dventure"/>
              </a:rPr>
              <a:t>Зимние чудеса.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78120" y="3429000"/>
            <a:ext cx="664200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Зимние ритмические загадки для дошкольников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езентацию подготовила музыкальный руководитель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ДОУ  «Детский сад №14 «Ромашка» г. Белореченска Дмитриева Л.В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40960" y="4427640"/>
            <a:ext cx="75502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МОТРИ, пароВОЗ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АГОны  поВЁЗ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1" descr="C:\Documents and Settings\Admin\Рабочий стол\oooo.png"/>
          <p:cNvPicPr/>
          <p:nvPr/>
        </p:nvPicPr>
        <p:blipFill>
          <a:blip r:embed="rId1"/>
          <a:stretch/>
        </p:blipFill>
        <p:spPr>
          <a:xfrm>
            <a:off x="4325760" y="1257480"/>
            <a:ext cx="1555920" cy="1271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" descr="C:\Documents and Settings\Admin\Рабочий стол\oooo.png"/>
          <p:cNvPicPr/>
          <p:nvPr/>
        </p:nvPicPr>
        <p:blipFill>
          <a:blip r:embed="rId2"/>
          <a:stretch/>
        </p:blipFill>
        <p:spPr>
          <a:xfrm>
            <a:off x="5226120" y="1463760"/>
            <a:ext cx="1555560" cy="1270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" descr="C:\Documents and Settings\Admin\Рабочий стол\oooo.png"/>
          <p:cNvPicPr/>
          <p:nvPr/>
        </p:nvPicPr>
        <p:blipFill>
          <a:blip r:embed="rId3"/>
          <a:stretch/>
        </p:blipFill>
        <p:spPr>
          <a:xfrm>
            <a:off x="96840" y="846000"/>
            <a:ext cx="2179800" cy="178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" descr="C:\Documents and Settings\Admin\Рабочий стол\oooo.png"/>
          <p:cNvPicPr/>
          <p:nvPr/>
        </p:nvPicPr>
        <p:blipFill>
          <a:blip r:embed="rId4"/>
          <a:stretch/>
        </p:blipFill>
        <p:spPr>
          <a:xfrm>
            <a:off x="2073240" y="882720"/>
            <a:ext cx="2252520" cy="1841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" descr="C:\Documents and Settings\Admin\Рабочий стол\oooo.png"/>
          <p:cNvPicPr/>
          <p:nvPr/>
        </p:nvPicPr>
        <p:blipFill>
          <a:blip r:embed="rId5"/>
          <a:stretch/>
        </p:blipFill>
        <p:spPr>
          <a:xfrm>
            <a:off x="6391440" y="893880"/>
            <a:ext cx="2252520" cy="1839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" descr="C:\Documents and Settings\Admin\Рабочий стол\oooo.png"/>
          <p:cNvPicPr/>
          <p:nvPr/>
        </p:nvPicPr>
        <p:blipFill>
          <a:blip r:embed="rId6"/>
          <a:stretch/>
        </p:blipFill>
        <p:spPr>
          <a:xfrm>
            <a:off x="4325760" y="3035160"/>
            <a:ext cx="1555920" cy="1271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" descr="C:\Documents and Settings\Admin\Рабочий стол\oooo.png"/>
          <p:cNvPicPr/>
          <p:nvPr/>
        </p:nvPicPr>
        <p:blipFill>
          <a:blip r:embed="rId7"/>
          <a:stretch/>
        </p:blipFill>
        <p:spPr>
          <a:xfrm>
            <a:off x="5226120" y="3243240"/>
            <a:ext cx="1555560" cy="1271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" descr="C:\Documents and Settings\Admin\Рабочий стол\oooo.png"/>
          <p:cNvPicPr/>
          <p:nvPr/>
        </p:nvPicPr>
        <p:blipFill>
          <a:blip r:embed="rId8"/>
          <a:stretch/>
        </p:blipFill>
        <p:spPr>
          <a:xfrm>
            <a:off x="101520" y="2733840"/>
            <a:ext cx="2179800" cy="178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C:\Documents and Settings\Admin\Рабочий стол\oooo.png"/>
          <p:cNvPicPr/>
          <p:nvPr/>
        </p:nvPicPr>
        <p:blipFill>
          <a:blip r:embed="rId9"/>
          <a:stretch/>
        </p:blipFill>
        <p:spPr>
          <a:xfrm>
            <a:off x="2120760" y="2724120"/>
            <a:ext cx="2252880" cy="18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" descr="C:\Documents and Settings\Admin\Рабочий стол\oooo.png"/>
          <p:cNvPicPr/>
          <p:nvPr/>
        </p:nvPicPr>
        <p:blipFill>
          <a:blip r:embed="rId10"/>
          <a:stretch/>
        </p:blipFill>
        <p:spPr>
          <a:xfrm>
            <a:off x="6526080" y="2751120"/>
            <a:ext cx="2252880" cy="1839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81200" y="437508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чатся сани по ухабам,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ед мороз спешит к ребятам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4" descr="http://lenagold.narod.ru/fon/clipart/n/nogo/novgod278.png"/>
          <p:cNvPicPr/>
          <p:nvPr/>
        </p:nvPicPr>
        <p:blipFill>
          <a:blip r:embed="rId1"/>
          <a:stretch/>
        </p:blipFill>
        <p:spPr>
          <a:xfrm>
            <a:off x="304920" y="1177920"/>
            <a:ext cx="1207800" cy="820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http://lenagold.narod.ru/fon/clipart/n/nogo/novgod278.png"/>
          <p:cNvPicPr/>
          <p:nvPr/>
        </p:nvPicPr>
        <p:blipFill>
          <a:blip r:embed="rId2"/>
          <a:stretch/>
        </p:blipFill>
        <p:spPr>
          <a:xfrm>
            <a:off x="1042920" y="158904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ttp://lenagold.narod.ru/fon/clipart/n/nogo/novgod278.png"/>
          <p:cNvPicPr/>
          <p:nvPr/>
        </p:nvPicPr>
        <p:blipFill>
          <a:blip r:embed="rId3"/>
          <a:stretch/>
        </p:blipFill>
        <p:spPr>
          <a:xfrm>
            <a:off x="2548080" y="1177920"/>
            <a:ext cx="1207800" cy="820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http://lenagold.narod.ru/fon/clipart/n/nogo/novgod278.png"/>
          <p:cNvPicPr/>
          <p:nvPr/>
        </p:nvPicPr>
        <p:blipFill>
          <a:blip r:embed="rId4"/>
          <a:stretch/>
        </p:blipFill>
        <p:spPr>
          <a:xfrm>
            <a:off x="3432240" y="154944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http://lenagold.narod.ru/fon/clipart/n/nogo/novgod278.png"/>
          <p:cNvPicPr/>
          <p:nvPr/>
        </p:nvPicPr>
        <p:blipFill>
          <a:blip r:embed="rId5"/>
          <a:stretch/>
        </p:blipFill>
        <p:spPr>
          <a:xfrm>
            <a:off x="4522680" y="117792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http://lenagold.narod.ru/fon/clipart/n/nogo/novgod278.png"/>
          <p:cNvPicPr/>
          <p:nvPr/>
        </p:nvPicPr>
        <p:blipFill>
          <a:blip r:embed="rId6"/>
          <a:stretch/>
        </p:blipFill>
        <p:spPr>
          <a:xfrm>
            <a:off x="5280120" y="1535040"/>
            <a:ext cx="1206360" cy="82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http://lenagold.narod.ru/fon/clipart/n/nogo/novgod278.png"/>
          <p:cNvPicPr/>
          <p:nvPr/>
        </p:nvPicPr>
        <p:blipFill>
          <a:blip r:embed="rId7"/>
          <a:stretch/>
        </p:blipFill>
        <p:spPr>
          <a:xfrm>
            <a:off x="6632640" y="1252440"/>
            <a:ext cx="1208160" cy="819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://lenagold.narod.ru/fon/clipart/n/nogo/novgod278.png"/>
          <p:cNvPicPr/>
          <p:nvPr/>
        </p:nvPicPr>
        <p:blipFill>
          <a:blip r:embed="rId8"/>
          <a:stretch/>
        </p:blipFill>
        <p:spPr>
          <a:xfrm>
            <a:off x="7450200" y="153504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http://lenagold.narod.ru/fon/clipart/n/nogo/novgod278.png"/>
          <p:cNvPicPr/>
          <p:nvPr/>
        </p:nvPicPr>
        <p:blipFill>
          <a:blip r:embed="rId9"/>
          <a:stretch/>
        </p:blipFill>
        <p:spPr>
          <a:xfrm>
            <a:off x="438120" y="266688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lenagold.narod.ru/fon/clipart/n/nogo/novgod278.png"/>
          <p:cNvPicPr/>
          <p:nvPr/>
        </p:nvPicPr>
        <p:blipFill>
          <a:blip r:embed="rId10"/>
          <a:stretch/>
        </p:blipFill>
        <p:spPr>
          <a:xfrm>
            <a:off x="2548080" y="2717640"/>
            <a:ext cx="1207800" cy="820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http://lenagold.narod.ru/fon/clipart/n/nogo/novgod278.png"/>
          <p:cNvPicPr/>
          <p:nvPr/>
        </p:nvPicPr>
        <p:blipFill>
          <a:blip r:embed="rId11"/>
          <a:stretch/>
        </p:blipFill>
        <p:spPr>
          <a:xfrm>
            <a:off x="4827600" y="271764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lenagold.narod.ru/fon/clipart/n/nogo/novgod278.png"/>
          <p:cNvPicPr/>
          <p:nvPr/>
        </p:nvPicPr>
        <p:blipFill>
          <a:blip r:embed="rId12"/>
          <a:stretch/>
        </p:blipFill>
        <p:spPr>
          <a:xfrm>
            <a:off x="6846840" y="272412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ttp://lenagold.narod.ru/fon/clipart/n/nogo/novgod278.png"/>
          <p:cNvPicPr/>
          <p:nvPr/>
        </p:nvPicPr>
        <p:blipFill>
          <a:blip r:embed="rId13"/>
          <a:stretch/>
        </p:blipFill>
        <p:spPr>
          <a:xfrm>
            <a:off x="1041480" y="316692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http://lenagold.narod.ru/fon/clipart/n/nogo/novgod278.png"/>
          <p:cNvPicPr/>
          <p:nvPr/>
        </p:nvPicPr>
        <p:blipFill>
          <a:blip r:embed="rId14"/>
          <a:stretch/>
        </p:blipFill>
        <p:spPr>
          <a:xfrm>
            <a:off x="3305160" y="3076560"/>
            <a:ext cx="1206360" cy="820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://lenagold.narod.ru/fon/clipart/n/nogo/novgod278.png"/>
          <p:cNvPicPr/>
          <p:nvPr/>
        </p:nvPicPr>
        <p:blipFill>
          <a:blip r:embed="rId15"/>
          <a:stretch/>
        </p:blipFill>
        <p:spPr>
          <a:xfrm>
            <a:off x="5230800" y="310680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lenagold.narod.ru/fon/clipart/n/nogo/novgod278.png"/>
          <p:cNvPicPr/>
          <p:nvPr/>
        </p:nvPicPr>
        <p:blipFill>
          <a:blip r:embed="rId16"/>
          <a:stretch/>
        </p:blipFill>
        <p:spPr>
          <a:xfrm>
            <a:off x="7551720" y="3106800"/>
            <a:ext cx="1206360" cy="820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4640" y="378000"/>
            <a:ext cx="7772400" cy="121896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нтернет - ресурс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8475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ани, поезд,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enagold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u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лочный шар  http://by-anna.com/publ/prazdniki/narjady_dlja_jolochki/60-16-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лка со звездой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ttp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://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logs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sdn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m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ukeducloud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rchive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/2010/12/17/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ooking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head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-2011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sp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лка    http://blogs.msdn.com/b/ukeducloud/archive/2010/12/17/looking-ahead-2011.asp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неговик  http://fotki.yandex.ru/users/k-tiande/album/171784/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негурка   http://by-anna.com/publ/prazdniki/novyj_god/44-2-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омик   http://gallery.yopriceville.com/Free-Clipart-Pictures/Christmas-PNG/Winter_House_with_Snow_PNG_Pi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0680" y="253800"/>
            <a:ext cx="7772400" cy="181908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Задание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685800" y="2070000"/>
            <a:ext cx="787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1. Прохлопай и произнеси ритмослогами ритмические картинк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2. Щёлкни мышкой – проговори стихи со звучащими жестам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3. Сыграй ритм на музыкальном инструмент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*БОЛЬШИЕ КАРТИНКИ – ДЛИННЫЕ ЗВУКИ (ТА), МАЛЕНЬКИЕ КАРТИНКИ – КОРОТКИЕ ЗВУКИ (ТИ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52240" y="4482720"/>
            <a:ext cx="788652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ёлочКА, ёлочКА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олкаЯ чёлочК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2" descr="https://img-fotki.yandex.ru/get/6411/34907849.167/0_9da93_b249646e_L.jpg"/>
          <p:cNvPicPr/>
          <p:nvPr/>
        </p:nvPicPr>
        <p:blipFill>
          <a:blip r:embed="rId1"/>
          <a:stretch/>
        </p:blipFill>
        <p:spPr>
          <a:xfrm>
            <a:off x="220680" y="118260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s://img-fotki.yandex.ru/get/6411/34907849.167/0_9da93_b249646e_L.jpg"/>
          <p:cNvPicPr/>
          <p:nvPr/>
        </p:nvPicPr>
        <p:blipFill>
          <a:blip r:embed="rId2"/>
          <a:stretch/>
        </p:blipFill>
        <p:spPr>
          <a:xfrm>
            <a:off x="982800" y="118260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s://img-fotki.yandex.ru/get/6411/34907849.167/0_9da93_b249646e_L.jpg"/>
          <p:cNvPicPr/>
          <p:nvPr/>
        </p:nvPicPr>
        <p:blipFill>
          <a:blip r:embed="rId3"/>
          <a:stretch/>
        </p:blipFill>
        <p:spPr>
          <a:xfrm>
            <a:off x="2268360" y="404640"/>
            <a:ext cx="1798920" cy="216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s://img-fotki.yandex.ru/get/6411/34907849.167/0_9da93_b249646e_L.jpg"/>
          <p:cNvPicPr/>
          <p:nvPr/>
        </p:nvPicPr>
        <p:blipFill>
          <a:blip r:embed="rId4"/>
          <a:stretch/>
        </p:blipFill>
        <p:spPr>
          <a:xfrm>
            <a:off x="4191120" y="118260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-fotki.yandex.ru/get/6411/34907849.167/0_9da93_b249646e_L.jpg"/>
          <p:cNvPicPr/>
          <p:nvPr/>
        </p:nvPicPr>
        <p:blipFill>
          <a:blip r:embed="rId5"/>
          <a:stretch/>
        </p:blipFill>
        <p:spPr>
          <a:xfrm>
            <a:off x="4995720" y="118260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s://img-fotki.yandex.ru/get/6411/34907849.167/0_9da93_b249646e_L.jpg"/>
          <p:cNvPicPr/>
          <p:nvPr/>
        </p:nvPicPr>
        <p:blipFill>
          <a:blip r:embed="rId6"/>
          <a:stretch/>
        </p:blipFill>
        <p:spPr>
          <a:xfrm>
            <a:off x="6229440" y="314280"/>
            <a:ext cx="1873080" cy="225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s://img-fotki.yandex.ru/get/6411/34907849.167/0_9da93_b249646e_L.jpg"/>
          <p:cNvPicPr/>
          <p:nvPr/>
        </p:nvPicPr>
        <p:blipFill>
          <a:blip r:embed="rId7"/>
          <a:stretch/>
        </p:blipFill>
        <p:spPr>
          <a:xfrm>
            <a:off x="1227240" y="303696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s://img-fotki.yandex.ru/get/6411/34907849.167/0_9da93_b249646e_L.jpg"/>
          <p:cNvPicPr/>
          <p:nvPr/>
        </p:nvPicPr>
        <p:blipFill>
          <a:blip r:embed="rId8"/>
          <a:stretch/>
        </p:blipFill>
        <p:spPr>
          <a:xfrm>
            <a:off x="2647800" y="2271600"/>
            <a:ext cx="1787760" cy="214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s://img-fotki.yandex.ru/get/6411/34907849.167/0_9da93_b249646e_L.jpg"/>
          <p:cNvPicPr/>
          <p:nvPr/>
        </p:nvPicPr>
        <p:blipFill>
          <a:blip r:embed="rId9"/>
          <a:stretch/>
        </p:blipFill>
        <p:spPr>
          <a:xfrm>
            <a:off x="4435560" y="303696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s://img-fotki.yandex.ru/get/6411/34907849.167/0_9da93_b249646e_L.jpg"/>
          <p:cNvPicPr/>
          <p:nvPr/>
        </p:nvPicPr>
        <p:blipFill>
          <a:blip r:embed="rId10"/>
          <a:stretch/>
        </p:blipFill>
        <p:spPr>
          <a:xfrm>
            <a:off x="5240160" y="3036960"/>
            <a:ext cx="1151280" cy="138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s://img-fotki.yandex.ru/get/6411/34907849.167/0_9da93_b249646e_L.jpg"/>
          <p:cNvPicPr/>
          <p:nvPr/>
        </p:nvPicPr>
        <p:blipFill>
          <a:blip r:embed="rId11"/>
          <a:stretch/>
        </p:blipFill>
        <p:spPr>
          <a:xfrm>
            <a:off x="6553080" y="2263680"/>
            <a:ext cx="1793880" cy="2156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s://img-fotki.yandex.ru/get/6411/34907849.167/0_9da93_b249646e_L.jpg"/>
          <p:cNvPicPr/>
          <p:nvPr/>
        </p:nvPicPr>
        <p:blipFill>
          <a:blip r:embed="rId12"/>
          <a:stretch/>
        </p:blipFill>
        <p:spPr>
          <a:xfrm>
            <a:off x="372960" y="3036960"/>
            <a:ext cx="1150920" cy="1382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333080" y="4203360"/>
            <a:ext cx="681372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верху звеЗДА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бусы в два ряДА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1"/>
          <a:stretch/>
        </p:blipFill>
        <p:spPr>
          <a:xfrm>
            <a:off x="365040" y="97776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2"/>
          <a:stretch/>
        </p:blipFill>
        <p:spPr>
          <a:xfrm>
            <a:off x="1127160" y="97776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3"/>
          <a:stretch/>
        </p:blipFill>
        <p:spPr>
          <a:xfrm>
            <a:off x="2333520" y="97776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4"/>
          <a:stretch/>
        </p:blipFill>
        <p:spPr>
          <a:xfrm>
            <a:off x="3166920" y="97776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5"/>
          <a:stretch/>
        </p:blipFill>
        <p:spPr>
          <a:xfrm>
            <a:off x="237960" y="274320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6"/>
          <a:stretch/>
        </p:blipFill>
        <p:spPr>
          <a:xfrm>
            <a:off x="1000080" y="274320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7"/>
          <a:stretch/>
        </p:blipFill>
        <p:spPr>
          <a:xfrm>
            <a:off x="4921200" y="366840"/>
            <a:ext cx="2174760" cy="217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8"/>
          <a:stretch/>
        </p:blipFill>
        <p:spPr>
          <a:xfrm>
            <a:off x="2406600" y="274320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9"/>
          <a:stretch/>
        </p:blipFill>
        <p:spPr>
          <a:xfrm>
            <a:off x="3200400" y="274320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10"/>
          <a:stretch/>
        </p:blipFill>
        <p:spPr>
          <a:xfrm>
            <a:off x="4992840" y="2090880"/>
            <a:ext cx="2174760" cy="21747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3" descr="5b3c487f157f.png"/>
          <p:cNvPicPr/>
          <p:nvPr/>
        </p:nvPicPr>
        <p:blipFill>
          <a:blip r:embed="rId11"/>
          <a:stretch/>
        </p:blipFill>
        <p:spPr>
          <a:xfrm>
            <a:off x="7331040" y="1930320"/>
            <a:ext cx="1446120" cy="23353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3" descr="5b3c487f157f.png"/>
          <p:cNvPicPr/>
          <p:nvPr/>
        </p:nvPicPr>
        <p:blipFill>
          <a:blip r:embed="rId12"/>
          <a:stretch/>
        </p:blipFill>
        <p:spPr>
          <a:xfrm>
            <a:off x="7331040" y="165240"/>
            <a:ext cx="1446120" cy="2334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81200" y="437508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ловно в белый пухоВИ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рядился снегоВИК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2" descr="https://img-fotki.yandex.ru/get/5818/136487634.0/0_6d4f3_a026da61_S"/>
          <p:cNvPicPr/>
          <p:nvPr/>
        </p:nvPicPr>
        <p:blipFill>
          <a:blip r:embed="rId1"/>
          <a:stretch/>
        </p:blipFill>
        <p:spPr>
          <a:xfrm>
            <a:off x="360360" y="1041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img-fotki.yandex.ru/get/5818/136487634.0/0_6d4f3_a026da61_S"/>
          <p:cNvPicPr/>
          <p:nvPr/>
        </p:nvPicPr>
        <p:blipFill>
          <a:blip r:embed="rId2"/>
          <a:stretch/>
        </p:blipFill>
        <p:spPr>
          <a:xfrm>
            <a:off x="1074600" y="1041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s://img-fotki.yandex.ru/get/5818/136487634.0/0_6d4f3_a026da61_S"/>
          <p:cNvPicPr/>
          <p:nvPr/>
        </p:nvPicPr>
        <p:blipFill>
          <a:blip r:embed="rId3"/>
          <a:stretch/>
        </p:blipFill>
        <p:spPr>
          <a:xfrm>
            <a:off x="2219400" y="1041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s://img-fotki.yandex.ru/get/5818/136487634.0/0_6d4f3_a026da61_S"/>
          <p:cNvPicPr/>
          <p:nvPr/>
        </p:nvPicPr>
        <p:blipFill>
          <a:blip r:embed="rId4"/>
          <a:stretch/>
        </p:blipFill>
        <p:spPr>
          <a:xfrm>
            <a:off x="2828880" y="1041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s://img-fotki.yandex.ru/get/5818/136487634.0/0_6d4f3_a026da61_S"/>
          <p:cNvPicPr/>
          <p:nvPr/>
        </p:nvPicPr>
        <p:blipFill>
          <a:blip r:embed="rId5"/>
          <a:stretch/>
        </p:blipFill>
        <p:spPr>
          <a:xfrm>
            <a:off x="3908520" y="10414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s://img-fotki.yandex.ru/get/5818/136487634.0/0_6d4f3_a026da61_S"/>
          <p:cNvPicPr/>
          <p:nvPr/>
        </p:nvPicPr>
        <p:blipFill>
          <a:blip r:embed="rId6"/>
          <a:stretch/>
        </p:blipFill>
        <p:spPr>
          <a:xfrm>
            <a:off x="4622760" y="1041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s://img-fotki.yandex.ru/get/5818/136487634.0/0_6d4f3_a026da61_S"/>
          <p:cNvPicPr/>
          <p:nvPr/>
        </p:nvPicPr>
        <p:blipFill>
          <a:blip r:embed="rId7"/>
          <a:stretch/>
        </p:blipFill>
        <p:spPr>
          <a:xfrm>
            <a:off x="6102360" y="533520"/>
            <a:ext cx="2013120" cy="2012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s://img-fotki.yandex.ru/get/5818/136487634.0/0_6d4f3_a026da61_S"/>
          <p:cNvPicPr/>
          <p:nvPr/>
        </p:nvPicPr>
        <p:blipFill>
          <a:blip r:embed="rId8"/>
          <a:stretch/>
        </p:blipFill>
        <p:spPr>
          <a:xfrm>
            <a:off x="512640" y="3016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s://img-fotki.yandex.ru/get/5818/136487634.0/0_6d4f3_a026da61_S"/>
          <p:cNvPicPr/>
          <p:nvPr/>
        </p:nvPicPr>
        <p:blipFill>
          <a:blip r:embed="rId9"/>
          <a:stretch/>
        </p:blipFill>
        <p:spPr>
          <a:xfrm>
            <a:off x="1227240" y="30160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s://img-fotki.yandex.ru/get/5818/136487634.0/0_6d4f3_a026da61_S"/>
          <p:cNvPicPr/>
          <p:nvPr/>
        </p:nvPicPr>
        <p:blipFill>
          <a:blip r:embed="rId10"/>
          <a:stretch/>
        </p:blipFill>
        <p:spPr>
          <a:xfrm>
            <a:off x="2371680" y="3016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s://img-fotki.yandex.ru/get/5818/136487634.0/0_6d4f3_a026da61_S"/>
          <p:cNvPicPr/>
          <p:nvPr/>
        </p:nvPicPr>
        <p:blipFill>
          <a:blip r:embed="rId11"/>
          <a:stretch/>
        </p:blipFill>
        <p:spPr>
          <a:xfrm>
            <a:off x="2981160" y="3016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s://img-fotki.yandex.ru/get/5818/136487634.0/0_6d4f3_a026da61_S"/>
          <p:cNvPicPr/>
          <p:nvPr/>
        </p:nvPicPr>
        <p:blipFill>
          <a:blip r:embed="rId12"/>
          <a:stretch/>
        </p:blipFill>
        <p:spPr>
          <a:xfrm>
            <a:off x="4060800" y="3016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s://img-fotki.yandex.ru/get/5818/136487634.0/0_6d4f3_a026da61_S"/>
          <p:cNvPicPr/>
          <p:nvPr/>
        </p:nvPicPr>
        <p:blipFill>
          <a:blip r:embed="rId13"/>
          <a:stretch/>
        </p:blipFill>
        <p:spPr>
          <a:xfrm>
            <a:off x="4775040" y="3016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s://img-fotki.yandex.ru/get/5818/136487634.0/0_6d4f3_a026da61_S"/>
          <p:cNvPicPr/>
          <p:nvPr/>
        </p:nvPicPr>
        <p:blipFill>
          <a:blip r:embed="rId14"/>
          <a:stretch/>
        </p:blipFill>
        <p:spPr>
          <a:xfrm>
            <a:off x="6254640" y="2508120"/>
            <a:ext cx="2013120" cy="2013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81200" y="455292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рядом снежная фигурк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это девочка снегурк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2" descr="http://pic4you.ru/allimage/y2011/10-03/12216/1247646.png"/>
          <p:cNvPicPr/>
          <p:nvPr/>
        </p:nvPicPr>
        <p:blipFill>
          <a:blip r:embed="rId1"/>
          <a:stretch/>
        </p:blipFill>
        <p:spPr>
          <a:xfrm>
            <a:off x="892080" y="100332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pic4you.ru/allimage/y2011/10-03/12216/1247646.png"/>
          <p:cNvPicPr/>
          <p:nvPr/>
        </p:nvPicPr>
        <p:blipFill>
          <a:blip r:embed="rId2"/>
          <a:stretch/>
        </p:blipFill>
        <p:spPr>
          <a:xfrm>
            <a:off x="1716120" y="100332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pic4you.ru/allimage/y2011/10-03/12216/1247646.png"/>
          <p:cNvPicPr/>
          <p:nvPr/>
        </p:nvPicPr>
        <p:blipFill>
          <a:blip r:embed="rId3"/>
          <a:stretch/>
        </p:blipFill>
        <p:spPr>
          <a:xfrm>
            <a:off x="2782800" y="100332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pic4you.ru/allimage/y2011/10-03/12216/1247646.png"/>
          <p:cNvPicPr/>
          <p:nvPr/>
        </p:nvPicPr>
        <p:blipFill>
          <a:blip r:embed="rId4"/>
          <a:stretch/>
        </p:blipFill>
        <p:spPr>
          <a:xfrm>
            <a:off x="3587760" y="100332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pic4you.ru/allimage/y2011/10-03/12216/1247646.png"/>
          <p:cNvPicPr/>
          <p:nvPr/>
        </p:nvPicPr>
        <p:blipFill>
          <a:blip r:embed="rId5"/>
          <a:stretch/>
        </p:blipFill>
        <p:spPr>
          <a:xfrm>
            <a:off x="4751280" y="100332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pic4you.ru/allimage/y2011/10-03/12216/1247646.png"/>
          <p:cNvPicPr/>
          <p:nvPr/>
        </p:nvPicPr>
        <p:blipFill>
          <a:blip r:embed="rId6"/>
          <a:stretch/>
        </p:blipFill>
        <p:spPr>
          <a:xfrm>
            <a:off x="5457960" y="100332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pic4you.ru/allimage/y2011/10-03/12216/1247646.png"/>
          <p:cNvPicPr/>
          <p:nvPr/>
        </p:nvPicPr>
        <p:blipFill>
          <a:blip r:embed="rId7"/>
          <a:stretch/>
        </p:blipFill>
        <p:spPr>
          <a:xfrm>
            <a:off x="6726240" y="100332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pic4you.ru/allimage/y2011/10-03/12216/1247646.png"/>
          <p:cNvPicPr/>
          <p:nvPr/>
        </p:nvPicPr>
        <p:blipFill>
          <a:blip r:embed="rId8"/>
          <a:stretch/>
        </p:blipFill>
        <p:spPr>
          <a:xfrm>
            <a:off x="7407360" y="100332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pic4you.ru/allimage/y2011/10-03/12216/1247646.png"/>
          <p:cNvPicPr/>
          <p:nvPr/>
        </p:nvPicPr>
        <p:blipFill>
          <a:blip r:embed="rId9"/>
          <a:stretch/>
        </p:blipFill>
        <p:spPr>
          <a:xfrm>
            <a:off x="824040" y="2914560"/>
            <a:ext cx="846000" cy="1663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pic4you.ru/allimage/y2011/10-03/12216/1247646.png"/>
          <p:cNvPicPr/>
          <p:nvPr/>
        </p:nvPicPr>
        <p:blipFill>
          <a:blip r:embed="rId10"/>
          <a:stretch/>
        </p:blipFill>
        <p:spPr>
          <a:xfrm>
            <a:off x="1647720" y="290844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pic4you.ru/allimage/y2011/10-03/12216/1247646.png"/>
          <p:cNvPicPr/>
          <p:nvPr/>
        </p:nvPicPr>
        <p:blipFill>
          <a:blip r:embed="rId11"/>
          <a:stretch/>
        </p:blipFill>
        <p:spPr>
          <a:xfrm>
            <a:off x="2643120" y="290844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pic4you.ru/allimage/y2011/10-03/12216/1247646.png"/>
          <p:cNvPicPr/>
          <p:nvPr/>
        </p:nvPicPr>
        <p:blipFill>
          <a:blip r:embed="rId12"/>
          <a:stretch/>
        </p:blipFill>
        <p:spPr>
          <a:xfrm>
            <a:off x="3398760" y="2914560"/>
            <a:ext cx="846360" cy="1663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pic4you.ru/allimage/y2011/10-03/12216/1247646.png"/>
          <p:cNvPicPr/>
          <p:nvPr/>
        </p:nvPicPr>
        <p:blipFill>
          <a:blip r:embed="rId13"/>
          <a:stretch/>
        </p:blipFill>
        <p:spPr>
          <a:xfrm>
            <a:off x="4567320" y="290844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pic4you.ru/allimage/y2011/10-03/12216/1247646.png"/>
          <p:cNvPicPr/>
          <p:nvPr/>
        </p:nvPicPr>
        <p:blipFill>
          <a:blip r:embed="rId14"/>
          <a:stretch/>
        </p:blipFill>
        <p:spPr>
          <a:xfrm>
            <a:off x="5264280" y="287028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ttp://pic4you.ru/allimage/y2011/10-03/12216/1247646.png"/>
          <p:cNvPicPr/>
          <p:nvPr/>
        </p:nvPicPr>
        <p:blipFill>
          <a:blip r:embed="rId15"/>
          <a:stretch/>
        </p:blipFill>
        <p:spPr>
          <a:xfrm>
            <a:off x="6561000" y="287028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pic4you.ru/allimage/y2011/10-03/12216/1247646.png"/>
          <p:cNvPicPr/>
          <p:nvPr/>
        </p:nvPicPr>
        <p:blipFill>
          <a:blip r:embed="rId16"/>
          <a:stretch/>
        </p:blipFill>
        <p:spPr>
          <a:xfrm>
            <a:off x="7308720" y="2870280"/>
            <a:ext cx="846360" cy="1663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81200" y="437508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ИНЬ – ДОН, ДИНЬ – ДОН,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олон смеха, шуток ДОМ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4" descr="http://pic4you.ru/allimage/y2011/11-26/12216/1444428.png"/>
          <p:cNvPicPr/>
          <p:nvPr/>
        </p:nvPicPr>
        <p:blipFill>
          <a:blip r:embed="rId1"/>
          <a:stretch/>
        </p:blipFill>
        <p:spPr>
          <a:xfrm>
            <a:off x="817560" y="939960"/>
            <a:ext cx="1778040" cy="1574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pic4you.ru/allimage/y2011/11-26/12216/1444428.png"/>
          <p:cNvPicPr/>
          <p:nvPr/>
        </p:nvPicPr>
        <p:blipFill>
          <a:blip r:embed="rId2"/>
          <a:stretch/>
        </p:blipFill>
        <p:spPr>
          <a:xfrm>
            <a:off x="2747880" y="1015920"/>
            <a:ext cx="1776600" cy="1575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pic4you.ru/allimage/y2011/11-26/12216/1444428.png"/>
          <p:cNvPicPr/>
          <p:nvPr/>
        </p:nvPicPr>
        <p:blipFill>
          <a:blip r:embed="rId3"/>
          <a:stretch/>
        </p:blipFill>
        <p:spPr>
          <a:xfrm>
            <a:off x="5087880" y="1015920"/>
            <a:ext cx="1776600" cy="157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pic4you.ru/allimage/y2011/11-26/12216/1444428.png"/>
          <p:cNvPicPr/>
          <p:nvPr/>
        </p:nvPicPr>
        <p:blipFill>
          <a:blip r:embed="rId4"/>
          <a:stretch/>
        </p:blipFill>
        <p:spPr>
          <a:xfrm>
            <a:off x="7077240" y="1015920"/>
            <a:ext cx="1777680" cy="1575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://pic4you.ru/allimage/y2011/11-26/12216/1444428.png"/>
          <p:cNvPicPr/>
          <p:nvPr/>
        </p:nvPicPr>
        <p:blipFill>
          <a:blip r:embed="rId5"/>
          <a:stretch/>
        </p:blipFill>
        <p:spPr>
          <a:xfrm>
            <a:off x="525600" y="2946240"/>
            <a:ext cx="1376280" cy="121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pic4you.ru/allimage/y2011/11-26/12216/1444428.png"/>
          <p:cNvPicPr/>
          <p:nvPr/>
        </p:nvPicPr>
        <p:blipFill>
          <a:blip r:embed="rId6"/>
          <a:stretch/>
        </p:blipFill>
        <p:spPr>
          <a:xfrm>
            <a:off x="1371600" y="2946240"/>
            <a:ext cx="1376280" cy="1219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pic4you.ru/allimage/y2011/11-26/12216/1444428.png"/>
          <p:cNvPicPr/>
          <p:nvPr/>
        </p:nvPicPr>
        <p:blipFill>
          <a:blip r:embed="rId7"/>
          <a:stretch/>
        </p:blipFill>
        <p:spPr>
          <a:xfrm>
            <a:off x="2563920" y="2946240"/>
            <a:ext cx="1376280" cy="1219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pic4you.ru/allimage/y2011/11-26/12216/1444428.png"/>
          <p:cNvPicPr/>
          <p:nvPr/>
        </p:nvPicPr>
        <p:blipFill>
          <a:blip r:embed="rId8"/>
          <a:stretch/>
        </p:blipFill>
        <p:spPr>
          <a:xfrm>
            <a:off x="3456000" y="2946240"/>
            <a:ext cx="1374840" cy="121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pic4you.ru/allimage/y2011/11-26/12216/1444428.png"/>
          <p:cNvPicPr/>
          <p:nvPr/>
        </p:nvPicPr>
        <p:blipFill>
          <a:blip r:embed="rId9"/>
          <a:stretch/>
        </p:blipFill>
        <p:spPr>
          <a:xfrm>
            <a:off x="4710240" y="2946240"/>
            <a:ext cx="1374480" cy="121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pic4you.ru/allimage/y2011/11-26/12216/1444428.png"/>
          <p:cNvPicPr/>
          <p:nvPr/>
        </p:nvPicPr>
        <p:blipFill>
          <a:blip r:embed="rId10"/>
          <a:stretch/>
        </p:blipFill>
        <p:spPr>
          <a:xfrm>
            <a:off x="5729400" y="2946240"/>
            <a:ext cx="1374840" cy="1219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pic4you.ru/allimage/y2011/11-26/12216/1444428.png"/>
          <p:cNvPicPr/>
          <p:nvPr/>
        </p:nvPicPr>
        <p:blipFill>
          <a:blip r:embed="rId11"/>
          <a:stretch/>
        </p:blipFill>
        <p:spPr>
          <a:xfrm>
            <a:off x="7250040" y="2768760"/>
            <a:ext cx="1776600" cy="1574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81200" y="437508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летела вдруг пурГ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акружила, замеЛА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http://gallery.yopriceville.com/var/resizes/Free-Clipart-Pictures/Christmas-PNG/Winter_House_with_Snow_PNG_Picture.png?m=1399681669"/>
          <p:cNvPicPr/>
          <p:nvPr/>
        </p:nvPicPr>
        <p:blipFill>
          <a:blip r:embed="rId1"/>
          <a:stretch/>
        </p:blipFill>
        <p:spPr>
          <a:xfrm>
            <a:off x="301680" y="1214280"/>
            <a:ext cx="1278000" cy="927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gallery.yopriceville.com/var/resizes/Free-Clipart-Pictures/Christmas-PNG/Winter_House_with_Snow_PNG_Picture.png?m=1399681669"/>
          <p:cNvPicPr/>
          <p:nvPr/>
        </p:nvPicPr>
        <p:blipFill>
          <a:blip r:embed="rId2"/>
          <a:stretch/>
        </p:blipFill>
        <p:spPr>
          <a:xfrm>
            <a:off x="1198440" y="1450800"/>
            <a:ext cx="1278000" cy="92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://gallery.yopriceville.com/var/resizes/Free-Clipart-Pictures/Christmas-PNG/Winter_House_with_Snow_PNG_Picture.png?m=1399681669"/>
          <p:cNvPicPr/>
          <p:nvPr/>
        </p:nvPicPr>
        <p:blipFill>
          <a:blip r:embed="rId3"/>
          <a:stretch/>
        </p:blipFill>
        <p:spPr>
          <a:xfrm>
            <a:off x="2684520" y="1130400"/>
            <a:ext cx="1278000" cy="925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://gallery.yopriceville.com/var/resizes/Free-Clipart-Pictures/Christmas-PNG/Winter_House_with_Snow_PNG_Picture.png?m=1399681669"/>
          <p:cNvPicPr/>
          <p:nvPr/>
        </p:nvPicPr>
        <p:blipFill>
          <a:blip r:embed="rId4"/>
          <a:stretch/>
        </p:blipFill>
        <p:spPr>
          <a:xfrm>
            <a:off x="3421080" y="1477800"/>
            <a:ext cx="1278000" cy="927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ttp://gallery.yopriceville.com/var/resizes/Free-Clipart-Pictures/Christmas-PNG/Winter_House_with_Snow_PNG_Picture.png?m=1399681669"/>
          <p:cNvPicPr/>
          <p:nvPr/>
        </p:nvPicPr>
        <p:blipFill>
          <a:blip r:embed="rId5"/>
          <a:stretch/>
        </p:blipFill>
        <p:spPr>
          <a:xfrm>
            <a:off x="4902120" y="1111320"/>
            <a:ext cx="1278000" cy="925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gallery.yopriceville.com/var/resizes/Free-Clipart-Pictures/Christmas-PNG/Winter_House_with_Snow_PNG_Picture.png?m=1399681669"/>
          <p:cNvPicPr/>
          <p:nvPr/>
        </p:nvPicPr>
        <p:blipFill>
          <a:blip r:embed="rId6"/>
          <a:stretch/>
        </p:blipFill>
        <p:spPr>
          <a:xfrm>
            <a:off x="5681520" y="1450800"/>
            <a:ext cx="1278000" cy="92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gallery.yopriceville.com/var/resizes/Free-Clipart-Pictures/Christmas-PNG/Winter_House_with_Snow_PNG_Picture.png?m=1399681669"/>
          <p:cNvPicPr/>
          <p:nvPr/>
        </p:nvPicPr>
        <p:blipFill>
          <a:blip r:embed="rId7"/>
          <a:stretch/>
        </p:blipFill>
        <p:spPr>
          <a:xfrm>
            <a:off x="7034040" y="944640"/>
            <a:ext cx="2025720" cy="1466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gallery.yopriceville.com/var/resizes/Free-Clipart-Pictures/Christmas-PNG/Winter_House_with_Snow_PNG_Picture.png?m=1399681669"/>
          <p:cNvPicPr/>
          <p:nvPr/>
        </p:nvPicPr>
        <p:blipFill>
          <a:blip r:embed="rId8"/>
          <a:stretch/>
        </p:blipFill>
        <p:spPr>
          <a:xfrm>
            <a:off x="243000" y="3254400"/>
            <a:ext cx="1278000" cy="927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://gallery.yopriceville.com/var/resizes/Free-Clipart-Pictures/Christmas-PNG/Winter_House_with_Snow_PNG_Picture.png?m=1399681669"/>
          <p:cNvPicPr/>
          <p:nvPr/>
        </p:nvPicPr>
        <p:blipFill>
          <a:blip r:embed="rId9"/>
          <a:stretch/>
        </p:blipFill>
        <p:spPr>
          <a:xfrm>
            <a:off x="2593800" y="3117960"/>
            <a:ext cx="1152720" cy="834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://gallery.yopriceville.com/var/resizes/Free-Clipart-Pictures/Christmas-PNG/Winter_House_with_Snow_PNG_Picture.png?m=1399681669"/>
          <p:cNvPicPr/>
          <p:nvPr/>
        </p:nvPicPr>
        <p:blipFill>
          <a:blip r:embed="rId10"/>
          <a:stretch/>
        </p:blipFill>
        <p:spPr>
          <a:xfrm>
            <a:off x="3289320" y="3351240"/>
            <a:ext cx="1278000" cy="925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http://gallery.yopriceville.com/var/resizes/Free-Clipart-Pictures/Christmas-PNG/Winter_House_with_Snow_PNG_Picture.png?m=1399681669"/>
          <p:cNvPicPr/>
          <p:nvPr/>
        </p:nvPicPr>
        <p:blipFill>
          <a:blip r:embed="rId11"/>
          <a:stretch/>
        </p:blipFill>
        <p:spPr>
          <a:xfrm>
            <a:off x="4902120" y="3070080"/>
            <a:ext cx="1278000" cy="927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http://gallery.yopriceville.com/var/resizes/Free-Clipart-Pictures/Christmas-PNG/Winter_House_with_Snow_PNG_Picture.png?m=1399681669"/>
          <p:cNvPicPr/>
          <p:nvPr/>
        </p:nvPicPr>
        <p:blipFill>
          <a:blip r:embed="rId12"/>
          <a:stretch/>
        </p:blipFill>
        <p:spPr>
          <a:xfrm>
            <a:off x="5756400" y="3351240"/>
            <a:ext cx="1277640" cy="925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http://gallery.yopriceville.com/var/resizes/Free-Clipart-Pictures/Christmas-PNG/Winter_House_with_Snow_PNG_Picture.png?m=1399681669"/>
          <p:cNvPicPr/>
          <p:nvPr/>
        </p:nvPicPr>
        <p:blipFill>
          <a:blip r:embed="rId13"/>
          <a:stretch/>
        </p:blipFill>
        <p:spPr>
          <a:xfrm>
            <a:off x="1068480" y="3533760"/>
            <a:ext cx="1278000" cy="92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gallery.yopriceville.com/var/resizes/Free-Clipart-Pictures/Christmas-PNG/Winter_House_with_Snow_PNG_Picture.png?m=1399681669"/>
          <p:cNvPicPr/>
          <p:nvPr/>
        </p:nvPicPr>
        <p:blipFill>
          <a:blip r:embed="rId14"/>
          <a:stretch/>
        </p:blipFill>
        <p:spPr>
          <a:xfrm>
            <a:off x="7159680" y="2763720"/>
            <a:ext cx="2025720" cy="1467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781200" y="437508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это самоЛЁТ,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 нём летит пиЛОТ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2" descr="http://lenagold.narod.ru/fon/clipart/d/dedm/dedmoroz99.png"/>
          <p:cNvPicPr/>
          <p:nvPr/>
        </p:nvPicPr>
        <p:blipFill>
          <a:blip r:embed="rId1"/>
          <a:stretch/>
        </p:blipFill>
        <p:spPr>
          <a:xfrm>
            <a:off x="390600" y="1162080"/>
            <a:ext cx="1138320" cy="1039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lenagold.narod.ru/fon/clipart/d/dedm/dedmoroz99.png"/>
          <p:cNvPicPr/>
          <p:nvPr/>
        </p:nvPicPr>
        <p:blipFill>
          <a:blip r:embed="rId2"/>
          <a:stretch/>
        </p:blipFill>
        <p:spPr>
          <a:xfrm>
            <a:off x="1298520" y="1314360"/>
            <a:ext cx="1138320" cy="1040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lenagold.narod.ru/fon/clipart/d/dedm/dedmoroz99.png"/>
          <p:cNvPicPr/>
          <p:nvPr/>
        </p:nvPicPr>
        <p:blipFill>
          <a:blip r:embed="rId3"/>
          <a:stretch/>
        </p:blipFill>
        <p:spPr>
          <a:xfrm>
            <a:off x="2652840" y="1162080"/>
            <a:ext cx="1136520" cy="1039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lenagold.narod.ru/fon/clipart/d/dedm/dedmoroz99.png"/>
          <p:cNvPicPr/>
          <p:nvPr/>
        </p:nvPicPr>
        <p:blipFill>
          <a:blip r:embed="rId4"/>
          <a:stretch/>
        </p:blipFill>
        <p:spPr>
          <a:xfrm>
            <a:off x="3627360" y="1314360"/>
            <a:ext cx="1138320" cy="1040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lenagold.narod.ru/fon/clipart/d/dedm/dedmoroz99.png"/>
          <p:cNvPicPr/>
          <p:nvPr/>
        </p:nvPicPr>
        <p:blipFill>
          <a:blip r:embed="rId5"/>
          <a:stretch/>
        </p:blipFill>
        <p:spPr>
          <a:xfrm>
            <a:off x="5187960" y="662040"/>
            <a:ext cx="1944720" cy="1778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lenagold.narod.ru/fon/clipart/d/dedm/dedmoroz99.png"/>
          <p:cNvPicPr/>
          <p:nvPr/>
        </p:nvPicPr>
        <p:blipFill>
          <a:blip r:embed="rId6"/>
          <a:stretch/>
        </p:blipFill>
        <p:spPr>
          <a:xfrm>
            <a:off x="620640" y="3119400"/>
            <a:ext cx="1138320" cy="1039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lenagold.narod.ru/fon/clipart/d/dedm/dedmoroz99.png"/>
          <p:cNvPicPr/>
          <p:nvPr/>
        </p:nvPicPr>
        <p:blipFill>
          <a:blip r:embed="rId7"/>
          <a:stretch/>
        </p:blipFill>
        <p:spPr>
          <a:xfrm>
            <a:off x="1528920" y="3271680"/>
            <a:ext cx="1137960" cy="1040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lenagold.narod.ru/fon/clipart/d/dedm/dedmoroz99.png"/>
          <p:cNvPicPr/>
          <p:nvPr/>
        </p:nvPicPr>
        <p:blipFill>
          <a:blip r:embed="rId8"/>
          <a:stretch/>
        </p:blipFill>
        <p:spPr>
          <a:xfrm>
            <a:off x="2881440" y="3119400"/>
            <a:ext cx="1137960" cy="1039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ttp://lenagold.narod.ru/fon/clipart/d/dedm/dedmoroz99.png"/>
          <p:cNvPicPr/>
          <p:nvPr/>
        </p:nvPicPr>
        <p:blipFill>
          <a:blip r:embed="rId9"/>
          <a:stretch/>
        </p:blipFill>
        <p:spPr>
          <a:xfrm>
            <a:off x="3857760" y="3271680"/>
            <a:ext cx="1137960" cy="1040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lenagold.narod.ru/fon/clipart/d/dedm/dedmoroz99.png"/>
          <p:cNvPicPr/>
          <p:nvPr/>
        </p:nvPicPr>
        <p:blipFill>
          <a:blip r:embed="rId10"/>
          <a:stretch/>
        </p:blipFill>
        <p:spPr>
          <a:xfrm>
            <a:off x="5418000" y="2620800"/>
            <a:ext cx="1944720" cy="17766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3" descr="5b3c487f157f.png"/>
          <p:cNvPicPr/>
          <p:nvPr/>
        </p:nvPicPr>
        <p:blipFill>
          <a:blip r:embed="rId11"/>
          <a:stretch/>
        </p:blipFill>
        <p:spPr>
          <a:xfrm>
            <a:off x="7331040" y="165240"/>
            <a:ext cx="1446120" cy="23349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3" descr="5b3c487f157f.png"/>
          <p:cNvPicPr/>
          <p:nvPr/>
        </p:nvPicPr>
        <p:blipFill>
          <a:blip r:embed="rId12"/>
          <a:stretch/>
        </p:blipFill>
        <p:spPr>
          <a:xfrm>
            <a:off x="7483320" y="1976400"/>
            <a:ext cx="1446480" cy="2335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4:28:54Z</dcterms:created>
  <dc:creator>Инна</dc:creator>
  <dc:description/>
  <dc:language>en-US</dc:language>
  <cp:lastModifiedBy>USER</cp:lastModifiedBy>
  <dcterms:modified xsi:type="dcterms:W3CDTF">2023-09-28T11:22:16Z</dcterms:modified>
  <cp:revision>36</cp:revision>
  <dc:subject/>
  <dc:title>Презентация PowerPoint</dc:title>
</cp:coreProperties>
</file>