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5C2-5269-4489-802E-942B0577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072-C40C-4254-B582-436DCB0C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26E-03B6-4A4A-A7DE-DB3E27CB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144-5633-4EA3-90CB-492BF237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208-EFCD-4ECE-89A1-D4F47CE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AF4-5AF2-4417-9578-C8631699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884-CCCC-41EC-BF27-A7D3DC98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8D7-AB65-4A9B-89E5-0C26563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CD7-DDFA-447A-9426-2D108EA8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EB4-5BFC-4DBA-A287-380866A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672-5016-4491-ADE8-BB7F65A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F00-D4F5-46E0-9AC6-1FBD5062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B479-833B-439C-9260-7686511261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3600" y="1302840"/>
            <a:ext cx="817236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dventure"/>
              </a:rPr>
              <a:t>Зимние чудеса.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78120" y="3429000"/>
            <a:ext cx="664200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Зимние ритмические загадки для дошкольник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зентацию подготовила музыкальный руководитель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ДОУ  «Детский сад №14 «Ромашка» г. Белореченска Дмитриева Л.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40960" y="4427640"/>
            <a:ext cx="75502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МОТРИ, пароВОЗ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АГОны  поВЁЗ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1" descr="C:\Documents and Settings\Admin\Рабочий стол\oooo.png"/>
          <p:cNvPicPr/>
          <p:nvPr/>
        </p:nvPicPr>
        <p:blipFill>
          <a:blip r:embed="rId1"/>
          <a:stretch/>
        </p:blipFill>
        <p:spPr>
          <a:xfrm>
            <a:off x="4325760" y="1257480"/>
            <a:ext cx="1555920" cy="1271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C:\Documents and Settings\Admin\Рабочий стол\oooo.png"/>
          <p:cNvPicPr/>
          <p:nvPr/>
        </p:nvPicPr>
        <p:blipFill>
          <a:blip r:embed="rId2"/>
          <a:stretch/>
        </p:blipFill>
        <p:spPr>
          <a:xfrm>
            <a:off x="5226120" y="1463760"/>
            <a:ext cx="1555560" cy="127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C:\Documents and Settings\Admin\Рабочий стол\oooo.png"/>
          <p:cNvPicPr/>
          <p:nvPr/>
        </p:nvPicPr>
        <p:blipFill>
          <a:blip r:embed="rId3"/>
          <a:stretch/>
        </p:blipFill>
        <p:spPr>
          <a:xfrm>
            <a:off x="96840" y="846000"/>
            <a:ext cx="2179800" cy="17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C:\Documents and Settings\Admin\Рабочий стол\oooo.png"/>
          <p:cNvPicPr/>
          <p:nvPr/>
        </p:nvPicPr>
        <p:blipFill>
          <a:blip r:embed="rId4"/>
          <a:stretch/>
        </p:blipFill>
        <p:spPr>
          <a:xfrm>
            <a:off x="2073240" y="882720"/>
            <a:ext cx="2252520" cy="184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C:\Documents and Settings\Admin\Рабочий стол\oooo.png"/>
          <p:cNvPicPr/>
          <p:nvPr/>
        </p:nvPicPr>
        <p:blipFill>
          <a:blip r:embed="rId5"/>
          <a:stretch/>
        </p:blipFill>
        <p:spPr>
          <a:xfrm>
            <a:off x="6391440" y="893880"/>
            <a:ext cx="2252520" cy="183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C:\Documents and Settings\Admin\Рабочий стол\oooo.png"/>
          <p:cNvPicPr/>
          <p:nvPr/>
        </p:nvPicPr>
        <p:blipFill>
          <a:blip r:embed="rId6"/>
          <a:stretch/>
        </p:blipFill>
        <p:spPr>
          <a:xfrm>
            <a:off x="4325760" y="3035160"/>
            <a:ext cx="1555920" cy="127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" descr="C:\Documents and Settings\Admin\Рабочий стол\oooo.png"/>
          <p:cNvPicPr/>
          <p:nvPr/>
        </p:nvPicPr>
        <p:blipFill>
          <a:blip r:embed="rId7"/>
          <a:stretch/>
        </p:blipFill>
        <p:spPr>
          <a:xfrm>
            <a:off x="5226120" y="3243240"/>
            <a:ext cx="1555560" cy="1271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C:\Documents and Settings\Admin\Рабочий стол\oooo.png"/>
          <p:cNvPicPr/>
          <p:nvPr/>
        </p:nvPicPr>
        <p:blipFill>
          <a:blip r:embed="rId8"/>
          <a:stretch/>
        </p:blipFill>
        <p:spPr>
          <a:xfrm>
            <a:off x="101520" y="2733840"/>
            <a:ext cx="2179800" cy="178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C:\Documents and Settings\Admin\Рабочий стол\oooo.png"/>
          <p:cNvPicPr/>
          <p:nvPr/>
        </p:nvPicPr>
        <p:blipFill>
          <a:blip r:embed="rId9"/>
          <a:stretch/>
        </p:blipFill>
        <p:spPr>
          <a:xfrm>
            <a:off x="2120760" y="2724120"/>
            <a:ext cx="2252880" cy="18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C:\Documents and Settings\Admin\Рабочий стол\oooo.png"/>
          <p:cNvPicPr/>
          <p:nvPr/>
        </p:nvPicPr>
        <p:blipFill>
          <a:blip r:embed="rId10"/>
          <a:stretch/>
        </p:blipFill>
        <p:spPr>
          <a:xfrm>
            <a:off x="6526080" y="2751120"/>
            <a:ext cx="22528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чатся сани по ухабам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ед мороз спешит к ребята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4" descr="http://lenagold.narod.ru/fon/clipart/n/nogo/novgod278.png"/>
          <p:cNvPicPr/>
          <p:nvPr/>
        </p:nvPicPr>
        <p:blipFill>
          <a:blip r:embed="rId1"/>
          <a:stretch/>
        </p:blipFill>
        <p:spPr>
          <a:xfrm>
            <a:off x="304920" y="117792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lenagold.narod.ru/fon/clipart/n/nogo/novgod278.png"/>
          <p:cNvPicPr/>
          <p:nvPr/>
        </p:nvPicPr>
        <p:blipFill>
          <a:blip r:embed="rId2"/>
          <a:stretch/>
        </p:blipFill>
        <p:spPr>
          <a:xfrm>
            <a:off x="1042920" y="15890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lenagold.narod.ru/fon/clipart/n/nogo/novgod278.png"/>
          <p:cNvPicPr/>
          <p:nvPr/>
        </p:nvPicPr>
        <p:blipFill>
          <a:blip r:embed="rId3"/>
          <a:stretch/>
        </p:blipFill>
        <p:spPr>
          <a:xfrm>
            <a:off x="2548080" y="117792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://lenagold.narod.ru/fon/clipart/n/nogo/novgod278.png"/>
          <p:cNvPicPr/>
          <p:nvPr/>
        </p:nvPicPr>
        <p:blipFill>
          <a:blip r:embed="rId4"/>
          <a:stretch/>
        </p:blipFill>
        <p:spPr>
          <a:xfrm>
            <a:off x="3432240" y="15494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http://lenagold.narod.ru/fon/clipart/n/nogo/novgod278.png"/>
          <p:cNvPicPr/>
          <p:nvPr/>
        </p:nvPicPr>
        <p:blipFill>
          <a:blip r:embed="rId5"/>
          <a:stretch/>
        </p:blipFill>
        <p:spPr>
          <a:xfrm>
            <a:off x="4522680" y="11779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lenagold.narod.ru/fon/clipart/n/nogo/novgod278.png"/>
          <p:cNvPicPr/>
          <p:nvPr/>
        </p:nvPicPr>
        <p:blipFill>
          <a:blip r:embed="rId6"/>
          <a:stretch/>
        </p:blipFill>
        <p:spPr>
          <a:xfrm>
            <a:off x="5280120" y="1535040"/>
            <a:ext cx="1206360" cy="82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lenagold.narod.ru/fon/clipart/n/nogo/novgod278.png"/>
          <p:cNvPicPr/>
          <p:nvPr/>
        </p:nvPicPr>
        <p:blipFill>
          <a:blip r:embed="rId7"/>
          <a:stretch/>
        </p:blipFill>
        <p:spPr>
          <a:xfrm>
            <a:off x="6632640" y="1252440"/>
            <a:ext cx="1208160" cy="8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lenagold.narod.ru/fon/clipart/n/nogo/novgod278.png"/>
          <p:cNvPicPr/>
          <p:nvPr/>
        </p:nvPicPr>
        <p:blipFill>
          <a:blip r:embed="rId8"/>
          <a:stretch/>
        </p:blipFill>
        <p:spPr>
          <a:xfrm>
            <a:off x="7450200" y="15350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http://lenagold.narod.ru/fon/clipart/n/nogo/novgod278.png"/>
          <p:cNvPicPr/>
          <p:nvPr/>
        </p:nvPicPr>
        <p:blipFill>
          <a:blip r:embed="rId9"/>
          <a:stretch/>
        </p:blipFill>
        <p:spPr>
          <a:xfrm>
            <a:off x="438120" y="266688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lenagold.narod.ru/fon/clipart/n/nogo/novgod278.png"/>
          <p:cNvPicPr/>
          <p:nvPr/>
        </p:nvPicPr>
        <p:blipFill>
          <a:blip r:embed="rId10"/>
          <a:stretch/>
        </p:blipFill>
        <p:spPr>
          <a:xfrm>
            <a:off x="2548080" y="271764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lenagold.narod.ru/fon/clipart/n/nogo/novgod278.png"/>
          <p:cNvPicPr/>
          <p:nvPr/>
        </p:nvPicPr>
        <p:blipFill>
          <a:blip r:embed="rId11"/>
          <a:stretch/>
        </p:blipFill>
        <p:spPr>
          <a:xfrm>
            <a:off x="4827600" y="27176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lenagold.narod.ru/fon/clipart/n/nogo/novgod278.png"/>
          <p:cNvPicPr/>
          <p:nvPr/>
        </p:nvPicPr>
        <p:blipFill>
          <a:blip r:embed="rId12"/>
          <a:stretch/>
        </p:blipFill>
        <p:spPr>
          <a:xfrm>
            <a:off x="6846840" y="27241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enagold.narod.ru/fon/clipart/n/nogo/novgod278.png"/>
          <p:cNvPicPr/>
          <p:nvPr/>
        </p:nvPicPr>
        <p:blipFill>
          <a:blip r:embed="rId13"/>
          <a:stretch/>
        </p:blipFill>
        <p:spPr>
          <a:xfrm>
            <a:off x="1041480" y="31669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lenagold.narod.ru/fon/clipart/n/nogo/novgod278.png"/>
          <p:cNvPicPr/>
          <p:nvPr/>
        </p:nvPicPr>
        <p:blipFill>
          <a:blip r:embed="rId14"/>
          <a:stretch/>
        </p:blipFill>
        <p:spPr>
          <a:xfrm>
            <a:off x="3305160" y="3076560"/>
            <a:ext cx="1206360" cy="820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lenagold.narod.ru/fon/clipart/n/nogo/novgod278.png"/>
          <p:cNvPicPr/>
          <p:nvPr/>
        </p:nvPicPr>
        <p:blipFill>
          <a:blip r:embed="rId15"/>
          <a:stretch/>
        </p:blipFill>
        <p:spPr>
          <a:xfrm>
            <a:off x="5230800" y="310680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lenagold.narod.ru/fon/clipart/n/nogo/novgod278.png"/>
          <p:cNvPicPr/>
          <p:nvPr/>
        </p:nvPicPr>
        <p:blipFill>
          <a:blip r:embed="rId16"/>
          <a:stretch/>
        </p:blipFill>
        <p:spPr>
          <a:xfrm>
            <a:off x="7551720" y="3106800"/>
            <a:ext cx="1206360" cy="820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37800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тернет - ресурс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847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ани, поезд,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enagol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лочный шар  http://by-anna.com/publ/prazdniki/narjady_dlja_jolochki/60-16-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лка со звездой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:/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logs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sdn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m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keduclou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chive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/2010/12/17/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ooking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head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-2011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p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лка    http://blogs.msdn.com/b/ukeducloud/archive/2010/12/17/looking-ahead-2011.asp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неговик  http://fotki.yandex.ru/users/k-tiande/album/171784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негурка   http://by-anna.com/publ/prazdniki/novyj_god/44-2-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мик   http://gallery.yopriceville.com/Free-Clipart-Pictures/Christmas-PNG/Winter_House_with_Snow_PNG_Pi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0680" y="253800"/>
            <a:ext cx="7772400" cy="181908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685800" y="2070000"/>
            <a:ext cx="787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1. Прохлопай и произнеси ритмослогами ритмические картинк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. Щёлкни мышкой – проговори стихи со звучащими жест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3. Сыграй ритм на музыкальном инструмент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*БОЛЬШИЕ КАРТИНКИ – ДЛИННЫЕ ЗВУКИ (ТА), МАЛЕНЬКИЕ КАРТИНКИ – КОРОТКИЕ ЗВУКИ (ТИ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240" y="4482720"/>
            <a:ext cx="78865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ёлочКА, ёлочК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лкаЯ чёлоч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https://img-fotki.yandex.ru/get/6411/34907849.167/0_9da93_b249646e_L.jpg"/>
          <p:cNvPicPr/>
          <p:nvPr/>
        </p:nvPicPr>
        <p:blipFill>
          <a:blip r:embed="rId1"/>
          <a:stretch/>
        </p:blipFill>
        <p:spPr>
          <a:xfrm>
            <a:off x="22068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s://img-fotki.yandex.ru/get/6411/34907849.167/0_9da93_b249646e_L.jpg"/>
          <p:cNvPicPr/>
          <p:nvPr/>
        </p:nvPicPr>
        <p:blipFill>
          <a:blip r:embed="rId2"/>
          <a:stretch/>
        </p:blipFill>
        <p:spPr>
          <a:xfrm>
            <a:off x="98280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img-fotki.yandex.ru/get/6411/34907849.167/0_9da93_b249646e_L.jpg"/>
          <p:cNvPicPr/>
          <p:nvPr/>
        </p:nvPicPr>
        <p:blipFill>
          <a:blip r:embed="rId3"/>
          <a:stretch/>
        </p:blipFill>
        <p:spPr>
          <a:xfrm>
            <a:off x="2268360" y="404640"/>
            <a:ext cx="179892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s://img-fotki.yandex.ru/get/6411/34907849.167/0_9da93_b249646e_L.jpg"/>
          <p:cNvPicPr/>
          <p:nvPr/>
        </p:nvPicPr>
        <p:blipFill>
          <a:blip r:embed="rId4"/>
          <a:stretch/>
        </p:blipFill>
        <p:spPr>
          <a:xfrm>
            <a:off x="419112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-fotki.yandex.ru/get/6411/34907849.167/0_9da93_b249646e_L.jpg"/>
          <p:cNvPicPr/>
          <p:nvPr/>
        </p:nvPicPr>
        <p:blipFill>
          <a:blip r:embed="rId5"/>
          <a:stretch/>
        </p:blipFill>
        <p:spPr>
          <a:xfrm>
            <a:off x="499572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img-fotki.yandex.ru/get/6411/34907849.167/0_9da93_b249646e_L.jpg"/>
          <p:cNvPicPr/>
          <p:nvPr/>
        </p:nvPicPr>
        <p:blipFill>
          <a:blip r:embed="rId6"/>
          <a:stretch/>
        </p:blipFill>
        <p:spPr>
          <a:xfrm>
            <a:off x="6229440" y="314280"/>
            <a:ext cx="187308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s://img-fotki.yandex.ru/get/6411/34907849.167/0_9da93_b249646e_L.jpg"/>
          <p:cNvPicPr/>
          <p:nvPr/>
        </p:nvPicPr>
        <p:blipFill>
          <a:blip r:embed="rId7"/>
          <a:stretch/>
        </p:blipFill>
        <p:spPr>
          <a:xfrm>
            <a:off x="1227240" y="303696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s://img-fotki.yandex.ru/get/6411/34907849.167/0_9da93_b249646e_L.jpg"/>
          <p:cNvPicPr/>
          <p:nvPr/>
        </p:nvPicPr>
        <p:blipFill>
          <a:blip r:embed="rId8"/>
          <a:stretch/>
        </p:blipFill>
        <p:spPr>
          <a:xfrm>
            <a:off x="2647800" y="2271600"/>
            <a:ext cx="1787760" cy="21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img-fotki.yandex.ru/get/6411/34907849.167/0_9da93_b249646e_L.jpg"/>
          <p:cNvPicPr/>
          <p:nvPr/>
        </p:nvPicPr>
        <p:blipFill>
          <a:blip r:embed="rId9"/>
          <a:stretch/>
        </p:blipFill>
        <p:spPr>
          <a:xfrm>
            <a:off x="4435560" y="303696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img-fotki.yandex.ru/get/6411/34907849.167/0_9da93_b249646e_L.jpg"/>
          <p:cNvPicPr/>
          <p:nvPr/>
        </p:nvPicPr>
        <p:blipFill>
          <a:blip r:embed="rId10"/>
          <a:stretch/>
        </p:blipFill>
        <p:spPr>
          <a:xfrm>
            <a:off x="5240160" y="3036960"/>
            <a:ext cx="1151280" cy="138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s://img-fotki.yandex.ru/get/6411/34907849.167/0_9da93_b249646e_L.jpg"/>
          <p:cNvPicPr/>
          <p:nvPr/>
        </p:nvPicPr>
        <p:blipFill>
          <a:blip r:embed="rId11"/>
          <a:stretch/>
        </p:blipFill>
        <p:spPr>
          <a:xfrm>
            <a:off x="6553080" y="2263680"/>
            <a:ext cx="1793880" cy="2156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img-fotki.yandex.ru/get/6411/34907849.167/0_9da93_b249646e_L.jpg"/>
          <p:cNvPicPr/>
          <p:nvPr/>
        </p:nvPicPr>
        <p:blipFill>
          <a:blip r:embed="rId12"/>
          <a:stretch/>
        </p:blipFill>
        <p:spPr>
          <a:xfrm>
            <a:off x="372960" y="3036960"/>
            <a:ext cx="1150920" cy="138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33080" y="4203360"/>
            <a:ext cx="681372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верху звеЗДА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бусы в два ряД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"/>
          <a:stretch/>
        </p:blipFill>
        <p:spPr>
          <a:xfrm>
            <a:off x="36504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2"/>
          <a:stretch/>
        </p:blipFill>
        <p:spPr>
          <a:xfrm>
            <a:off x="112716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3"/>
          <a:stretch/>
        </p:blipFill>
        <p:spPr>
          <a:xfrm>
            <a:off x="233352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4"/>
          <a:stretch/>
        </p:blipFill>
        <p:spPr>
          <a:xfrm>
            <a:off x="316692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5"/>
          <a:stretch/>
        </p:blipFill>
        <p:spPr>
          <a:xfrm>
            <a:off x="23796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6"/>
          <a:stretch/>
        </p:blipFill>
        <p:spPr>
          <a:xfrm>
            <a:off x="100008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7"/>
          <a:stretch/>
        </p:blipFill>
        <p:spPr>
          <a:xfrm>
            <a:off x="4921200" y="36684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8"/>
          <a:stretch/>
        </p:blipFill>
        <p:spPr>
          <a:xfrm>
            <a:off x="240660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9"/>
          <a:stretch/>
        </p:blipFill>
        <p:spPr>
          <a:xfrm>
            <a:off x="320040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0"/>
          <a:stretch/>
        </p:blipFill>
        <p:spPr>
          <a:xfrm>
            <a:off x="4992840" y="209088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331040" y="1930320"/>
            <a:ext cx="1446120" cy="233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331040" y="165240"/>
            <a:ext cx="1446120" cy="2334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ловно в белый пухоВИ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рядился снегоВИК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https://img-fotki.yandex.ru/get/5818/136487634.0/0_6d4f3_a026da61_S"/>
          <p:cNvPicPr/>
          <p:nvPr/>
        </p:nvPicPr>
        <p:blipFill>
          <a:blip r:embed="rId1"/>
          <a:stretch/>
        </p:blipFill>
        <p:spPr>
          <a:xfrm>
            <a:off x="36036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mg-fotki.yandex.ru/get/5818/136487634.0/0_6d4f3_a026da61_S"/>
          <p:cNvPicPr/>
          <p:nvPr/>
        </p:nvPicPr>
        <p:blipFill>
          <a:blip r:embed="rId2"/>
          <a:stretch/>
        </p:blipFill>
        <p:spPr>
          <a:xfrm>
            <a:off x="107460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s://img-fotki.yandex.ru/get/5818/136487634.0/0_6d4f3_a026da61_S"/>
          <p:cNvPicPr/>
          <p:nvPr/>
        </p:nvPicPr>
        <p:blipFill>
          <a:blip r:embed="rId3"/>
          <a:stretch/>
        </p:blipFill>
        <p:spPr>
          <a:xfrm>
            <a:off x="221940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img-fotki.yandex.ru/get/5818/136487634.0/0_6d4f3_a026da61_S"/>
          <p:cNvPicPr/>
          <p:nvPr/>
        </p:nvPicPr>
        <p:blipFill>
          <a:blip r:embed="rId4"/>
          <a:stretch/>
        </p:blipFill>
        <p:spPr>
          <a:xfrm>
            <a:off x="282888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s://img-fotki.yandex.ru/get/5818/136487634.0/0_6d4f3_a026da61_S"/>
          <p:cNvPicPr/>
          <p:nvPr/>
        </p:nvPicPr>
        <p:blipFill>
          <a:blip r:embed="rId5"/>
          <a:stretch/>
        </p:blipFill>
        <p:spPr>
          <a:xfrm>
            <a:off x="3908520" y="10414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img-fotki.yandex.ru/get/5818/136487634.0/0_6d4f3_a026da61_S"/>
          <p:cNvPicPr/>
          <p:nvPr/>
        </p:nvPicPr>
        <p:blipFill>
          <a:blip r:embed="rId6"/>
          <a:stretch/>
        </p:blipFill>
        <p:spPr>
          <a:xfrm>
            <a:off x="462276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s://img-fotki.yandex.ru/get/5818/136487634.0/0_6d4f3_a026da61_S"/>
          <p:cNvPicPr/>
          <p:nvPr/>
        </p:nvPicPr>
        <p:blipFill>
          <a:blip r:embed="rId7"/>
          <a:stretch/>
        </p:blipFill>
        <p:spPr>
          <a:xfrm>
            <a:off x="6102360" y="533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s://img-fotki.yandex.ru/get/5818/136487634.0/0_6d4f3_a026da61_S"/>
          <p:cNvPicPr/>
          <p:nvPr/>
        </p:nvPicPr>
        <p:blipFill>
          <a:blip r:embed="rId8"/>
          <a:stretch/>
        </p:blipFill>
        <p:spPr>
          <a:xfrm>
            <a:off x="51264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s://img-fotki.yandex.ru/get/5818/136487634.0/0_6d4f3_a026da61_S"/>
          <p:cNvPicPr/>
          <p:nvPr/>
        </p:nvPicPr>
        <p:blipFill>
          <a:blip r:embed="rId9"/>
          <a:stretch/>
        </p:blipFill>
        <p:spPr>
          <a:xfrm>
            <a:off x="1227240" y="30160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s://img-fotki.yandex.ru/get/5818/136487634.0/0_6d4f3_a026da61_S"/>
          <p:cNvPicPr/>
          <p:nvPr/>
        </p:nvPicPr>
        <p:blipFill>
          <a:blip r:embed="rId10"/>
          <a:stretch/>
        </p:blipFill>
        <p:spPr>
          <a:xfrm>
            <a:off x="237168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img-fotki.yandex.ru/get/5818/136487634.0/0_6d4f3_a026da61_S"/>
          <p:cNvPicPr/>
          <p:nvPr/>
        </p:nvPicPr>
        <p:blipFill>
          <a:blip r:embed="rId11"/>
          <a:stretch/>
        </p:blipFill>
        <p:spPr>
          <a:xfrm>
            <a:off x="298116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s://img-fotki.yandex.ru/get/5818/136487634.0/0_6d4f3_a026da61_S"/>
          <p:cNvPicPr/>
          <p:nvPr/>
        </p:nvPicPr>
        <p:blipFill>
          <a:blip r:embed="rId12"/>
          <a:stretch/>
        </p:blipFill>
        <p:spPr>
          <a:xfrm>
            <a:off x="406080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img-fotki.yandex.ru/get/5818/136487634.0/0_6d4f3_a026da61_S"/>
          <p:cNvPicPr/>
          <p:nvPr/>
        </p:nvPicPr>
        <p:blipFill>
          <a:blip r:embed="rId13"/>
          <a:stretch/>
        </p:blipFill>
        <p:spPr>
          <a:xfrm>
            <a:off x="477504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s://img-fotki.yandex.ru/get/5818/136487634.0/0_6d4f3_a026da61_S"/>
          <p:cNvPicPr/>
          <p:nvPr/>
        </p:nvPicPr>
        <p:blipFill>
          <a:blip r:embed="rId14"/>
          <a:stretch/>
        </p:blipFill>
        <p:spPr>
          <a:xfrm>
            <a:off x="6254640" y="2508120"/>
            <a:ext cx="2013120" cy="201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81200" y="455292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рядом снежная фигур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девочка снегур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http://pic4you.ru/allimage/y2011/10-03/12216/1247646.png"/>
          <p:cNvPicPr/>
          <p:nvPr/>
        </p:nvPicPr>
        <p:blipFill>
          <a:blip r:embed="rId1"/>
          <a:stretch/>
        </p:blipFill>
        <p:spPr>
          <a:xfrm>
            <a:off x="89208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pic4you.ru/allimage/y2011/10-03/12216/1247646.png"/>
          <p:cNvPicPr/>
          <p:nvPr/>
        </p:nvPicPr>
        <p:blipFill>
          <a:blip r:embed="rId2"/>
          <a:stretch/>
        </p:blipFill>
        <p:spPr>
          <a:xfrm>
            <a:off x="171612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pic4you.ru/allimage/y2011/10-03/12216/1247646.png"/>
          <p:cNvPicPr/>
          <p:nvPr/>
        </p:nvPicPr>
        <p:blipFill>
          <a:blip r:embed="rId3"/>
          <a:stretch/>
        </p:blipFill>
        <p:spPr>
          <a:xfrm>
            <a:off x="278280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pic4you.ru/allimage/y2011/10-03/12216/1247646.png"/>
          <p:cNvPicPr/>
          <p:nvPr/>
        </p:nvPicPr>
        <p:blipFill>
          <a:blip r:embed="rId4"/>
          <a:stretch/>
        </p:blipFill>
        <p:spPr>
          <a:xfrm>
            <a:off x="35877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ic4you.ru/allimage/y2011/10-03/12216/1247646.png"/>
          <p:cNvPicPr/>
          <p:nvPr/>
        </p:nvPicPr>
        <p:blipFill>
          <a:blip r:embed="rId5"/>
          <a:stretch/>
        </p:blipFill>
        <p:spPr>
          <a:xfrm>
            <a:off x="475128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pic4you.ru/allimage/y2011/10-03/12216/1247646.png"/>
          <p:cNvPicPr/>
          <p:nvPr/>
        </p:nvPicPr>
        <p:blipFill>
          <a:blip r:embed="rId6"/>
          <a:stretch/>
        </p:blipFill>
        <p:spPr>
          <a:xfrm>
            <a:off x="54579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pic4you.ru/allimage/y2011/10-03/12216/1247646.png"/>
          <p:cNvPicPr/>
          <p:nvPr/>
        </p:nvPicPr>
        <p:blipFill>
          <a:blip r:embed="rId7"/>
          <a:stretch/>
        </p:blipFill>
        <p:spPr>
          <a:xfrm>
            <a:off x="672624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pic4you.ru/allimage/y2011/10-03/12216/1247646.png"/>
          <p:cNvPicPr/>
          <p:nvPr/>
        </p:nvPicPr>
        <p:blipFill>
          <a:blip r:embed="rId8"/>
          <a:stretch/>
        </p:blipFill>
        <p:spPr>
          <a:xfrm>
            <a:off x="74073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pic4you.ru/allimage/y2011/10-03/12216/1247646.png"/>
          <p:cNvPicPr/>
          <p:nvPr/>
        </p:nvPicPr>
        <p:blipFill>
          <a:blip r:embed="rId9"/>
          <a:stretch/>
        </p:blipFill>
        <p:spPr>
          <a:xfrm>
            <a:off x="824040" y="2914560"/>
            <a:ext cx="846000" cy="166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pic4you.ru/allimage/y2011/10-03/12216/1247646.png"/>
          <p:cNvPicPr/>
          <p:nvPr/>
        </p:nvPicPr>
        <p:blipFill>
          <a:blip r:embed="rId10"/>
          <a:stretch/>
        </p:blipFill>
        <p:spPr>
          <a:xfrm>
            <a:off x="1647720" y="290844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pic4you.ru/allimage/y2011/10-03/12216/1247646.png"/>
          <p:cNvPicPr/>
          <p:nvPr/>
        </p:nvPicPr>
        <p:blipFill>
          <a:blip r:embed="rId11"/>
          <a:stretch/>
        </p:blipFill>
        <p:spPr>
          <a:xfrm>
            <a:off x="2643120" y="290844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pic4you.ru/allimage/y2011/10-03/12216/1247646.png"/>
          <p:cNvPicPr/>
          <p:nvPr/>
        </p:nvPicPr>
        <p:blipFill>
          <a:blip r:embed="rId12"/>
          <a:stretch/>
        </p:blipFill>
        <p:spPr>
          <a:xfrm>
            <a:off x="3398760" y="2914560"/>
            <a:ext cx="846360" cy="1663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pic4you.ru/allimage/y2011/10-03/12216/1247646.png"/>
          <p:cNvPicPr/>
          <p:nvPr/>
        </p:nvPicPr>
        <p:blipFill>
          <a:blip r:embed="rId13"/>
          <a:stretch/>
        </p:blipFill>
        <p:spPr>
          <a:xfrm>
            <a:off x="4567320" y="290844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pic4you.ru/allimage/y2011/10-03/12216/1247646.png"/>
          <p:cNvPicPr/>
          <p:nvPr/>
        </p:nvPicPr>
        <p:blipFill>
          <a:blip r:embed="rId14"/>
          <a:stretch/>
        </p:blipFill>
        <p:spPr>
          <a:xfrm>
            <a:off x="5264280" y="287028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pic4you.ru/allimage/y2011/10-03/12216/1247646.png"/>
          <p:cNvPicPr/>
          <p:nvPr/>
        </p:nvPicPr>
        <p:blipFill>
          <a:blip r:embed="rId15"/>
          <a:stretch/>
        </p:blipFill>
        <p:spPr>
          <a:xfrm>
            <a:off x="6561000" y="287028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pic4you.ru/allimage/y2011/10-03/12216/1247646.png"/>
          <p:cNvPicPr/>
          <p:nvPr/>
        </p:nvPicPr>
        <p:blipFill>
          <a:blip r:embed="rId16"/>
          <a:stretch/>
        </p:blipFill>
        <p:spPr>
          <a:xfrm>
            <a:off x="7308720" y="2870280"/>
            <a:ext cx="846360" cy="166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ИНЬ – ДОН, ДИНЬ – ДОН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лон смеха, шуток ДО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http://pic4you.ru/allimage/y2011/11-26/12216/1444428.png"/>
          <p:cNvPicPr/>
          <p:nvPr/>
        </p:nvPicPr>
        <p:blipFill>
          <a:blip r:embed="rId1"/>
          <a:stretch/>
        </p:blipFill>
        <p:spPr>
          <a:xfrm>
            <a:off x="817560" y="939960"/>
            <a:ext cx="1778040" cy="157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pic4you.ru/allimage/y2011/11-26/12216/1444428.png"/>
          <p:cNvPicPr/>
          <p:nvPr/>
        </p:nvPicPr>
        <p:blipFill>
          <a:blip r:embed="rId2"/>
          <a:stretch/>
        </p:blipFill>
        <p:spPr>
          <a:xfrm>
            <a:off x="2747880" y="1015920"/>
            <a:ext cx="1776600" cy="157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pic4you.ru/allimage/y2011/11-26/12216/1444428.png"/>
          <p:cNvPicPr/>
          <p:nvPr/>
        </p:nvPicPr>
        <p:blipFill>
          <a:blip r:embed="rId3"/>
          <a:stretch/>
        </p:blipFill>
        <p:spPr>
          <a:xfrm>
            <a:off x="5087880" y="1015920"/>
            <a:ext cx="1776600" cy="157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pic4you.ru/allimage/y2011/11-26/12216/1444428.png"/>
          <p:cNvPicPr/>
          <p:nvPr/>
        </p:nvPicPr>
        <p:blipFill>
          <a:blip r:embed="rId4"/>
          <a:stretch/>
        </p:blipFill>
        <p:spPr>
          <a:xfrm>
            <a:off x="7077240" y="1015920"/>
            <a:ext cx="1777680" cy="157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pic4you.ru/allimage/y2011/11-26/12216/1444428.png"/>
          <p:cNvPicPr/>
          <p:nvPr/>
        </p:nvPicPr>
        <p:blipFill>
          <a:blip r:embed="rId5"/>
          <a:stretch/>
        </p:blipFill>
        <p:spPr>
          <a:xfrm>
            <a:off x="52560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pic4you.ru/allimage/y2011/11-26/12216/1444428.png"/>
          <p:cNvPicPr/>
          <p:nvPr/>
        </p:nvPicPr>
        <p:blipFill>
          <a:blip r:embed="rId6"/>
          <a:stretch/>
        </p:blipFill>
        <p:spPr>
          <a:xfrm>
            <a:off x="137160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pic4you.ru/allimage/y2011/11-26/12216/1444428.png"/>
          <p:cNvPicPr/>
          <p:nvPr/>
        </p:nvPicPr>
        <p:blipFill>
          <a:blip r:embed="rId7"/>
          <a:stretch/>
        </p:blipFill>
        <p:spPr>
          <a:xfrm>
            <a:off x="256392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pic4you.ru/allimage/y2011/11-26/12216/1444428.png"/>
          <p:cNvPicPr/>
          <p:nvPr/>
        </p:nvPicPr>
        <p:blipFill>
          <a:blip r:embed="rId8"/>
          <a:stretch/>
        </p:blipFill>
        <p:spPr>
          <a:xfrm>
            <a:off x="3456000" y="2946240"/>
            <a:ext cx="13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pic4you.ru/allimage/y2011/11-26/12216/1444428.png"/>
          <p:cNvPicPr/>
          <p:nvPr/>
        </p:nvPicPr>
        <p:blipFill>
          <a:blip r:embed="rId9"/>
          <a:stretch/>
        </p:blipFill>
        <p:spPr>
          <a:xfrm>
            <a:off x="4710240" y="2946240"/>
            <a:ext cx="137448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4you.ru/allimage/y2011/11-26/12216/1444428.png"/>
          <p:cNvPicPr/>
          <p:nvPr/>
        </p:nvPicPr>
        <p:blipFill>
          <a:blip r:embed="rId10"/>
          <a:stretch/>
        </p:blipFill>
        <p:spPr>
          <a:xfrm>
            <a:off x="5729400" y="2946240"/>
            <a:ext cx="13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pic4you.ru/allimage/y2011/11-26/12216/1444428.png"/>
          <p:cNvPicPr/>
          <p:nvPr/>
        </p:nvPicPr>
        <p:blipFill>
          <a:blip r:embed="rId11"/>
          <a:stretch/>
        </p:blipFill>
        <p:spPr>
          <a:xfrm>
            <a:off x="7250040" y="2768760"/>
            <a:ext cx="177660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летела вдруг пурГ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кружила, замеЛ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http://gallery.yopriceville.com/var/resizes/Free-Clipart-Pictures/Christmas-PNG/Winter_House_with_Snow_PNG_Picture.png?m=1399681669"/>
          <p:cNvPicPr/>
          <p:nvPr/>
        </p:nvPicPr>
        <p:blipFill>
          <a:blip r:embed="rId1"/>
          <a:stretch/>
        </p:blipFill>
        <p:spPr>
          <a:xfrm>
            <a:off x="301680" y="121428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gallery.yopriceville.com/var/resizes/Free-Clipart-Pictures/Christmas-PNG/Winter_House_with_Snow_PNG_Picture.png?m=1399681669"/>
          <p:cNvPicPr/>
          <p:nvPr/>
        </p:nvPicPr>
        <p:blipFill>
          <a:blip r:embed="rId2"/>
          <a:stretch/>
        </p:blipFill>
        <p:spPr>
          <a:xfrm>
            <a:off x="1198440" y="1450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gallery.yopriceville.com/var/resizes/Free-Clipart-Pictures/Christmas-PNG/Winter_House_with_Snow_PNG_Picture.png?m=1399681669"/>
          <p:cNvPicPr/>
          <p:nvPr/>
        </p:nvPicPr>
        <p:blipFill>
          <a:blip r:embed="rId3"/>
          <a:stretch/>
        </p:blipFill>
        <p:spPr>
          <a:xfrm>
            <a:off x="2684520" y="113040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gallery.yopriceville.com/var/resizes/Free-Clipart-Pictures/Christmas-PNG/Winter_House_with_Snow_PNG_Picture.png?m=1399681669"/>
          <p:cNvPicPr/>
          <p:nvPr/>
        </p:nvPicPr>
        <p:blipFill>
          <a:blip r:embed="rId4"/>
          <a:stretch/>
        </p:blipFill>
        <p:spPr>
          <a:xfrm>
            <a:off x="3421080" y="1477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gallery.yopriceville.com/var/resizes/Free-Clipart-Pictures/Christmas-PNG/Winter_House_with_Snow_PNG_Picture.png?m=1399681669"/>
          <p:cNvPicPr/>
          <p:nvPr/>
        </p:nvPicPr>
        <p:blipFill>
          <a:blip r:embed="rId5"/>
          <a:stretch/>
        </p:blipFill>
        <p:spPr>
          <a:xfrm>
            <a:off x="4902120" y="111132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gallery.yopriceville.com/var/resizes/Free-Clipart-Pictures/Christmas-PNG/Winter_House_with_Snow_PNG_Picture.png?m=1399681669"/>
          <p:cNvPicPr/>
          <p:nvPr/>
        </p:nvPicPr>
        <p:blipFill>
          <a:blip r:embed="rId6"/>
          <a:stretch/>
        </p:blipFill>
        <p:spPr>
          <a:xfrm>
            <a:off x="5681520" y="1450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gallery.yopriceville.com/var/resizes/Free-Clipart-Pictures/Christmas-PNG/Winter_House_with_Snow_PNG_Picture.png?m=1399681669"/>
          <p:cNvPicPr/>
          <p:nvPr/>
        </p:nvPicPr>
        <p:blipFill>
          <a:blip r:embed="rId7"/>
          <a:stretch/>
        </p:blipFill>
        <p:spPr>
          <a:xfrm>
            <a:off x="7034040" y="944640"/>
            <a:ext cx="2025720" cy="146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gallery.yopriceville.com/var/resizes/Free-Clipart-Pictures/Christmas-PNG/Winter_House_with_Snow_PNG_Picture.png?m=1399681669"/>
          <p:cNvPicPr/>
          <p:nvPr/>
        </p:nvPicPr>
        <p:blipFill>
          <a:blip r:embed="rId8"/>
          <a:stretch/>
        </p:blipFill>
        <p:spPr>
          <a:xfrm>
            <a:off x="243000" y="3254400"/>
            <a:ext cx="1278000" cy="92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gallery.yopriceville.com/var/resizes/Free-Clipart-Pictures/Christmas-PNG/Winter_House_with_Snow_PNG_Picture.png?m=1399681669"/>
          <p:cNvPicPr/>
          <p:nvPr/>
        </p:nvPicPr>
        <p:blipFill>
          <a:blip r:embed="rId9"/>
          <a:stretch/>
        </p:blipFill>
        <p:spPr>
          <a:xfrm>
            <a:off x="2593800" y="3117960"/>
            <a:ext cx="1152720" cy="834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gallery.yopriceville.com/var/resizes/Free-Clipart-Pictures/Christmas-PNG/Winter_House_with_Snow_PNG_Picture.png?m=1399681669"/>
          <p:cNvPicPr/>
          <p:nvPr/>
        </p:nvPicPr>
        <p:blipFill>
          <a:blip r:embed="rId10"/>
          <a:stretch/>
        </p:blipFill>
        <p:spPr>
          <a:xfrm>
            <a:off x="3289320" y="335124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gallery.yopriceville.com/var/resizes/Free-Clipart-Pictures/Christmas-PNG/Winter_House_with_Snow_PNG_Picture.png?m=1399681669"/>
          <p:cNvPicPr/>
          <p:nvPr/>
        </p:nvPicPr>
        <p:blipFill>
          <a:blip r:embed="rId11"/>
          <a:stretch/>
        </p:blipFill>
        <p:spPr>
          <a:xfrm>
            <a:off x="4902120" y="307008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gallery.yopriceville.com/var/resizes/Free-Clipart-Pictures/Christmas-PNG/Winter_House_with_Snow_PNG_Picture.png?m=1399681669"/>
          <p:cNvPicPr/>
          <p:nvPr/>
        </p:nvPicPr>
        <p:blipFill>
          <a:blip r:embed="rId12"/>
          <a:stretch/>
        </p:blipFill>
        <p:spPr>
          <a:xfrm>
            <a:off x="5756400" y="3351240"/>
            <a:ext cx="1277640" cy="92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gallery.yopriceville.com/var/resizes/Free-Clipart-Pictures/Christmas-PNG/Winter_House_with_Snow_PNG_Picture.png?m=1399681669"/>
          <p:cNvPicPr/>
          <p:nvPr/>
        </p:nvPicPr>
        <p:blipFill>
          <a:blip r:embed="rId13"/>
          <a:stretch/>
        </p:blipFill>
        <p:spPr>
          <a:xfrm>
            <a:off x="1068480" y="353376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gallery.yopriceville.com/var/resizes/Free-Clipart-Pictures/Christmas-PNG/Winter_House_with_Snow_PNG_Picture.png?m=1399681669"/>
          <p:cNvPicPr/>
          <p:nvPr/>
        </p:nvPicPr>
        <p:blipFill>
          <a:blip r:embed="rId14"/>
          <a:stretch/>
        </p:blipFill>
        <p:spPr>
          <a:xfrm>
            <a:off x="7159680" y="2763720"/>
            <a:ext cx="202572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самоЛЁТ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нём летит пиЛО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http://lenagold.narod.ru/fon/clipart/d/dedm/dedmoroz99.png"/>
          <p:cNvPicPr/>
          <p:nvPr/>
        </p:nvPicPr>
        <p:blipFill>
          <a:blip r:embed="rId1"/>
          <a:stretch/>
        </p:blipFill>
        <p:spPr>
          <a:xfrm>
            <a:off x="390600" y="1162080"/>
            <a:ext cx="1138320" cy="103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lenagold.narod.ru/fon/clipart/d/dedm/dedmoroz99.png"/>
          <p:cNvPicPr/>
          <p:nvPr/>
        </p:nvPicPr>
        <p:blipFill>
          <a:blip r:embed="rId2"/>
          <a:stretch/>
        </p:blipFill>
        <p:spPr>
          <a:xfrm>
            <a:off x="1298520" y="1314360"/>
            <a:ext cx="1138320" cy="104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lenagold.narod.ru/fon/clipart/d/dedm/dedmoroz99.png"/>
          <p:cNvPicPr/>
          <p:nvPr/>
        </p:nvPicPr>
        <p:blipFill>
          <a:blip r:embed="rId3"/>
          <a:stretch/>
        </p:blipFill>
        <p:spPr>
          <a:xfrm>
            <a:off x="2652840" y="1162080"/>
            <a:ext cx="1136520" cy="1039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lenagold.narod.ru/fon/clipart/d/dedm/dedmoroz99.png"/>
          <p:cNvPicPr/>
          <p:nvPr/>
        </p:nvPicPr>
        <p:blipFill>
          <a:blip r:embed="rId4"/>
          <a:stretch/>
        </p:blipFill>
        <p:spPr>
          <a:xfrm>
            <a:off x="3627360" y="1314360"/>
            <a:ext cx="1138320" cy="1040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lenagold.narod.ru/fon/clipart/d/dedm/dedmoroz99.png"/>
          <p:cNvPicPr/>
          <p:nvPr/>
        </p:nvPicPr>
        <p:blipFill>
          <a:blip r:embed="rId5"/>
          <a:stretch/>
        </p:blipFill>
        <p:spPr>
          <a:xfrm>
            <a:off x="5187960" y="662040"/>
            <a:ext cx="1944720" cy="1778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lenagold.narod.ru/fon/clipart/d/dedm/dedmoroz99.png"/>
          <p:cNvPicPr/>
          <p:nvPr/>
        </p:nvPicPr>
        <p:blipFill>
          <a:blip r:embed="rId6"/>
          <a:stretch/>
        </p:blipFill>
        <p:spPr>
          <a:xfrm>
            <a:off x="620640" y="3119400"/>
            <a:ext cx="1138320" cy="103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lenagold.narod.ru/fon/clipart/d/dedm/dedmoroz99.png"/>
          <p:cNvPicPr/>
          <p:nvPr/>
        </p:nvPicPr>
        <p:blipFill>
          <a:blip r:embed="rId7"/>
          <a:stretch/>
        </p:blipFill>
        <p:spPr>
          <a:xfrm>
            <a:off x="1528920" y="3271680"/>
            <a:ext cx="1137960" cy="1040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lenagold.narod.ru/fon/clipart/d/dedm/dedmoroz99.png"/>
          <p:cNvPicPr/>
          <p:nvPr/>
        </p:nvPicPr>
        <p:blipFill>
          <a:blip r:embed="rId8"/>
          <a:stretch/>
        </p:blipFill>
        <p:spPr>
          <a:xfrm>
            <a:off x="2881440" y="3119400"/>
            <a:ext cx="1137960" cy="1039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lenagold.narod.ru/fon/clipart/d/dedm/dedmoroz99.png"/>
          <p:cNvPicPr/>
          <p:nvPr/>
        </p:nvPicPr>
        <p:blipFill>
          <a:blip r:embed="rId9"/>
          <a:stretch/>
        </p:blipFill>
        <p:spPr>
          <a:xfrm>
            <a:off x="3857760" y="3271680"/>
            <a:ext cx="11379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lenagold.narod.ru/fon/clipart/d/dedm/dedmoroz99.png"/>
          <p:cNvPicPr/>
          <p:nvPr/>
        </p:nvPicPr>
        <p:blipFill>
          <a:blip r:embed="rId10"/>
          <a:stretch/>
        </p:blipFill>
        <p:spPr>
          <a:xfrm>
            <a:off x="5418000" y="2620800"/>
            <a:ext cx="1944720" cy="17766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331040" y="165240"/>
            <a:ext cx="1446120" cy="2334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483320" y="1976400"/>
            <a:ext cx="1446480" cy="2335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4:28:54Z</dcterms:created>
  <dc:creator>Инна</dc:creator>
  <dc:description/>
  <dc:language>en-US</dc:language>
  <cp:lastModifiedBy>USER</cp:lastModifiedBy>
  <dcterms:modified xsi:type="dcterms:W3CDTF">2023-09-28T11:22:16Z</dcterms:modified>
  <cp:revision>36</cp:revision>
  <dc:subject/>
  <dc:title>Презентация PowerPoint</dc:title>
</cp:coreProperties>
</file>