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6A3-F8EB-4E7B-AD01-C9E72588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06E-0E18-4C52-8BBC-29DC55E4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8EE-BB33-4915-B5F4-C86E3A76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A72-589C-498F-A66D-3C5BEE7D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FA1-AB7D-45FC-8192-C57DD088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3C4-B5E4-4A01-9172-86D7E5CB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8D4-68C1-4D3A-B5FF-4A301E9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A15-C1DD-45BE-A620-E930AAEE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DDD-6362-4E4A-9AAB-46542AA5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A42-A0DC-4D9B-BE65-F0ECFBF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C6D-CD3B-4D2F-8A23-65FD64E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D46-ADB5-4974-80D8-0B91F890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8C56-4F1C-4B72-9A7C-27AFD70C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и по запросу презентация для детей хохлома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-304920" y="0"/>
            <a:ext cx="85345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08:03:53Z</dcterms:created>
  <dc:creator>User</dc:creator>
  <dc:description/>
  <dc:language>en-US</dc:language>
  <cp:lastModifiedBy>Сотрудник</cp:lastModifiedBy>
  <dcterms:modified xsi:type="dcterms:W3CDTF">2017-04-06T08:21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