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05B-CBBB-4F4E-A3B2-B0A6B94F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0AE-4E8D-4E37-BD6B-CEECE5CF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5A7-39BF-4D5F-8631-D7C35A73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1F2-B20B-4CF1-B5B0-7C3E049F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175-DD67-4E12-9EC5-953F5E08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BC4-748B-42AD-89E4-BB27D16F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374-4038-486F-BCB2-D1E017EB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F2B-B648-4B43-9AC5-4FDB910B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B0D-46E4-4564-BA1D-17983A45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5C2-4E25-4D05-AE67-34ABF5B7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F39-856A-4DB7-A6EA-D178DBF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869-B8F4-4CEE-AF0B-347E940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4BC3-F28D-47C6-A455-DE9F96638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и по запросу презентация для детей хохлома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-304920" y="0"/>
            <a:ext cx="85345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и по запросу презентация хохло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6T08:03:53Z</dcterms:created>
  <dc:creator>User</dc:creator>
  <dc:description/>
  <dc:language>en-US</dc:language>
  <cp:lastModifiedBy>Сотрудник</cp:lastModifiedBy>
  <dcterms:modified xsi:type="dcterms:W3CDTF">2017-04-06T08:21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