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C18-0C5A-4F7E-BECB-24BBFAEC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727B-C08C-4431-9E15-2C60BF1E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CF7E-C556-4008-9BC1-7D51216E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E441-A1F0-440E-B108-2AFA06CF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34A8-2032-4DA4-B1CB-01A03C93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8FB6-7EFA-42DB-81E9-561C877B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2E3-A57C-4565-BC09-82C89C44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7359-8F77-4115-ADEB-03B0DCFC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26FE-DC6B-4106-A111-41FC9674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7F4-C892-4596-9D23-E5BA28A6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A643-B0A2-4B38-A59B-5720BA20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8ED1-F5D6-4088-AC51-BE48BDE6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C8B8-39D2-402F-8086-D20ED694F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и по запросу презентация для детей хохлома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-304920" y="0"/>
            <a:ext cx="853452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6T08:03:53Z</dcterms:created>
  <dc:creator>User</dc:creator>
  <dc:description/>
  <dc:language>en-US</dc:language>
  <cp:lastModifiedBy>Сотрудник</cp:lastModifiedBy>
  <dcterms:modified xsi:type="dcterms:W3CDTF">2017-04-06T08:21:1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