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gif" ContentType="image/gif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607-677A-457C-AAC9-7A0F4DA08A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EE0E-9F95-4A6D-BC91-83B712E65D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D23E-3E1B-4B77-81DF-1A755996F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2282-DC3A-4E70-9802-A83B3E766C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4B2A-928E-49C2-B090-520322165A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883-4C99-4856-A7AB-CB90124A2B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A4C0-BB1F-42F0-99E7-05225833D6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8972-CAE0-4DD7-9CA1-2B126DB6E4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BDDE-7B86-4312-A288-F4F869E4BE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478E-9E90-4FF8-B196-01B7F81021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181D-A954-47F1-BA5A-1DF605D464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F95-E6C0-4885-A461-37EAFB3F69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0CD8-E259-460C-BDD5-3B0C1C5689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9F46-0714-4AD5-AB22-F905F3CD46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0AE9-873D-4A98-8BDC-33A0C7CCDB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8C24-A525-46D3-BE0D-857A228FE3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1398-6605-47FE-A26B-51B809ED57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1615-09D9-42D1-8160-81E7246B9D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7D86-4C8B-444B-866B-8C32C590E2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B74F-77B0-4F96-B228-078C42358E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4EDD-10F4-4207-9095-431D00F6E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3F88-CC46-44E5-8B7C-BCE5B34929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A4E-C4BC-4A0A-A391-33A2DE2596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409-1E90-4A21-9D7B-18646115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D72-A2A7-4EB3-9512-2C5D7862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F8D-BC00-4752-A39E-0E99C1F5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30A-23E2-4BEA-A308-B689301F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E83F-A2F1-419F-82AD-DF8A8AF5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5D60-C5FC-4E37-86E0-86F0688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8885-4206-417E-A8CA-A6DFD103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F81C-BC5D-4E7C-82E6-39DA7225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FCB-85D1-456E-855F-5ED946ED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AE0C-6597-4FE5-B6E5-AA5B1417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DA11-FAB4-430D-8F00-2DFFB10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4D4-187F-4624-B18A-5611D2D5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0776-AF49-47F3-A0EB-5F696988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1891-5494-44FC-BFE5-9EF594B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8EAD-1A62-43AA-98BC-D6CFF850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5677-D709-4CB6-B564-744C0A97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0D9E-E406-4C22-8357-6C35BDCC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AFE-8A6B-4707-BA1E-96A02CBF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26C-9BC9-48D1-89B2-6B31889C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CBB-3738-4A11-98BE-89E6CFBF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EDB-68C5-4EC3-86D4-ECEBD426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FE1-1142-4320-B366-3E57DF3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CAA-00AE-4044-AEBE-6639564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3EF-3848-4A4E-B98A-3ED5331F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0770-598B-43C0-8774-7CC487FA5A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A122-22D4-4DEF-8D45-28289694E3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5440" y="987480"/>
            <a:ext cx="9204480" cy="3133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379440" y="1989000"/>
            <a:ext cx="8489880" cy="25196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6090840" y="54450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рас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84360" y="1341360"/>
            <a:ext cx="8021520" cy="3672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6593760" y="5300640"/>
            <a:ext cx="17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руч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6133680" y="5445000"/>
            <a:ext cx="24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циркул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2" descr="Ребусы с ответами 4 класс - Большой архив книг"/>
          <p:cNvPicPr/>
          <p:nvPr/>
        </p:nvPicPr>
        <p:blipFill>
          <a:blip r:embed="rId1"/>
          <a:stretch/>
        </p:blipFill>
        <p:spPr>
          <a:xfrm>
            <a:off x="684360" y="1773360"/>
            <a:ext cx="7939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6220800" y="5516640"/>
            <a:ext cx="25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блож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11280" y="1773360"/>
            <a:ext cx="80802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555480" y="1413000"/>
            <a:ext cx="7836120" cy="33843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7174800" y="530064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6900120" y="5300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дос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84360" y="1628640"/>
            <a:ext cx="7761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6234840" y="515772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учебни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ребусы"/>
          <p:cNvPicPr/>
          <p:nvPr/>
        </p:nvPicPr>
        <p:blipFill>
          <a:blip r:embed="rId1"/>
          <a:stretch/>
        </p:blipFill>
        <p:spPr>
          <a:xfrm>
            <a:off x="2627280" y="836640"/>
            <a:ext cx="30243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ребусы"/>
          <p:cNvPicPr/>
          <p:nvPr/>
        </p:nvPicPr>
        <p:blipFill>
          <a:blip r:embed="rId1"/>
          <a:stretch/>
        </p:blipFill>
        <p:spPr>
          <a:xfrm>
            <a:off x="611280" y="1773360"/>
            <a:ext cx="8075520" cy="29509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6064920" y="5229360"/>
            <a:ext cx="27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угольни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ребусы"/>
          <p:cNvPicPr/>
          <p:nvPr/>
        </p:nvPicPr>
        <p:blipFill>
          <a:blip r:embed="rId1"/>
          <a:stretch/>
        </p:blipFill>
        <p:spPr>
          <a:xfrm>
            <a:off x="900000" y="1413000"/>
            <a:ext cx="7481880" cy="3168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6669720" y="5229360"/>
            <a:ext cx="18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счёт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684440" y="62064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4617b"/>
                </a:solidFill>
                <a:latin typeface="Constantia"/>
              </a:rPr>
              <a:t>Кроссворд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Picture 2" descr="Как создать высоко посещаемый блог Заряжайте мозги без сникерса! (comp.inet.miron) : Рассылка : Subscribe.Ru"/>
          <p:cNvPicPr/>
          <p:nvPr/>
        </p:nvPicPr>
        <p:blipFill>
          <a:blip r:embed="rId1"/>
          <a:stretch/>
        </p:blipFill>
        <p:spPr>
          <a:xfrm>
            <a:off x="4140360" y="1989000"/>
            <a:ext cx="3662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50920" y="2924280"/>
          <a:ext cx="8642160" cy="841320"/>
        </p:xfrm>
        <a:graphic>
          <a:graphicData uri="http://schemas.openxmlformats.org/drawingml/2006/table">
            <a:tbl>
              <a:tblPr/>
              <a:tblGrid>
                <a:gridCol w="479160"/>
                <a:gridCol w="479520"/>
                <a:gridCol w="479520"/>
                <a:gridCol w="479520"/>
                <a:gridCol w="477720"/>
                <a:gridCol w="479520"/>
                <a:gridCol w="479160"/>
                <a:gridCol w="479520"/>
                <a:gridCol w="480960"/>
                <a:gridCol w="481320"/>
                <a:gridCol w="480960"/>
                <a:gridCol w="479160"/>
                <a:gridCol w="481320"/>
                <a:gridCol w="480960"/>
                <a:gridCol w="480960"/>
                <a:gridCol w="480960"/>
                <a:gridCol w="480960"/>
                <a:gridCol w="480960"/>
              </a:tblGrid>
              <a:tr h="841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 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1126440" y="1560240"/>
            <a:ext cx="620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карточк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1116000" y="1628640"/>
            <a:ext cx="316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оссворд 1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лощад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Дроб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Расстояние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Чис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Цифры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Квадрат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нч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5219640" y="1628640"/>
            <a:ext cx="280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оссворд 2: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Врем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Скорост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Расстояние  4.Тысяча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Нул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Тонна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орчун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440880" y="765000"/>
            <a:ext cx="22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Календарно тематическое планирование 2 класса по физкультуре фгос - Большой архив учебников"/>
          <p:cNvPicPr/>
          <p:nvPr/>
        </p:nvPicPr>
        <p:blipFill>
          <a:blip r:embed="rId1"/>
          <a:stretch/>
        </p:blipFill>
        <p:spPr>
          <a:xfrm>
            <a:off x="971640" y="907920"/>
            <a:ext cx="72961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smile. - Learn (Изучить) Английский - italki Notebook (Записная книжка Italki)"/>
          <p:cNvPicPr/>
          <p:nvPr/>
        </p:nvPicPr>
        <p:blipFill>
          <a:blip r:embed="rId1"/>
          <a:stretch/>
        </p:blipFill>
        <p:spPr>
          <a:xfrm>
            <a:off x="2268360" y="1268280"/>
            <a:ext cx="48006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823320" y="765000"/>
            <a:ext cx="38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b5395"/>
                </a:solidFill>
                <a:latin typeface="Constantia"/>
              </a:rPr>
              <a:t>Задачи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1042920" y="2795040"/>
            <a:ext cx="75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я и Саша подсчитывали, сколько дней в четырёх годах, следующих друг за другом. У Вани получилось 1460 дней, а у Саши - 1461 день. Кто из мальчиков посчитал неправильно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826920" y="2005200"/>
            <a:ext cx="74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15, 8, 5, 13 лет. Их имена Ваня, Оля, Витя, Гена. Сколько лет каждому из них, если один мальчик ходит в детский сад, Ваня старше Оли, если сложить возраст Вани и Вити, число будет делиться на 3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611280" y="16812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ух крышах сидели 16 голубей. После того как с первой на вторую крышу перелетели 5 голубей, а со второй на первую 2 голубя, на обеих крышах голубей стало поровну. Сколько голубей на каждой крыше было сначал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076400" y="549360"/>
            <a:ext cx="76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b5395"/>
                </a:solidFill>
                <a:latin typeface="Constantia"/>
              </a:rPr>
              <a:t>Физминутка 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Лайма Вайкуле - Что манит птицу (1).mp3" descr=""/>
          <p:cNvPicPr/>
          <p:nvPr/>
        </p:nvPicPr>
        <p:blipFill>
          <a:blip r:embed="rId1"/>
          <a:stretch/>
        </p:blipFill>
        <p:spPr>
          <a:xfrm>
            <a:off x="7885080" y="573264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Птицы Анимашки, анимационные картинки для личных дневников, …"/>
          <p:cNvPicPr/>
          <p:nvPr/>
        </p:nvPicPr>
        <p:blipFill>
          <a:blip r:embed="rId2"/>
          <a:stretch/>
        </p:blipFill>
        <p:spPr>
          <a:xfrm>
            <a:off x="2771640" y="2637000"/>
            <a:ext cx="345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39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extBox 1" descr=""/>
          <p:cNvPicPr/>
          <p:nvPr/>
        </p:nvPicPr>
        <p:blipFill>
          <a:blip r:embed="rId1"/>
          <a:stretch/>
        </p:blipFill>
        <p:spPr>
          <a:xfrm>
            <a:off x="1195560" y="1835280"/>
            <a:ext cx="7272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Ребусы с ответами 4 класс - Большой архив книг"/>
          <p:cNvPicPr/>
          <p:nvPr/>
        </p:nvPicPr>
        <p:blipFill>
          <a:blip r:embed="rId1"/>
          <a:stretch/>
        </p:blipFill>
        <p:spPr>
          <a:xfrm>
            <a:off x="468360" y="1916280"/>
            <a:ext cx="8088120" cy="3097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5779440" y="544500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источ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826920" y="1557360"/>
            <a:ext cx="7418520" cy="32338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6336000" y="5373720"/>
            <a:ext cx="14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л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4:59:56Z</dcterms:created>
  <dc:creator>спарк</dc:creator>
  <dc:description/>
  <dc:language>en-US</dc:language>
  <cp:lastModifiedBy>спарк</cp:lastModifiedBy>
  <dcterms:modified xsi:type="dcterms:W3CDTF">2014-10-12T15:31:24Z</dcterms:modified>
  <cp:revision>18</cp:revision>
  <dc:subject/>
  <dc:title>Занимательная математика</dc:title>
</cp:coreProperties>
</file>