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1.gif" ContentType="image/gif"/>
  <Override PartName="/ppt/media/image20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48C0-5AFF-4204-B81C-2F4055B2E0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90A1-95F0-43E4-A8A5-8BDBC27C46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6AA8-9E20-4F01-8990-605130832A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26BF-A347-42E8-9BFF-1BF5DA82E9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EAE3-2809-40A6-82C0-92AB4EF46A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6E3A-69F8-4539-96CC-BE9A2CB3D9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6D09-02F2-4636-8203-90E6841303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FBC3-ACC2-441D-838F-F8A3646CBC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761D-97FA-4CF0-9CB1-E51CC2E90C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0258-E1CF-49BE-9A2A-B4DABC6221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89C9-1B05-4762-A1F3-1810787BEF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8E32-E5A3-405B-A513-D8F0A598E4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1CAC-CE9F-4B77-A9EF-5D3EE5E81E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2994-D49D-4BA5-9F66-EB95EEA871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7836-1A0E-4D20-B4BF-FF1924C666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E849-BD78-4824-83E4-683BA4D74B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9F05-2F73-462B-92BE-F6E8B5E747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52AA-A02F-4CA5-92FB-81A7AE61102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0430-8BDB-4CBE-8B22-64A3CF2E5E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7E3C-BBAE-41FF-B352-C4EE1C1F9A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209D-9543-4FA7-80C1-FBD45D1A3E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7B83-FC55-478E-AE58-CD2445BD19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945D-9835-44DE-8599-41D3718317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8184-D6AD-413F-B926-E9F5671A3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1353-584E-4E2A-B893-08E77C08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74AA-C45B-4EB7-9A6F-AD982D1C1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EF27-240E-40E8-B8D5-C64F6613A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198A-36F5-40A5-8E31-A1436ABFE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5D03-A5AD-4C76-B57E-C25C052C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F77D9-CBF7-47DE-A55B-E14F6217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6309-F097-4C06-844C-AA6C5B52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3CF4-90D3-4920-AC80-CED12793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D5FC-6BD3-4FED-8B90-316A4999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ACBD-1D24-4E97-9D31-D1CCB194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4EA5-F4E5-4D66-B114-7853F026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CE8A-3300-4A65-9AE6-C379591D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A06F-A1AF-46FF-9453-3A357FE1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E567-406A-41A8-9262-37EF2913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F2D4-0E02-4014-BBEF-2EE96A9C3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824F-247C-4AE4-8BD9-7C288523F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A44A-1D47-4D1B-A313-D210E9B0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79DA-2CF1-4875-90D2-6BFF4E06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AF65-F0C1-4FAC-B461-AEB2EDD7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169E-E15E-4D76-A953-1BCC3234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0ECB-F3C2-40AA-91EB-4E0BC650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4649-C41E-4DD8-A1DC-33C43BB5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FBF0-F628-4687-930D-A256E191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7F36-37D1-4A32-A863-720BF852D9F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A45C-A15A-4AB7-B1FF-AD6E44061A3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55440" y="987480"/>
            <a:ext cx="9204480" cy="31338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Ребусы в картинках с ответами для 1-4 класса"/>
          <p:cNvPicPr/>
          <p:nvPr/>
        </p:nvPicPr>
        <p:blipFill>
          <a:blip r:embed="rId1"/>
          <a:stretch/>
        </p:blipFill>
        <p:spPr>
          <a:xfrm>
            <a:off x="379440" y="1989000"/>
            <a:ext cx="8489880" cy="251964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2"/>
          <p:cNvSpPr/>
          <p:nvPr/>
        </p:nvSpPr>
        <p:spPr>
          <a:xfrm>
            <a:off x="6090840" y="5445000"/>
            <a:ext cx="22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краски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Ребусы в картинках с ответами для 1-4 класса"/>
          <p:cNvPicPr/>
          <p:nvPr/>
        </p:nvPicPr>
        <p:blipFill>
          <a:blip r:embed="rId1"/>
          <a:stretch/>
        </p:blipFill>
        <p:spPr>
          <a:xfrm>
            <a:off x="684360" y="1341360"/>
            <a:ext cx="8021520" cy="367200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2"/>
          <p:cNvSpPr/>
          <p:nvPr/>
        </p:nvSpPr>
        <p:spPr>
          <a:xfrm>
            <a:off x="6593760" y="5300640"/>
            <a:ext cx="177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ручк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1"/>
          <p:cNvSpPr/>
          <p:nvPr/>
        </p:nvSpPr>
        <p:spPr>
          <a:xfrm>
            <a:off x="6133680" y="5445000"/>
            <a:ext cx="246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циркуль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3" name="Picture 2" descr="Ребусы с ответами 4 класс - Большой архив книг"/>
          <p:cNvPicPr/>
          <p:nvPr/>
        </p:nvPicPr>
        <p:blipFill>
          <a:blip r:embed="rId1"/>
          <a:stretch/>
        </p:blipFill>
        <p:spPr>
          <a:xfrm>
            <a:off x="684360" y="1773360"/>
            <a:ext cx="793908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6220800" y="5516640"/>
            <a:ext cx="254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обложк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5" name="Picture 2" descr="Ребусы в картинках с ответами для 1-4 класса"/>
          <p:cNvPicPr/>
          <p:nvPr/>
        </p:nvPicPr>
        <p:blipFill>
          <a:blip r:embed="rId1"/>
          <a:stretch/>
        </p:blipFill>
        <p:spPr>
          <a:xfrm>
            <a:off x="611280" y="1773360"/>
            <a:ext cx="8080200" cy="28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Ребусы в картинках с ответами для 1-4 класса"/>
          <p:cNvPicPr/>
          <p:nvPr/>
        </p:nvPicPr>
        <p:blipFill>
          <a:blip r:embed="rId1"/>
          <a:stretch/>
        </p:blipFill>
        <p:spPr>
          <a:xfrm>
            <a:off x="555480" y="1413000"/>
            <a:ext cx="7836120" cy="338436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3"/>
          <p:cNvSpPr/>
          <p:nvPr/>
        </p:nvSpPr>
        <p:spPr>
          <a:xfrm>
            <a:off x="7174800" y="5300640"/>
            <a:ext cx="124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мел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6900120" y="53006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доск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9" name="Picture 2" descr="Ребусы в картинках с ответами для 1-4 класса"/>
          <p:cNvPicPr/>
          <p:nvPr/>
        </p:nvPicPr>
        <p:blipFill>
          <a:blip r:embed="rId1"/>
          <a:stretch/>
        </p:blipFill>
        <p:spPr>
          <a:xfrm>
            <a:off x="684360" y="1628640"/>
            <a:ext cx="77612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1"/>
          <p:cNvSpPr/>
          <p:nvPr/>
        </p:nvSpPr>
        <p:spPr>
          <a:xfrm>
            <a:off x="6234840" y="5157720"/>
            <a:ext cx="24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учебник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1" name="Picture 2" descr="ребусы"/>
          <p:cNvPicPr/>
          <p:nvPr/>
        </p:nvPicPr>
        <p:blipFill>
          <a:blip r:embed="rId1"/>
          <a:stretch/>
        </p:blipFill>
        <p:spPr>
          <a:xfrm>
            <a:off x="2627280" y="836640"/>
            <a:ext cx="302436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ребусы"/>
          <p:cNvPicPr/>
          <p:nvPr/>
        </p:nvPicPr>
        <p:blipFill>
          <a:blip r:embed="rId1"/>
          <a:stretch/>
        </p:blipFill>
        <p:spPr>
          <a:xfrm>
            <a:off x="611280" y="1773360"/>
            <a:ext cx="8075520" cy="295092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2"/>
          <p:cNvSpPr/>
          <p:nvPr/>
        </p:nvSpPr>
        <p:spPr>
          <a:xfrm>
            <a:off x="6064920" y="5229360"/>
            <a:ext cx="271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угольник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ребусы"/>
          <p:cNvPicPr/>
          <p:nvPr/>
        </p:nvPicPr>
        <p:blipFill>
          <a:blip r:embed="rId1"/>
          <a:stretch/>
        </p:blipFill>
        <p:spPr>
          <a:xfrm>
            <a:off x="900000" y="1413000"/>
            <a:ext cx="7481880" cy="316836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2"/>
          <p:cNvSpPr/>
          <p:nvPr/>
        </p:nvSpPr>
        <p:spPr>
          <a:xfrm>
            <a:off x="6669720" y="5229360"/>
            <a:ext cx="182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счёты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"/>
          <p:cNvSpPr/>
          <p:nvPr/>
        </p:nvSpPr>
        <p:spPr>
          <a:xfrm>
            <a:off x="1684440" y="620640"/>
            <a:ext cx="580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4617b"/>
                </a:solidFill>
                <a:latin typeface="Constantia"/>
              </a:rPr>
              <a:t>Кроссворд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7" name="Picture 2" descr="Как создать высоко посещаемый блог Заряжайте мозги без сникерса! (comp.inet.miron) : Рассылка : Subscribe.Ru"/>
          <p:cNvPicPr/>
          <p:nvPr/>
        </p:nvPicPr>
        <p:blipFill>
          <a:blip r:embed="rId1"/>
          <a:stretch/>
        </p:blipFill>
        <p:spPr>
          <a:xfrm>
            <a:off x="4140360" y="1989000"/>
            <a:ext cx="36622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250920" y="2924280"/>
          <a:ext cx="8642160" cy="841320"/>
        </p:xfrm>
        <a:graphic>
          <a:graphicData uri="http://schemas.openxmlformats.org/drawingml/2006/table">
            <a:tbl>
              <a:tblPr/>
              <a:tblGrid>
                <a:gridCol w="479160"/>
                <a:gridCol w="479520"/>
                <a:gridCol w="479520"/>
                <a:gridCol w="479520"/>
                <a:gridCol w="477720"/>
                <a:gridCol w="479520"/>
                <a:gridCol w="479160"/>
                <a:gridCol w="479520"/>
                <a:gridCol w="480960"/>
                <a:gridCol w="481320"/>
                <a:gridCol w="480960"/>
                <a:gridCol w="479160"/>
                <a:gridCol w="481320"/>
                <a:gridCol w="480960"/>
                <a:gridCol w="480960"/>
                <a:gridCol w="480960"/>
                <a:gridCol w="480960"/>
                <a:gridCol w="480960"/>
              </a:tblGrid>
              <a:tr h="8413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 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05" name="Rectangle 1"/>
          <p:cNvSpPr/>
          <p:nvPr/>
        </p:nvSpPr>
        <p:spPr>
          <a:xfrm>
            <a:off x="1126440" y="1560240"/>
            <a:ext cx="6200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ч к карточке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3"/>
          <p:cNvSpPr/>
          <p:nvPr/>
        </p:nvSpPr>
        <p:spPr>
          <a:xfrm>
            <a:off x="1116000" y="1628640"/>
            <a:ext cx="3168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Кроссворд 1: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1.Площадь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2.Дробь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3.Расстояние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4.Число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5.Цифры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6.Квадрат 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ончик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Прямоугольник 4"/>
          <p:cNvSpPr/>
          <p:nvPr/>
        </p:nvSpPr>
        <p:spPr>
          <a:xfrm>
            <a:off x="5219640" y="1628640"/>
            <a:ext cx="2808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Кроссворд 2: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1.Время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2.Скорость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3.Расстояние  4.Тысяча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5.Нуль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6.Тонна  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Ворчун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Прямоугольник 5"/>
          <p:cNvSpPr/>
          <p:nvPr/>
        </p:nvSpPr>
        <p:spPr>
          <a:xfrm>
            <a:off x="3440880" y="765000"/>
            <a:ext cx="22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Календарно тематическое планирование 2 класса по физкультуре фгос - Большой архив учебников"/>
          <p:cNvPicPr/>
          <p:nvPr/>
        </p:nvPicPr>
        <p:blipFill>
          <a:blip r:embed="rId1"/>
          <a:stretch/>
        </p:blipFill>
        <p:spPr>
          <a:xfrm>
            <a:off x="971640" y="907920"/>
            <a:ext cx="729612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smile. - Learn (Изучить) Английский - italki Notebook (Записная книжка Italki)"/>
          <p:cNvPicPr/>
          <p:nvPr/>
        </p:nvPicPr>
        <p:blipFill>
          <a:blip r:embed="rId1"/>
          <a:stretch/>
        </p:blipFill>
        <p:spPr>
          <a:xfrm>
            <a:off x="2268360" y="1268280"/>
            <a:ext cx="480060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823320" y="765000"/>
            <a:ext cx="388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b5395"/>
                </a:solidFill>
                <a:latin typeface="Constantia"/>
              </a:rPr>
              <a:t>Задачи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1042920" y="2795040"/>
            <a:ext cx="752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1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ня и Саша подсчитывали, сколько дней в четырёх годах, следующих друг за другом. У Вани получилось 1460 дней, а у Саши - 1461 день. Кто из мальчиков посчитал неправильно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826920" y="2005200"/>
            <a:ext cx="7417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2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ям 15, 8, 5, 13 лет. Их имена Ваня, Оля, Витя, Гена. Сколько лет каждому из них, если один мальчик ходит в детский сад, Ваня старше Оли, если сложить возраст Вани и Вити, число будет делиться на 3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611280" y="1681200"/>
            <a:ext cx="7848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3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вух крышах сидели 16 голубей. После того как с первой на вторую крышу перелетели 5 голубей, а со второй на первую 2 голубя, на обеих крышах голубей стало поровну. Сколько голубей на каждой крыше было сначала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1076400" y="549360"/>
            <a:ext cx="7601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b5395"/>
                </a:solidFill>
                <a:latin typeface="Constantia"/>
              </a:rPr>
              <a:t>Физминутка </a:t>
            </a:r>
            <a:endParaRPr b="0" lang="en-US" sz="8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Лайма Вайкуле - Что манит птицу (1).mp3" descr=""/>
          <p:cNvPicPr/>
          <p:nvPr/>
        </p:nvPicPr>
        <p:blipFill>
          <a:blip r:embed="rId1"/>
          <a:stretch/>
        </p:blipFill>
        <p:spPr>
          <a:xfrm>
            <a:off x="7885080" y="5732640"/>
            <a:ext cx="511200" cy="512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Птицы Анимашки, анимационные картинки для личных дневников, …"/>
          <p:cNvPicPr/>
          <p:nvPr/>
        </p:nvPicPr>
        <p:blipFill>
          <a:blip r:embed="rId2"/>
          <a:stretch/>
        </p:blipFill>
        <p:spPr>
          <a:xfrm>
            <a:off x="2771640" y="2637000"/>
            <a:ext cx="3456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4396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TextBox 1" descr=""/>
          <p:cNvPicPr/>
          <p:nvPr/>
        </p:nvPicPr>
        <p:blipFill>
          <a:blip r:embed="rId1"/>
          <a:stretch/>
        </p:blipFill>
        <p:spPr>
          <a:xfrm>
            <a:off x="1195560" y="1835280"/>
            <a:ext cx="727200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Ребусы с ответами 4 класс - Большой архив книг"/>
          <p:cNvPicPr/>
          <p:nvPr/>
        </p:nvPicPr>
        <p:blipFill>
          <a:blip r:embed="rId1"/>
          <a:stretch/>
        </p:blipFill>
        <p:spPr>
          <a:xfrm>
            <a:off x="468360" y="1916280"/>
            <a:ext cx="8088120" cy="309708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2"/>
          <p:cNvSpPr/>
          <p:nvPr/>
        </p:nvSpPr>
        <p:spPr>
          <a:xfrm>
            <a:off x="5779440" y="5445000"/>
            <a:ext cx="269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кисточк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Ребусы в картинках с ответами для 1-4 класса"/>
          <p:cNvPicPr/>
          <p:nvPr/>
        </p:nvPicPr>
        <p:blipFill>
          <a:blip r:embed="rId1"/>
          <a:stretch/>
        </p:blipFill>
        <p:spPr>
          <a:xfrm>
            <a:off x="826920" y="1557360"/>
            <a:ext cx="7418520" cy="323388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3"/>
          <p:cNvSpPr/>
          <p:nvPr/>
        </p:nvSpPr>
        <p:spPr>
          <a:xfrm>
            <a:off x="6336000" y="5373720"/>
            <a:ext cx="148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клей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7T14:59:56Z</dcterms:created>
  <dc:creator>спарк</dc:creator>
  <dc:description/>
  <dc:language>en-US</dc:language>
  <cp:lastModifiedBy>спарк</cp:lastModifiedBy>
  <dcterms:modified xsi:type="dcterms:W3CDTF">2014-10-12T15:31:24Z</dcterms:modified>
  <cp:revision>18</cp:revision>
  <dc:subject/>
  <dc:title>Занимательная математика</dc:title>
</cp:coreProperties>
</file>