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201-0227-4043-B3EE-4BD18959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A98-7B83-456D-8B1F-E9FD3754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857-2D2E-4C5D-BCD2-9CC1A2B7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593-AC1E-4468-9D6D-2708DA4C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13E-3686-42CA-8F5D-497A5F69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B79-6395-4386-8A06-DE001B6A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61D-36AC-4D3D-A517-9B9548E0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3CD-9D24-4440-8BAD-E9EBB3AE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CAC-19BD-46DF-8E4E-9A84DFB9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854-C15A-4896-9D17-3C42F020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F1B-1722-4F08-A4F4-CF7B4890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528-3227-4F2F-B7B2-8AA2B5E4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D607-0FB6-4194-B91C-3C63B67485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%D0%A0%D0%B8%D1%81%D1%83%D0%BD%D0%BE%D0%BA2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1828440"/>
            <a:ext cx="556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ступление на педсо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«Веселая физкульту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4" descr="00f39c3b42e46a61e363e001cc121b2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етский фитн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74NU3wVRlxk"/>
          <p:cNvPicPr/>
          <p:nvPr/>
        </p:nvPicPr>
        <p:blipFill>
          <a:blip r:embed="rId2"/>
          <a:stretch/>
        </p:blipFill>
        <p:spPr>
          <a:xfrm>
            <a:off x="228600" y="10666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5gX_dGNS0W0"/>
          <p:cNvPicPr/>
          <p:nvPr/>
        </p:nvPicPr>
        <p:blipFill>
          <a:blip r:embed="rId3"/>
          <a:stretch/>
        </p:blipFill>
        <p:spPr>
          <a:xfrm>
            <a:off x="5029200" y="10666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AUZQ00N-S0I"/>
          <p:cNvPicPr/>
          <p:nvPr/>
        </p:nvPicPr>
        <p:blipFill>
          <a:blip r:embed="rId4"/>
          <a:stretch/>
        </p:blipFill>
        <p:spPr>
          <a:xfrm>
            <a:off x="2514600" y="39625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410261_galle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Утренняя заряд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pWAvCfFRjko"/>
          <p:cNvPicPr/>
          <p:nvPr/>
        </p:nvPicPr>
        <p:blipFill>
          <a:blip r:embed="rId2"/>
          <a:stretch/>
        </p:blipFill>
        <p:spPr>
          <a:xfrm>
            <a:off x="5105520" y="33526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32t-fNKVfwY"/>
          <p:cNvPicPr/>
          <p:nvPr/>
        </p:nvPicPr>
        <p:blipFill>
          <a:blip r:embed="rId3"/>
          <a:stretch/>
        </p:blipFill>
        <p:spPr>
          <a:xfrm>
            <a:off x="457200" y="33526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1600200" y="114300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то с зарядкой дружит смело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то с утра прогонит лень,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удет смелым и умелым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 веселым целый ден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453423384117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Утренняя зарядка с предмет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8_LG-T8D6Ww"/>
          <p:cNvPicPr/>
          <p:nvPr/>
        </p:nvPicPr>
        <p:blipFill>
          <a:blip r:embed="rId2"/>
          <a:stretch/>
        </p:blipFill>
        <p:spPr>
          <a:xfrm>
            <a:off x="685800" y="15238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FS8nlHqKO0s"/>
          <p:cNvPicPr/>
          <p:nvPr/>
        </p:nvPicPr>
        <p:blipFill>
          <a:blip r:embed="rId3"/>
          <a:stretch/>
        </p:blipFill>
        <p:spPr>
          <a:xfrm>
            <a:off x="411480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hello_html_45b25f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равильно мыть ру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62720" y="1752480"/>
            <a:ext cx="358128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м, знаем – да-да-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ране прячется в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и, вод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ришли умы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ся понемножку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 на ладош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мыло пен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грязь куда-то денетс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http://ddu519.minsk.edu.by/en/sm_full.aspx?guid=6673"/>
          <p:cNvPicPr/>
          <p:nvPr/>
        </p:nvPicPr>
        <p:blipFill>
          <a:blip r:embed="rId2"/>
          <a:stretch/>
        </p:blipFill>
        <p:spPr>
          <a:xfrm>
            <a:off x="228600" y="1905120"/>
            <a:ext cx="50292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bstraktnye-fony-dlya-prezentacii-volny-08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Моем руки с потеш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уки мою я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могает мне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бы грязи меньше 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зову на помощь мы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qGoUacsoP24"/>
          <p:cNvPicPr/>
          <p:nvPr/>
        </p:nvPicPr>
        <p:blipFill>
          <a:blip r:embed="rId2"/>
          <a:stretch/>
        </p:blipFill>
        <p:spPr>
          <a:xfrm>
            <a:off x="6819840" y="38098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VbK40t-YnoM"/>
          <p:cNvPicPr/>
          <p:nvPr/>
        </p:nvPicPr>
        <p:blipFill>
          <a:blip r:embed="rId3"/>
          <a:stretch/>
        </p:blipFill>
        <p:spPr>
          <a:xfrm>
            <a:off x="4495680" y="1219320"/>
            <a:ext cx="2114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green-blue-tech-geometric-polygonal-motion-background-video-low-poly-animation-ultra-hd-4k-3840x2160_sfx2x8qr__S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Физкультминут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Я мороза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С ним я крепко подружу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Hvfw4sx_mhk"/>
          <p:cNvPicPr/>
          <p:nvPr/>
        </p:nvPicPr>
        <p:blipFill>
          <a:blip r:embed="rId2"/>
          <a:stretch/>
        </p:blipFill>
        <p:spPr>
          <a:xfrm>
            <a:off x="4952880" y="12952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1ltKezjehyY"/>
          <p:cNvPicPr/>
          <p:nvPr/>
        </p:nvPicPr>
        <p:blipFill>
          <a:blip r:embed="rId3"/>
          <a:stretch/>
        </p:blipFill>
        <p:spPr>
          <a:xfrm>
            <a:off x="2971800" y="38862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2935437661244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альчиковая гимнаст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19560" y="1295280"/>
            <a:ext cx="2819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з, два, три, четыре, п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удем пальчики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репкие дружные все  такие ну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 другой руке оп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з, два, три, четыре, п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uSDYy5FxU5I"/>
          <p:cNvPicPr/>
          <p:nvPr/>
        </p:nvPicPr>
        <p:blipFill>
          <a:blip r:embed="rId2"/>
          <a:stretch/>
        </p:blipFill>
        <p:spPr>
          <a:xfrm>
            <a:off x="228600" y="1143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4WVG5cB6o8s"/>
          <p:cNvPicPr/>
          <p:nvPr/>
        </p:nvPicPr>
        <p:blipFill>
          <a:blip r:embed="rId3"/>
          <a:stretch/>
        </p:blipFill>
        <p:spPr>
          <a:xfrm>
            <a:off x="205740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1" descr="0006-009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Веселая физкультур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6248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Всем известно, всем по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Что здоровым быть приятн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DnlCW5OfYE4"/>
          <p:cNvPicPr/>
          <p:nvPr/>
        </p:nvPicPr>
        <p:blipFill>
          <a:blip r:embed="rId2"/>
          <a:stretch/>
        </p:blipFill>
        <p:spPr>
          <a:xfrm>
            <a:off x="304920" y="2514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Q9325QZp5g"/>
          <p:cNvPicPr/>
          <p:nvPr/>
        </p:nvPicPr>
        <p:blipFill>
          <a:blip r:embed="rId3"/>
          <a:stretch/>
        </p:blipFill>
        <p:spPr>
          <a:xfrm>
            <a:off x="4876920" y="35053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6f4789224173b4bf4936cf4cbeee9a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стика после с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jJTepzQ3sjg"/>
          <p:cNvPicPr/>
          <p:nvPr/>
        </p:nvPicPr>
        <p:blipFill>
          <a:blip r:embed="rId2"/>
          <a:stretch/>
        </p:blipFill>
        <p:spPr>
          <a:xfrm>
            <a:off x="5181480" y="1447920"/>
            <a:ext cx="3600720" cy="480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vXrMa-7LDDw"/>
          <p:cNvPicPr/>
          <p:nvPr/>
        </p:nvPicPr>
        <p:blipFill>
          <a:blip r:embed="rId3"/>
          <a:stretch/>
        </p:blipFill>
        <p:spPr>
          <a:xfrm>
            <a:off x="457200" y="25146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5T12:37:09Z</dcterms:created>
  <dc:creator>Asus</dc:creator>
  <dc:description/>
  <dc:language>en-US</dc:language>
  <cp:lastModifiedBy>Ольга Буслаева</cp:lastModifiedBy>
  <dcterms:modified xsi:type="dcterms:W3CDTF">2023-10-02T13:52:4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