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573A-7373-4275-87CB-BBF58442C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168F-0290-476C-9541-60D894C4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7AD4-4C3A-440E-AC13-18A89B12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4A04-B882-4470-8A44-402743EA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0E8E-9042-43AF-B070-01FECEE2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EF86-A236-47C6-BCDC-5F699AAB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283C-DF4F-4C06-80D3-446936CD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B43E-B8F5-4F84-9408-D9C145A4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F9FB-A998-4E40-A6EF-43215AB5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C005-3D5B-4216-BBDD-47A020CF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E53D-289D-4DBB-BD66-4A4A55A7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E86B-D81C-4F96-9987-CFCBCD2D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6792-72D7-4189-B0D0-957A2B45E6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%D0%A0%D0%B8%D1%81%D1%83%D0%BD%D0%BE%D0%BA2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800" y="1828440"/>
            <a:ext cx="5562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ыступление на педсов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6576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«Веселая физкультур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4" descr="00f39c3b42e46a61e363e001cc121b2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Детский фитне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6" descr="74NU3wVRlxk"/>
          <p:cNvPicPr/>
          <p:nvPr/>
        </p:nvPicPr>
        <p:blipFill>
          <a:blip r:embed="rId2"/>
          <a:stretch/>
        </p:blipFill>
        <p:spPr>
          <a:xfrm>
            <a:off x="228600" y="10666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8" descr="5gX_dGNS0W0"/>
          <p:cNvPicPr/>
          <p:nvPr/>
        </p:nvPicPr>
        <p:blipFill>
          <a:blip r:embed="rId3"/>
          <a:stretch/>
        </p:blipFill>
        <p:spPr>
          <a:xfrm>
            <a:off x="5029200" y="106668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0" descr="AUZQ00N-S0I"/>
          <p:cNvPicPr/>
          <p:nvPr/>
        </p:nvPicPr>
        <p:blipFill>
          <a:blip r:embed="rId4"/>
          <a:stretch/>
        </p:blipFill>
        <p:spPr>
          <a:xfrm>
            <a:off x="2514600" y="39625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ima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Arial"/>
              </a:rPr>
              <a:t>Спасибо за вним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410261_galler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66"/>
                </a:solidFill>
                <a:latin typeface="Arial"/>
              </a:rPr>
              <a:t>Утренняя заряд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pWAvCfFRjko"/>
          <p:cNvPicPr/>
          <p:nvPr/>
        </p:nvPicPr>
        <p:blipFill>
          <a:blip r:embed="rId2"/>
          <a:stretch/>
        </p:blipFill>
        <p:spPr>
          <a:xfrm>
            <a:off x="5105520" y="33526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32t-fNKVfwY"/>
          <p:cNvPicPr/>
          <p:nvPr/>
        </p:nvPicPr>
        <p:blipFill>
          <a:blip r:embed="rId3"/>
          <a:stretch/>
        </p:blipFill>
        <p:spPr>
          <a:xfrm>
            <a:off x="457200" y="33526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4"/>
          <p:cNvSpPr/>
          <p:nvPr/>
        </p:nvSpPr>
        <p:spPr>
          <a:xfrm>
            <a:off x="1600200" y="1143000"/>
            <a:ext cx="5791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то с зарядкой дружит смело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то с утра прогонит лень,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Будет смелым и умелым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 веселым целый ден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4534233841172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Утренняя зарядка с предмет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8_LG-T8D6Ww"/>
          <p:cNvPicPr/>
          <p:nvPr/>
        </p:nvPicPr>
        <p:blipFill>
          <a:blip r:embed="rId2"/>
          <a:stretch/>
        </p:blipFill>
        <p:spPr>
          <a:xfrm>
            <a:off x="685800" y="1523880"/>
            <a:ext cx="2857680" cy="3810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FS8nlHqKO0s"/>
          <p:cNvPicPr/>
          <p:nvPr/>
        </p:nvPicPr>
        <p:blipFill>
          <a:blip r:embed="rId3"/>
          <a:stretch/>
        </p:blipFill>
        <p:spPr>
          <a:xfrm>
            <a:off x="4114800" y="304812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hello_html_45b25f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правильно мыть рук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562720" y="1752480"/>
            <a:ext cx="358128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ем, знаем – да-да-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ране прячется во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ходи, водиц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пришли умыть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йся понемножку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 на ладошк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ет мыло пен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грязь куда-то денется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http://ddu519.minsk.edu.by/en/sm_full.aspx?guid=6673"/>
          <p:cNvPicPr/>
          <p:nvPr/>
        </p:nvPicPr>
        <p:blipFill>
          <a:blip r:embed="rId2"/>
          <a:stretch/>
        </p:blipFill>
        <p:spPr>
          <a:xfrm>
            <a:off x="228600" y="1905120"/>
            <a:ext cx="5029200" cy="35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abstraktnye-fony-dlya-prezentacii-volny-08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Arial"/>
              </a:rPr>
              <a:t>Моем руки с потешк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2362320"/>
            <a:ext cx="42670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Руки мою я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могает мне 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тобы грязи меньше бы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зову на помощь мы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qGoUacsoP24"/>
          <p:cNvPicPr/>
          <p:nvPr/>
        </p:nvPicPr>
        <p:blipFill>
          <a:blip r:embed="rId2"/>
          <a:stretch/>
        </p:blipFill>
        <p:spPr>
          <a:xfrm>
            <a:off x="6819840" y="380988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VbK40t-YnoM"/>
          <p:cNvPicPr/>
          <p:nvPr/>
        </p:nvPicPr>
        <p:blipFill>
          <a:blip r:embed="rId3"/>
          <a:stretch/>
        </p:blipFill>
        <p:spPr>
          <a:xfrm>
            <a:off x="4495680" y="1219320"/>
            <a:ext cx="21146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9" descr="green-blue-tech-geometric-polygonal-motion-background-video-low-poly-animation-ultra-hd-4k-3840x2160_sfx2x8qr__S0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Arial"/>
              </a:rPr>
              <a:t>Физкультминутк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2514240"/>
            <a:ext cx="4114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Я мороза не бо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С ним я крепко подружус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Hvfw4sx_mhk"/>
          <p:cNvPicPr/>
          <p:nvPr/>
        </p:nvPicPr>
        <p:blipFill>
          <a:blip r:embed="rId2"/>
          <a:stretch/>
        </p:blipFill>
        <p:spPr>
          <a:xfrm>
            <a:off x="4952880" y="129528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1ltKezjehyY"/>
          <p:cNvPicPr/>
          <p:nvPr/>
        </p:nvPicPr>
        <p:blipFill>
          <a:blip r:embed="rId3"/>
          <a:stretch/>
        </p:blipFill>
        <p:spPr>
          <a:xfrm>
            <a:off x="2971800" y="388620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2935437661244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Пальчиковая гимнаст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19560" y="1295280"/>
            <a:ext cx="2819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аз, два, три, четыре, п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Будем пальчики счит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репкие дружные все  такие ну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а другой руке оп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аз, два, три, четыре, п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uSDYy5FxU5I"/>
          <p:cNvPicPr/>
          <p:nvPr/>
        </p:nvPicPr>
        <p:blipFill>
          <a:blip r:embed="rId2"/>
          <a:stretch/>
        </p:blipFill>
        <p:spPr>
          <a:xfrm>
            <a:off x="228600" y="114300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4WVG5cB6o8s"/>
          <p:cNvPicPr/>
          <p:nvPr/>
        </p:nvPicPr>
        <p:blipFill>
          <a:blip r:embed="rId3"/>
          <a:stretch/>
        </p:blipFill>
        <p:spPr>
          <a:xfrm>
            <a:off x="2057400" y="36576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1" descr="0006-009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Веселая физкультур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240" y="990720"/>
            <a:ext cx="62485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Всем известно, всем понят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Что здоровым быть приятно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DnlCW5OfYE4"/>
          <p:cNvPicPr/>
          <p:nvPr/>
        </p:nvPicPr>
        <p:blipFill>
          <a:blip r:embed="rId2"/>
          <a:stretch/>
        </p:blipFill>
        <p:spPr>
          <a:xfrm>
            <a:off x="304920" y="25146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HQ9325QZp5g"/>
          <p:cNvPicPr/>
          <p:nvPr/>
        </p:nvPicPr>
        <p:blipFill>
          <a:blip r:embed="rId3"/>
          <a:stretch/>
        </p:blipFill>
        <p:spPr>
          <a:xfrm>
            <a:off x="4876920" y="350532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6f4789224173b4bf4936cf4cbeee9a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мнастика после с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jJTepzQ3sjg"/>
          <p:cNvPicPr/>
          <p:nvPr/>
        </p:nvPicPr>
        <p:blipFill>
          <a:blip r:embed="rId2"/>
          <a:stretch/>
        </p:blipFill>
        <p:spPr>
          <a:xfrm>
            <a:off x="5181480" y="1447920"/>
            <a:ext cx="3600720" cy="480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vXrMa-7LDDw"/>
          <p:cNvPicPr/>
          <p:nvPr/>
        </p:nvPicPr>
        <p:blipFill>
          <a:blip r:embed="rId3"/>
          <a:stretch/>
        </p:blipFill>
        <p:spPr>
          <a:xfrm>
            <a:off x="457200" y="25146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5T12:37:09Z</dcterms:created>
  <dc:creator>Asus</dc:creator>
  <dc:description/>
  <dc:language>en-US</dc:language>
  <cp:lastModifiedBy>Ольга Буслаева</cp:lastModifiedBy>
  <dcterms:modified xsi:type="dcterms:W3CDTF">2023-10-02T13:52:4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