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4A3-0B1F-469F-B3C0-8025CF7B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BFE-5299-464B-A1BC-5F5CFAAD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43C-0248-490B-968A-80370F1B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907-FBA8-445E-9E51-EDF3F799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9A0-92F9-4BD7-B6B8-3656286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42A-CE05-4EA9-ABD3-1AF79E6A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8DF-EFAD-491E-85A7-7483B82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AC3-0885-42FA-863E-47D16AC2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E87-5EC4-4897-B8B9-ABAB6647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3CF-437C-4D4C-BF3D-8AA044E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6D8-3758-4CBB-976B-CD524AF3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DD1-0933-4CE2-B4E2-5CA5F09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7F02-DE52-486E-94E0-6D757B482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%D0%A0%D0%B8%D1%81%D1%83%D0%BD%D0%BE%D0%BA2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82844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ступление на педсо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«Веселая физкульту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00f39c3b42e46a61e363e001cc121b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етский фитне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74NU3wVRlxk"/>
          <p:cNvPicPr/>
          <p:nvPr/>
        </p:nvPicPr>
        <p:blipFill>
          <a:blip r:embed="rId2"/>
          <a:stretch/>
        </p:blipFill>
        <p:spPr>
          <a:xfrm>
            <a:off x="228600" y="10666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5gX_dGNS0W0"/>
          <p:cNvPicPr/>
          <p:nvPr/>
        </p:nvPicPr>
        <p:blipFill>
          <a:blip r:embed="rId3"/>
          <a:stretch/>
        </p:blipFill>
        <p:spPr>
          <a:xfrm>
            <a:off x="5029200" y="10666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AUZQ00N-S0I"/>
          <p:cNvPicPr/>
          <p:nvPr/>
        </p:nvPicPr>
        <p:blipFill>
          <a:blip r:embed="rId4"/>
          <a:stretch/>
        </p:blipFill>
        <p:spPr>
          <a:xfrm>
            <a:off x="251460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410261_gall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Утренняя заряд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pWAvCfFRjko"/>
          <p:cNvPicPr/>
          <p:nvPr/>
        </p:nvPicPr>
        <p:blipFill>
          <a:blip r:embed="rId2"/>
          <a:stretch/>
        </p:blipFill>
        <p:spPr>
          <a:xfrm>
            <a:off x="5105520" y="33526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32t-fNKVfwY"/>
          <p:cNvPicPr/>
          <p:nvPr/>
        </p:nvPicPr>
        <p:blipFill>
          <a:blip r:embed="rId3"/>
          <a:stretch/>
        </p:blipFill>
        <p:spPr>
          <a:xfrm>
            <a:off x="457200" y="3352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1600200" y="114300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с зарядкой дружит смело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с утра прогонит лень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удет смелым и умелым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 веселым целый ден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453423384117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тренняя зарядка с предме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8_LG-T8D6Ww"/>
          <p:cNvPicPr/>
          <p:nvPr/>
        </p:nvPicPr>
        <p:blipFill>
          <a:blip r:embed="rId2"/>
          <a:stretch/>
        </p:blipFill>
        <p:spPr>
          <a:xfrm>
            <a:off x="685800" y="15238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FS8nlHqKO0s"/>
          <p:cNvPicPr/>
          <p:nvPr/>
        </p:nvPicPr>
        <p:blipFill>
          <a:blip r:embed="rId3"/>
          <a:stretch/>
        </p:blipFill>
        <p:spPr>
          <a:xfrm>
            <a:off x="411480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ello_html_45b25f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равильно мыть ру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2720" y="1752480"/>
            <a:ext cx="35812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м, знаем – да-да-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не прячется в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и, вод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ишли умы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ся понемножку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 на ладош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мыло пен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грязь куда-то денетс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http://ddu519.minsk.edu.by/en/sm_full.aspx?guid=6673"/>
          <p:cNvPicPr/>
          <p:nvPr/>
        </p:nvPicPr>
        <p:blipFill>
          <a:blip r:embed="rId2"/>
          <a:stretch/>
        </p:blipFill>
        <p:spPr>
          <a:xfrm>
            <a:off x="228600" y="1905120"/>
            <a:ext cx="50292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bstraktnye-fony-dlya-prezentacii-volny-08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Моем руки с потеш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уки мою я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могает мне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ы грязи меньше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зову на помощь м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qGoUacsoP24"/>
          <p:cNvPicPr/>
          <p:nvPr/>
        </p:nvPicPr>
        <p:blipFill>
          <a:blip r:embed="rId2"/>
          <a:stretch/>
        </p:blipFill>
        <p:spPr>
          <a:xfrm>
            <a:off x="6819840" y="38098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VbK40t-YnoM"/>
          <p:cNvPicPr/>
          <p:nvPr/>
        </p:nvPicPr>
        <p:blipFill>
          <a:blip r:embed="rId3"/>
          <a:stretch/>
        </p:blipFill>
        <p:spPr>
          <a:xfrm>
            <a:off x="4495680" y="1219320"/>
            <a:ext cx="2114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green-blue-tech-geometric-polygonal-motion-background-video-low-poly-animation-ultra-hd-4k-3840x2160_sfx2x8qr__S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Физкультминут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Я мороза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С ним я крепко подружу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Hvfw4sx_mhk"/>
          <p:cNvPicPr/>
          <p:nvPr/>
        </p:nvPicPr>
        <p:blipFill>
          <a:blip r:embed="rId2"/>
          <a:stretch/>
        </p:blipFill>
        <p:spPr>
          <a:xfrm>
            <a:off x="4952880" y="1295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ltKezjehyY"/>
          <p:cNvPicPr/>
          <p:nvPr/>
        </p:nvPicPr>
        <p:blipFill>
          <a:blip r:embed="rId3"/>
          <a:stretch/>
        </p:blipFill>
        <p:spPr>
          <a:xfrm>
            <a:off x="2971800" y="38862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2935437661244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альчиковая гимнаст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19560" y="1295280"/>
            <a:ext cx="2819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з, два, три, четыре, 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удем пальчики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епкие дружные все  такие ну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 другой руке о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з, два, три, четыре, 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uSDYy5FxU5I"/>
          <p:cNvPicPr/>
          <p:nvPr/>
        </p:nvPicPr>
        <p:blipFill>
          <a:blip r:embed="rId2"/>
          <a:stretch/>
        </p:blipFill>
        <p:spPr>
          <a:xfrm>
            <a:off x="228600" y="1143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4WVG5cB6o8s"/>
          <p:cNvPicPr/>
          <p:nvPr/>
        </p:nvPicPr>
        <p:blipFill>
          <a:blip r:embed="rId3"/>
          <a:stretch/>
        </p:blipFill>
        <p:spPr>
          <a:xfrm>
            <a:off x="205740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0006-009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еселая физкультур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6248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Всем известно, всем по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Что здоровым быть приятн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nlCW5OfYE4"/>
          <p:cNvPicPr/>
          <p:nvPr/>
        </p:nvPicPr>
        <p:blipFill>
          <a:blip r:embed="rId2"/>
          <a:stretch/>
        </p:blipFill>
        <p:spPr>
          <a:xfrm>
            <a:off x="304920" y="2514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Q9325QZp5g"/>
          <p:cNvPicPr/>
          <p:nvPr/>
        </p:nvPicPr>
        <p:blipFill>
          <a:blip r:embed="rId3"/>
          <a:stretch/>
        </p:blipFill>
        <p:spPr>
          <a:xfrm>
            <a:off x="4876920" y="35053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6f4789224173b4bf4936cf4cbeee9a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стика после 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jJTepzQ3sjg"/>
          <p:cNvPicPr/>
          <p:nvPr/>
        </p:nvPicPr>
        <p:blipFill>
          <a:blip r:embed="rId2"/>
          <a:stretch/>
        </p:blipFill>
        <p:spPr>
          <a:xfrm>
            <a:off x="5181480" y="1447920"/>
            <a:ext cx="3600720" cy="480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vXrMa-7LDDw"/>
          <p:cNvPicPr/>
          <p:nvPr/>
        </p:nvPicPr>
        <p:blipFill>
          <a:blip r:embed="rId3"/>
          <a:stretch/>
        </p:blipFill>
        <p:spPr>
          <a:xfrm>
            <a:off x="457200" y="25146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5T12:37:09Z</dcterms:created>
  <dc:creator>Asus</dc:creator>
  <dc:description/>
  <dc:language>en-US</dc:language>
  <cp:lastModifiedBy>Ольга Буслаева</cp:lastModifiedBy>
  <dcterms:modified xsi:type="dcterms:W3CDTF">2023-10-02T13:52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