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349-DE49-48DB-B393-BAE195DB2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1F7-154C-4F42-BD11-189716B4F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скучали буквы в алфави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оём? – сказала одна своей соседке, очень на неё похож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умею, - грустно сказала 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ты попробуй. Пой, как я: и-и-и-и-и-и-и-и-и-и!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Й… й… й… й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 правда, не умеешь. Странно: все буквы гласных поют, а ты – нет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буква гласног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то же ты?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F97-77BD-4B35-827D-49546B4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412-A745-44E8-9604-04B16A32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073-7F5C-4998-904A-EBCECDDF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087-C374-41D3-91F0-0261E9C7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0F3-5837-4A07-B9A8-C0E40A55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A82-258D-48C7-80C4-582CB0D6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FCC9-CFA1-49FD-B67F-BD2612B0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310F-0E70-4032-BEF6-8A9A7BE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8E65-60C2-49C5-BEA8-691B4031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767B-3100-4AF6-930A-3E8CDBD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ED7-E699-4414-B19A-62C57AA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1B1-076B-4A8A-A4CB-F13BD17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90C2-DDF3-4BFE-9CFB-6482009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B7D5-9E4F-45D8-840A-EF9162B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BE4B-3450-46BC-BCD6-7563AD14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C2EC-3488-4941-99E1-ABE49CB2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E57-ACB1-4B34-B4B6-43CC10D7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050DF-58F1-414A-B940-85539D49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4C087-7B1C-48F5-8808-3E86C71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F7F76-CAAC-4561-AB5F-A2CAB3F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567EF-270B-4A6E-97D7-18C651DA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47A20-1FC4-4E14-B3A6-4715FAB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740-20DA-40A7-B012-BBB789E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A81B2-128D-4348-B218-92F45F9F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18356-0F15-4343-9A19-1C87C6E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01E8A-272B-4FAD-BD6C-1C6936A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887E1-E388-4361-8C04-80922EC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7F8D7-ED83-454C-A8FF-CB0D71C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4B5FE-EA0B-409C-A058-E4BB89AE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3C686-5ED9-4CE1-923D-85B0CE11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572E-5AE9-411F-B5BA-052B8A27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62E9-E52D-47D3-BE3A-D5A162CD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8F9B-A04F-4D7C-8D64-056CBFA5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020-E5DF-410D-97BF-C1D604C5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A254-1329-46CC-92E5-2D45ACB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AED6-CA2F-485D-B624-1CA368A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9329-7146-4BA5-BC88-7F467EF5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536D-467D-4780-BBFA-9A9E0E65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DAC7-0BFA-4191-9EA3-78F6B55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E258-0E1B-4C0C-9287-3D0854C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572E-D561-43E7-80F4-475EEEA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26BC-FBE4-4B7B-9693-D6EA3794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3071-7B1F-4116-8D15-29E981A9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C197E-D1AC-400B-9ED3-DAC1E50D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359-639E-4D34-A22C-5D4CD051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006BD-29EB-497A-8DF4-394734F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068C1-55FB-4971-BAC7-5687E724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3A5F8-96D9-47C1-8CAA-389F150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A002B-97F0-42F7-8A80-6E40CC8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D63BD-0705-43CC-8865-8C6BFB6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20216-8A01-4781-8A66-CD21682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849AD-B090-49D5-AB43-1BEBBF2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121B6-E472-4387-877D-4893DF2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0974C-D33E-440D-869B-B980A61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926E9-6279-49F8-8A7E-492E1FE1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A7B-AB99-4221-AA0B-19A838E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8085E-1475-41CD-AE31-6F340DCA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4B043-694C-48A5-8A4F-4A43EC60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8F9A1-57AE-41B7-9E7D-04CB157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9B417-78B0-4C2C-A8A5-170FE3F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6FC1C-8308-43E8-A2F1-01700E33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D54A9-EAFC-4B3D-928C-0A45F04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61389-43A5-485D-80AC-BA0B180F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AAD93-46D9-4334-9525-9209D53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C1E41-673D-4F18-BF11-F57082F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5EBC7-59AD-4BE8-8427-3E40466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841-A2C9-415D-A392-B9207AA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F9BC8-73CC-4C70-9273-C8E0C79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4FEED-2D63-4D62-8D2A-1E2F5B1E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30F74-9041-4A07-993A-3A77C691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91D48-7B85-40AB-B56A-BB417BA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D4551-12DA-40DC-B958-5AFB2A3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64FCB-594B-4144-B3B6-F365126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484DA-BA20-4F24-9CCA-62C267A7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12364-6517-4E6F-9DC5-E8846264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944A7-1986-46CC-831F-3EB4404D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EFE3E-A60A-47CA-9976-E3CCCE2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27F-684C-4F06-A128-E481E54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FAF19-A0E9-47DE-B6AD-695338CD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4285B-CDCF-451F-9ABD-C9E05EE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EA320-99AA-482B-A52C-7F30788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87743-CBDC-441F-84E1-D63270BF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DDE40-9165-41DD-ACA8-E2D991FD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183-6B70-46C3-AF2C-27DE9EA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75B5-841E-46D5-8A63-5CA5E24D83E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6D1-8F3B-4CFA-A237-A0FCAA9765F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ACA-BA6A-4C95-A111-C6A78D51498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7D45-B1B0-4781-B59A-BE289FC1157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FA6F-1AF8-4F8D-9B66-452E580D94A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1CF-7604-4584-9CA4-E1082ECA749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FAD-9AE2-4D8F-BB9E-4420AC0CA5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800" y="2077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ПРЕДЕЛЯЕМ ТЕМУ УРОКА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80880" y="1295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скучали буквы в алфав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80880" y="4038480"/>
            <a:ext cx="85345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Ребята, а вы догадались, кто эта «незнакомк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ми буквами звук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может быть обозначен на пись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пробуйте сформулировать тему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6"/>
          <p:cNvSpPr/>
          <p:nvPr/>
        </p:nvSpPr>
        <p:spPr>
          <a:xfrm>
            <a:off x="304920" y="5562720"/>
            <a:ext cx="8381880" cy="106668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: «Звук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й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’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и его обозначе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 письм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7" descr="0_9e90d_f694d529_XL"/>
          <p:cNvPicPr/>
          <p:nvPr/>
        </p:nvPicPr>
        <p:blipFill>
          <a:blip r:embed="rId1"/>
          <a:stretch/>
        </p:blipFill>
        <p:spPr>
          <a:xfrm>
            <a:off x="2743200" y="1905120"/>
            <a:ext cx="1981080" cy="1717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8" descr="0_675be_fb6c2a63_L"/>
          <p:cNvPicPr/>
          <p:nvPr/>
        </p:nvPicPr>
        <p:blipFill>
          <a:blip r:embed="rId2"/>
          <a:stretch/>
        </p:blipFill>
        <p:spPr>
          <a:xfrm>
            <a:off x="4495680" y="1676520"/>
            <a:ext cx="1727280" cy="185256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41"/>
          <p:cNvGrpSpPr/>
          <p:nvPr/>
        </p:nvGrpSpPr>
        <p:grpSpPr>
          <a:xfrm>
            <a:off x="0" y="1600200"/>
            <a:ext cx="2286000" cy="1295280"/>
            <a:chOff x="0" y="1600200"/>
            <a:chExt cx="2286000" cy="1295280"/>
          </a:xfrm>
        </p:grpSpPr>
        <p:sp>
          <p:nvSpPr>
            <p:cNvPr id="389" name="AutoShape 40"/>
            <p:cNvSpPr/>
            <p:nvPr/>
          </p:nvSpPr>
          <p:spPr>
            <a:xfrm>
              <a:off x="0" y="1600200"/>
              <a:ext cx="2286000" cy="12952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9"/>
            <p:cNvSpPr/>
            <p:nvPr/>
          </p:nvSpPr>
          <p:spPr>
            <a:xfrm>
              <a:off x="383040" y="198108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Споё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47"/>
          <p:cNvGrpSpPr/>
          <p:nvPr/>
        </p:nvGrpSpPr>
        <p:grpSpPr>
          <a:xfrm>
            <a:off x="6781680" y="1295280"/>
            <a:ext cx="2133720" cy="1422360"/>
            <a:chOff x="6781680" y="1295280"/>
            <a:chExt cx="2133720" cy="1422360"/>
          </a:xfrm>
        </p:grpSpPr>
        <p:sp>
          <p:nvSpPr>
            <p:cNvPr id="392" name="AutoShape 45"/>
            <p:cNvSpPr/>
            <p:nvPr/>
          </p:nvSpPr>
          <p:spPr>
            <a:xfrm>
              <a:off x="6781680" y="1295280"/>
              <a:ext cx="2133720" cy="1422360"/>
            </a:xfrm>
            <a:prstGeom prst="wedgeEllipseCallout">
              <a:avLst>
                <a:gd name="adj1" fmla="val -79912"/>
                <a:gd name="adj2" fmla="val 5256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6"/>
            <p:cNvSpPr/>
            <p:nvPr/>
          </p:nvSpPr>
          <p:spPr>
            <a:xfrm>
              <a:off x="7010640" y="1752480"/>
              <a:ext cx="18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уме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55"/>
          <p:cNvGrpSpPr/>
          <p:nvPr/>
        </p:nvGrpSpPr>
        <p:grpSpPr>
          <a:xfrm>
            <a:off x="0" y="1828800"/>
            <a:ext cx="3141720" cy="1981080"/>
            <a:chOff x="0" y="1828800"/>
            <a:chExt cx="3141720" cy="1981080"/>
          </a:xfrm>
        </p:grpSpPr>
        <p:sp>
          <p:nvSpPr>
            <p:cNvPr id="395" name="AutoShape 49"/>
            <p:cNvSpPr/>
            <p:nvPr/>
          </p:nvSpPr>
          <p:spPr>
            <a:xfrm>
              <a:off x="0" y="1828800"/>
              <a:ext cx="2819520" cy="1981080"/>
            </a:xfrm>
            <a:prstGeom prst="wedgeEllipseCallout">
              <a:avLst>
                <a:gd name="adj1" fmla="val 62500"/>
                <a:gd name="adj2" fmla="val 144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0"/>
            <p:cNvSpPr/>
            <p:nvPr/>
          </p:nvSpPr>
          <p:spPr>
            <a:xfrm>
              <a:off x="0" y="2209680"/>
              <a:ext cx="314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А ты попробуй.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Пой как я: и-и-и-и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8"/>
          <p:cNvGrpSpPr/>
          <p:nvPr/>
        </p:nvGrpSpPr>
        <p:grpSpPr>
          <a:xfrm>
            <a:off x="6172200" y="1295280"/>
            <a:ext cx="2971800" cy="1676520"/>
            <a:chOff x="6172200" y="1295280"/>
            <a:chExt cx="2971800" cy="1676520"/>
          </a:xfrm>
        </p:grpSpPr>
        <p:sp>
          <p:nvSpPr>
            <p:cNvPr id="398" name="AutoShape 56"/>
            <p:cNvSpPr/>
            <p:nvPr/>
          </p:nvSpPr>
          <p:spPr>
            <a:xfrm>
              <a:off x="6172200" y="129528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6400440" y="182880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Й… й… й… й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1"/>
          <p:cNvGrpSpPr/>
          <p:nvPr/>
        </p:nvGrpSpPr>
        <p:grpSpPr>
          <a:xfrm>
            <a:off x="0" y="1523880"/>
            <a:ext cx="3048120" cy="2590920"/>
            <a:chOff x="0" y="1523880"/>
            <a:chExt cx="3048120" cy="2590920"/>
          </a:xfrm>
        </p:grpSpPr>
        <p:sp>
          <p:nvSpPr>
            <p:cNvPr id="401" name="AutoShape 59"/>
            <p:cNvSpPr/>
            <p:nvPr/>
          </p:nvSpPr>
          <p:spPr>
            <a:xfrm>
              <a:off x="0" y="1523880"/>
              <a:ext cx="2743200" cy="2590920"/>
            </a:xfrm>
            <a:prstGeom prst="wedgeEllipseCallout">
              <a:avLst>
                <a:gd name="adj1" fmla="val 65685"/>
                <a:gd name="adj2" fmla="val -2268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0" y="220968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Arial"/>
                </a:rPr>
                <a:t>И правда, не умеешь. Странно: все буквы гласных поют, а ты – нет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62"/>
          <p:cNvGrpSpPr/>
          <p:nvPr/>
        </p:nvGrpSpPr>
        <p:grpSpPr>
          <a:xfrm>
            <a:off x="6172200" y="1447920"/>
            <a:ext cx="2971800" cy="1676160"/>
            <a:chOff x="6172200" y="1447920"/>
            <a:chExt cx="2971800" cy="1676160"/>
          </a:xfrm>
        </p:grpSpPr>
        <p:sp>
          <p:nvSpPr>
            <p:cNvPr id="404" name="AutoShape 63"/>
            <p:cNvSpPr/>
            <p:nvPr/>
          </p:nvSpPr>
          <p:spPr>
            <a:xfrm>
              <a:off x="6172200" y="1447920"/>
              <a:ext cx="2971800" cy="167616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4"/>
            <p:cNvSpPr/>
            <p:nvPr/>
          </p:nvSpPr>
          <p:spPr>
            <a:xfrm>
              <a:off x="6402960" y="19810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буква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гласног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65"/>
          <p:cNvGrpSpPr/>
          <p:nvPr/>
        </p:nvGrpSpPr>
        <p:grpSpPr>
          <a:xfrm>
            <a:off x="152280" y="1752480"/>
            <a:ext cx="2286000" cy="1752480"/>
            <a:chOff x="152280" y="1752480"/>
            <a:chExt cx="2286000" cy="1752480"/>
          </a:xfrm>
        </p:grpSpPr>
        <p:sp>
          <p:nvSpPr>
            <p:cNvPr id="407" name="AutoShape 66"/>
            <p:cNvSpPr/>
            <p:nvPr/>
          </p:nvSpPr>
          <p:spPr>
            <a:xfrm>
              <a:off x="152280" y="1752480"/>
              <a:ext cx="2286000" cy="17524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7"/>
            <p:cNvSpPr/>
            <p:nvPr/>
          </p:nvSpPr>
          <p:spPr>
            <a:xfrm>
              <a:off x="536760" y="226764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 кто же </a:t>
              </a:r>
              <a:br>
                <a:rPr sz="2400"/>
              </a:b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ы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68"/>
          <p:cNvGrpSpPr/>
          <p:nvPr/>
        </p:nvGrpSpPr>
        <p:grpSpPr>
          <a:xfrm>
            <a:off x="6172200" y="1371600"/>
            <a:ext cx="2971800" cy="1676520"/>
            <a:chOff x="6172200" y="1371600"/>
            <a:chExt cx="2971800" cy="1676520"/>
          </a:xfrm>
        </p:grpSpPr>
        <p:sp>
          <p:nvSpPr>
            <p:cNvPr id="410" name="AutoShape 69"/>
            <p:cNvSpPr/>
            <p:nvPr/>
          </p:nvSpPr>
          <p:spPr>
            <a:xfrm>
              <a:off x="6172200" y="137160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0"/>
            <p:cNvSpPr/>
            <p:nvPr/>
          </p:nvSpPr>
          <p:spPr>
            <a:xfrm>
              <a:off x="6396120" y="190512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        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и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и – трамва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0" y="3537000"/>
            <a:ext cx="83818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перв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вы слышите на конце эти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и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втор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слышите на конце данны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ой буквой обозначается на письме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7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8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2" descr="original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4064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4" descr="162"/>
          <p:cNvPicPr/>
          <p:nvPr/>
        </p:nvPicPr>
        <p:blipFill>
          <a:blip r:embed="rId2"/>
          <a:srcRect l="0" t="0" r="0" b="20793"/>
          <a:stretch/>
        </p:blipFill>
        <p:spPr>
          <a:xfrm>
            <a:off x="0" y="1828800"/>
            <a:ext cx="2705040" cy="179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6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1"/>
          <p:cNvSpPr/>
          <p:nvPr/>
        </p:nvSpPr>
        <p:spPr>
          <a:xfrm>
            <a:off x="2286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4400" y="28404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304920" y="2362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гурт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и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га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ь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к, ле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, м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, к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, с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ь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под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, с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0" y="35812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е звуки вы слышите на месте подчёркнутых бук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 каких случаях буквы е, ё, ю, я обозначают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ими буквами, кроме Й, может быть обозначен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на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8" descr="x_170577aa"/>
          <p:cNvPicPr/>
          <p:nvPr/>
        </p:nvPicPr>
        <p:blipFill>
          <a:blip r:embed="rId1"/>
          <a:srcRect l="8569" t="12381" r="12570" b="7690"/>
          <a:stretch/>
        </p:blipFill>
        <p:spPr>
          <a:xfrm>
            <a:off x="7315200" y="2286000"/>
            <a:ext cx="157968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" descr="iCAST0X11"/>
          <p:cNvPicPr/>
          <p:nvPr/>
        </p:nvPicPr>
        <p:blipFill>
          <a:blip r:embed="rId2"/>
          <a:stretch/>
        </p:blipFill>
        <p:spPr>
          <a:xfrm>
            <a:off x="3200400" y="497196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Text Box 40"/>
          <p:cNvSpPr/>
          <p:nvPr/>
        </p:nvSpPr>
        <p:spPr>
          <a:xfrm>
            <a:off x="228600" y="1447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533520" y="1828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, май, Юра, йогурт, зайка, чай, поёт, заяц, приём, л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0"/>
          <p:cNvSpPr/>
          <p:nvPr/>
        </p:nvSpPr>
        <p:spPr>
          <a:xfrm>
            <a:off x="29718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1"/>
          <p:cNvSpPr/>
          <p:nvPr/>
        </p:nvSpPr>
        <p:spPr>
          <a:xfrm>
            <a:off x="380880" y="26668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в один столбик слова, в которых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 другой – буквами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е, ё, ю,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4"/>
          <p:cNvSpPr/>
          <p:nvPr/>
        </p:nvSpPr>
        <p:spPr>
          <a:xfrm>
            <a:off x="532800" y="3657600"/>
            <a:ext cx="21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– бук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5"/>
          <p:cNvSpPr/>
          <p:nvPr/>
        </p:nvSpPr>
        <p:spPr>
          <a:xfrm>
            <a:off x="5862960" y="3657600"/>
            <a:ext cx="22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е, ё, ю,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6"/>
          <p:cNvSpPr/>
          <p:nvPr/>
        </p:nvSpPr>
        <p:spPr>
          <a:xfrm>
            <a:off x="685800" y="4267080"/>
            <a:ext cx="16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огур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йк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7"/>
          <p:cNvSpPr/>
          <p:nvPr/>
        </p:nvSpPr>
        <p:spPr>
          <a:xfrm>
            <a:off x="6402240" y="426708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Юр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ё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яц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8" descr="Siberian%20Husky"/>
          <p:cNvPicPr/>
          <p:nvPr/>
        </p:nvPicPr>
        <p:blipFill>
          <a:blip r:embed="rId1"/>
          <a:stretch/>
        </p:blipFill>
        <p:spPr>
          <a:xfrm>
            <a:off x="7086600" y="2133720"/>
            <a:ext cx="2057400" cy="1738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9" descr="x_3a63d5bf"/>
          <p:cNvPicPr/>
          <p:nvPr/>
        </p:nvPicPr>
        <p:blipFill>
          <a:blip r:embed="rId2"/>
          <a:stretch/>
        </p:blipFill>
        <p:spPr>
          <a:xfrm>
            <a:off x="3048120" y="388620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457200" y="2514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) пятк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                        3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семья                                   4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е, в каком слове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04920" y="3886200"/>
            <a:ext cx="74674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ите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еперь попробуйте произнести его без зву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не подходит для ответа слов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означает бук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ов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458640" y="28954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0" descr="00488468"/>
          <p:cNvPicPr/>
          <p:nvPr/>
        </p:nvPicPr>
        <p:blipFill>
          <a:blip r:embed="rId1"/>
          <a:stretch/>
        </p:blipFill>
        <p:spPr>
          <a:xfrm>
            <a:off x="5867280" y="1905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achilles-heel"/>
          <p:cNvPicPr/>
          <p:nvPr/>
        </p:nvPicPr>
        <p:blipFill>
          <a:blip r:embed="rId2"/>
          <a:stretch/>
        </p:blipFill>
        <p:spPr>
          <a:xfrm>
            <a:off x="2133720" y="1981080"/>
            <a:ext cx="2209680" cy="19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РЯЕМ СЕБ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й, яблоня, слёзы, йод, боец, чайник, пью, подъезд, весна, шалунья, юл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04920" y="281952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слова, в которых слышится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ите буквы, на месте которых вы слышите зв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8954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57200" y="4572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блоня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д, бо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ц, ч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ик, п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подъ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зд, шалун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80880" y="54100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лова вы не выписал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30492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лёзы, весн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1" descr="lena-bak-farma-13-cm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drzewo-6_11-38839"/>
          <p:cNvPicPr/>
          <p:nvPr/>
        </p:nvPicPr>
        <p:blipFill>
          <a:blip r:embed="rId2"/>
          <a:stretch/>
        </p:blipFill>
        <p:spPr>
          <a:xfrm>
            <a:off x="6781680" y="2362320"/>
            <a:ext cx="2036880" cy="175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Прямоугольник 9" descr=""/>
          <p:cNvPicPr/>
          <p:nvPr/>
        </p:nvPicPr>
        <p:blipFill>
          <a:blip r:embed="rId1"/>
          <a:stretch/>
        </p:blipFill>
        <p:spPr>
          <a:xfrm>
            <a:off x="1700280" y="2792520"/>
            <a:ext cx="4011480" cy="1103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Asus</cp:lastModifiedBy>
  <dcterms:modified xsi:type="dcterms:W3CDTF">2023-10-02T10:53:0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