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4B3E-873B-4943-93E1-B192D08161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E130-2066-4237-BA4A-B9D2D011D8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скучали буквы в алфави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поём? – сказала одна своей соседке, очень на неё похож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Я не умею, - грустно сказала т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 ты попробуй. Пой, как я: и-и-и-и-и-и-и-и-и-и!.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Й… й… й… й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 правда, не умеешь. Странно: все буквы гласных поют, а ты – нет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Я не буква гласного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 кто же ты?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77A4-0E38-458B-B357-22D05842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AA2-683C-444B-B392-4D18FB31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A89-0EBB-4E00-B23D-2E49BE3C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7002-C74B-400E-B309-F7DAEC94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772B-6BBE-4190-98EE-9384E7EC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EC40-6A1F-46E9-B594-A933C562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CE74-206E-4315-BC53-27A6CAFD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CEE1-52A7-4516-9CE5-C20ED0E3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F9E8-73E1-436C-9711-1725C9FC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B79E-FB95-4115-A815-53B62010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8DCA-B8B2-4BEE-BE6D-51C4FAF5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141-DE3D-4C60-A64F-31502DC9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8CB6-AB5D-4178-978F-2E33A589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A1EA-7550-4418-B814-92C85996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6BE8-C629-4363-947D-8C239B00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FE7E-D467-48D9-9A33-D8BFA41F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5F14-6305-422E-A6F7-515B4C61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21999-A97D-4C96-99C6-ED2FDCB8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39AC5-BF4C-413C-A203-B1C710E1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86644-C783-40F5-BF0C-E9B248CE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B0B8D-2D9F-47BF-87CE-553119C6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DBB2D-7C98-416A-9F1C-BAFA68F8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A5D-8C11-42CD-AEE4-32BEB604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41420-0B70-4BC8-B4AA-309D8614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8990A-3DF0-4B87-B597-04982B3F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C343E-A80F-49BD-9A0A-FE0A970F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E4B9B-2940-4FFC-844F-344BDC0D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CE42E-CE02-446C-A3F8-079C4D3F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03122-8A3F-41BF-B89C-DB869D10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C1A9A-A543-4401-9041-42944691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C1D25-F6F1-4689-B791-6149FBBD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AD7D0-E04E-44D1-88CD-B2AE62BD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620EC-1648-42D0-A76F-B9C4A50E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A91-48CC-4C39-A2EA-EA95DE53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31376-7B21-4815-B9EF-85DF70CB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BFF25-3748-4FFF-A975-6A4B9CD6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3F606-40EC-48B3-B0E0-07B4679C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0435F-627E-41AC-A2B0-37D594BB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E607C-5C9F-4E73-B2A3-CE2E7F8B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F1E26-71EE-4B63-BD18-DDABEA2A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B72EF-7876-44A3-8E39-2B14136F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01187-9D46-4136-9DAB-83436845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89264-9B85-458F-906A-79BC92DD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1617F-A1E8-4B71-8423-766FFA04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31F6-028F-4FBB-8903-88013E23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A62777-900A-4775-A2F9-AB4039D3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5F511-9849-4F0F-9543-AB9A9E0B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22B2F4-47D0-44A1-816C-47343298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C0F8C-D95C-46C9-B4EF-D07D9E0F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CDB4DC-DE31-41A9-8C59-972267E3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05F10-A8CC-4EFC-B8BD-7ABD5F76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487CF-DCEC-4C1F-B31D-54083AA9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C7C6AE-01C6-4AF7-B3D5-8E4A1CBC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8869A-0C40-4CBF-8FB7-F4EDD63F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2D0FF-E0A1-465D-868B-12D673E0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33FB-8698-4A86-807A-5B03742D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AC16F-C13F-44A2-AF23-A552B8AF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E6FD6-7CB0-4A97-8DA2-CE5BA14A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A6751-4043-418F-83D7-7BBFEA0B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7C7CC7-EF32-4E37-A25F-E7C7B2D4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D44634-E55B-448A-AC37-694482D1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FD120-CBB8-4786-8298-7B4C7135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86B5B-2E54-463B-831B-B4DC8DB6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9BA7AB-06E1-4A2F-8DD5-31F44BF1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DB114-0573-4630-A156-886329E1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A1CB64-4C97-46AC-BB51-A788D534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72DB-44D0-479C-87D1-03DFF3FB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1D340-3092-4EDD-81D3-01F4F80F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ECF52-D23C-4ADB-AA73-D04CB4FF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6A0AC8-30EB-40F8-90BA-D944C395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90708E-7A1C-4D2E-9268-B3D8EF9A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8AD7C-84EA-4F01-9120-A7EA65E0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537FE-8080-42B4-833C-76C1B8AE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49AA8F-F70B-40E3-B3A5-469B16F1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9B47CA-251A-432D-9DD8-0A328524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ED999F-8EAC-40D5-8AEA-02F2656E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0BD0B-7001-4F62-9E51-28491DCC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E296-A7DF-4792-8EEA-210DA8B3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82078-379E-416A-932E-59E9C4A0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BEAA7E-10B6-4AAB-815B-FCD48449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E4371-21CD-49AC-9D03-E29FD8A3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245830-33EE-4969-AFB7-50FC68D3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EC1AB8-7098-41A8-9B20-B0978895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504-920F-44E1-8DAF-88417F46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869A-292F-4BCF-B500-FE1D38F41DF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EEE2-9FB4-4FFF-9FE1-5DFAFBA3923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DF7E-95EA-439F-8535-A557C605840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6117-8BA0-421B-B9D1-286C3228546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F80E-7F6E-4BE5-BA93-26B32B6838E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0156-BFC5-489D-A6F1-9B1F9E40FE3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7377-8E40-4714-BFF5-94AFB43DEFC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55800" y="20772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ПРЕДЕЛЯЕМ ТЕМУ УРОКА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80880" y="1295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Заскучали буквы в алфав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380880" y="4038480"/>
            <a:ext cx="853452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Ребята, а вы догадались, кто эта «незнакомка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Какими буквами звук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й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’]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может быть обозначен на письм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Попробуйте сформулировать тему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6"/>
          <p:cNvSpPr/>
          <p:nvPr/>
        </p:nvSpPr>
        <p:spPr>
          <a:xfrm>
            <a:off x="304920" y="5562720"/>
            <a:ext cx="8381880" cy="1066680"/>
          </a:xfrm>
          <a:prstGeom prst="roundRect">
            <a:avLst>
              <a:gd name="adj" fmla="val 16667"/>
            </a:avLst>
          </a:pr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ма: «Звук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й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’]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и его обозначение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а письм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7" descr="0_9e90d_f694d529_XL"/>
          <p:cNvPicPr/>
          <p:nvPr/>
        </p:nvPicPr>
        <p:blipFill>
          <a:blip r:embed="rId1"/>
          <a:stretch/>
        </p:blipFill>
        <p:spPr>
          <a:xfrm>
            <a:off x="2743200" y="1905120"/>
            <a:ext cx="1981080" cy="1717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8" descr="0_675be_fb6c2a63_L"/>
          <p:cNvPicPr/>
          <p:nvPr/>
        </p:nvPicPr>
        <p:blipFill>
          <a:blip r:embed="rId2"/>
          <a:stretch/>
        </p:blipFill>
        <p:spPr>
          <a:xfrm>
            <a:off x="4495680" y="1676520"/>
            <a:ext cx="1727280" cy="1852560"/>
          </a:xfrm>
          <a:prstGeom prst="rect">
            <a:avLst/>
          </a:prstGeom>
          <a:ln w="0">
            <a:noFill/>
          </a:ln>
        </p:spPr>
      </p:pic>
      <p:grpSp>
        <p:nvGrpSpPr>
          <p:cNvPr id="388" name="Group 41"/>
          <p:cNvGrpSpPr/>
          <p:nvPr/>
        </p:nvGrpSpPr>
        <p:grpSpPr>
          <a:xfrm>
            <a:off x="0" y="1600200"/>
            <a:ext cx="2286000" cy="1295280"/>
            <a:chOff x="0" y="1600200"/>
            <a:chExt cx="2286000" cy="1295280"/>
          </a:xfrm>
        </p:grpSpPr>
        <p:sp>
          <p:nvSpPr>
            <p:cNvPr id="389" name="AutoShape 40"/>
            <p:cNvSpPr/>
            <p:nvPr/>
          </p:nvSpPr>
          <p:spPr>
            <a:xfrm>
              <a:off x="0" y="1600200"/>
              <a:ext cx="2286000" cy="1295280"/>
            </a:xfrm>
            <a:prstGeom prst="wedgeEllipseCallout">
              <a:avLst>
                <a:gd name="adj1" fmla="val 57916"/>
                <a:gd name="adj2" fmla="val 43750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9"/>
            <p:cNvSpPr/>
            <p:nvPr/>
          </p:nvSpPr>
          <p:spPr>
            <a:xfrm>
              <a:off x="383040" y="198108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Споём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47"/>
          <p:cNvGrpSpPr/>
          <p:nvPr/>
        </p:nvGrpSpPr>
        <p:grpSpPr>
          <a:xfrm>
            <a:off x="6781680" y="1295280"/>
            <a:ext cx="2133720" cy="1422360"/>
            <a:chOff x="6781680" y="1295280"/>
            <a:chExt cx="2133720" cy="1422360"/>
          </a:xfrm>
        </p:grpSpPr>
        <p:sp>
          <p:nvSpPr>
            <p:cNvPr id="392" name="AutoShape 45"/>
            <p:cNvSpPr/>
            <p:nvPr/>
          </p:nvSpPr>
          <p:spPr>
            <a:xfrm>
              <a:off x="6781680" y="1295280"/>
              <a:ext cx="2133720" cy="1422360"/>
            </a:xfrm>
            <a:prstGeom prst="wedgeEllipseCallout">
              <a:avLst>
                <a:gd name="adj1" fmla="val -79912"/>
                <a:gd name="adj2" fmla="val 52564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46"/>
            <p:cNvSpPr/>
            <p:nvPr/>
          </p:nvSpPr>
          <p:spPr>
            <a:xfrm>
              <a:off x="7010640" y="1752480"/>
              <a:ext cx="183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Я не умею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55"/>
          <p:cNvGrpSpPr/>
          <p:nvPr/>
        </p:nvGrpSpPr>
        <p:grpSpPr>
          <a:xfrm>
            <a:off x="0" y="1828800"/>
            <a:ext cx="3141720" cy="1981080"/>
            <a:chOff x="0" y="1828800"/>
            <a:chExt cx="3141720" cy="1981080"/>
          </a:xfrm>
        </p:grpSpPr>
        <p:sp>
          <p:nvSpPr>
            <p:cNvPr id="395" name="AutoShape 49"/>
            <p:cNvSpPr/>
            <p:nvPr/>
          </p:nvSpPr>
          <p:spPr>
            <a:xfrm>
              <a:off x="0" y="1828800"/>
              <a:ext cx="2819520" cy="1981080"/>
            </a:xfrm>
            <a:prstGeom prst="wedgeEllipseCallout">
              <a:avLst>
                <a:gd name="adj1" fmla="val 62500"/>
                <a:gd name="adj2" fmla="val 1444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50"/>
            <p:cNvSpPr/>
            <p:nvPr/>
          </p:nvSpPr>
          <p:spPr>
            <a:xfrm>
              <a:off x="0" y="2209680"/>
              <a:ext cx="3141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А ты попробуй.</a:t>
              </a:r>
              <a:br>
                <a:rPr sz="2400"/>
              </a:b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Пой как я: и-и-и-и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58"/>
          <p:cNvGrpSpPr/>
          <p:nvPr/>
        </p:nvGrpSpPr>
        <p:grpSpPr>
          <a:xfrm>
            <a:off x="6172200" y="1295280"/>
            <a:ext cx="2971800" cy="1676520"/>
            <a:chOff x="6172200" y="1295280"/>
            <a:chExt cx="2971800" cy="1676520"/>
          </a:xfrm>
        </p:grpSpPr>
        <p:sp>
          <p:nvSpPr>
            <p:cNvPr id="398" name="AutoShape 56"/>
            <p:cNvSpPr/>
            <p:nvPr/>
          </p:nvSpPr>
          <p:spPr>
            <a:xfrm>
              <a:off x="6172200" y="1295280"/>
              <a:ext cx="2971800" cy="1676520"/>
            </a:xfrm>
            <a:prstGeom prst="wedgeEllipseCallout">
              <a:avLst>
                <a:gd name="adj1" fmla="val -58814"/>
                <a:gd name="adj2" fmla="val 15435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57"/>
            <p:cNvSpPr/>
            <p:nvPr/>
          </p:nvSpPr>
          <p:spPr>
            <a:xfrm>
              <a:off x="6400440" y="1828800"/>
              <a:ext cx="24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Й… й… й… й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61"/>
          <p:cNvGrpSpPr/>
          <p:nvPr/>
        </p:nvGrpSpPr>
        <p:grpSpPr>
          <a:xfrm>
            <a:off x="0" y="1523880"/>
            <a:ext cx="3048120" cy="2590920"/>
            <a:chOff x="0" y="1523880"/>
            <a:chExt cx="3048120" cy="2590920"/>
          </a:xfrm>
        </p:grpSpPr>
        <p:sp>
          <p:nvSpPr>
            <p:cNvPr id="401" name="AutoShape 59"/>
            <p:cNvSpPr/>
            <p:nvPr/>
          </p:nvSpPr>
          <p:spPr>
            <a:xfrm>
              <a:off x="0" y="1523880"/>
              <a:ext cx="2743200" cy="2590920"/>
            </a:xfrm>
            <a:prstGeom prst="wedgeEllipseCallout">
              <a:avLst>
                <a:gd name="adj1" fmla="val 65685"/>
                <a:gd name="adj2" fmla="val -2268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0"/>
            <p:cNvSpPr/>
            <p:nvPr/>
          </p:nvSpPr>
          <p:spPr>
            <a:xfrm>
              <a:off x="0" y="220968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3300"/>
                  </a:solidFill>
                  <a:latin typeface="Arial"/>
                </a:rPr>
                <a:t>И правда, не умеешь. Странно: все буквы гласных поют, а ты – нет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62"/>
          <p:cNvGrpSpPr/>
          <p:nvPr/>
        </p:nvGrpSpPr>
        <p:grpSpPr>
          <a:xfrm>
            <a:off x="6172200" y="1447920"/>
            <a:ext cx="2971800" cy="1676160"/>
            <a:chOff x="6172200" y="1447920"/>
            <a:chExt cx="2971800" cy="1676160"/>
          </a:xfrm>
        </p:grpSpPr>
        <p:sp>
          <p:nvSpPr>
            <p:cNvPr id="404" name="AutoShape 63"/>
            <p:cNvSpPr/>
            <p:nvPr/>
          </p:nvSpPr>
          <p:spPr>
            <a:xfrm>
              <a:off x="6172200" y="1447920"/>
              <a:ext cx="2971800" cy="1676160"/>
            </a:xfrm>
            <a:prstGeom prst="wedgeEllipseCallout">
              <a:avLst>
                <a:gd name="adj1" fmla="val -58814"/>
                <a:gd name="adj2" fmla="val 15435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64"/>
            <p:cNvSpPr/>
            <p:nvPr/>
          </p:nvSpPr>
          <p:spPr>
            <a:xfrm>
              <a:off x="6402960" y="1981080"/>
              <a:ext cx="191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Я не буква</a:t>
              </a:r>
              <a:br>
                <a:rPr sz="2400"/>
              </a:b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 гласного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65"/>
          <p:cNvGrpSpPr/>
          <p:nvPr/>
        </p:nvGrpSpPr>
        <p:grpSpPr>
          <a:xfrm>
            <a:off x="152280" y="1752480"/>
            <a:ext cx="2286000" cy="1752480"/>
            <a:chOff x="152280" y="1752480"/>
            <a:chExt cx="2286000" cy="1752480"/>
          </a:xfrm>
        </p:grpSpPr>
        <p:sp>
          <p:nvSpPr>
            <p:cNvPr id="407" name="AutoShape 66"/>
            <p:cNvSpPr/>
            <p:nvPr/>
          </p:nvSpPr>
          <p:spPr>
            <a:xfrm>
              <a:off x="152280" y="1752480"/>
              <a:ext cx="2286000" cy="1752480"/>
            </a:xfrm>
            <a:prstGeom prst="wedgeEllipseCallout">
              <a:avLst>
                <a:gd name="adj1" fmla="val 57916"/>
                <a:gd name="adj2" fmla="val 43750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67"/>
            <p:cNvSpPr/>
            <p:nvPr/>
          </p:nvSpPr>
          <p:spPr>
            <a:xfrm>
              <a:off x="536760" y="2267640"/>
              <a:ext cx="152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 кто же </a:t>
              </a:r>
              <a:br>
                <a:rPr sz="2400"/>
              </a:b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ты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68"/>
          <p:cNvGrpSpPr/>
          <p:nvPr/>
        </p:nvGrpSpPr>
        <p:grpSpPr>
          <a:xfrm>
            <a:off x="6172200" y="1371600"/>
            <a:ext cx="2971800" cy="1676520"/>
            <a:chOff x="6172200" y="1371600"/>
            <a:chExt cx="2971800" cy="1676520"/>
          </a:xfrm>
        </p:grpSpPr>
        <p:sp>
          <p:nvSpPr>
            <p:cNvPr id="410" name="AutoShape 69"/>
            <p:cNvSpPr/>
            <p:nvPr/>
          </p:nvSpPr>
          <p:spPr>
            <a:xfrm>
              <a:off x="6172200" y="1371600"/>
              <a:ext cx="2971800" cy="1676520"/>
            </a:xfrm>
            <a:prstGeom prst="wedgeEllipseCallout">
              <a:avLst>
                <a:gd name="adj1" fmla="val -58814"/>
                <a:gd name="adj2" fmla="val 15435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0"/>
            <p:cNvSpPr/>
            <p:nvPr/>
          </p:nvSpPr>
          <p:spPr>
            <a:xfrm>
              <a:off x="6396120" y="1905120"/>
              <a:ext cx="142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          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512640" y="330120"/>
            <a:ext cx="735588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РАЗВИВАЕМ УМЕНИЯ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3" name="Text Box 24"/>
          <p:cNvSpPr/>
          <p:nvPr/>
        </p:nvSpPr>
        <p:spPr>
          <a:xfrm>
            <a:off x="304920" y="14479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6"/>
          <p:cNvSpPr/>
          <p:nvPr/>
        </p:nvSpPr>
        <p:spPr>
          <a:xfrm>
            <a:off x="2666880" y="175248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и –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вои –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вбои –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ародеи – трамва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0" y="3537000"/>
            <a:ext cx="838188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Произнесите слова первой коло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Какой звук вы слышите на конце этих сл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Какой буквой обозначен звук 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и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]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Произнесите слова второй коло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Какой звук слышите на конце данных сл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Какой буквой обозначен звук 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й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’]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Сделайте вывод: какой буквой обозначается на письме 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й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’]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?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7"/>
          <p:cNvSpPr/>
          <p:nvPr/>
        </p:nvSpPr>
        <p:spPr>
          <a:xfrm>
            <a:off x="4572000" y="175248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во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вбо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ароде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рамв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8"/>
          <p:cNvSpPr/>
          <p:nvPr/>
        </p:nvSpPr>
        <p:spPr>
          <a:xfrm>
            <a:off x="2666880" y="175248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–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в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–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вб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–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арод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– трамв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9"/>
          <p:cNvSpPr/>
          <p:nvPr/>
        </p:nvSpPr>
        <p:spPr>
          <a:xfrm>
            <a:off x="4572000" y="175248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в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вб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арод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рамв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2" descr="original"/>
          <p:cNvPicPr/>
          <p:nvPr/>
        </p:nvPicPr>
        <p:blipFill>
          <a:blip r:embed="rId1"/>
          <a:stretch/>
        </p:blipFill>
        <p:spPr>
          <a:xfrm>
            <a:off x="5486400" y="1981080"/>
            <a:ext cx="3276720" cy="4064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4" descr="162"/>
          <p:cNvPicPr/>
          <p:nvPr/>
        </p:nvPicPr>
        <p:blipFill>
          <a:blip r:embed="rId2"/>
          <a:srcRect l="0" t="0" r="0" b="20793"/>
          <a:stretch/>
        </p:blipFill>
        <p:spPr>
          <a:xfrm>
            <a:off x="0" y="1828800"/>
            <a:ext cx="2705040" cy="1793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6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1"/>
          <p:cNvSpPr/>
          <p:nvPr/>
        </p:nvSpPr>
        <p:spPr>
          <a:xfrm>
            <a:off x="22860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84400" y="28404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РАЗВИВАЕМ УМЕНИЯ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3" name="Text Box 27"/>
          <p:cNvSpPr/>
          <p:nvPr/>
        </p:nvSpPr>
        <p:spPr>
          <a:xfrm>
            <a:off x="304920" y="2362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гурт,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и,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ю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га,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ь,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ё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к, ле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, ма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, ка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ю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, солов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ь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под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ъё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, с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ъ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0" y="3581280"/>
            <a:ext cx="91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Какие звуки вы слышите на месте подчёркнутых бук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 каких случаях буквы е, ё, ю, я обозначают звук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’]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Сделайте вывод: какими буквами, кроме Й, может быть обозначен звук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’]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на пись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8" descr="x_170577aa"/>
          <p:cNvPicPr/>
          <p:nvPr/>
        </p:nvPicPr>
        <p:blipFill>
          <a:blip r:embed="rId1"/>
          <a:srcRect l="8569" t="12381" r="12570" b="7690"/>
          <a:stretch/>
        </p:blipFill>
        <p:spPr>
          <a:xfrm>
            <a:off x="7315200" y="2286000"/>
            <a:ext cx="1579680" cy="2438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9" descr="iCAST0X11"/>
          <p:cNvPicPr/>
          <p:nvPr/>
        </p:nvPicPr>
        <p:blipFill>
          <a:blip r:embed="rId2"/>
          <a:stretch/>
        </p:blipFill>
        <p:spPr>
          <a:xfrm>
            <a:off x="3200400" y="4971960"/>
            <a:ext cx="1886040" cy="1886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512640" y="330120"/>
            <a:ext cx="735588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РАЗВИВАЕМ УМЕНИ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8" name="Text Box 40"/>
          <p:cNvSpPr/>
          <p:nvPr/>
        </p:nvSpPr>
        <p:spPr>
          <a:xfrm>
            <a:off x="228600" y="14479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5"/>
          <p:cNvSpPr/>
          <p:nvPr/>
        </p:nvSpPr>
        <p:spPr>
          <a:xfrm>
            <a:off x="533520" y="18288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Ёжик, май, Юра, йогурт, зайка, чай, поёт, заяц, приём, лай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0"/>
          <p:cNvSpPr/>
          <p:nvPr/>
        </p:nvSpPr>
        <p:spPr>
          <a:xfrm>
            <a:off x="2971800" y="342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верьт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1"/>
          <p:cNvSpPr/>
          <p:nvPr/>
        </p:nvSpPr>
        <p:spPr>
          <a:xfrm>
            <a:off x="380880" y="266688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ишите в один столбик слова, в которых звук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’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означен буквой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й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в другой – буквами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е, ё, ю,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4"/>
          <p:cNvSpPr/>
          <p:nvPr/>
        </p:nvSpPr>
        <p:spPr>
          <a:xfrm>
            <a:off x="532800" y="3657600"/>
            <a:ext cx="21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й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’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– бук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5"/>
          <p:cNvSpPr/>
          <p:nvPr/>
        </p:nvSpPr>
        <p:spPr>
          <a:xfrm>
            <a:off x="5862960" y="3657600"/>
            <a:ext cx="22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й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’]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е, ё, ю,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6"/>
          <p:cNvSpPr/>
          <p:nvPr/>
        </p:nvSpPr>
        <p:spPr>
          <a:xfrm>
            <a:off x="685800" y="4267080"/>
            <a:ext cx="16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йогурт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айка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а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ла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97"/>
          <p:cNvSpPr/>
          <p:nvPr/>
        </p:nvSpPr>
        <p:spPr>
          <a:xfrm>
            <a:off x="6402240" y="426708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ёжик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Юра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ёт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аяц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и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8" descr="Siberian%20Husky"/>
          <p:cNvPicPr/>
          <p:nvPr/>
        </p:nvPicPr>
        <p:blipFill>
          <a:blip r:embed="rId1"/>
          <a:stretch/>
        </p:blipFill>
        <p:spPr>
          <a:xfrm>
            <a:off x="7086600" y="2133720"/>
            <a:ext cx="2057400" cy="1738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99" descr="x_3a63d5bf"/>
          <p:cNvPicPr/>
          <p:nvPr/>
        </p:nvPicPr>
        <p:blipFill>
          <a:blip r:embed="rId2"/>
          <a:stretch/>
        </p:blipFill>
        <p:spPr>
          <a:xfrm>
            <a:off x="3048120" y="388620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513000" y="36036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ВАЕМ УМЕНИ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457200" y="25146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) пятка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                            3)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зя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2) семья                                   4)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а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304920" y="16002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е, в каком слове звук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’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означен буквой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304920" y="3886200"/>
            <a:ext cx="74674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ите это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теперь попробуйте произнести его без звук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Что получи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не подходит для ответа слов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й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обозначает букв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слова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ят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зя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9"/>
          <p:cNvSpPr/>
          <p:nvPr/>
        </p:nvSpPr>
        <p:spPr>
          <a:xfrm>
            <a:off x="458640" y="28954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)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20" descr="00488468"/>
          <p:cNvPicPr/>
          <p:nvPr/>
        </p:nvPicPr>
        <p:blipFill>
          <a:blip r:embed="rId1"/>
          <a:stretch/>
        </p:blipFill>
        <p:spPr>
          <a:xfrm>
            <a:off x="5867280" y="190512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1" descr="achilles-heel"/>
          <p:cNvPicPr/>
          <p:nvPr/>
        </p:nvPicPr>
        <p:blipFill>
          <a:blip r:embed="rId2"/>
          <a:stretch/>
        </p:blipFill>
        <p:spPr>
          <a:xfrm>
            <a:off x="2133720" y="1981080"/>
            <a:ext cx="2209680" cy="1947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513000" y="36036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ВЕРЯЕМ СЕБ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457200" y="1981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Май, яблоня, слёзы, йод, боец, чайник, пью, подъезд, весна, шалунья, юла, м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304920" y="16002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304920" y="2819520"/>
            <a:ext cx="7467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ишите слова, в которых слышится звук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’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черкните буквы, на месте которых вы слышите зву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2895480" y="4114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верьт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457200" y="4572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Ма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й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я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блоня, 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й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од, бо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е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ц, ча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й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ник, пь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ю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, подъ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е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зд, шалунь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я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ю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380880" y="54100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слова вы не выписали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304920" y="5867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Слёзы, весна, м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1" descr="lena-bak-farma-13-cm"/>
          <p:cNvPicPr/>
          <p:nvPr/>
        </p:nvPicPr>
        <p:blipFill>
          <a:blip r:embed="rId1"/>
          <a:stretch/>
        </p:blipFill>
        <p:spPr>
          <a:xfrm>
            <a:off x="7162920" y="4876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2" descr="drzewo-6_11-38839"/>
          <p:cNvPicPr/>
          <p:nvPr/>
        </p:nvPicPr>
        <p:blipFill>
          <a:blip r:embed="rId2"/>
          <a:stretch/>
        </p:blipFill>
        <p:spPr>
          <a:xfrm>
            <a:off x="6781680" y="2362320"/>
            <a:ext cx="2036880" cy="1752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Прямоугольник 9" descr=""/>
          <p:cNvPicPr/>
          <p:nvPr/>
        </p:nvPicPr>
        <p:blipFill>
          <a:blip r:embed="rId1"/>
          <a:stretch/>
        </p:blipFill>
        <p:spPr>
          <a:xfrm>
            <a:off x="1700280" y="2792520"/>
            <a:ext cx="4011480" cy="1103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мпьютер</dc:creator>
  <dc:description/>
  <dc:language>en-US</dc:language>
  <cp:lastModifiedBy>Asus</cp:lastModifiedBy>
  <dcterms:modified xsi:type="dcterms:W3CDTF">2023-10-02T10:53:08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