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842-0F9A-41AD-BD1D-8C4F8156C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812B-10A4-4A24-8971-211255BA3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скучали буквы в алфави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оём? – сказала одна своей соседке, очень на неё похож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умею, - грустно сказала 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ты попробуй. Пой, как я: и-и-и-и-и-и-и-и-и-и!.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Й… й… й… й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 правда, не умеешь. Странно: все буквы гласных поют, а ты – нет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не буква гласног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то же ты?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B4B-10D0-4EA8-8DFA-61CA458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B9E-F8A9-4966-ACB0-64AD89B0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066-7987-4D53-9357-91128D89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0B4-C0FB-4EC6-8FB2-A31B2E0A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1D0D-12A1-4574-A939-9280EEA3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7728-ECCB-46B6-A294-6BC3A26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FA9-1A8D-496E-B105-C83F9415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D7F6-5DAA-4046-AC71-ABE698A9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78A5-BEBA-481B-AE72-C6C7171E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3F7F-15C0-4D75-897E-9CD78B6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561-76E2-437B-A0C7-E1D6458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CB2-9ED1-45D9-B9E3-54B4712A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CE88-3D7D-465D-89A0-17C787E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0B0A-D63B-4D84-9507-73A3281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E549-FD0F-430D-83E5-4842B454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4B28-DB39-41EA-B237-A137DFCD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5F0F-B784-4CE2-8DA0-A44627E7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2644D-F445-4546-9A24-E3A36751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14437-F2FA-4E91-9FA2-C7C63F1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77710-F3E8-4CA7-8BBD-4862F11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D990D-8DBE-48E3-B79D-B0957C1F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A422D-A811-4FEE-9942-7B26F1AC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8D6-423A-4BE8-98AA-2885C48E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512C2-8A46-43EF-90C6-3B96B48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6679F-97E1-445C-84CF-69C7302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8E649-B761-4741-BCF3-E5E4322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956BA-6493-4D82-A409-0A17A65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CECC3-2F37-4C0A-9F27-E295D81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F6B03-BF32-4EA9-9BAD-CB4BC677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25EBC-662A-442F-9924-7893D102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B945-8D7B-4F73-9644-FD6786A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ECB3-8444-4E4A-A4F3-CABC0C1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E4EFB-2C52-41DE-B7F8-3F9B560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D6B-9879-47F0-A0FF-DA5D3CFB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DFF4-C309-4CB9-840D-169972E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6905-C9CF-4F33-838C-0A5DAC6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70D7-30A1-4153-94B4-7956020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4E61-F6A0-47C4-914F-4A780A3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0009-F631-47F5-AC18-CF670CD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9767A-01CC-4AC7-AD68-66FC26E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A27A-5C2A-4909-BB92-A629383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7E31-B2BE-42DC-BB34-8305A57F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55D6-213E-4175-9DC3-9042D7F6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EC0D9-2CD9-4199-B23D-FE29176F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344-3EAC-4CEB-9D5A-6B58FB74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170C6-660D-4740-8705-B486C6E7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8A392-832C-4C46-BAD1-6980932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EBEA8-1EFB-4EDA-B929-9BDD341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352EF-D1F2-4444-AC66-0525A39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95537-9CA0-433C-84E0-3608238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4E060-876D-4D80-9020-391EE85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67F51-1F23-4FBD-ACE2-B162793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7A43E-561F-4D75-AC09-653871E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42FC0-2A10-4B3F-A843-011EF10E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F7183-8559-4B85-8324-8716F4FC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112-E3F7-4D8A-B844-2497D8E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9F31B-A3DC-4934-8BEF-177A5D15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D9F51-30A3-4905-BD8E-41E6B81C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CBA47-17BC-45A4-8BD5-C199C0A3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6C7A7-60F9-4D87-B52C-71D8797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E9578-8A33-4580-8346-EA9FFC8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A99C8-D05C-4B2A-A9AF-06FE9184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C9A3F-F6A5-4B7C-A524-03C4944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6C28C-4364-42E3-98BB-23871D5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EA43C-CD41-4596-A7C9-84AD331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92DDF-5FA8-4681-8AED-F55B82E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28A-6D7C-4B7F-B57B-3AED74B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80435-8CF5-433E-879D-D899380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B0D5E-DB3D-42C0-A8AC-AB43361A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16366-91A5-48C2-B973-3702D4A5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65F2C-E616-47C3-AAFA-33F9021A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4FAEE-048C-45B8-B534-BEC5018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98F36-BB30-486F-A684-DC0BD2CB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7E579-1B98-4FBB-BE6D-15326271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207BD-B95A-4949-B2FF-5C2BDD4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B5F15-4702-471D-86F4-BEC0C4E8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719AD-AE42-48E5-96EE-1E6E33C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898-2706-48F1-BC3A-FA7DB65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E7426-7C5E-4DC0-BFFE-59FE94C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42C08-EBC3-4565-A952-0BE4129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1F29D-ED6F-471D-86B2-98995E2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8772E-4ACD-439C-9508-F78452D7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69F59-97EF-49BE-819E-7AEB670F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C59-D5DE-4190-80B8-F6FB21D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877-1D06-43B7-9547-C0764841006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2760-337C-4A28-8C8B-2CF5F52AA20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77F-7490-4250-AEDB-A7CABD2CEEB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B17-E84C-4483-B7D5-79BC43D914A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E02-525E-48D2-8933-72B850D5A56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8544-AAC1-4083-BAAA-3043E4E6B37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EF5-F870-4689-8A3C-2E734DC322A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800" y="2077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ПРЕДЕЛЯЕМ ТЕМУ УРОКА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80880" y="1295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скучали буквы в алфав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80880" y="4038480"/>
            <a:ext cx="85345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Ребята, а вы догадались, кто эта «незнакомк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ми буквами звук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может быть обозначен на пись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пробуйте сформулировать тему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6"/>
          <p:cNvSpPr/>
          <p:nvPr/>
        </p:nvSpPr>
        <p:spPr>
          <a:xfrm>
            <a:off x="304920" y="5562720"/>
            <a:ext cx="8381880" cy="106668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: «Звук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й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’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и его обозначе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 письм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7" descr="0_9e90d_f694d529_XL"/>
          <p:cNvPicPr/>
          <p:nvPr/>
        </p:nvPicPr>
        <p:blipFill>
          <a:blip r:embed="rId1"/>
          <a:stretch/>
        </p:blipFill>
        <p:spPr>
          <a:xfrm>
            <a:off x="2743200" y="1905120"/>
            <a:ext cx="1981080" cy="1717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8" descr="0_675be_fb6c2a63_L"/>
          <p:cNvPicPr/>
          <p:nvPr/>
        </p:nvPicPr>
        <p:blipFill>
          <a:blip r:embed="rId2"/>
          <a:stretch/>
        </p:blipFill>
        <p:spPr>
          <a:xfrm>
            <a:off x="4495680" y="1676520"/>
            <a:ext cx="1727280" cy="185256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41"/>
          <p:cNvGrpSpPr/>
          <p:nvPr/>
        </p:nvGrpSpPr>
        <p:grpSpPr>
          <a:xfrm>
            <a:off x="0" y="1600200"/>
            <a:ext cx="2286000" cy="1295280"/>
            <a:chOff x="0" y="1600200"/>
            <a:chExt cx="2286000" cy="1295280"/>
          </a:xfrm>
        </p:grpSpPr>
        <p:sp>
          <p:nvSpPr>
            <p:cNvPr id="389" name="AutoShape 40"/>
            <p:cNvSpPr/>
            <p:nvPr/>
          </p:nvSpPr>
          <p:spPr>
            <a:xfrm>
              <a:off x="0" y="1600200"/>
              <a:ext cx="2286000" cy="12952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9"/>
            <p:cNvSpPr/>
            <p:nvPr/>
          </p:nvSpPr>
          <p:spPr>
            <a:xfrm>
              <a:off x="383040" y="198108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Споё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47"/>
          <p:cNvGrpSpPr/>
          <p:nvPr/>
        </p:nvGrpSpPr>
        <p:grpSpPr>
          <a:xfrm>
            <a:off x="6781680" y="1295280"/>
            <a:ext cx="2133720" cy="1422360"/>
            <a:chOff x="6781680" y="1295280"/>
            <a:chExt cx="2133720" cy="1422360"/>
          </a:xfrm>
        </p:grpSpPr>
        <p:sp>
          <p:nvSpPr>
            <p:cNvPr id="392" name="AutoShape 45"/>
            <p:cNvSpPr/>
            <p:nvPr/>
          </p:nvSpPr>
          <p:spPr>
            <a:xfrm>
              <a:off x="6781680" y="1295280"/>
              <a:ext cx="2133720" cy="1422360"/>
            </a:xfrm>
            <a:prstGeom prst="wedgeEllipseCallout">
              <a:avLst>
                <a:gd name="adj1" fmla="val -79912"/>
                <a:gd name="adj2" fmla="val 5256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6"/>
            <p:cNvSpPr/>
            <p:nvPr/>
          </p:nvSpPr>
          <p:spPr>
            <a:xfrm>
              <a:off x="7010640" y="1752480"/>
              <a:ext cx="18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уме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55"/>
          <p:cNvGrpSpPr/>
          <p:nvPr/>
        </p:nvGrpSpPr>
        <p:grpSpPr>
          <a:xfrm>
            <a:off x="0" y="1828800"/>
            <a:ext cx="3141720" cy="1981080"/>
            <a:chOff x="0" y="1828800"/>
            <a:chExt cx="3141720" cy="1981080"/>
          </a:xfrm>
        </p:grpSpPr>
        <p:sp>
          <p:nvSpPr>
            <p:cNvPr id="395" name="AutoShape 49"/>
            <p:cNvSpPr/>
            <p:nvPr/>
          </p:nvSpPr>
          <p:spPr>
            <a:xfrm>
              <a:off x="0" y="1828800"/>
              <a:ext cx="2819520" cy="1981080"/>
            </a:xfrm>
            <a:prstGeom prst="wedgeEllipseCallout">
              <a:avLst>
                <a:gd name="adj1" fmla="val 62500"/>
                <a:gd name="adj2" fmla="val 1444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0"/>
            <p:cNvSpPr/>
            <p:nvPr/>
          </p:nvSpPr>
          <p:spPr>
            <a:xfrm>
              <a:off x="0" y="2209680"/>
              <a:ext cx="314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А ты попробуй.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Пой как я: и-и-и-и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8"/>
          <p:cNvGrpSpPr/>
          <p:nvPr/>
        </p:nvGrpSpPr>
        <p:grpSpPr>
          <a:xfrm>
            <a:off x="6172200" y="1295280"/>
            <a:ext cx="2971800" cy="1676520"/>
            <a:chOff x="6172200" y="1295280"/>
            <a:chExt cx="2971800" cy="1676520"/>
          </a:xfrm>
        </p:grpSpPr>
        <p:sp>
          <p:nvSpPr>
            <p:cNvPr id="398" name="AutoShape 56"/>
            <p:cNvSpPr/>
            <p:nvPr/>
          </p:nvSpPr>
          <p:spPr>
            <a:xfrm>
              <a:off x="6172200" y="129528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6400440" y="182880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Й… й… й… й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61"/>
          <p:cNvGrpSpPr/>
          <p:nvPr/>
        </p:nvGrpSpPr>
        <p:grpSpPr>
          <a:xfrm>
            <a:off x="0" y="1523880"/>
            <a:ext cx="3048120" cy="2590920"/>
            <a:chOff x="0" y="1523880"/>
            <a:chExt cx="3048120" cy="2590920"/>
          </a:xfrm>
        </p:grpSpPr>
        <p:sp>
          <p:nvSpPr>
            <p:cNvPr id="401" name="AutoShape 59"/>
            <p:cNvSpPr/>
            <p:nvPr/>
          </p:nvSpPr>
          <p:spPr>
            <a:xfrm>
              <a:off x="0" y="1523880"/>
              <a:ext cx="2743200" cy="2590920"/>
            </a:xfrm>
            <a:prstGeom prst="wedgeEllipseCallout">
              <a:avLst>
                <a:gd name="adj1" fmla="val 65685"/>
                <a:gd name="adj2" fmla="val -2268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0" y="220968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Arial"/>
                </a:rPr>
                <a:t>И правда, не умеешь. Странно: все буквы гласных поют, а ты – нет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62"/>
          <p:cNvGrpSpPr/>
          <p:nvPr/>
        </p:nvGrpSpPr>
        <p:grpSpPr>
          <a:xfrm>
            <a:off x="6172200" y="1447920"/>
            <a:ext cx="2971800" cy="1676160"/>
            <a:chOff x="6172200" y="1447920"/>
            <a:chExt cx="2971800" cy="1676160"/>
          </a:xfrm>
        </p:grpSpPr>
        <p:sp>
          <p:nvSpPr>
            <p:cNvPr id="404" name="AutoShape 63"/>
            <p:cNvSpPr/>
            <p:nvPr/>
          </p:nvSpPr>
          <p:spPr>
            <a:xfrm>
              <a:off x="6172200" y="1447920"/>
              <a:ext cx="2971800" cy="167616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4"/>
            <p:cNvSpPr/>
            <p:nvPr/>
          </p:nvSpPr>
          <p:spPr>
            <a:xfrm>
              <a:off x="6402960" y="1981080"/>
              <a:ext cx="191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 не буква</a:t>
              </a:r>
              <a:br>
                <a:rPr sz="2400"/>
              </a:b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гласног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65"/>
          <p:cNvGrpSpPr/>
          <p:nvPr/>
        </p:nvGrpSpPr>
        <p:grpSpPr>
          <a:xfrm>
            <a:off x="152280" y="1752480"/>
            <a:ext cx="2286000" cy="1752480"/>
            <a:chOff x="152280" y="1752480"/>
            <a:chExt cx="2286000" cy="1752480"/>
          </a:xfrm>
        </p:grpSpPr>
        <p:sp>
          <p:nvSpPr>
            <p:cNvPr id="407" name="AutoShape 66"/>
            <p:cNvSpPr/>
            <p:nvPr/>
          </p:nvSpPr>
          <p:spPr>
            <a:xfrm>
              <a:off x="152280" y="1752480"/>
              <a:ext cx="2286000" cy="1752480"/>
            </a:xfrm>
            <a:prstGeom prst="wedgeEllipseCallout">
              <a:avLst>
                <a:gd name="adj1" fmla="val 57916"/>
                <a:gd name="adj2" fmla="val 43750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7"/>
            <p:cNvSpPr/>
            <p:nvPr/>
          </p:nvSpPr>
          <p:spPr>
            <a:xfrm>
              <a:off x="536760" y="226764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 кто же </a:t>
              </a:r>
              <a:br>
                <a:rPr sz="2400"/>
              </a:b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ы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68"/>
          <p:cNvGrpSpPr/>
          <p:nvPr/>
        </p:nvGrpSpPr>
        <p:grpSpPr>
          <a:xfrm>
            <a:off x="6172200" y="1371600"/>
            <a:ext cx="2971800" cy="1676520"/>
            <a:chOff x="6172200" y="1371600"/>
            <a:chExt cx="2971800" cy="1676520"/>
          </a:xfrm>
        </p:grpSpPr>
        <p:sp>
          <p:nvSpPr>
            <p:cNvPr id="410" name="AutoShape 69"/>
            <p:cNvSpPr/>
            <p:nvPr/>
          </p:nvSpPr>
          <p:spPr>
            <a:xfrm>
              <a:off x="6172200" y="1371600"/>
              <a:ext cx="2971800" cy="1676520"/>
            </a:xfrm>
            <a:prstGeom prst="wedgeEllipseCallout">
              <a:avLst>
                <a:gd name="adj1" fmla="val -58814"/>
                <a:gd name="adj2" fmla="val 15435"/>
              </a:avLst>
            </a:prstGeom>
            <a:solidFill>
              <a:srgbClr val="e3bb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0"/>
            <p:cNvSpPr/>
            <p:nvPr/>
          </p:nvSpPr>
          <p:spPr>
            <a:xfrm>
              <a:off x="6396120" y="1905120"/>
              <a:ext cx="14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          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и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и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и – трамва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0" y="3537000"/>
            <a:ext cx="83818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перв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вы слышите на конце эти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и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Произнесите слова второй кол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звук слышите на конце данных с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Какой буквой обозначен звук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ой буквой обозначается на письме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7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8"/>
          <p:cNvSpPr/>
          <p:nvPr/>
        </p:nvSpPr>
        <p:spPr>
          <a:xfrm>
            <a:off x="266688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4572000" y="17524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вб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род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рамв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2" descr="original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4064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4" descr="162"/>
          <p:cNvPicPr/>
          <p:nvPr/>
        </p:nvPicPr>
        <p:blipFill>
          <a:blip r:embed="rId2"/>
          <a:srcRect l="0" t="0" r="0" b="20793"/>
          <a:stretch/>
        </p:blipFill>
        <p:spPr>
          <a:xfrm>
            <a:off x="0" y="1828800"/>
            <a:ext cx="2705040" cy="179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6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1"/>
          <p:cNvSpPr/>
          <p:nvPr/>
        </p:nvSpPr>
        <p:spPr>
          <a:xfrm>
            <a:off x="2286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4400" y="28404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ЗВИВАЕМ УМ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304920" y="2362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гурт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и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га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ь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к, ле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, м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, ка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, с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ь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под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ё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, с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ъ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0" y="35812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Какие звуки вы слышите на месте подчёркнутых бук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 каких случаях буквы е, ё, ю, я обозначают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Сделайте вывод: какими буквами, кроме Й, может быть обозначен звук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на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8" descr="x_170577aa"/>
          <p:cNvPicPr/>
          <p:nvPr/>
        </p:nvPicPr>
        <p:blipFill>
          <a:blip r:embed="rId1"/>
          <a:srcRect l="8569" t="12381" r="12570" b="7690"/>
          <a:stretch/>
        </p:blipFill>
        <p:spPr>
          <a:xfrm>
            <a:off x="7315200" y="2286000"/>
            <a:ext cx="157968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" descr="iCAST0X11"/>
          <p:cNvPicPr/>
          <p:nvPr/>
        </p:nvPicPr>
        <p:blipFill>
          <a:blip r:embed="rId2"/>
          <a:stretch/>
        </p:blipFill>
        <p:spPr>
          <a:xfrm>
            <a:off x="3200400" y="497196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12640" y="330120"/>
            <a:ext cx="735588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Text Box 40"/>
          <p:cNvSpPr/>
          <p:nvPr/>
        </p:nvSpPr>
        <p:spPr>
          <a:xfrm>
            <a:off x="228600" y="1447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533520" y="1828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, май, Юра, йогурт, зайка, чай, поёт, заяц, приём, л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0"/>
          <p:cNvSpPr/>
          <p:nvPr/>
        </p:nvSpPr>
        <p:spPr>
          <a:xfrm>
            <a:off x="29718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1"/>
          <p:cNvSpPr/>
          <p:nvPr/>
        </p:nvSpPr>
        <p:spPr>
          <a:xfrm>
            <a:off x="380880" y="266688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в один столбик слова, в которых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 другой – буквами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е, ё, ю,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4"/>
          <p:cNvSpPr/>
          <p:nvPr/>
        </p:nvSpPr>
        <p:spPr>
          <a:xfrm>
            <a:off x="532800" y="3657600"/>
            <a:ext cx="21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– бук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5"/>
          <p:cNvSpPr/>
          <p:nvPr/>
        </p:nvSpPr>
        <p:spPr>
          <a:xfrm>
            <a:off x="5862960" y="3657600"/>
            <a:ext cx="22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е, ё, ю,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6"/>
          <p:cNvSpPr/>
          <p:nvPr/>
        </p:nvSpPr>
        <p:spPr>
          <a:xfrm>
            <a:off x="685800" y="4267080"/>
            <a:ext cx="16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йогур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йк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а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7"/>
          <p:cNvSpPr/>
          <p:nvPr/>
        </p:nvSpPr>
        <p:spPr>
          <a:xfrm>
            <a:off x="6402240" y="426708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ёжик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Юр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ёт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яц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8" descr="Siberian%20Husky"/>
          <p:cNvPicPr/>
          <p:nvPr/>
        </p:nvPicPr>
        <p:blipFill>
          <a:blip r:embed="rId1"/>
          <a:stretch/>
        </p:blipFill>
        <p:spPr>
          <a:xfrm>
            <a:off x="7086600" y="2133720"/>
            <a:ext cx="2057400" cy="1738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9" descr="x_3a63d5bf"/>
          <p:cNvPicPr/>
          <p:nvPr/>
        </p:nvPicPr>
        <p:blipFill>
          <a:blip r:embed="rId2"/>
          <a:stretch/>
        </p:blipFill>
        <p:spPr>
          <a:xfrm>
            <a:off x="3048120" y="388620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ВАЕМ УМ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457200" y="2514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) пятк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                        3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семья                                   4)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е, в каком слове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означен буквой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04920" y="3886200"/>
            <a:ext cx="74674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ите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еперь попробуйте произнести его без зву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не подходит для ответа слов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бозначает бук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ов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458640" y="28954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0" descr="00488468"/>
          <p:cNvPicPr/>
          <p:nvPr/>
        </p:nvPicPr>
        <p:blipFill>
          <a:blip r:embed="rId1"/>
          <a:stretch/>
        </p:blipFill>
        <p:spPr>
          <a:xfrm>
            <a:off x="5867280" y="1905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achilles-heel"/>
          <p:cNvPicPr/>
          <p:nvPr/>
        </p:nvPicPr>
        <p:blipFill>
          <a:blip r:embed="rId2"/>
          <a:stretch/>
        </p:blipFill>
        <p:spPr>
          <a:xfrm>
            <a:off x="2133720" y="1981080"/>
            <a:ext cx="2209680" cy="19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513000" y="36036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РЯЕМ СЕБ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4572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й, яблоня, слёзы, йод, боец, чайник, пью, подъезд, весна, шалунья, юл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04920" y="1600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04920" y="281952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слова, в которых слышится звук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’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ите буквы, на месте которых вы слышите зв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8954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57200" y="4572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блоня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од, бо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ц, ча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й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ник, п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подъ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зд, шалунь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ю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80880" y="54100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лова вы не выписал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30492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лёзы, весна,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1" descr="lena-bak-farma-13-cm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drzewo-6_11-38839"/>
          <p:cNvPicPr/>
          <p:nvPr/>
        </p:nvPicPr>
        <p:blipFill>
          <a:blip r:embed="rId2"/>
          <a:stretch/>
        </p:blipFill>
        <p:spPr>
          <a:xfrm>
            <a:off x="6781680" y="2362320"/>
            <a:ext cx="2036880" cy="175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Прямоугольник 9" descr=""/>
          <p:cNvPicPr/>
          <p:nvPr/>
        </p:nvPicPr>
        <p:blipFill>
          <a:blip r:embed="rId1"/>
          <a:stretch/>
        </p:blipFill>
        <p:spPr>
          <a:xfrm>
            <a:off x="1700280" y="2792520"/>
            <a:ext cx="4011480" cy="1103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Asus</cp:lastModifiedBy>
  <dcterms:modified xsi:type="dcterms:W3CDTF">2023-10-02T10:53:0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