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01D5D-FFD8-4B7D-8A19-68CF3E134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EB3EC-B5C1-42C8-A566-39C3B2FA6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E6FC3-CFA0-45CF-8487-3595C103C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CC731-54FB-4BD5-B3E2-3CA0B9972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23361-7360-4EBA-8BD9-301C2B3E1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0E16E-2F6A-410F-B2C8-929CA9C89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A351B-302F-4298-8D50-6D022718F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A1D78-1E61-49F0-8C2B-03363AD44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08EDC-7203-45DF-AB90-8C48A2DBA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80FC7-E01A-4B43-BC53-83453B3C1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E3C64-4237-40A2-8374-DC30DEF1A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DAF13-9C4B-4FDE-9BC9-F3B878492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62556-61D0-4F0E-B166-52A83B2F584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Прямоугольник 1" descr=""/>
          <p:cNvPicPr/>
          <p:nvPr/>
        </p:nvPicPr>
        <p:blipFill>
          <a:blip r:embed="rId1"/>
          <a:stretch/>
        </p:blipFill>
        <p:spPr>
          <a:xfrm>
            <a:off x="298440" y="-49320"/>
            <a:ext cx="8521560" cy="19749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Картинки по запросу &quot;кролик&quot;"/>
          <p:cNvPicPr/>
          <p:nvPr/>
        </p:nvPicPr>
        <p:blipFill>
          <a:blip r:embed="rId2"/>
          <a:stretch/>
        </p:blipFill>
        <p:spPr>
          <a:xfrm>
            <a:off x="2133720" y="1752480"/>
            <a:ext cx="4911480" cy="472464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3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Картинки по запросу &quot;кролик в клетке&quot;"/>
          <p:cNvPicPr/>
          <p:nvPr/>
        </p:nvPicPr>
        <p:blipFill>
          <a:blip r:embed="rId1"/>
          <a:stretch/>
        </p:blipFill>
        <p:spPr>
          <a:xfrm>
            <a:off x="23760" y="380880"/>
            <a:ext cx="8891640" cy="633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Картинки по запросу &quot;кролик в клетке&quot;"/>
          <p:cNvPicPr/>
          <p:nvPr/>
        </p:nvPicPr>
        <p:blipFill>
          <a:blip r:embed="rId1"/>
          <a:stretch/>
        </p:blipFill>
        <p:spPr>
          <a:xfrm>
            <a:off x="873000" y="533520"/>
            <a:ext cx="7737480" cy="58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Картинки по запросу &quot;кролик в клетке&quot;"/>
          <p:cNvPicPr/>
          <p:nvPr/>
        </p:nvPicPr>
        <p:blipFill>
          <a:blip r:embed="rId1"/>
          <a:stretch/>
        </p:blipFill>
        <p:spPr>
          <a:xfrm>
            <a:off x="380880" y="106200"/>
            <a:ext cx="8153640" cy="637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Картинки по запросу &quot;еда кроликов&quot;"/>
          <p:cNvPicPr/>
          <p:nvPr/>
        </p:nvPicPr>
        <p:blipFill>
          <a:blip r:embed="rId1"/>
          <a:stretch/>
        </p:blipFill>
        <p:spPr>
          <a:xfrm>
            <a:off x="152280" y="304920"/>
            <a:ext cx="890604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2-11T12:31:26Z</dcterms:created>
  <dc:creator>Дом</dc:creator>
  <dc:description/>
  <dc:language>en-US</dc:language>
  <cp:lastModifiedBy>Дом</cp:lastModifiedBy>
  <dcterms:modified xsi:type="dcterms:W3CDTF">2020-02-12T04:23:29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