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C58E-CF4C-47FC-838B-3E9AE670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F94-B484-46D4-AE3A-638E542D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7D83-A9C7-43D1-8235-B106A2C0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5A8-4D6E-4337-98FE-F20EA81C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1AB-A9F4-4E01-8885-DAB7416A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C66-8D1A-421D-87D7-5C65A3BF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35D-B4C7-46A8-BCF2-223E2C7F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717-3835-4E83-A4DE-05673217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BCA-50BB-48EB-8AD9-168656CC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D94-B58D-43B7-8342-0ED7C08E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BB5-EC85-465F-92FF-82DCE008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506-B4F5-47D5-BA38-7F7FA176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5C83-2103-448D-BDE5-183C567DDA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298440" y="-49320"/>
            <a:ext cx="852156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Картинки по запросу &quot;кролик&quot;"/>
          <p:cNvPicPr/>
          <p:nvPr/>
        </p:nvPicPr>
        <p:blipFill>
          <a:blip r:embed="rId2"/>
          <a:stretch/>
        </p:blipFill>
        <p:spPr>
          <a:xfrm>
            <a:off x="2133720" y="1752480"/>
            <a:ext cx="491148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Картинки по запросу &quot;кролик в клетке&quot;"/>
          <p:cNvPicPr/>
          <p:nvPr/>
        </p:nvPicPr>
        <p:blipFill>
          <a:blip r:embed="rId1"/>
          <a:stretch/>
        </p:blipFill>
        <p:spPr>
          <a:xfrm>
            <a:off x="23760" y="380880"/>
            <a:ext cx="889164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и по запросу &quot;кролик в клетке&quot;"/>
          <p:cNvPicPr/>
          <p:nvPr/>
        </p:nvPicPr>
        <p:blipFill>
          <a:blip r:embed="rId1"/>
          <a:stretch/>
        </p:blipFill>
        <p:spPr>
          <a:xfrm>
            <a:off x="873000" y="533520"/>
            <a:ext cx="7737480" cy="58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Картинки по запросу &quot;кролик в клетке&quot;"/>
          <p:cNvPicPr/>
          <p:nvPr/>
        </p:nvPicPr>
        <p:blipFill>
          <a:blip r:embed="rId1"/>
          <a:stretch/>
        </p:blipFill>
        <p:spPr>
          <a:xfrm>
            <a:off x="380880" y="106200"/>
            <a:ext cx="8153640" cy="63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Картинки по запросу &quot;еда кроликов&quot;"/>
          <p:cNvPicPr/>
          <p:nvPr/>
        </p:nvPicPr>
        <p:blipFill>
          <a:blip r:embed="rId1"/>
          <a:stretch/>
        </p:blipFill>
        <p:spPr>
          <a:xfrm>
            <a:off x="152280" y="304920"/>
            <a:ext cx="89060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11T12:31:26Z</dcterms:created>
  <dc:creator>Дом</dc:creator>
  <dc:description/>
  <dc:language>en-US</dc:language>
  <cp:lastModifiedBy>Дом</cp:lastModifiedBy>
  <dcterms:modified xsi:type="dcterms:W3CDTF">2020-02-12T04:23:2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