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60C3-BA62-4412-A46B-E02AA4F8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7F9E-6BB4-4E3A-86B5-24FD0AAD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2F8-769B-4A1B-89DC-9BB9E9FA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ABC4-D448-4F4E-A83F-DE4EBAB5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0AB-E549-4A5B-B6B6-A28740EE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F84E-AC66-46EA-8B06-BAF346B9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ADFF-322B-4A08-A090-9E06078A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D40-3577-4A5F-9CDA-BB70D3D2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8D0F-9290-4BC1-880A-2D539210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4A1-07E9-4F4D-9849-6F6136E1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22F7-5324-4527-8A5F-9CF496D0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7D5-8DC1-4143-9A96-BAF32714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6C62-E1A4-49F8-B560-9E76F241E2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298440" y="-49320"/>
            <a:ext cx="852156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Картинки по запросу &quot;кролик&quot;"/>
          <p:cNvPicPr/>
          <p:nvPr/>
        </p:nvPicPr>
        <p:blipFill>
          <a:blip r:embed="rId2"/>
          <a:stretch/>
        </p:blipFill>
        <p:spPr>
          <a:xfrm>
            <a:off x="2133720" y="1752480"/>
            <a:ext cx="491148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Картинки по запросу &quot;кролик в клетке&quot;"/>
          <p:cNvPicPr/>
          <p:nvPr/>
        </p:nvPicPr>
        <p:blipFill>
          <a:blip r:embed="rId1"/>
          <a:stretch/>
        </p:blipFill>
        <p:spPr>
          <a:xfrm>
            <a:off x="23760" y="380880"/>
            <a:ext cx="889164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и по запросу &quot;кролик в клетке&quot;"/>
          <p:cNvPicPr/>
          <p:nvPr/>
        </p:nvPicPr>
        <p:blipFill>
          <a:blip r:embed="rId1"/>
          <a:stretch/>
        </p:blipFill>
        <p:spPr>
          <a:xfrm>
            <a:off x="873000" y="533520"/>
            <a:ext cx="7737480" cy="58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Картинки по запросу &quot;кролик в клетке&quot;"/>
          <p:cNvPicPr/>
          <p:nvPr/>
        </p:nvPicPr>
        <p:blipFill>
          <a:blip r:embed="rId1"/>
          <a:stretch/>
        </p:blipFill>
        <p:spPr>
          <a:xfrm>
            <a:off x="380880" y="106200"/>
            <a:ext cx="8153640" cy="63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Картинки по запросу &quot;еда кроликов&quot;"/>
          <p:cNvPicPr/>
          <p:nvPr/>
        </p:nvPicPr>
        <p:blipFill>
          <a:blip r:embed="rId1"/>
          <a:stretch/>
        </p:blipFill>
        <p:spPr>
          <a:xfrm>
            <a:off x="152280" y="304920"/>
            <a:ext cx="89060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11T12:31:26Z</dcterms:created>
  <dc:creator>Дом</dc:creator>
  <dc:description/>
  <dc:language>en-US</dc:language>
  <cp:lastModifiedBy>Дом</cp:lastModifiedBy>
  <dcterms:modified xsi:type="dcterms:W3CDTF">2020-02-12T04:23:2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