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129-D583-41FF-AC0C-5AFE7F92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73E-7763-4AEF-B0F1-AE6AB1F1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03C-CCC9-445B-87C6-1635C9DC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855-68C6-4F01-BAAD-8CA29756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EC91-DA0D-40E3-9C0A-55AD5073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5908-2A5B-4E26-A9EA-9896BB0C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EB59-CD32-45F3-A603-FD36275D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BFAD-1846-4D7C-A50A-E61CD459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4F26-2FD9-4BDA-83D7-43A919C8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E6EA-66EB-485F-A65D-1D978575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69A0-7DE5-4F74-BE1E-309A8A83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56D-7CBB-4176-887D-BC6E9A44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A99B-A32D-44FA-A7FB-9291DDB3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D2DA-72AD-4BB7-B7D8-6C68BDB1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3554-B158-418D-80EB-BB128633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113A-9E42-4D38-B5BF-28F92EAD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4558-6BCA-434F-8C8D-34DBB506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3ACF-6B2C-4164-A9A6-083DEA1A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4D146-3B5C-4480-ADAE-6D95743B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FFDC4-372E-4567-AEDD-D1271006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59FBD-1D9D-4C90-BB6D-4E6E38AE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2ADD5-6F69-44D2-8D39-18BA55E5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968-F90B-47D9-A7FC-6DC53213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18D59-A542-4A8C-A2ED-5F5527B0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BDA17-AEBA-4A72-AFBC-8EB194D9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B5310-076B-4059-B0F1-3732EE10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F06DB-5BD9-4D9E-8A87-FFECA22C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59ABD-8107-48DC-877C-E6237713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68D3-1A15-4429-A70F-FC67129B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F084C-AF64-419D-BBF3-967F6FA6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DBCB6-FFCB-4E85-85F3-68996D01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EC2A0-6CBD-4C14-80BC-42C90E57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10E82-C3B0-4297-AF17-AEEBBB21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36E5-811F-479A-BDC2-0FB64995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F5908-52D4-4A75-BFF8-CAFBB086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E0828-E7D6-4837-8CB8-D74F1552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743DD-6DFB-4181-A46A-66971A68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9520D-46EC-4095-8286-16B253B7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B3958-A323-4FBE-BF6A-79C200F1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9B099-DF77-44B2-AA47-127E9C63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E4A4D-8138-41EA-BB53-B745E0E6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7E300-05DC-4D62-BDA8-F7279068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3CAE5-40FC-4F9D-821A-11C73AFD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E94A7-4DE2-476E-80D1-FCEC0BFB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D4D-93AD-4C6B-8110-A649166D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0E200-2A70-4611-B921-FCEC0092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E3B46-59DF-40C0-A086-FB29DA91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C6088-D2AA-42BF-8E1C-D1936B9E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B33DD-1CAE-461D-B550-382E79F3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55F42-DA13-40C6-A9BD-5583BFF2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EF829-6738-47FD-AB57-987BC16F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466D9-6969-4844-B2AA-48ED0C88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95224-94E6-4EE3-BB20-33E458C5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B3CEC-1BBF-41C4-950A-4821ABD7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89B9B-C7B5-48BD-9001-2233489E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491E-C357-49F4-95AE-C1D6E621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225E5-5D9C-4267-8239-7137790A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A3CE1-4372-4F69-BE72-137DF85E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94F32-2943-4DEE-B408-0341483F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8C792-0E47-4184-AB57-8BFA8605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07DE7-EE72-475E-BA5C-E354BF7C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4513E-800B-4318-B767-1DA9E39A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91C2D-7C2B-4B02-827F-A6DD11F4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CAAC9-0864-4789-9F0F-E892109E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BE2C5-FEEF-4B52-9FAA-16701E27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E409A-4564-4808-8DA5-042CE33D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231-5582-43F2-B761-CB3359D6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1972B-2729-4ACA-AA46-76357E16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1E0CA-F404-4400-8E43-79A63196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81899-B114-4748-B677-AF422152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B65-B604-42E2-8F91-2C510AE5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ACA6-8439-496C-8315-8D32FBE7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8C88-4B6E-434F-82E5-A8F382D42F1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D021-6611-4C20-8F60-1672090AC5D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CC64-5112-4D02-9336-960CC2152F1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6D2D-AD35-4B4D-9F6A-69CC75C4FA1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A4DA-2CCB-4D77-AA9B-38BC55845B5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4D47-08A7-4D3F-9194-B536BC30AE3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1"/>
          <p:cNvSpPr/>
          <p:nvPr/>
        </p:nvSpPr>
        <p:spPr>
          <a:xfrm>
            <a:off x="1371600" y="9907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ЕЧКА И ВАНЕ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C:\Users\Дом\Desktop\03labru1k1240425286[1].jpg"/>
          <p:cNvPicPr/>
          <p:nvPr/>
        </p:nvPicPr>
        <p:blipFill>
          <a:blip r:embed="rId1"/>
          <a:stretch/>
        </p:blipFill>
        <p:spPr>
          <a:xfrm>
            <a:off x="179280" y="304920"/>
            <a:ext cx="8736120" cy="617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:\Users\Дом\Desktop\f3b6b11f66fe01a8d1fccfff4b0y--kukly-i-igrushki-narodnaya-kukla-izo-lna-i-hlopka-v-traditsio[1].jpg"/>
          <p:cNvPicPr/>
          <p:nvPr/>
        </p:nvPicPr>
        <p:blipFill>
          <a:blip r:embed="rId1"/>
          <a:stretch/>
        </p:blipFill>
        <p:spPr>
          <a:xfrm>
            <a:off x="1295280" y="380880"/>
            <a:ext cx="6195960" cy="616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C:\Users\Дом\Desktop\0_575d8_9af6f83a_L[1].jpg"/>
          <p:cNvPicPr/>
          <p:nvPr/>
        </p:nvPicPr>
        <p:blipFill>
          <a:blip r:embed="rId1"/>
          <a:stretch/>
        </p:blipFill>
        <p:spPr>
          <a:xfrm>
            <a:off x="200160" y="380880"/>
            <a:ext cx="87152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C:\Users\Дом\Desktop\9e31f3b64efe67a094e7b83ef48f4b2c[1].jpg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Users\Дом\Desktop\71f39d7c038fab0b9022e4d9424cb99a[1].jpg"/>
          <p:cNvPicPr/>
          <p:nvPr/>
        </p:nvPicPr>
        <p:blipFill>
          <a:blip r:embed="rId1"/>
          <a:stretch/>
        </p:blipFill>
        <p:spPr>
          <a:xfrm>
            <a:off x="228600" y="228600"/>
            <a:ext cx="8755200" cy="632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:\Users\Дом\Desktop\124a9aafe1eeb587e2203af2708161cb--russian-folk-felt-dolls[1].jpg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647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4T16:06:01Z</dcterms:created>
  <dc:creator>Дом</dc:creator>
  <dc:description/>
  <dc:language>en-US</dc:language>
  <cp:lastModifiedBy>Дом</cp:lastModifiedBy>
  <dcterms:modified xsi:type="dcterms:W3CDTF">2018-10-04T16:42:0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