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C2B3-EFFF-4E70-9FDA-99D5F3F30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E308-15AE-493B-A35D-2E87A149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B5F1-0996-40A9-9936-5E9C3B699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797D-47FA-4562-8388-07686D10B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3FC5-33AE-4300-8CD5-90290D6CF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51AF-F83E-470B-B86D-9EA2481E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39DC-F67F-4D5C-9AC1-491DA010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30FD-7788-43EF-A007-12DA62D6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002D-8C20-4C6D-A6EC-79B6F6D4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79BF-0640-464D-89E1-87BA1E4F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56C0-F0B6-4E09-B229-5ED07C3F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532C-6F39-4A12-A0CD-235F0476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B169-9776-4445-9E0F-E83DE9AF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D269-3AC9-42DD-87CC-F7EB4051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9F21-7E54-468E-B7CA-9A049CA9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E7AD-363C-40CE-9472-808F598C7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FE11-FFAD-44E4-8057-7E9DF0A86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99F6D-89E5-47A3-9757-7CFCE86F2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6C2CB-F1A9-4C24-852D-88CF60C7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BFB5F-1A6A-4045-96F2-8E7CF0B1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BA0BC-FE5B-434A-8073-B588DCE8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E9033-9E37-4F2F-A790-760B30E6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A582-57CC-41E3-AD10-58FD239A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CF5B3-4339-4115-B650-2EF78273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7E6D8-DA03-40AF-916D-3C9B621E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56462-9A56-4762-BBD7-948A631D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CE838-0A4D-4909-8D7E-FAD6C4A9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DF5BE-F976-406E-BC8B-FE73F5C4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5B7CC-A32D-45EB-A0CE-BE2983162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7D420-C110-4154-935C-653190DDB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D6E50-F6A3-49BC-9B46-14E11C30D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3B024-2CF1-4769-B52F-5BE3EF9A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B0C33-5727-4099-BB50-C318DA75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201B-7B11-4A10-B666-22D84C6C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01957-8E7E-42FF-B166-2401AAE8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E047D-1E19-45E9-B8AE-B928BF3B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2D8BD-EC58-4016-AE32-CD206D0D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B55A3-F94F-46FA-9C04-18CE9DAE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FE218-E682-466F-AEB3-7544B6CC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C9E75-AB3E-4570-A78D-74951787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D64F3-2122-431C-937F-F313BB15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DA58D-F756-4E13-B0E0-003A7A6C0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D6E6F-6D84-434D-A883-7725AC898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633A7-5868-425D-9CA4-10FB542A4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4FF4-01D4-42EA-8230-D6863B9A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4915D-1261-45AF-B39E-BF6489E5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A8D66-AF03-4480-89BB-F1A86466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286CA-5B33-4E51-BDE7-D5A498E1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DB72A-6CE7-47E1-90FF-E4D20091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67FC6-447D-4DA1-89C3-DF49E10E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4DB70-2A9B-4697-89EF-5CC33D08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7D4F1-7D32-4C30-AF65-593E1C27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0971E-84F9-4A1B-8D42-20C22471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FB4D6-46E3-4F3E-97BA-4F5EA9C3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F486D-FD3E-45E0-950E-51E655164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180B-72F0-4E6E-ACE0-A7080F77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37169-4D02-4A37-876E-D51F915E9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17AF5-1EB2-4040-A766-A2699129E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A1938-B81E-4784-8CB3-5A34A870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7BBA5-AAEE-496C-9C7F-D5019A18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18984-9876-4C16-9593-B5715E1A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B59FA-E08E-4A6F-A9A6-473827B5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9AA53-DCD7-4AD6-8DD5-47F893D5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8B8A1-90DB-4182-B653-8B68EB4C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7F899-2C83-4222-AA26-8AC6BA6A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8837C-96D8-4739-93F1-A69754BA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ECC6-7427-4E87-B06C-AA069F25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13BF0-1CB7-4525-9A0F-C1422757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3FD66-8A3D-4518-9358-114F76AB9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DD979-A754-443A-AC3C-6D8A584EA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0ABB-538D-475A-9D78-CD30D326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FC84-3BA3-4A51-9AEE-7EE91758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1508-0045-4D18-9541-1A391C457133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1137-E2D8-41B4-B24B-4038504A1119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99D9-ABA6-40B3-BB88-3A2E8BA298E1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2CC3-6E34-4640-AA75-3D43FF587215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3D58-40D4-47F5-8C83-53CFDA1F9B6F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862B-375F-4E7B-9342-3BC1A35A9883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Box 1"/>
          <p:cNvSpPr/>
          <p:nvPr/>
        </p:nvSpPr>
        <p:spPr>
          <a:xfrm>
            <a:off x="1371600" y="99072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ЕЧКА И ВАНЕЧ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C:\Users\Дом\Desktop\03labru1k1240425286[1].jpg"/>
          <p:cNvPicPr/>
          <p:nvPr/>
        </p:nvPicPr>
        <p:blipFill>
          <a:blip r:embed="rId1"/>
          <a:stretch/>
        </p:blipFill>
        <p:spPr>
          <a:xfrm>
            <a:off x="179280" y="304920"/>
            <a:ext cx="8736120" cy="617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C:\Users\Дом\Desktop\f3b6b11f66fe01a8d1fccfff4b0y--kukly-i-igrushki-narodnaya-kukla-izo-lna-i-hlopka-v-traditsio[1].jpg"/>
          <p:cNvPicPr/>
          <p:nvPr/>
        </p:nvPicPr>
        <p:blipFill>
          <a:blip r:embed="rId1"/>
          <a:stretch/>
        </p:blipFill>
        <p:spPr>
          <a:xfrm>
            <a:off x="1295280" y="380880"/>
            <a:ext cx="6195960" cy="6169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C:\Users\Дом\Desktop\0_575d8_9af6f83a_L[1].jpg"/>
          <p:cNvPicPr/>
          <p:nvPr/>
        </p:nvPicPr>
        <p:blipFill>
          <a:blip r:embed="rId1"/>
          <a:stretch/>
        </p:blipFill>
        <p:spPr>
          <a:xfrm>
            <a:off x="200160" y="380880"/>
            <a:ext cx="8715240" cy="594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C:\Users\Дом\Desktop\9e31f3b64efe67a094e7b83ef48f4b2c[1].jpg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C:\Users\Дом\Desktop\71f39d7c038fab0b9022e4d9424cb99a[1].jpg"/>
          <p:cNvPicPr/>
          <p:nvPr/>
        </p:nvPicPr>
        <p:blipFill>
          <a:blip r:embed="rId1"/>
          <a:stretch/>
        </p:blipFill>
        <p:spPr>
          <a:xfrm>
            <a:off x="228600" y="228600"/>
            <a:ext cx="8755200" cy="6324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C:\Users\Дом\Desktop\124a9aafe1eeb587e2203af2708161cb--russian-folk-felt-dolls[1].jpg"/>
          <p:cNvPicPr/>
          <p:nvPr/>
        </p:nvPicPr>
        <p:blipFill>
          <a:blip r:embed="rId1"/>
          <a:stretch/>
        </p:blipFill>
        <p:spPr>
          <a:xfrm>
            <a:off x="914400" y="228600"/>
            <a:ext cx="7467480" cy="6477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4T16:06:01Z</dcterms:created>
  <dc:creator>Дом</dc:creator>
  <dc:description/>
  <dc:language>en-US</dc:language>
  <cp:lastModifiedBy>Дом</cp:lastModifiedBy>
  <dcterms:modified xsi:type="dcterms:W3CDTF">2018-10-04T16:42:0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