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67B0-9B16-4746-809D-6E2071AC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D608-3222-43B9-8241-EC0BC74C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B8D9-B5FE-445B-93CD-197E2019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D383-0016-4431-86AA-4EA6B738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4665-1D6D-4CE4-AA95-37CA5932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319C-5BC1-4366-8A0F-DB451BD5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79E9-DEEB-461E-AF62-CB42CA14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5ACD-697A-4E65-8D22-00AEF6FA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B9AA-0A01-4402-B024-BA28664B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E133-05BB-4569-87D8-3C5FAE0F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E023-A53B-4A24-9DC9-0E206A5D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3802-D2FA-4161-842A-29F49709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0397-A069-434F-924C-DA470062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4C86-A041-4F8C-AA6B-D4D1D5E4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40EF-1EFD-4055-BB8F-4BDE1965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AE09-365D-4BD9-9064-52D37848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A23B-E59D-4C99-84A9-791B5CA1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C8209-B392-419D-A9FB-02957893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C73D1-2049-450B-8C66-9F0189EA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71B0C-E8C2-47AD-B342-F55BF934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D5F23-A4F9-4644-BFDD-26EC7077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85428-4784-4DBD-8BC3-BDD65B69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0941-B29F-4CD7-9039-C94CEA65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E6C94-E615-4223-AB49-C504C4D9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1D91F-4FC6-48A4-AF8E-EA4B63BC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E7947-0044-40C1-9B1E-DD89BAEE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2E6B1-6F32-43FF-B9AE-BA0519DF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33FD3-3D1E-4139-A0F4-BD28CC5D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8D02E-73E6-4DB8-83D4-D553F7953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2DECD-3142-460F-AAF9-CC32753F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28876-6100-4966-B35B-25EAD45E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02036-AB5F-42F3-8F58-CF35BAA0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A31DB-6D18-4C7C-86AF-BC80B542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7A81-4A58-4B3E-83B5-5156480C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B3CFB-FA41-4FFD-B4B8-A1CCCCAC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E7FF7-5E01-46BB-A6A2-F088980E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7812B-DC2E-475E-92BD-FCE5B4EF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9C34F-90E8-4517-8E1F-7146C264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2E24E-9885-44F0-97D7-EAA25C4F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1BD12-4767-4730-BC4D-648C58DF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20C41-5B59-4CC9-9A49-968ECE51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4E094-7518-4F69-9134-3BE3FCD5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40E49-721D-417E-B1BD-CFA6FD55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ED1B1-4BED-42E5-A5F0-75CB8B34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2FB5-45F4-4C8A-8BEF-60589543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BC87D-4F4E-4689-8930-420E37D7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63824-59C6-4E0B-B8B6-797C2510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7F0A7-CCE2-45C1-B03C-C408BDE6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4FB9A-1F39-41C1-968D-CD0B2F70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787A1-BD52-4C77-8747-329B6EB7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49CDD-0D23-47F7-BC6A-DC0F08E6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5C4C6-3BFF-41C1-ADFA-E793AB6F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9F46B-B2DA-493B-A8BD-DD2CFB56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730DC-1D52-434D-9E17-99DCED34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7D14D-D312-402B-AB01-932809E4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ADE7-5DBF-4443-8D93-DCEA51E9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96112-11F6-45F0-8890-F3A3A8EE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6DED1-BF6B-4D30-BEB0-A96BAA9A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CA44A-67CF-4D2F-AC92-0B4D8ED0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2DE70-0810-4FC0-8EDE-46E8498C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7166F-6691-4F0D-AE38-7D8C841C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F8485-7B93-4A8C-876A-F34AD225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CEDF6-3EAE-48D1-BD91-887EEDB6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9A0C6-A0B4-4E00-B52E-D82D40EC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46305-FB02-418D-8363-8F80CB7D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A5B4A-26C8-4D73-9CD5-B3250592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0DCC-1B36-4EEB-88ED-78C1C11B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97A62-8228-4A92-A507-4CA0008B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E79A6-956B-4992-8E30-5C63B86D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0EB24-9939-46D4-9756-E5B66943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A196-4C6C-4CD3-864B-5D5DA3B0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3746-332F-4F36-8B89-9E4E66D1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568E-E1AA-405A-BE9D-B44C24A3478A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2964-BBBA-4B22-8718-8901B928629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238C-7446-465F-AE48-1DC72F568F8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9605-F533-4E25-A1DB-ABC5DD9A5B86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A12E-B467-40B7-A9F2-2EEAE4F252F8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AAB5-26D5-4F25-A0B0-49B3C7048AF3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1"/>
          <p:cNvSpPr/>
          <p:nvPr/>
        </p:nvSpPr>
        <p:spPr>
          <a:xfrm>
            <a:off x="1371600" y="99072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ЕЧКА И ВАНЕЧ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C:\Users\Дом\Desktop\03labru1k1240425286[1].jpg"/>
          <p:cNvPicPr/>
          <p:nvPr/>
        </p:nvPicPr>
        <p:blipFill>
          <a:blip r:embed="rId1"/>
          <a:stretch/>
        </p:blipFill>
        <p:spPr>
          <a:xfrm>
            <a:off x="179280" y="304920"/>
            <a:ext cx="8736120" cy="617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C:\Users\Дом\Desktop\f3b6b11f66fe01a8d1fccfff4b0y--kukly-i-igrushki-narodnaya-kukla-izo-lna-i-hlopka-v-traditsio[1].jpg"/>
          <p:cNvPicPr/>
          <p:nvPr/>
        </p:nvPicPr>
        <p:blipFill>
          <a:blip r:embed="rId1"/>
          <a:stretch/>
        </p:blipFill>
        <p:spPr>
          <a:xfrm>
            <a:off x="1295280" y="380880"/>
            <a:ext cx="6195960" cy="6169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C:\Users\Дом\Desktop\0_575d8_9af6f83a_L[1].jpg"/>
          <p:cNvPicPr/>
          <p:nvPr/>
        </p:nvPicPr>
        <p:blipFill>
          <a:blip r:embed="rId1"/>
          <a:stretch/>
        </p:blipFill>
        <p:spPr>
          <a:xfrm>
            <a:off x="200160" y="380880"/>
            <a:ext cx="871524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C:\Users\Дом\Desktop\9e31f3b64efe67a094e7b83ef48f4b2c[1].jpg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Users\Дом\Desktop\71f39d7c038fab0b9022e4d9424cb99a[1].jpg"/>
          <p:cNvPicPr/>
          <p:nvPr/>
        </p:nvPicPr>
        <p:blipFill>
          <a:blip r:embed="rId1"/>
          <a:stretch/>
        </p:blipFill>
        <p:spPr>
          <a:xfrm>
            <a:off x="228600" y="228600"/>
            <a:ext cx="8755200" cy="6324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C:\Users\Дом\Desktop\124a9aafe1eeb587e2203af2708161cb--russian-folk-felt-dolls[1].jpg"/>
          <p:cNvPicPr/>
          <p:nvPr/>
        </p:nvPicPr>
        <p:blipFill>
          <a:blip r:embed="rId1"/>
          <a:stretch/>
        </p:blipFill>
        <p:spPr>
          <a:xfrm>
            <a:off x="914400" y="228600"/>
            <a:ext cx="7467480" cy="647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4T16:06:01Z</dcterms:created>
  <dc:creator>Дом</dc:creator>
  <dc:description/>
  <dc:language>en-US</dc:language>
  <cp:lastModifiedBy>Дом</cp:lastModifiedBy>
  <dcterms:modified xsi:type="dcterms:W3CDTF">2018-10-04T16:42:0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