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36F-7F81-42C8-A3DB-49683D9D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A57-6072-4BA8-98F6-45353497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7E3-ACE8-4D37-A254-3A09209F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D74-4982-44AC-9CEE-CE2B168D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E60-576A-4796-B325-96746E7B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36E-B512-4B0F-965B-1692560D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747-390D-48B9-81DE-1773C0D9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66F7-A433-4FC5-9F38-7A096710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B396-4064-46DE-8BCC-96017868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128-3CCA-471C-8CDB-D80F7B0A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DE4-F763-421E-89F6-C399C23E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FC2-44FB-4BA4-BB65-DBD7B3BA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32C3-99EA-4792-B032-6997BFE69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Дом\Desktop\2201128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0" y="457200"/>
            <a:ext cx="54864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 во 2 младшей групп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речи детей СКАЗКОЙ 3-4лет в условиях семьи и детского с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.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дерова Е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sch514u.mskobr.ru/users_files/sch514dou4/images/24%285%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Дом\Desktop\iA13NQ3TQ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752480" y="1066680"/>
            <a:ext cx="6324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В какую игру играли недавно с ребен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Если ребенок спрашивает вас о чем-то, ваши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Как часто разговаривает ваш ребен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и выборе новой игрушки что учитываете, чем руководствуете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ссказываете ли вы сказки ребенку</a:t>
            </a: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ds03.infourok.ru/uploads/ex/0c72/000242d9-aa10ac50/img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33520" y="45720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художественным произвед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с детьми стихи, потешки, загадки наизу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ывать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вучь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прочитанное литературное произ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продол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ds04.infourok.ru/uploads/ex/028e/000a2835-490d3b02/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28600" y="228600"/>
            <a:ext cx="8686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ла однажды мы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сем пустой домиш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а жить да пожи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жильцов к себе пуск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я, просила 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му не откры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ткрыли дети д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анул зубастый зверь Песню мамину проп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отом козляток съе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ырвать этот овощ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ватило деду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ришли ему на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кого он попро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uslide.ru/images/21/27350/960/img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228600" y="30492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брый доктор говори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беждаем мы бронх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ь, простуду и анги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терит и скарлати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ечно, с Бармале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справиться суме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важней она в загадке, Хоть и в погреб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пку вытащить из грядки Деду с бабкой помог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и к бабушке пошла, Пироги ей понесла. Серый Волк за ней следил, Обманул и прогло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linda6035.ucoz.ru/skazochnye_geroi.jp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533520" y="53352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 леса, на опушке, Трое их живет в избушке. Там три стула и три кружки, Три кроватки, три подушки. Угадайте бе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то герои эт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м не страшен серый волк, Серый волк — зубами щелк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у песню пели звонко Три веселых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cs2.livemaster.ru/storage/70/60/4a1e96b4fa6d12ed9b8117c2a3na--kukly-i-igrushki-skazkirepkaikolobok-kukolnyj-teatr-palchikov.jpg"/>
          <p:cNvPicPr/>
          <p:nvPr/>
        </p:nvPicPr>
        <p:blipFill>
          <a:blip r:embed="rId1"/>
          <a:stretch/>
        </p:blipFill>
        <p:spPr>
          <a:xfrm>
            <a:off x="380880" y="457200"/>
            <a:ext cx="8302680" cy="5684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shubina-push-svetlyachok54.edumsko.ru/uploads/6000/22048/section/616654/Roditeli/IMG_20171116_164911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data.pixiz.com/output/user/frame/preview/api/big/7/7/4/2/2832477_c6924.jpg"/>
          <p:cNvPicPr/>
          <p:nvPr/>
        </p:nvPicPr>
        <p:blipFill>
          <a:blip r:embed="rId1"/>
          <a:stretch/>
        </p:blipFill>
        <p:spPr>
          <a:xfrm>
            <a:off x="0" y="-30240"/>
            <a:ext cx="9186840" cy="6888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2514600" y="1219320"/>
            <a:ext cx="441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нельзя без сказки нам прожить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со сказкой проще верить в чуд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со сказкой легче, отыскать нам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енькое сердце, дверцу распахну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6T04:22:15Z</dcterms:created>
  <dc:creator>Дом</dc:creator>
  <dc:description/>
  <dc:language>en-US</dc:language>
  <cp:lastModifiedBy>Дом</cp:lastModifiedBy>
  <dcterms:modified xsi:type="dcterms:W3CDTF">2018-10-26T06:00:4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