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35C-A582-4348-9D1F-58145BB2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67A-006D-47B8-97AE-2F85403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25D-9552-4FE8-9CC7-88C3DD4F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D52-DC27-4D0C-9E29-A3C8E193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EE2-4127-4E9C-9EDC-B1890F3C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EAF-C2CB-4A09-AA53-2A57B30D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506-8B7F-440C-8F14-32B3350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EBB-5F31-4CC4-8C23-B7E38E7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53A-77A8-4ADC-9F9D-4EB8DCF5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B63-F557-4DD0-8F32-E1B85FD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B12-27BD-4752-85BD-FEE74CF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5B9-DD55-4B0C-91C2-7EA6DFBC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0342-4212-4206-AA40-2E6E60F67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Дом\Desktop\220112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7200"/>
            <a:ext cx="54864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во 2 младшей груп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речи детей СКАЗКОЙ 3-4лет в условиях семьи и детского с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дерова Е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ch514u.mskobr.ru/users_files/sch514dou4/images/24%285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iA13NQ3T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52480" y="1066680"/>
            <a:ext cx="6324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 какую игру играли недавно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Если ребенок спрашивает вас о чем-то, ваш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ак часто разговаривает 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 выборе новой игрушки что учитываете, чем руководствует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ете ли вы сказки ребенку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c72/000242d9-aa10ac50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3520" y="4572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художественным произвед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с детьми стихи, потешки, загадки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ь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рочитанное литератур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28e/000a2835-490d3b02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686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однажды 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устой доми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жить да пожи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жильцов к себе пуск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, просил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 не откр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крыли дети д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зубастый зверь Песню мамину проп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том козляток съ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вать этот овощ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ило деду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ришли ему на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ого он попро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slide.ru/images/21/27350/960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28600" y="304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й доктор говор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еждаем мы бронх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, простуду и анг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терит и скарла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о, с Бармал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справиться суме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ажней она в загадке, Хоть и в погр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пку вытащить из грядки Деду с бабкой помо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 Пироги ей понесла. Серый Волк за ней следил, Обманул и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nda6035.ucoz.ru/skazochnye_geroi.jp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33520" y="53352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 Трое их живет в избушке. Там три стула и три кружки, Три кроватки, три подушки. Угадайте 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то герои эт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м не страшен серый волк, Серый волк — зубами щелк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у песню пели звонко Три веселых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2.livemaster.ru/storage/70/60/4a1e96b4fa6d12ed9b8117c2a3na--kukly-i-igrushki-skazkirepkaikolobok-kukolnyj-teatr-palchikov.jpg"/>
          <p:cNvPicPr/>
          <p:nvPr/>
        </p:nvPicPr>
        <p:blipFill>
          <a:blip r:embed="rId1"/>
          <a:stretch/>
        </p:blipFill>
        <p:spPr>
          <a:xfrm>
            <a:off x="380880" y="457200"/>
            <a:ext cx="830268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hubina-push-svetlyachok54.edumsko.ru/uploads/6000/22048/section/616654/Roditeli/IMG_20171116_164911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data.pixiz.com/output/user/frame/preview/api/big/7/7/4/2/2832477_c6924.jpg"/>
          <p:cNvPicPr/>
          <p:nvPr/>
        </p:nvPicPr>
        <p:blipFill>
          <a:blip r:embed="rId1"/>
          <a:stretch/>
        </p:blipFill>
        <p:spPr>
          <a:xfrm>
            <a:off x="0" y="-30240"/>
            <a:ext cx="918684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14600" y="12193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нельзя без сказки нам прожить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проще верить в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легче, отыскать нам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4:22:15Z</dcterms:created>
  <dc:creator>Дом</dc:creator>
  <dc:description/>
  <dc:language>en-US</dc:language>
  <cp:lastModifiedBy>Дом</cp:lastModifiedBy>
  <dcterms:modified xsi:type="dcterms:W3CDTF">2018-10-26T06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