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21A7-A3A6-4E55-A722-45939955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5179-C032-4762-9307-E3FA6478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A881-79B5-4DAB-9994-C9C900EE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C0CA-5208-4B49-8384-D84F5CDD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0914-CE75-4E0D-88F6-4A454343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783A-E62E-4574-81A0-DD0D1F53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573E-1EC5-44FB-803D-2DCFE58E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F004-9B93-4D88-A8B4-2B2ED820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270D-67A9-405B-B416-15CF7EA4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4595-DD10-4390-98B3-D844FCC2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F33C-0D2E-4857-A232-ABDEF4D5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EAF3-B3ED-4B5D-949B-117F1E4C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85B7-3CD6-4BEF-8AC3-A75CF3A5FC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Дом\Desktop\22011282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0" y="457200"/>
            <a:ext cx="548640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ое собрание во 2 младшей групп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речи детей СКАЗКОЙ 3-4лет в условиях семьи и детского са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воспит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вал.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дерова Е.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sch514u.mskobr.ru/users_files/sch514dou4/images/24%285%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Дом\Desktop\iA13NQ3TQ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1752480" y="1066680"/>
            <a:ext cx="6324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В какую игру играли недавно с ребен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Если ребенок спрашивает вас о чем-то, ваши 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Как часто разговаривает ваш ребен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При выборе новой игрушки что учитываете, чем руководствуете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</a:t>
            </a:r>
            <a:r>
              <a:rPr b="1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Рассказываете ли вы сказки ребенку</a:t>
            </a: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ds03.infourok.ru/uploads/ex/0c72/000242d9-aa10ac50/img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533520" y="45720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художественным произведени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 с детьми стихи, потешки, загадки наизу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казывать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вучьт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прочитанное литературное произ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йте продол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ds04.infourok.ru/uploads/ex/028e/000a2835-490d3b02/img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228600" y="228600"/>
            <a:ext cx="8686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ла однажды мы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сем пустой домиш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а жить да пожи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жильцов к себе пуск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одя, просила 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му не откры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открыли дети двер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анул зубастый зверь Песню мамину проп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отом козляток съе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вырвать этот овощ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хватило деду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пришли ему на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, кого он попро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uslide.ru/images/21/27350/960/img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228600" y="304920"/>
            <a:ext cx="8686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брый доктор говори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беждаем мы бронх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ь, простуду и ангин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терит и скарлатин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ечно, с Бармале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же справиться суме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х важней она в загадке, Хоть и в погреб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и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епку вытащить из грядки Деду с бабкой помог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и к бабушке пошла, Пироги ей понесла. Серый Волк за ней следил, Обманул и проглот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linda6035.ucoz.ru/skazochnye_geroi.jpg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533520" y="533520"/>
            <a:ext cx="792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е леса, на опушке, Трое их живет в избушке. Там три стула и три кружки, Три кроватки, три подушки. Угадайте без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то герои этой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м не страшен серый волк, Серый волк — зубами щелк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у песню пели звонко Три веселых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s://cs2.livemaster.ru/storage/70/60/4a1e96b4fa6d12ed9b8117c2a3na--kukly-i-igrushki-skazkirepkaikolobok-kukolnyj-teatr-palchikov.jpg"/>
          <p:cNvPicPr/>
          <p:nvPr/>
        </p:nvPicPr>
        <p:blipFill>
          <a:blip r:embed="rId1"/>
          <a:stretch/>
        </p:blipFill>
        <p:spPr>
          <a:xfrm>
            <a:off x="380880" y="457200"/>
            <a:ext cx="8302680" cy="56847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s://shubina-push-svetlyachok54.edumsko.ru/uploads/6000/22048/section/616654/Roditeli/IMG_20171116_164911.jpg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data.pixiz.com/output/user/frame/preview/api/big/7/7/4/2/2832477_c6924.jpg"/>
          <p:cNvPicPr/>
          <p:nvPr/>
        </p:nvPicPr>
        <p:blipFill>
          <a:blip r:embed="rId1"/>
          <a:stretch/>
        </p:blipFill>
        <p:spPr>
          <a:xfrm>
            <a:off x="0" y="-30240"/>
            <a:ext cx="9186840" cy="688824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2514600" y="1219320"/>
            <a:ext cx="4419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 нельзя без сказки нам прожить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со сказкой проще верить в чуд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со сказкой легче, отыскать нам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ленькое сердце, дверцу распахну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6T04:22:15Z</dcterms:created>
  <dc:creator>Дом</dc:creator>
  <dc:description/>
  <dc:language>en-US</dc:language>
  <cp:lastModifiedBy>Дом</cp:lastModifiedBy>
  <dcterms:modified xsi:type="dcterms:W3CDTF">2018-10-26T06:00:4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