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A85-767F-46EA-9899-923AA28C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901-69F6-4718-A87D-75B0282E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541-FF96-4CE3-8CD7-74AE47F6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455-4276-4BA3-9F79-3D102C81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090-1C18-48D3-BB47-D8E3DF26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1CC-FA38-4991-A94C-A680DC9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144-3668-4C44-B760-C3CCE3DF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F5C-5ABE-44EE-A29D-C4089C89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DA9-FF6A-4BB8-A64D-408EC9E3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F16-708E-4569-BC15-4A3E0B43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84F-098F-4F2F-AABF-C7EB51A4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F56-08F8-4313-BE03-2CD30B76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184C-B290-42EE-9567-22C5E4AD0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Дом\Desktop\220112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457200"/>
            <a:ext cx="54864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во 2 младшей групп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речи детей СКАЗКОЙ 3-4лет в условиях семьи и детского с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дерова Е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sch514u.mskobr.ru/users_files/sch514dou4/images/24%285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Дом\Desktop\iA13NQ3T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752480" y="1066680"/>
            <a:ext cx="6324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 какую игру играли недавно с ребе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Если ребенок спрашивает вас о чем-то, ваши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Как часто разговаривает ваш ребе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 выборе новой игрушки что учитываете, чем руководствует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казываете ли вы сказки ребенку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s03.infourok.ru/uploads/ex/0c72/000242d9-aa10ac50/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3520" y="45720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художественным произвед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с детьми стихи, потешки, загадки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ть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ь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рочитанное литературн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продол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028e/000a2835-490d3b02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28600" y="228600"/>
            <a:ext cx="8686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ла однажды мы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пустой доми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а жить да пожи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жильцов к себе пуск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я, просила 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му не откры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крыли дети д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зубастый зверь Песню мамину проп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том козляток съе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рвать этот овощ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ило деду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ришли ему на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ого он попро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slide.ru/images/21/27350/960/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228600" y="30492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рый доктор говори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беждаем мы бронх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ь, простуду и анг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терит и скарлати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ечно, с Бармале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справиться суме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важней она в загадке, Хоть и в погреб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пку вытащить из грядки Деду с бабкой помо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 Пироги ей понесла. Серый Волк за ней следил, Обманул и прогло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inda6035.ucoz.ru/skazochnye_geroi.jp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33520" y="53352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леса, на опушке, Трое их живет в избушке. Там три стула и три кружки, Три кроватки, три подушки. Угадайте бе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то герои эт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м не страшен серый волк, Серый волк — зубами щелк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у песню пели звонко Три веселых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s2.livemaster.ru/storage/70/60/4a1e96b4fa6d12ed9b8117c2a3na--kukly-i-igrushki-skazkirepkaikolobok-kukolnyj-teatr-palchikov.jpg"/>
          <p:cNvPicPr/>
          <p:nvPr/>
        </p:nvPicPr>
        <p:blipFill>
          <a:blip r:embed="rId1"/>
          <a:stretch/>
        </p:blipFill>
        <p:spPr>
          <a:xfrm>
            <a:off x="380880" y="457200"/>
            <a:ext cx="830268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shubina-push-svetlyachok54.edumsko.ru/uploads/6000/22048/section/616654/Roditeli/IMG_20171116_164911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data.pixiz.com/output/user/frame/preview/api/big/7/7/4/2/2832477_c6924.jpg"/>
          <p:cNvPicPr/>
          <p:nvPr/>
        </p:nvPicPr>
        <p:blipFill>
          <a:blip r:embed="rId1"/>
          <a:stretch/>
        </p:blipFill>
        <p:spPr>
          <a:xfrm>
            <a:off x="0" y="-30240"/>
            <a:ext cx="9186840" cy="6888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514600" y="1219320"/>
            <a:ext cx="441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нельзя без сказки нам прожить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проще верить в чуд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о сказкой легче, отыскать нам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енькое сердце, дверцу распахну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6T04:22:15Z</dcterms:created>
  <dc:creator>Дом</dc:creator>
  <dc:description/>
  <dc:language>en-US</dc:language>
  <cp:lastModifiedBy>Дом</cp:lastModifiedBy>
  <dcterms:modified xsi:type="dcterms:W3CDTF">2018-10-26T06:00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