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0676-F6C7-458F-8502-D68CEC2FE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F8FF-8481-41CC-8BCA-1A105171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D4DB-BAB2-4A70-8112-EB0169A19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B198-391D-440D-B9E5-4826A3D21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4C7A-1951-48C0-B096-29D8A317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1FB7-46BA-42CB-B29D-C08D9A27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9E6C-EA26-4448-B81C-CB057A2E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455D-9E17-456C-9A6D-C2778211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13B9-AAAD-429C-9AB2-38760729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6DE5-1E53-469E-94D8-D492CC25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B727-C57F-4774-A339-8922598E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7F27-ADA7-4F33-9B93-CDC21EA7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B9F8-F5E4-4C5C-B368-561BDBEAB7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Дом\Desktop\22011282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0" y="457200"/>
            <a:ext cx="548640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ское собрание во 2 младшей групп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витие речи детей СКАЗКОЙ 3-4лет в условиях семьи и детского са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воспита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ей квал.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дерова Е.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sch514u.mskobr.ru/users_files/sch514dou4/images/24%285%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Дом\Desktop\iA13NQ3TQ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1752480" y="1066680"/>
            <a:ext cx="63248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В какую игру играли недавно с ребенк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Если ребенок спрашивает вас о чем-то, ваши дей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Как часто разговаривает ваш ребен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При выборе новой игрушки что учитываете, чем руководствуете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</a:t>
            </a:r>
            <a:r>
              <a:rPr b="1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Рассказываете ли вы сказки ребенку</a:t>
            </a:r>
            <a:r>
              <a:rPr b="0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s://ds03.infourok.ru/uploads/ex/0c72/000242d9-aa10ac50/img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533520" y="457200"/>
            <a:ext cx="8153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художественным произведени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 с детьми стихи, потешки, загадки наизу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казывать сказ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вучьт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прочитанное литературное произ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умайте продол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s://ds04.infourok.ru/uploads/ex/028e/000a2835-490d3b02/img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228600" y="228600"/>
            <a:ext cx="86868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ла однажды мы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сем пустой домиш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а жить да пожив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жильцов к себе пуска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ходя, просила 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му не открыв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открыли дети двер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анул зубастый зверь Песню мамину проп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потом козляток съел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вырвать этот овощ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хватило деду 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пришли ему на помощ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, кого он попро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uslide.ru/images/21/27350/960/img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228600" y="304920"/>
            <a:ext cx="8686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брый доктор говори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беждаем мы бронх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ь, простуду и ангин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терит и скарлатин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ечно, с Бармале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же справиться сумее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х важней она в загадке, Хоть и в погреб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жи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Репку вытащить из грядки Деду с бабкой помог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сти к бабушке пошла, Пироги ей понесла. Серый Волк за ней следил, Обманул и проглот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linda6035.ucoz.ru/skazochnye_geroi.jpg"/>
          <p:cNvPicPr/>
          <p:nvPr/>
        </p:nvPicPr>
        <p:blipFill>
          <a:blip r:embed="rId1"/>
          <a:stretch/>
        </p:blipFill>
        <p:spPr>
          <a:xfrm>
            <a:off x="0" y="-7776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533520" y="533520"/>
            <a:ext cx="7924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ле леса, на опушке, Трое их живет в избушке. Там три стула и три кружки, Три кроватки, три подушки. Угадайте без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то герои этой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м не страшен серый волк, Серый волк — зубами щелк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у песню пели звонко Три веселых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s://cs2.livemaster.ru/storage/70/60/4a1e96b4fa6d12ed9b8117c2a3na--kukly-i-igrushki-skazkirepkaikolobok-kukolnyj-teatr-palchikov.jpg"/>
          <p:cNvPicPr/>
          <p:nvPr/>
        </p:nvPicPr>
        <p:blipFill>
          <a:blip r:embed="rId1"/>
          <a:stretch/>
        </p:blipFill>
        <p:spPr>
          <a:xfrm>
            <a:off x="380880" y="457200"/>
            <a:ext cx="8302680" cy="56847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s://shubina-push-svetlyachok54.edumsko.ru/uploads/6000/22048/section/616654/Roditeli/IMG_20171116_164911.jpg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343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data.pixiz.com/output/user/frame/preview/api/big/7/7/4/2/2832477_c6924.jpg"/>
          <p:cNvPicPr/>
          <p:nvPr/>
        </p:nvPicPr>
        <p:blipFill>
          <a:blip r:embed="rId1"/>
          <a:stretch/>
        </p:blipFill>
        <p:spPr>
          <a:xfrm>
            <a:off x="0" y="-30240"/>
            <a:ext cx="9186840" cy="688824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2514600" y="1219320"/>
            <a:ext cx="4419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 нельзя без сказки нам прожить друз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ь со сказкой проще верить в чуд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ь со сказкой легче, отыскать нам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аленькое сердце, дверцу распахнут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26T04:22:15Z</dcterms:created>
  <dc:creator>Дом</dc:creator>
  <dc:description/>
  <dc:language>en-US</dc:language>
  <cp:lastModifiedBy>Дом</cp:lastModifiedBy>
  <dcterms:modified xsi:type="dcterms:W3CDTF">2018-10-26T06:00:4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