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02842"/>
        <c:axId val="89379060"/>
      </c:barChart>
      <c:catAx>
        <c:axId val="46502842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9060"/>
        <c:crosses val="autoZero"/>
        <c:auto val="1"/>
        <c:lblAlgn val="ctr"/>
        <c:lblOffset val="100"/>
        <c:noMultiLvlLbl val="0"/>
      </c:catAx>
      <c:valAx>
        <c:axId val="89379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2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67428"/>
        <c:axId val="27464492"/>
      </c:barChart>
      <c:catAx>
        <c:axId val="67967428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64492"/>
        <c:crosses val="autoZero"/>
        <c:auto val="1"/>
        <c:lblAlgn val="ctr"/>
        <c:lblOffset val="100"/>
        <c:noMultiLvlLbl val="0"/>
      </c:catAx>
      <c:valAx>
        <c:axId val="27464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7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26745"/>
        <c:axId val="50773592"/>
      </c:barChart>
      <c:catAx>
        <c:axId val="16026745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73592"/>
        <c:crosses val="autoZero"/>
        <c:auto val="1"/>
        <c:lblAlgn val="ctr"/>
        <c:lblOffset val="100"/>
        <c:noMultiLvlLbl val="0"/>
      </c:catAx>
      <c:valAx>
        <c:axId val="50773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6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D5F3-EA7E-49E6-96A4-8BC5259F6A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36BE6-1EBD-4D53-BA94-C48712FBF1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AA5D4-5408-4963-8C60-348DFCB743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0DA9A-FE29-4996-8AB1-C5D4B7F9FD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0302-8ECC-4B50-870D-56804F90C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A4F2B-87B1-4DD9-9687-C9B552B2EA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CEBBA-CE6F-4BB4-B8D0-7AD80E396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2F0EF-94DC-4EA1-809A-F29FBB4692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9E90-32EA-4CA5-B3F7-F2FC46F10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46544-1ADC-4802-B64B-B6969D6473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669B-F01B-4545-A203-85928CC15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25275-D3FF-4D2E-B7E7-7951411AFB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355-DEFF-4910-81B7-C096170B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636-7A4A-4869-9A0F-BD4CAA2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8C2-6EE8-4D8F-829C-7B38C186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459-206B-4715-A5F3-75D8A30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8EB-B309-457A-A60F-39764C49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2261-890B-47DD-9FAB-4CC47DEA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952-C316-45E9-A453-3BC077D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4408-B303-49D0-B57C-77E2975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2FA1-E531-45FD-820F-B5E65CF6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55F-7BC0-4B67-86EB-9688F4D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363-020B-4F2F-B9EE-579DF359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6D7-E122-4AAE-A3F9-EF57902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0F08-C266-4567-B28B-4E8536A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071-2A2B-4C77-927D-EE3A147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9D9C-D3A5-4A97-96CC-8C4CC0F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BDFB-7A1B-48E8-9CA0-FFEB8BC5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832-983F-48C3-85B7-0306E16C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C19-1919-4019-B4CF-F51B756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E46-F742-45D0-BF84-C45FE97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EF3-7163-4882-AE03-BD394F6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53F-1514-4F5D-AC1D-1D6A7DC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637-A4E8-4C99-8FB5-A348A4F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E53-34CF-4AE8-91B3-9C91416A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6F7-F55C-4F2C-8DCD-C2CDD28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13C75-DC84-46A7-8DE3-133F6C4A4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A745-2B52-4A1E-BD6E-F6E74281FA0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мплификация предметно-развивающей среды в ГОРН 4-5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88520" y="2222280"/>
            <a:ext cx="9070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мплификация – обогащение жизни ребенка наиболее значимыми для дошкольника формами и  способами дейсвия. Амплификация предполагает полноценное и максимально наполненное проживание каждого возрастного этап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76000" y="-169920"/>
            <a:ext cx="532764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751280" cy="6996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219640" y="179280"/>
            <a:ext cx="46800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60360" y="1668600"/>
            <a:ext cx="774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21528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ирование на тему "Мой Оренбург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5077080" cy="48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972040" y="1179360"/>
            <a:ext cx="3929040" cy="277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041880" y="4059360"/>
            <a:ext cx="331812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246240"/>
            <a:ext cx="5327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/р. Игра "Экскурсия по городу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503280" y="1768320"/>
          <a:ext cx="44276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53040" y="4878360"/>
            <a:ext cx="4427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62000" y="1619280"/>
            <a:ext cx="4518000" cy="48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040360" y="1800360"/>
            <a:ext cx="485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/ р. Игра "Больниц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859280" y="1260360"/>
            <a:ext cx="4859280" cy="57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7892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Дочка Маша заболел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680000" cy="575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040360" y="1440000"/>
            <a:ext cx="431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корая помощь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39640" y="1104840"/>
            <a:ext cx="91807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томатология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62040" y="1214280"/>
            <a:ext cx="887724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боратория Гены Барбос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74760" y="1155600"/>
            <a:ext cx="4572000" cy="609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5040360" y="1243080"/>
            <a:ext cx="4878360" cy="59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атр "Теремок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521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670720" y="1546200"/>
            <a:ext cx="404964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6:32:32Z</dcterms:created>
  <dc:creator/>
  <dc:description/>
  <cp:keywords/>
  <dc:language>en-US</dc:language>
  <cp:lastModifiedBy>Алексей</cp:lastModifiedBy>
  <dcterms:modified xsi:type="dcterms:W3CDTF">2023-10-03T05:48:26Z</dcterms:modified>
  <cp:revision>5</cp:revision>
  <dc:subject/>
  <dc:title>Амплификация предметно-развивающей среды в ГОРН 4-5 лет</dc:title>
</cp:coreProperties>
</file>