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13736"/>
        <c:axId val="2196369"/>
      </c:barChart>
      <c:catAx>
        <c:axId val="12613736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369"/>
        <c:crosses val="autoZero"/>
        <c:auto val="1"/>
        <c:lblAlgn val="ctr"/>
        <c:lblOffset val="100"/>
        <c:noMultiLvlLbl val="0"/>
      </c:catAx>
      <c:valAx>
        <c:axId val="2196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3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94926"/>
        <c:axId val="37344475"/>
      </c:barChart>
      <c:catAx>
        <c:axId val="85694926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4475"/>
        <c:crosses val="autoZero"/>
        <c:auto val="1"/>
        <c:lblAlgn val="ctr"/>
        <c:lblOffset val="100"/>
        <c:noMultiLvlLbl val="0"/>
      </c:catAx>
      <c:valAx>
        <c:axId val="37344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94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82104"/>
        <c:axId val="82082480"/>
      </c:barChart>
      <c:catAx>
        <c:axId val="26082104"/>
        <c:scaling>
          <c:orientation val="minMax"/>
        </c:scaling>
        <c:delete val="0"/>
        <c:axPos val="b"/>
        <c:numFmt formatCode="[$-41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82480"/>
        <c:crosses val="autoZero"/>
        <c:auto val="1"/>
        <c:lblAlgn val="ctr"/>
        <c:lblOffset val="100"/>
        <c:noMultiLvlLbl val="0"/>
      </c:catAx>
      <c:valAx>
        <c:axId val="82082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82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25535-DBF5-42DF-BCE8-A75AC7513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5F4B5-B680-4625-9F7A-2A111985DA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35EA9-B59C-454F-B513-D61FBC902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3F7B1-C6C7-4578-BBF6-1818A1B2B1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78052-D518-438A-B557-900D4AE7F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91EC5-AA65-4318-BD57-EC21A6E75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D2E5C-B412-4BDD-B225-BD2DCC6190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3E573-E01B-41AF-A9E4-C230F8B7E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F8A2C-98AB-4A77-9021-86AA53BC39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32305-A471-463B-9C14-8F325CFCC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9A9A-5B2D-47A7-9FA8-EDA34FD17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EBD0A-1495-44A1-B7AA-86EF30FA12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2CC-3BA7-4613-A868-A398DDF9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6D3-134F-4400-B3C8-2E98D64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AF5-1A5A-4ECB-A2AD-AB9275B5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118-F74C-4D5C-9E47-FA867B1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7DA0-A53D-45AA-812A-0A7B753C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B03-856C-40D0-9DF8-A04245C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CCB-F28E-4AFA-9F59-9F45ED7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0DF-D543-484D-A2D4-D8DE95D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B2E-492D-42BB-BB0D-214DF0CF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90D8-BCD7-4888-8869-645C5ADE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7863-871D-4A7E-97D0-BB95084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AB2-5242-436A-B290-2C24083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0F9-B549-40D3-9434-60A821DB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0E99-C50D-42B8-BDC9-53E8DBA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46A-3683-45E9-AFE4-0A354CA3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7D6-FD81-4690-97ED-ABB14200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699D-10EB-474D-8A3A-F0BC2F21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5D7-5B03-4456-B57A-5FE9C136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D03-F4B8-4048-95A4-7C2F7DF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AC7-2D26-421D-AB29-B3F4922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CC-BDA6-457B-BB5E-A8E4C533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F22-B4F9-4D52-8316-AF23A41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2EB-D26A-4F1D-942E-9482CDB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63A-FCF9-4ADC-805E-E8E4167D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E26A-6895-4E9E-82DC-6CF54752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ED631-159A-4218-8C10-ED31DD1ECFE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мплификация предметно-развивающей среды в ГОРН 4-5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88520" y="2222280"/>
            <a:ext cx="9070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мплификация – обогащение жизни ребенка наиболее значимыми для дошкольника формами и  способами дейсвия. Амплификация предполагает полноценное и максимально наполненное проживание каждого возрастного этап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76000" y="-169920"/>
            <a:ext cx="532764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751280" cy="6996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5219640" y="179280"/>
            <a:ext cx="468000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60360" y="1668600"/>
            <a:ext cx="7740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21528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ирование на тему "Мой Оренбург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5077080" cy="48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972040" y="1179360"/>
            <a:ext cx="3929040" cy="277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041880" y="4059360"/>
            <a:ext cx="331812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0920" y="246240"/>
            <a:ext cx="5327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/р. Игра "Экскурсия по городу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503280" y="1768320"/>
          <a:ext cx="44276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2680" y="1768320"/>
            <a:ext cx="44276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53040" y="4878360"/>
            <a:ext cx="4427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62000" y="1619280"/>
            <a:ext cx="4518000" cy="48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040360" y="1800360"/>
            <a:ext cx="485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/ р. Игра "Больниц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859280" y="1260360"/>
            <a:ext cx="4859280" cy="57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78920"/>
            <a:ext cx="5327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Дочка Маша заболел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680000" cy="575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040360" y="1440000"/>
            <a:ext cx="431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корая помощь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39640" y="1104840"/>
            <a:ext cx="91807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"Стоматология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62040" y="1214280"/>
            <a:ext cx="887724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боратория Гены Барбос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74760" y="1155600"/>
            <a:ext cx="4572000" cy="609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5040360" y="1243080"/>
            <a:ext cx="4878360" cy="59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179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атр "Теремок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503280" y="1768320"/>
          <a:ext cx="907092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179280" y="1260360"/>
            <a:ext cx="521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670720" y="1546200"/>
            <a:ext cx="404964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6:32:32Z</dcterms:created>
  <dc:creator/>
  <dc:description/>
  <cp:keywords/>
  <dc:language>en-US</dc:language>
  <cp:lastModifiedBy>Алексей</cp:lastModifiedBy>
  <dcterms:modified xsi:type="dcterms:W3CDTF">2023-10-03T05:48:26Z</dcterms:modified>
  <cp:revision>5</cp:revision>
  <dc:subject/>
  <dc:title>Амплификация предметно-развивающей среды в ГОРН 4-5 лет</dc:title>
</cp:coreProperties>
</file>