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6127"/>
        <c:axId val="34047104"/>
      </c:barChart>
      <c:catAx>
        <c:axId val="2656127"/>
        <c:scaling>
          <c:orientation val="minMax"/>
        </c:scaling>
        <c:delete val="0"/>
        <c:axPos val="b"/>
        <c:numFmt formatCode="[$-41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47104"/>
        <c:crosses val="autoZero"/>
        <c:auto val="1"/>
        <c:lblAlgn val="ctr"/>
        <c:lblOffset val="100"/>
        <c:noMultiLvlLbl val="0"/>
      </c:catAx>
      <c:valAx>
        <c:axId val="34047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6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52594"/>
        <c:axId val="9796377"/>
      </c:barChart>
      <c:catAx>
        <c:axId val="29852594"/>
        <c:scaling>
          <c:orientation val="minMax"/>
        </c:scaling>
        <c:delete val="0"/>
        <c:axPos val="b"/>
        <c:numFmt formatCode="[$-41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6377"/>
        <c:crosses val="autoZero"/>
        <c:auto val="1"/>
        <c:lblAlgn val="ctr"/>
        <c:lblOffset val="100"/>
        <c:noMultiLvlLbl val="0"/>
      </c:catAx>
      <c:valAx>
        <c:axId val="9796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52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68779"/>
        <c:axId val="63880380"/>
      </c:barChart>
      <c:catAx>
        <c:axId val="61468779"/>
        <c:scaling>
          <c:orientation val="minMax"/>
        </c:scaling>
        <c:delete val="0"/>
        <c:axPos val="b"/>
        <c:numFmt formatCode="[$-41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80380"/>
        <c:crosses val="autoZero"/>
        <c:auto val="1"/>
        <c:lblAlgn val="ctr"/>
        <c:lblOffset val="100"/>
        <c:noMultiLvlLbl val="0"/>
      </c:catAx>
      <c:valAx>
        <c:axId val="63880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68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82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99C94-0BA0-47DB-B8C2-E7B10F9915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E2FF6-99D5-4685-9C11-8435721E3C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B12ED-15FA-4254-9E59-AD7C0DBF19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DDA8A-2677-47E4-B62B-57E82B7CDB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238C8-57F5-4FDE-A581-251C6E06FA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B9E77-1FAB-4A07-9644-83A2028B04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44E98-0E36-44EE-B84E-355EB271CE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A9AAF-9368-4A80-BCB1-D1009C5D55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48C51-76AE-4575-A4D6-AF2AC67EA3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6C943-2C48-4685-A625-12C7B2971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CA733-564A-4CD3-9EE4-9974C9C504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4BEE1-2E6F-40AD-9951-B2F62BF760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4EE-66BB-4D11-96A0-124C8B3C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60E-69EF-4BA2-A2BE-67E6C636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2F2-4E93-4E6F-8C4D-4878B19A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8D9-89B5-4B50-8206-AAB5B94D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A633-C283-4D57-89C0-EA2BF415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60E2-C4D7-40BE-B459-BF9C0FE4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6057-13A0-45B6-AE98-56B134F5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F881-A0CF-4D84-8513-748F97E1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A2CC-0E85-46C6-B4FC-15B30879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4076-0F1F-4C4F-8CB3-0037E34C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0AEB-3DA2-41FC-89D4-4C197AF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933-E61A-42DE-BF9F-5618832F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5BD3-70B2-41FE-A10E-BD00D1BB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6859-A651-41E2-9978-F4680D7B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6958-4A7B-4012-90A4-5ECF73DA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2645-55F6-4768-A54E-DF480523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6AAC-2B05-46E7-A02E-009FF9FE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BE9-CC74-4DC4-B2F1-8A9A1D8E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5A0-A731-4C4B-9827-1E304F9C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460-E315-493C-BBEF-316391F7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673-9116-4FF2-9412-D3C0733E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5BD-6F84-4A5F-9A8B-54C2D493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AB0-C14F-4B86-90DC-CD898CDB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459-2BB8-4796-A186-631DA628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0B8DD-1B0D-4CE0-B6B7-4CC0970E3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roid Sans Fallback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F73F1-759E-43B0-8170-A5E26FA62ED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мплификация предметно-развивающей среды в ГОРН 4-5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88520" y="2222280"/>
            <a:ext cx="90709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мплификация – обогащение жизни ребенка наиболее значимыми для дошкольника формами и  способами дейсвия. Амплификация предполагает полноценное и максимально наполненное проживание каждого возрастного этап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76000" y="-169920"/>
            <a:ext cx="532764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89080" y="179280"/>
            <a:ext cx="4751280" cy="6996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5219640" y="179280"/>
            <a:ext cx="4680000" cy="7020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260360" y="1668600"/>
            <a:ext cx="7740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921528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руирование на тему "Мой Оренбург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5077080" cy="485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972040" y="1179360"/>
            <a:ext cx="3929040" cy="277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6041880" y="4059360"/>
            <a:ext cx="331812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0920" y="246240"/>
            <a:ext cx="5327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/р. Игра "Экскурсия по городу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503280" y="1768320"/>
          <a:ext cx="4427640" cy="438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53040" y="4878360"/>
            <a:ext cx="44276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162000" y="1619280"/>
            <a:ext cx="4518000" cy="485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5040360" y="1800360"/>
            <a:ext cx="485928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/ р. Игра "Больница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859280" y="1260360"/>
            <a:ext cx="4859280" cy="571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179280" y="126036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78920"/>
            <a:ext cx="5327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"Дочка Маша заболела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79280" y="1440000"/>
            <a:ext cx="4680000" cy="5759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5040360" y="1440000"/>
            <a:ext cx="431964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-179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"Скорая помощь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539640" y="1104840"/>
            <a:ext cx="918072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"Стоматология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62040" y="1214280"/>
            <a:ext cx="887724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179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аборатория Гены Барбос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2"/>
          <p:cNvGraphicFramePr/>
          <p:nvPr/>
        </p:nvGraphicFramePr>
        <p:xfrm>
          <a:off x="503280" y="1768320"/>
          <a:ext cx="9070920" cy="438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74760" y="1155600"/>
            <a:ext cx="4572000" cy="609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5040360" y="1243080"/>
            <a:ext cx="4878360" cy="59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-179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атр "Теремок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2"/>
          <p:cNvGraphicFramePr/>
          <p:nvPr/>
        </p:nvGraphicFramePr>
        <p:xfrm>
          <a:off x="503280" y="1768320"/>
          <a:ext cx="9070920" cy="438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179280" y="1260360"/>
            <a:ext cx="521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5670720" y="1546200"/>
            <a:ext cx="4049640" cy="5294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6:32:32Z</dcterms:created>
  <dc:creator/>
  <dc:description/>
  <cp:keywords/>
  <dc:language>en-US</dc:language>
  <cp:lastModifiedBy>Алексей</cp:lastModifiedBy>
  <dcterms:modified xsi:type="dcterms:W3CDTF">2023-10-03T05:48:26Z</dcterms:modified>
  <cp:revision>5</cp:revision>
  <dc:subject/>
  <dc:title>Амплификация предметно-развивающей среды в ГОРН 4-5 лет</dc:title>
</cp:coreProperties>
</file>