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0D3-280F-4376-9D99-D09D3063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248-AA62-4497-83C9-76BFB4A7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E0F-86B9-4885-AB1E-648D9F19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657-0B9A-4E17-81B8-0D5251FD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5E6-965D-445A-8C79-93B9FA67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780-4C92-4BD2-883A-1DBC8B8B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906-E1E4-4B5D-9BF9-4479D7BB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647-0E54-46A2-89E5-9D2341B7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259-DA4E-4D6E-AE99-301288B9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16D-D537-4E04-9998-2C8E2667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9D6-04AD-4C5F-8C8C-394B6CF8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F1B-1B48-4A8D-8765-371B68B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4402-1CDC-4188-9EA7-9222E0A82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БДОУ 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детский сад № 104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комбинированного вид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ского района г. Санкт-Петербур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«Узнай изображение на зашумленном фоне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2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-дефектоло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Н.Е. Леонть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6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go3.imgsmail.ru/imgpreview?key=45fec017e53e8cae&amp;mb=imgdb_preview_140"/>
          <p:cNvPicPr/>
          <p:nvPr/>
        </p:nvPicPr>
        <p:blipFill>
          <a:blip r:embed="rId1"/>
          <a:stretch/>
        </p:blipFill>
        <p:spPr>
          <a:xfrm>
            <a:off x="2928960" y="100008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devchonki.com.ua/uploads/taginator/Nov-2012/varezhek.jpg"/>
          <p:cNvPicPr/>
          <p:nvPr/>
        </p:nvPicPr>
        <p:blipFill>
          <a:blip r:embed="rId2"/>
          <a:stretch/>
        </p:blipFill>
        <p:spPr>
          <a:xfrm rot="2977800">
            <a:off x="3392640" y="1015920"/>
            <a:ext cx="1560600" cy="2877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go3.imgsmail.ru/imgpreview?key=e6c0402434669eb&amp;mb=imgdb_preview_68"/>
          <p:cNvPicPr/>
          <p:nvPr/>
        </p:nvPicPr>
        <p:blipFill>
          <a:blip r:embed="rId3"/>
          <a:stretch/>
        </p:blipFill>
        <p:spPr>
          <a:xfrm>
            <a:off x="3286080" y="1285920"/>
            <a:ext cx="1857600" cy="247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elitdress.ru/catalog/images/mkLC745-gold.jpg"/>
          <p:cNvPicPr/>
          <p:nvPr/>
        </p:nvPicPr>
        <p:blipFill>
          <a:blip r:embed="rId4"/>
          <a:stretch/>
        </p:blipFill>
        <p:spPr>
          <a:xfrm>
            <a:off x="2500200" y="1143000"/>
            <a:ext cx="2643480" cy="352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upload.wikimedia.org/wikipedia/commons/2/24/Blue_Tshirt.jpg"/>
          <p:cNvPicPr/>
          <p:nvPr/>
        </p:nvPicPr>
        <p:blipFill>
          <a:blip r:embed="rId5"/>
          <a:stretch/>
        </p:blipFill>
        <p:spPr>
          <a:xfrm>
            <a:off x="3143160" y="1428840"/>
            <a:ext cx="2214720" cy="2214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31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32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33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34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35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6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7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8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9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0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41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2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43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44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45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mg-fotki.yandex.ru/get/5705/falconet-n.1ab/0_60980_a8c1f697_L"/>
          <p:cNvPicPr/>
          <p:nvPr/>
        </p:nvPicPr>
        <p:blipFill>
          <a:blip r:embed="rId1"/>
          <a:stretch/>
        </p:blipFill>
        <p:spPr>
          <a:xfrm>
            <a:off x="-2165400" y="1165320"/>
            <a:ext cx="1008000" cy="12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ttp://cvetopedia.ru/img/rp/campanula_persicifolia.jpg"/>
          <p:cNvPicPr/>
          <p:nvPr/>
        </p:nvPicPr>
        <p:blipFill>
          <a:blip r:embed="rId2"/>
          <a:stretch/>
        </p:blipFill>
        <p:spPr>
          <a:xfrm>
            <a:off x="2928960" y="1014480"/>
            <a:ext cx="2714760" cy="374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galerey-room.ru/images/060839_1395284919.png"/>
          <p:cNvPicPr/>
          <p:nvPr/>
        </p:nvPicPr>
        <p:blipFill>
          <a:blip r:embed="rId3"/>
          <a:stretch/>
        </p:blipFill>
        <p:spPr>
          <a:xfrm rot="17131800">
            <a:off x="3259800" y="486720"/>
            <a:ext cx="1666800" cy="494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s49.radikal.ru/i125/1201/71/7dda4e50311e.jpg"/>
          <p:cNvPicPr/>
          <p:nvPr/>
        </p:nvPicPr>
        <p:blipFill>
          <a:blip r:embed="rId4"/>
          <a:stretch/>
        </p:blipFill>
        <p:spPr>
          <a:xfrm rot="2094600">
            <a:off x="3382560" y="379440"/>
            <a:ext cx="2725920" cy="444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http://www.bfoto.ru/foto/podsnezhniki/bfoto_ru_2791.jpg"/>
          <p:cNvPicPr/>
          <p:nvPr/>
        </p:nvPicPr>
        <p:blipFill>
          <a:blip r:embed="rId5"/>
          <a:stretch/>
        </p:blipFill>
        <p:spPr>
          <a:xfrm>
            <a:off x="3143160" y="785880"/>
            <a:ext cx="3143520" cy="464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img-fotki.yandex.ru/get/5705/falconet-n.1ab/0_60980_a8c1f697_L"/>
          <p:cNvPicPr/>
          <p:nvPr/>
        </p:nvPicPr>
        <p:blipFill>
          <a:blip r:embed="rId6"/>
          <a:stretch/>
        </p:blipFill>
        <p:spPr>
          <a:xfrm>
            <a:off x="3000240" y="1000080"/>
            <a:ext cx="3143520" cy="3870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ая соединительная линия 7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8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9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2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3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4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5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6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7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8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9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0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1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22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3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4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5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6T04:12:40Z</dcterms:created>
  <dc:creator>Алёна Леонтьева</dc:creator>
  <dc:description/>
  <dc:language>en-US</dc:language>
  <cp:lastModifiedBy>вова</cp:lastModifiedBy>
  <dcterms:modified xsi:type="dcterms:W3CDTF">2023-10-03T14:07:20Z</dcterms:modified>
  <cp:revision>8</cp:revision>
  <dc:subject/>
  <dc:title>ГБДОУ  детский сад № 104 комбинированного вида  Невского района г. Санкт-Петербурга</dc:title>
</cp:coreProperties>
</file>