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B92C-1CE8-43ED-829D-F607F433C4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B185-4B65-47C9-BCE6-0C31664020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CA4-7ABB-4AAD-B617-9F4B0E78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8F5-DD57-4E3C-B229-3589D293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69D-224C-4D73-8635-B6D891D7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E17-7D86-46CE-8912-6A1324FD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AD13-E015-416E-8F8D-04738B30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BC4A-CD0C-4332-A39F-D274170E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0462-1033-49A1-A804-08728DEA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B3FF-A692-4EEB-9854-DB474574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E296-57F4-4A75-A0BF-708720FF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4FC5-ABFA-4D08-BF1E-4A46AB9D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D8CC-5C71-46C9-9EB6-932DCFE1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D65-834D-49AF-8252-F9E34827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81F0-FCCA-4E6F-9510-FFA9A768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AF10-CA5C-4986-8DAA-8162F80E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EB2F-488A-446F-AD67-49EB35EE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B472-BAA6-4D46-B619-CB68B6A2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EE44-9968-4BFB-A1F3-756A3E71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D9732-9B40-4B62-A69B-61FDB400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65B2B-C754-48A8-85A6-AAD8EF4A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C9BA-D9B5-4619-8D46-07876F03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05923-E5FE-46D5-BA0A-AAFF1C3D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6EC8A-938C-4B2C-A30F-319AB3EB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59D-05E4-4B40-9BAF-AC3527BA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0980-70B5-49DE-B976-0E4320FC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C9BC5-190F-4F80-94A8-7BF8E7F9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D9F79-9CDA-4EA8-992F-20772848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BB19B-D593-478F-BA7B-30145621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49A0D-4624-4ECE-8689-9B936EBC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8F286-87A9-4E04-852B-DDBF3844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CA05F-2DD5-4F6F-A071-BC0319D6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EABA5-CAED-4908-B0A1-653DD5AA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AB75C-1FE8-42BB-BBDC-EC030225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3633B-B64E-4225-8568-C9DF8A8F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84E7-B6DF-4F2D-B72B-1758EABC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F5BD2-3DA1-4B57-835A-487E33D0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CFED8-AAEE-4A44-9EE1-9ED2F216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BCA04-C2D0-46EE-A5EB-3A985B5E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78611-84AD-4981-B777-CD8EBB36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D1CA0-BD16-45ED-85E4-294A4098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096A4-E1BC-4A27-85D8-C931E181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FE5AB-D5EC-4157-BBCB-4210BC84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FF9F8-6934-4156-8458-DD021039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C197C-DCB2-46F4-9676-B518FEC4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C9CD6-7391-4936-BBEA-8CA6078B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6DE-9813-411B-9902-849FF84A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62CF6-7071-46C9-BEC4-E53F4D04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11D32-057C-4C36-8C9C-8E572C83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7CB89-314B-4C21-B5B3-9EB99AFF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76AA4-77F8-4681-A1D0-11A3AB5C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83A76-0585-4590-A7B1-FB5C6825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74E7F-F966-41D1-8320-CE1B26F7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ACFD5-5173-4764-AF4E-1A6B4283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0D3C1-0732-4DF7-98B8-BE6EFB46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B44DF-9929-49A6-9578-CDE32882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C35A1-1EA0-41DB-AD9D-AF885BF2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4B5-E81B-4A5F-8342-C51F1888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0A9CB-1FCE-47F7-9D28-44EBB19A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A1BD3-3ECE-4657-83E2-FBEB2FC0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9782C-798F-4A16-859E-B768FA37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D3484-5216-401F-A0B4-0C645080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3CE94-3550-4170-A3FF-7D6867B6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DC01F-01D2-42CB-B079-E4CEE30B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1069B-6634-4360-949D-CFA8D22F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A2FFB-7970-49C3-8396-F69147D9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31B85-DA1B-4965-9166-111C3BE0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05DFB-3B60-4C31-9D04-67C6184A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D47-D2A3-483A-A2AC-7AD673FD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0FC50-304A-4DF1-A39A-4BD237DC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9EF4A-CEB2-436B-A954-98E10B12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D2433-6831-48B3-B81C-93C8546F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2CDCF-05DA-4B4E-8DAA-E1737B82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A4000-A613-49D4-8FD0-B282A4F1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468E1-7C29-468D-97E9-A64B6858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AFD5E-1F74-42EC-B9C3-3067585F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A3ED5-16C6-468C-8C0B-D752FC76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9C4A4-B071-47CD-BC69-EEE455B7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880C4-4C6F-4C88-972C-1721C23C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6FC-F98D-40E7-B8A2-C7570048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FFE6B-CB4D-4814-9924-5963A439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65196-328B-4BDA-A6B1-CE809FD9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C75F6-D52C-40EF-A473-7A1291EB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D442D-E95C-4BEE-ABF1-EBB13DA5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5519D-CAE0-4B3C-BF15-DDDDF5F0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B1A5E-EDCA-4A4D-8AAE-7FDC9816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8EE27-012B-45BF-8838-67193A9E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CDDBB-07B7-4185-AFF7-1018C002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E11EF-BD14-4541-A510-0A94BEDF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818E8-17FE-4DA7-9A77-B8B81DC7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F82-5156-4907-B25A-19218B7C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4F625-2697-4EBD-BA96-4B2D78AA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CB2FA-CE46-4A45-9771-42CD2BDC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458FC-04CF-45B5-A250-F851344B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0AC07-1D22-4997-8DB9-C80CB490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4A829-086D-42C4-A92A-093C42DF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4E43E-9B51-4BEB-A1F2-BD538464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90AAA-B617-4D5C-930C-8E0FA14F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E014-B1C1-4DF5-A0E2-408BF9DA12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54A0-2E54-41B3-878F-74742F873AE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12C7-7C62-432F-9DD3-4631E96D02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F13D-3E07-4649-8E4A-D2CB9D8F4F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554B-46AB-4511-928D-DE51D2EA61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0D03-E304-4116-82AB-CDB1BFC4E7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99DB-3253-4B73-A9E7-AF04DD4036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9D76-09EC-45DA-9718-19DACC819B4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9720"/>
          </a:xfrm>
          <a:prstGeom prst="rect">
            <a:avLst/>
          </a:prstGeom>
          <a:ln w="0">
            <a:noFill/>
          </a:ln>
        </p:spPr>
      </p:pic>
      <p:pic>
        <p:nvPicPr>
          <p:cNvPr id="378" name="Заголовок 2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Из богатой в продавцы"/>
          <p:cNvPicPr/>
          <p:nvPr/>
        </p:nvPicPr>
        <p:blipFill>
          <a:blip r:embed="rId1"/>
          <a:stretch/>
        </p:blipFill>
        <p:spPr>
          <a:xfrm>
            <a:off x="1042920" y="836640"/>
            <a:ext cx="7178760" cy="5383080"/>
          </a:xfrm>
          <a:prstGeom prst="rect">
            <a:avLst/>
          </a:prstGeom>
          <a:ln cap="sq" w="127080">
            <a:solidFill>
              <a:srgbClr val="da1f28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4" descr=""/>
          <p:cNvPicPr/>
          <p:nvPr/>
        </p:nvPicPr>
        <p:blipFill>
          <a:blip r:embed="rId1"/>
          <a:stretch/>
        </p:blipFill>
        <p:spPr>
          <a:xfrm>
            <a:off x="30240" y="55440"/>
            <a:ext cx="8663040" cy="13716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4360" y="263700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10 рублей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2"/>
          <a:stretch/>
        </p:blipFill>
        <p:spPr>
          <a:xfrm>
            <a:off x="4933800" y="1600200"/>
            <a:ext cx="3467160" cy="44560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0"/>
          <p:cNvSpPr/>
          <p:nvPr/>
        </p:nvSpPr>
        <p:spPr>
          <a:xfrm>
            <a:off x="533520" y="4267080"/>
            <a:ext cx="315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П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1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Lucida Sans Unicode"/>
              </a:rPr>
              <a:t>3 мороженых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42840" y="139680"/>
            <a:ext cx="8650440" cy="1287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"/>
          <p:cNvPicPr/>
          <p:nvPr/>
        </p:nvPicPr>
        <p:blipFill>
          <a:blip r:embed="rId2"/>
          <a:stretch/>
        </p:blipFill>
        <p:spPr>
          <a:xfrm>
            <a:off x="6156360" y="3529080"/>
            <a:ext cx="2590920" cy="3328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"/>
          <p:cNvPicPr/>
          <p:nvPr/>
        </p:nvPicPr>
        <p:blipFill>
          <a:blip r:embed="rId3"/>
          <a:stretch/>
        </p:blipFill>
        <p:spPr>
          <a:xfrm>
            <a:off x="3059280" y="3770280"/>
            <a:ext cx="2403360" cy="3087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2066760" cy="26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30240" y="55440"/>
            <a:ext cx="8663040" cy="1371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2"/>
          <a:stretch/>
        </p:blipFill>
        <p:spPr>
          <a:xfrm>
            <a:off x="1639800" y="1600200"/>
            <a:ext cx="1673280" cy="2151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648320" y="1599840"/>
            <a:ext cx="403848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3"/>
          <a:stretch/>
        </p:blipFill>
        <p:spPr>
          <a:xfrm>
            <a:off x="4067280" y="1268280"/>
            <a:ext cx="1674720" cy="21528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1"/>
          <p:cNvSpPr/>
          <p:nvPr/>
        </p:nvSpPr>
        <p:spPr>
          <a:xfrm>
            <a:off x="1523880" y="3621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555600" y="3657600"/>
            <a:ext cx="16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888720" y="3429000"/>
            <a:ext cx="16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5"/>
          <p:cNvSpPr/>
          <p:nvPr/>
        </p:nvSpPr>
        <p:spPr>
          <a:xfrm rot="16200000">
            <a:off x="4194360" y="1131480"/>
            <a:ext cx="1207800" cy="7170840"/>
          </a:xfrm>
          <a:custGeom>
            <a:avLst/>
            <a:gdLst>
              <a:gd name="textAreaLeft" fmla="*/ 771840 w 1207800"/>
              <a:gd name="textAreaRight" fmla="*/ 1208160 w 1207800"/>
              <a:gd name="textAreaTop" fmla="*/ 186840 h 7170840"/>
              <a:gd name="textAreaBottom" fmla="*/ 6984000 h 717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54"/>
                </a:lnTo>
                <a:cubicBezTo>
                  <a:pt x="10800" y="9654"/>
                  <a:pt x="5400" y="10554"/>
                  <a:pt x="0" y="10554"/>
                </a:cubicBezTo>
                <a:cubicBezTo>
                  <a:pt x="5400" y="10554"/>
                  <a:pt x="10800" y="11454"/>
                  <a:pt x="10800" y="123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3851280" y="566100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х3    10+10+1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8" descr=""/>
          <p:cNvPicPr/>
          <p:nvPr/>
        </p:nvPicPr>
        <p:blipFill>
          <a:blip r:embed="rId4"/>
          <a:stretch/>
        </p:blipFill>
        <p:spPr>
          <a:xfrm>
            <a:off x="6443640" y="1413000"/>
            <a:ext cx="1506600" cy="193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380880" y="1828800"/>
          <a:ext cx="8305920" cy="19224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Ц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Количе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Сто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мороже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1" name="Прямоугольник 2"/>
          <p:cNvSpPr/>
          <p:nvPr/>
        </p:nvSpPr>
        <p:spPr>
          <a:xfrm>
            <a:off x="2570760" y="1557360"/>
            <a:ext cx="294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 = Ц ∙ 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3"/>
          <p:cNvSpPr/>
          <p:nvPr/>
        </p:nvSpPr>
        <p:spPr>
          <a:xfrm>
            <a:off x="2642760" y="292428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 = С : 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4"/>
          <p:cNvSpPr/>
          <p:nvPr/>
        </p:nvSpPr>
        <p:spPr>
          <a:xfrm>
            <a:off x="2571480" y="400536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Ц = С : 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4:34:49Z</dcterms:created>
  <dc:creator>Home</dc:creator>
  <dc:description/>
  <dc:language>en-US</dc:language>
  <cp:lastModifiedBy>Компьютер</cp:lastModifiedBy>
  <dcterms:modified xsi:type="dcterms:W3CDTF">2020-03-01T12:31:31Z</dcterms:modified>
  <cp:revision>40</cp:revision>
  <dc:subject/>
  <dc:title>Слайд 1</dc:title>
</cp:coreProperties>
</file>