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3608-C6A8-4C65-B620-E9CE20C01F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1881-5BFC-46FB-85BD-EF16826CE1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157-64A5-4C90-9ED4-BB7500FA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13D-27C5-4D7E-AE1F-3110C0CF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35F-4FCD-400C-933F-48F2D871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309D-6681-4E46-89DD-C7EF790A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A356-9344-47EC-A114-35283C79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4C60-085A-4BD7-8D59-D7A76693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58D1-3B35-499E-9294-A20CE593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78F8-E139-47C6-B8DA-10D38CF0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066E-F228-44DD-9177-B5A425DF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5B40-F86F-4EA1-8026-1D033C41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CECC-D709-4329-8CD1-2212A26B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A05-EEC0-44EC-B63F-1919E981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4B7F-0D33-4899-BB59-D6BB8BD5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4450-74B0-4AFA-8794-25D11744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DF44-09D8-4BF0-8D93-5961A839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2E34-4800-49E9-B0E7-9AC86382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AB51-CF24-4B62-AE55-63BD4845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550CE-F8AA-47E0-8EE7-0EFD7D3E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05C9C-AF41-4694-BBE1-F4960108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9F82E-C661-48D0-AD9A-4598D74B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5DE32-3C1A-45A5-832D-78CE15E5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B3994-C8E1-4E83-861D-0FFD5B88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B71-E075-4539-88D0-098B6586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302CE-5C19-4464-A218-CEA9071D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74E95-F298-456E-AB9A-6A627C14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76E34-6C65-4BEC-9CCF-3F03A12B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5705A-20AE-4CA7-ADE4-5FD8E6F3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FFA8F-6BE9-4D76-A39D-31CA2436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A6247-7D74-4D78-AF57-A3806885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2B7C9-65D1-4FDC-9635-F54A6639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4F32A-0E1D-4917-86A1-9D21CBF4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C8B21-1739-41B5-84A3-4BF863E9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8A081-E118-4C2C-A9EA-1A16B756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E191-B3A6-4348-BDFB-D81C3571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35489-6928-4517-8FE1-093E0250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7F732-0864-4353-9EEB-E4D59EF7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72888-29EA-4EDA-AC72-14FB0A4F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08A2E-A6DC-4F07-B5C6-2043F865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0A3D8-86F4-4A88-B154-CD1051E1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6CFFF-0445-404C-8C76-3D085497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8261C-604D-4C5F-8DE1-684AD4BA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6C8AE-B598-446A-ABEF-2AEF79E1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8FC78-FCD8-424C-B2A5-96A535D5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CA1FF-48C4-49CB-8D10-AFDB5114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4DC-1119-4F1C-82AB-C3111786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2D838-4948-458E-AA3A-8AFE8169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55E08-D86A-4ED7-B321-E7FF25E8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6E15C-A7C5-49CA-9DE8-CACFA79E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9D5AB-A5BB-4E65-9317-5EE4DFBC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76BA0-0F2D-4DE2-8595-42EBEAFB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782F3-5168-416E-937F-88390D4F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1A529-6559-4916-83CB-744872A3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DD992-9AC9-438B-A701-74F63580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3C5BD-93D2-4DD5-BF14-8099CB37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4F613-430C-47DD-97A5-AAD0B106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528C-B329-4EA2-8409-5CD83BC8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F242B-C582-41E1-85DD-3E822CFE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9D8A7-84BC-4A1E-8C77-918C1088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0B3AE-18AA-4597-9D01-2C7CA06A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EBA3F-AAEB-4061-989F-6905854F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3E787-8C8D-436F-B5A8-BF01FEE0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F5338-1588-4596-85FF-8D2C7A51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C4EE9-9CF9-4E9E-B813-FD41083D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53879-2ED3-4F96-9F55-03EB28EF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44840-E4F9-462B-BA38-BC82FB17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63954-0EA9-458B-8240-A4964A85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E32-6E31-479B-9AB3-1FCE4BFA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102D5-5735-4C5B-9FCD-F2532297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6B657-AC9D-4480-A19D-8CE47E2A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2FA9C-EC81-44FF-B266-88D3EEF5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46317-FE93-4940-A987-1AC4FB5E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F2E1B-7311-40CE-AC1E-2A1804FD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0F9C5-C481-42F4-A444-85A0ABDF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48D00-B5D8-4E88-A8BB-E775B6EA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A5740-E4C9-4311-9726-779B5A54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18052-0C18-4C47-B2B8-4F7B5533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027F3-CDBD-4C0F-9683-3103C05D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2C67-3F52-452F-A05D-67932DDC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1E9F1-E641-4C1E-9B1E-E164D342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6EA7B-DB8E-4EEE-BA52-BDED65D0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44071-5F87-4E28-990E-5CC9B4A8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63371-96D5-43D7-9D73-16890E26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1E79A-391C-4C73-BCA0-FD7BAE20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5BC97-9F0D-4CD9-BA09-D978125E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0CA99-6F39-4582-98E1-114579D4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37805-0BCF-45AC-BD05-C40C84EB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928E6-FA1E-4EB0-96DA-57C3CBE6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7E28B-0A0F-43CF-A2C1-1C2F855D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880A-7438-4A8D-8E48-E46F0217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F4EA7-E5E8-4C44-B3EE-7B86E60A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6C505-EAC0-4EF7-B9F2-60B0979D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800A5-DB28-4FF5-85EE-F0638EA5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946D7-9E6E-4973-B093-DA520303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39786-A67C-4F5E-97A9-9F0E06B7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E8966-4093-409E-A869-802F39BC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AC3C7-5B20-4F83-B065-DAC7CE49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9257-62AC-4BD9-A4C9-CF222D238F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AAA2-6413-4C35-AA24-2F9C4B045DE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85C6-3629-4124-BBED-6D1BA69A11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632F-3B47-42D8-A0ED-4798DA16ED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3C7C-39C8-45D8-AC1F-22067FA565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A18A-B4AE-4F20-AF4E-30413C801D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DF9F-B7B4-40DE-BA0A-7CBB5B285E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9D40-00DD-4692-A521-C967E9E08B3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9720"/>
          </a:xfrm>
          <a:prstGeom prst="rect">
            <a:avLst/>
          </a:prstGeom>
          <a:ln w="0">
            <a:noFill/>
          </a:ln>
        </p:spPr>
      </p:pic>
      <p:pic>
        <p:nvPicPr>
          <p:cNvPr id="378" name="Заголовок 2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Из богатой в продавцы"/>
          <p:cNvPicPr/>
          <p:nvPr/>
        </p:nvPicPr>
        <p:blipFill>
          <a:blip r:embed="rId1"/>
          <a:stretch/>
        </p:blipFill>
        <p:spPr>
          <a:xfrm>
            <a:off x="1042920" y="836640"/>
            <a:ext cx="7178760" cy="5383080"/>
          </a:xfrm>
          <a:prstGeom prst="rect">
            <a:avLst/>
          </a:prstGeom>
          <a:ln cap="sq" w="127080">
            <a:solidFill>
              <a:srgbClr val="da1f28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4" descr=""/>
          <p:cNvPicPr/>
          <p:nvPr/>
        </p:nvPicPr>
        <p:blipFill>
          <a:blip r:embed="rId1"/>
          <a:stretch/>
        </p:blipFill>
        <p:spPr>
          <a:xfrm>
            <a:off x="30240" y="55440"/>
            <a:ext cx="8663040" cy="13716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84360" y="263700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Lucida Sans Unicode"/>
              </a:rPr>
              <a:t>10 рублей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2"/>
          <a:stretch/>
        </p:blipFill>
        <p:spPr>
          <a:xfrm>
            <a:off x="4933800" y="1600200"/>
            <a:ext cx="3467160" cy="44560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0"/>
          <p:cNvSpPr/>
          <p:nvPr/>
        </p:nvSpPr>
        <p:spPr>
          <a:xfrm>
            <a:off x="533520" y="4267080"/>
            <a:ext cx="315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По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1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Lucida Sans Unicode"/>
              </a:rPr>
              <a:t>3 мороженых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42840" y="139680"/>
            <a:ext cx="8650440" cy="1287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"/>
          <p:cNvPicPr/>
          <p:nvPr/>
        </p:nvPicPr>
        <p:blipFill>
          <a:blip r:embed="rId2"/>
          <a:stretch/>
        </p:blipFill>
        <p:spPr>
          <a:xfrm>
            <a:off x="6156360" y="3529080"/>
            <a:ext cx="2590920" cy="3328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"/>
          <p:cNvPicPr/>
          <p:nvPr/>
        </p:nvPicPr>
        <p:blipFill>
          <a:blip r:embed="rId3"/>
          <a:stretch/>
        </p:blipFill>
        <p:spPr>
          <a:xfrm>
            <a:off x="3059280" y="3770280"/>
            <a:ext cx="2403360" cy="3087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2066760" cy="26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30240" y="55440"/>
            <a:ext cx="8663040" cy="1371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2"/>
          <a:stretch/>
        </p:blipFill>
        <p:spPr>
          <a:xfrm>
            <a:off x="1639800" y="1600200"/>
            <a:ext cx="1673280" cy="2151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648320" y="1599840"/>
            <a:ext cx="403848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Picture 8" descr=""/>
          <p:cNvPicPr/>
          <p:nvPr/>
        </p:nvPicPr>
        <p:blipFill>
          <a:blip r:embed="rId3"/>
          <a:stretch/>
        </p:blipFill>
        <p:spPr>
          <a:xfrm>
            <a:off x="4067280" y="1268280"/>
            <a:ext cx="1674720" cy="21528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1"/>
          <p:cNvSpPr/>
          <p:nvPr/>
        </p:nvSpPr>
        <p:spPr>
          <a:xfrm>
            <a:off x="1523880" y="3621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555600" y="3657600"/>
            <a:ext cx="169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888720" y="3429000"/>
            <a:ext cx="169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5"/>
          <p:cNvSpPr/>
          <p:nvPr/>
        </p:nvSpPr>
        <p:spPr>
          <a:xfrm rot="16200000">
            <a:off x="4194360" y="1131480"/>
            <a:ext cx="1207800" cy="7170840"/>
          </a:xfrm>
          <a:custGeom>
            <a:avLst/>
            <a:gdLst>
              <a:gd name="textAreaLeft" fmla="*/ 771840 w 1207800"/>
              <a:gd name="textAreaRight" fmla="*/ 1208160 w 1207800"/>
              <a:gd name="textAreaTop" fmla="*/ 186840 h 7170840"/>
              <a:gd name="textAreaBottom" fmla="*/ 6984000 h 717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54"/>
                </a:lnTo>
                <a:cubicBezTo>
                  <a:pt x="10800" y="9654"/>
                  <a:pt x="5400" y="10554"/>
                  <a:pt x="0" y="10554"/>
                </a:cubicBezTo>
                <a:cubicBezTo>
                  <a:pt x="5400" y="10554"/>
                  <a:pt x="10800" y="11454"/>
                  <a:pt x="10800" y="123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3851280" y="566100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х3    10+10+1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0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8" descr=""/>
          <p:cNvPicPr/>
          <p:nvPr/>
        </p:nvPicPr>
        <p:blipFill>
          <a:blip r:embed="rId4"/>
          <a:stretch/>
        </p:blipFill>
        <p:spPr>
          <a:xfrm>
            <a:off x="6443640" y="1413000"/>
            <a:ext cx="1506600" cy="193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380880" y="1828800"/>
          <a:ext cx="8305920" cy="19224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Ц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Количе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Стоим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мороже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1" name="Прямоугольник 2"/>
          <p:cNvSpPr/>
          <p:nvPr/>
        </p:nvSpPr>
        <p:spPr>
          <a:xfrm>
            <a:off x="2570760" y="1557360"/>
            <a:ext cx="294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 = Ц ∙ 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3"/>
          <p:cNvSpPr/>
          <p:nvPr/>
        </p:nvSpPr>
        <p:spPr>
          <a:xfrm>
            <a:off x="2642760" y="292428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К = С : 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4"/>
          <p:cNvSpPr/>
          <p:nvPr/>
        </p:nvSpPr>
        <p:spPr>
          <a:xfrm>
            <a:off x="2571480" y="400536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Ц = С : 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4:34:49Z</dcterms:created>
  <dc:creator>Home</dc:creator>
  <dc:description/>
  <dc:language>en-US</dc:language>
  <cp:lastModifiedBy>Компьютер</cp:lastModifiedBy>
  <dcterms:modified xsi:type="dcterms:W3CDTF">2020-03-01T12:31:31Z</dcterms:modified>
  <cp:revision>40</cp:revision>
  <dc:subject/>
  <dc:title>Слайд 1</dc:title>
</cp:coreProperties>
</file>