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D563-424B-4809-B2FB-93F3A42B73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108-9F22-41F9-9FB7-124F2BEC6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2A4-713F-4E75-A858-5678107D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7E1-FD61-4E06-A764-604A2C3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B31-C9E0-4506-8E07-674764D1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4E0-C6FD-4717-8FAD-C37921EA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030F-CEBD-4080-B682-14847A8A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794-114A-4F32-9745-AFE82C9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B89-66DA-420C-A896-455400E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663-0F70-4242-A34F-E490546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FAF-5F60-4AD9-8A61-EAF73212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93C-9E6F-4B4C-A98B-76FD325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8661-8C4D-4E69-9D48-6F2A7DB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1C1-BB94-4D83-86CB-4A64D6E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DA85-C682-4247-B06E-C818DF0A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5CFF-B8E8-4626-AF3A-4F7DD17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61E5-3B66-4671-8CD7-588387AA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DC0B-CF95-46AA-9728-6D3BA27A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1AB-32F1-4C7A-B9E4-5180D62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4750-C5DE-4ACE-8934-293B134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F501-22AC-4ADE-9896-0DE0047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75D1-4A9A-4DC9-B248-D5C0E11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8BE2-EB8F-45C2-A498-C2CD3C6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861A-16B6-4AD3-8D97-82EE308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03F-150D-4887-B17E-22F1DC8B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C3E0-D1AA-4412-9C61-C307DBBC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CBC3-7AED-48E2-B90B-24C2CAC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726C-5B09-46E4-85AB-96664BE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4C44-A3C0-4DFA-BE4F-226CC73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2D66-645A-47A4-BFF9-0A5293B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7C24-C55D-41C2-8F58-1512CA70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8009-A720-4464-9DFD-834F7047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B01B-29E0-4F6C-9485-AAFE01C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7432-B9CE-4106-BFFA-D46E175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5003-AF7D-46A6-B7C8-BD422A1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EEF-8C40-48DD-B69C-3BC5120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B8B0-AEA6-4CAE-BD5F-A9D46CC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9AB3-816B-4CB1-8CA1-EE60ED5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7806-2819-4584-8C69-32CCA83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5635-F124-4D9E-8F45-C6554E0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0FC7-4469-4522-97E6-85DF438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59C0-B7EE-4796-86F8-67EAFE2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8789-4646-4D17-86FE-7C98552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9E32-F449-4BB0-A831-8829CEA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2AF1-68F8-4BFF-9323-4A48CDA8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85F6-6682-4A59-AE7E-75BAE760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133-600E-475A-8BB9-FBBFDA0F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D3ED-AAD5-44BB-8CE1-CA93FC0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DE381-8374-43A0-96D3-718F10C7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AD49-D7A1-40A2-9B65-7E89852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B8F6D-DB7C-4373-8BCB-D8C17C9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B1E9-2461-47B2-8F3F-015B9E3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9436-26BC-497F-9C04-0CA5266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7AE9-849C-4A41-A624-8E1E8B1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E1CA-A421-4D6B-94B5-DA1A10C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4281-D87F-4FC1-A57E-EE93ED9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A223-B7AF-43AB-9B2E-89433ADC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7CA-61BA-4B96-8F6B-BDA6520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06B5-571F-4B82-9BAF-045B224A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5FBAF-F963-47ED-8781-F3BDEBDB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3C93-D0AD-470D-B713-E2409E30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610D-900C-4D65-AFC2-7B30EE5D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E6A1-BD83-4DCC-8C05-3630B90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8865E-27A2-4C37-81F7-CB31206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7688-3482-4B2F-B525-235B6EE6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FF3D-E661-4359-BA30-7ACBD90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FC33-7B4A-400C-A1DF-7B85926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FE851-69E3-4645-828A-6A89204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CBD-61D0-436D-BA94-A75BF99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3D7A-06E9-4D97-AC2E-3BED3A9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1086-6781-4583-9D7A-CE255F69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3E5C-3EFB-4107-BAE1-F9EBDFB3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6986-4828-4231-8BAA-E9CEF4D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605B7-670E-4775-84C6-0EFC4C9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F75E-7F5B-4461-BB7B-42C3FB9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AEF63-FF75-44A5-B0F1-BB847096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C839B-8D0D-484C-AA6F-8230A3E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F765-F43F-41B0-B2AD-28F67D1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62FC-331A-40BE-8937-4C68A60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662-44BE-437C-AD90-C39012F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11D3-C091-46B4-B11D-D9FAF54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F393-1038-49C5-BED6-0005BAE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4BB4-76C1-4C35-AE73-6BA11C6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E43E-B3EF-49D7-BF23-8FABA120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C1B9-C032-4C6C-838C-CC3E6725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D0E2-1E52-46E2-8C58-A0FF7F4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893B2-FFE0-4E46-A622-15A0E1DD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7817-0A92-4B02-AE7F-1BC64E7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0DC0-3348-4427-9852-A0D7794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79A1-C6D7-422C-B4A4-800B7060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840-EA90-4BE3-87FC-7EEFA42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6D585-4173-4A2A-B338-C0A6580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82DA-5DAC-49F9-8334-AE77256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B84E-9283-408E-A185-1C3AD12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98C4-59ED-41E0-B5C0-10A8A8B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CABA-CF88-4A99-A986-A9322496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7DD8A-3EFB-42CF-BC8F-4C9AD07E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A74B8-A98C-4C10-A903-55F2338D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7D3-555D-4729-B7ED-D82B916214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42A-C40A-4138-88FF-C831BF995F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8C7-3C15-4906-A7C9-606AFF05B3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621-3FB4-47DC-99B2-67DE26E44C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795A-DA88-4507-9D9C-E5E85AF84A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B9C-F524-4246-BE73-4B2075193B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7D7-4B67-4C1D-9369-4172551369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5FC5-F2F6-4803-B35D-FB50A34188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Из богатой в продавцы"/>
          <p:cNvPicPr/>
          <p:nvPr/>
        </p:nvPicPr>
        <p:blipFill>
          <a:blip r:embed="rId1"/>
          <a:stretch/>
        </p:blipFill>
        <p:spPr>
          <a:xfrm>
            <a:off x="1042920" y="836640"/>
            <a:ext cx="7178760" cy="5383080"/>
          </a:xfrm>
          <a:prstGeom prst="rect">
            <a:avLst/>
          </a:prstGeom>
          <a:ln cap="sq" w="127080">
            <a:solidFill>
              <a:srgbClr val="da1f28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26370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10 рублей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4933800" y="1600200"/>
            <a:ext cx="3467160" cy="4456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533520" y="4267080"/>
            <a:ext cx="315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3 мороженых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2"/>
          <a:stretch/>
        </p:blipFill>
        <p:spPr>
          <a:xfrm>
            <a:off x="6156360" y="3529080"/>
            <a:ext cx="2590920" cy="332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3059280" y="3770280"/>
            <a:ext cx="2403360" cy="3087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0667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1639800" y="1600200"/>
            <a:ext cx="1673280" cy="2151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3"/>
          <a:stretch/>
        </p:blipFill>
        <p:spPr>
          <a:xfrm>
            <a:off x="4067280" y="1268280"/>
            <a:ext cx="1674720" cy="2152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1523880" y="3621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555600" y="36576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888720" y="34290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5"/>
          <p:cNvSpPr/>
          <p:nvPr/>
        </p:nvSpPr>
        <p:spPr>
          <a:xfrm rot="16200000">
            <a:off x="4194360" y="1131480"/>
            <a:ext cx="1207800" cy="7170840"/>
          </a:xfrm>
          <a:custGeom>
            <a:avLst/>
            <a:gdLst>
              <a:gd name="textAreaLeft" fmla="*/ 771840 w 1207800"/>
              <a:gd name="textAreaRight" fmla="*/ 1208160 w 1207800"/>
              <a:gd name="textAreaTop" fmla="*/ 186840 h 7170840"/>
              <a:gd name="textAreaBottom" fmla="*/ 6984000 h 717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54"/>
                </a:lnTo>
                <a:cubicBezTo>
                  <a:pt x="10800" y="9654"/>
                  <a:pt x="5400" y="10554"/>
                  <a:pt x="0" y="10554"/>
                </a:cubicBezTo>
                <a:cubicBezTo>
                  <a:pt x="5400" y="10554"/>
                  <a:pt x="10800" y="11454"/>
                  <a:pt x="10800" y="123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851280" y="566100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х3    10+10+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4"/>
          <a:stretch/>
        </p:blipFill>
        <p:spPr>
          <a:xfrm>
            <a:off x="6443640" y="1413000"/>
            <a:ext cx="1506600" cy="19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380880" y="1828800"/>
          <a:ext cx="8305920" cy="19224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мороже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570760" y="155736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 = Ц ∙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2642760" y="292428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 = С : 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2571480" y="400536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 = С :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4:34:49Z</dcterms:created>
  <dc:creator>Home</dc:creator>
  <dc:description/>
  <dc:language>en-US</dc:language>
  <cp:lastModifiedBy>Компьютер</cp:lastModifiedBy>
  <dcterms:modified xsi:type="dcterms:W3CDTF">2020-03-01T12:31:31Z</dcterms:modified>
  <cp:revision>40</cp:revision>
  <dc:subject/>
  <dc:title>Слайд 1</dc:title>
</cp:coreProperties>
</file>