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7.jpeg" ContentType="image/jpeg"/>
  <Override PartName="/ppt/media/image38.jpeg" ContentType="image/jpeg"/>
  <Override PartName="/ppt/media/image5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60.jpeg" ContentType="image/jpeg"/>
  <Override PartName="/ppt/media/image61.gif" ContentType="image/gif"/>
  <Override PartName="/ppt/media/image14.jpeg" ContentType="image/jpeg"/>
  <Override PartName="/ppt/media/image41.jpeg" ContentType="image/jpeg"/>
  <Override PartName="/ppt/media/image20.jpeg" ContentType="image/jpeg"/>
  <Override PartName="/ppt/media/image15.jpeg" ContentType="image/jpeg"/>
  <Override PartName="/ppt/media/image35.jpeg" ContentType="image/jpeg"/>
  <Override PartName="/ppt/media/image1.jpeg" ContentType="image/jpeg"/>
  <Override PartName="/ppt/media/image45.jpeg" ContentType="image/jpeg"/>
  <Override PartName="/ppt/media/image62.gif" ContentType="image/gif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D22E-9036-4612-A07F-A31F9FC5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F3F2-BE55-4528-978B-4C5BBC91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F268-37C1-4B3E-B5BC-BC064397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EFEE-9F31-4CF4-9339-F4AE4FE7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FCCB-65C1-49E5-80F2-3515D849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FBC3-F308-4560-9D5A-6643C30C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0713-E580-4E65-A647-21EEB2D9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46BB-CCA5-473E-9FC1-1255E7DF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DE4C-F833-4497-B0DA-E2ECEB8C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43E8-4559-4CAA-8A47-622A654D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441A-4934-4871-ACD7-37393C34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19F0-F022-43B8-8282-A83F2560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9E0F-94BD-477F-BC24-D138CF8C3F6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gif"/><Relationship Id="rId2" Type="http://schemas.openxmlformats.org/officeDocument/2006/relationships/image" Target="../media/image62.gif"/><Relationship Id="rId3" Type="http://schemas.openxmlformats.org/officeDocument/2006/relationships/image" Target="../media/image62.gif"/><Relationship Id="rId4" Type="http://schemas.openxmlformats.org/officeDocument/2006/relationships/image" Target="../media/image62.gif"/><Relationship Id="rId5" Type="http://schemas.openxmlformats.org/officeDocument/2006/relationships/image" Target="../media/image62.gif"/><Relationship Id="rId6" Type="http://schemas.openxmlformats.org/officeDocument/2006/relationships/image" Target="../media/image62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Проект 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«Соль – знакомая незнакомка»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7086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Пользователь\Desktop\соль крас и картотеки (3)\P_20210208_131733.jpg"/>
          <p:cNvPicPr/>
          <p:nvPr/>
        </p:nvPicPr>
        <p:blipFill>
          <a:blip r:embed="rId1"/>
          <a:stretch/>
        </p:blipFill>
        <p:spPr>
          <a:xfrm>
            <a:off x="457200" y="228600"/>
            <a:ext cx="3886200" cy="6502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Пользователь\Desktop\соль крас и картотеки (3)\P_20210208_093923.jpg"/>
          <p:cNvPicPr/>
          <p:nvPr/>
        </p:nvPicPr>
        <p:blipFill>
          <a:blip r:embed="rId2"/>
          <a:stretch/>
        </p:blipFill>
        <p:spPr>
          <a:xfrm>
            <a:off x="4876920" y="228600"/>
            <a:ext cx="38862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Пользователь\Desktop\соль крас и картотеки (3)\IMG-916d738c09f2cd04a429535d817621ef-V.jpg"/>
          <p:cNvPicPr/>
          <p:nvPr/>
        </p:nvPicPr>
        <p:blipFill>
          <a:blip r:embed="rId1"/>
          <a:stretch/>
        </p:blipFill>
        <p:spPr>
          <a:xfrm>
            <a:off x="152280" y="138240"/>
            <a:ext cx="4724640" cy="6705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Пользователь\Desktop\соль крас и картотеки (3)\P_20210208_132230.jpg"/>
          <p:cNvPicPr/>
          <p:nvPr/>
        </p:nvPicPr>
        <p:blipFill>
          <a:blip r:embed="rId2"/>
          <a:stretch/>
        </p:blipFill>
        <p:spPr>
          <a:xfrm>
            <a:off x="5029200" y="152280"/>
            <a:ext cx="393876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2" descr="C:\Users\Пользователь\Desktop\соль крас и картотеки (3)\P_20210208_132405.jpg"/>
          <p:cNvPicPr/>
          <p:nvPr/>
        </p:nvPicPr>
        <p:blipFill>
          <a:blip r:embed="rId1"/>
          <a:stretch/>
        </p:blipFill>
        <p:spPr>
          <a:xfrm>
            <a:off x="228600" y="152280"/>
            <a:ext cx="4267080" cy="6502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ользователь\Desktop\соль крас и картотеки (3)\P_20210208_132209.jpg"/>
          <p:cNvPicPr/>
          <p:nvPr/>
        </p:nvPicPr>
        <p:blipFill>
          <a:blip r:embed="rId2"/>
          <a:stretch/>
        </p:blipFill>
        <p:spPr>
          <a:xfrm>
            <a:off x="4648320" y="160200"/>
            <a:ext cx="4343400" cy="650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На карте дети находят города, где добывают соль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" name="Picture 2" descr="C:\Users\Пользователь\Desktop\соль крас и картотеки (3)\P_20210208_093639.jpg"/>
          <p:cNvPicPr/>
          <p:nvPr/>
        </p:nvPicPr>
        <p:blipFill>
          <a:blip r:embed="rId1"/>
          <a:stretch/>
        </p:blipFill>
        <p:spPr>
          <a:xfrm>
            <a:off x="311040" y="1066680"/>
            <a:ext cx="3880080" cy="5791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Пользователь\Desktop\соль крас и картотеки (3)\P_20210208_093541.jpg"/>
          <p:cNvPicPr/>
          <p:nvPr/>
        </p:nvPicPr>
        <p:blipFill>
          <a:blip r:embed="rId2"/>
          <a:stretch/>
        </p:blipFill>
        <p:spPr>
          <a:xfrm>
            <a:off x="4952880" y="1066680"/>
            <a:ext cx="388620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2. Основной этап.                                                                                                                Опытно-экспериментальная деятель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" name="Picture 2" descr="C:\Users\Пользователь\Desktop\проект про соль\P_20210202_103346.jpg"/>
          <p:cNvPicPr/>
          <p:nvPr/>
        </p:nvPicPr>
        <p:blipFill>
          <a:blip r:embed="rId1"/>
          <a:stretch/>
        </p:blipFill>
        <p:spPr>
          <a:xfrm>
            <a:off x="762120" y="2133720"/>
            <a:ext cx="3176640" cy="4419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смотрели презентацию о добыче соли и применении её в разных областя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смотрели  соль через лупу и выяснили, что соль бывает разная (мелкая, крупная, очищенная, каменная, поваренная). Отгадывали загадки. Читали статьи о  том, какую роль играла соль в средние ве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Сначала мы изучили свойства соли. Для этого провели опыты и выяснили, что соль белого цвета, не имеет запаха, при нажатии скрипит как снег, сыпучая, растворяется  в тёплой воде быстрее, чем в холодной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4" name="Picture 2" descr="C:\Users\Пользователь\Desktop\проект про соль\P_20210202_112955.jpg"/>
          <p:cNvPicPr/>
          <p:nvPr/>
        </p:nvPicPr>
        <p:blipFill>
          <a:blip r:embed="rId1"/>
          <a:stretch/>
        </p:blipFill>
        <p:spPr>
          <a:xfrm>
            <a:off x="4114800" y="4724280"/>
            <a:ext cx="2048040" cy="2057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Пользователь\Desktop\проект про соль\P_20210202_113004.jpg"/>
          <p:cNvPicPr/>
          <p:nvPr/>
        </p:nvPicPr>
        <p:blipFill>
          <a:blip r:embed="rId2"/>
          <a:stretch/>
        </p:blipFill>
        <p:spPr>
          <a:xfrm>
            <a:off x="3657600" y="1676520"/>
            <a:ext cx="2805120" cy="2971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Users\Пользователь\Desktop\проект про соль\P_20210202_113020.jpg"/>
          <p:cNvPicPr/>
          <p:nvPr/>
        </p:nvPicPr>
        <p:blipFill>
          <a:blip r:embed="rId3"/>
          <a:stretch/>
        </p:blipFill>
        <p:spPr>
          <a:xfrm>
            <a:off x="6705720" y="4724280"/>
            <a:ext cx="2077920" cy="2057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Users\Пользователь\Desktop\проект про соль\P_20210202_113118.jpg"/>
          <p:cNvPicPr/>
          <p:nvPr/>
        </p:nvPicPr>
        <p:blipFill>
          <a:blip r:embed="rId4"/>
          <a:stretch/>
        </p:blipFill>
        <p:spPr>
          <a:xfrm>
            <a:off x="6553080" y="1676520"/>
            <a:ext cx="2438640" cy="2971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https://marianablog.ru/wp-content/uploads/2018/10/178-900-1024x1024.jpg"/>
          <p:cNvPicPr/>
          <p:nvPr/>
        </p:nvPicPr>
        <p:blipFill>
          <a:blip r:embed="rId5"/>
          <a:stretch/>
        </p:blipFill>
        <p:spPr>
          <a:xfrm>
            <a:off x="76320" y="1905120"/>
            <a:ext cx="3276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роводили опыты со снегом: в какой воде быстрее растает снег, в пресной или солено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0" name="Picture 2" descr="C:\Users\Пользователь\Desktop\проект про соль\P_20210201_104300.jpg"/>
          <p:cNvPicPr/>
          <p:nvPr/>
        </p:nvPicPr>
        <p:blipFill>
          <a:blip r:embed="rId1"/>
          <a:stretch/>
        </p:blipFill>
        <p:spPr>
          <a:xfrm>
            <a:off x="228600" y="1295280"/>
            <a:ext cx="3065400" cy="4724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Users\Пользователь\Desktop\проект про соль\P_20210201_103240.jpg"/>
          <p:cNvPicPr/>
          <p:nvPr/>
        </p:nvPicPr>
        <p:blipFill>
          <a:blip r:embed="rId2"/>
          <a:stretch/>
        </p:blipFill>
        <p:spPr>
          <a:xfrm>
            <a:off x="5867280" y="1219320"/>
            <a:ext cx="3110040" cy="4724280"/>
          </a:xfrm>
          <a:prstGeom prst="rect">
            <a:avLst/>
          </a:prstGeom>
          <a:ln w="0">
            <a:noFill/>
          </a:ln>
        </p:spPr>
      </p:pic>
      <p:sp>
        <p:nvSpPr>
          <p:cNvPr id="82" name="TextBox 2"/>
          <p:cNvSpPr/>
          <p:nvPr/>
        </p:nvSpPr>
        <p:spPr>
          <a:xfrm>
            <a:off x="3681360" y="1143000"/>
            <a:ext cx="1828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ытным путем, выяснили, что снег тает быстрее в соленой вод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А вы знаете почему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потому, что у соленой воды плотность больше и теплопроводность выш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Окрашивали соль гуашью разного цвета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Picture 2" descr="C:\Users\Пользователь\Desktop\соль крас и картотеки (3)\P_20210208_101911.jpg"/>
          <p:cNvPicPr/>
          <p:nvPr/>
        </p:nvPicPr>
        <p:blipFill>
          <a:blip r:embed="rId1"/>
          <a:stretch/>
        </p:blipFill>
        <p:spPr>
          <a:xfrm>
            <a:off x="304920" y="898560"/>
            <a:ext cx="3962160" cy="5959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Users\Пользователь\Desktop\соль крас и картотеки (3)\P_20210208_101917.jpg"/>
          <p:cNvPicPr/>
          <p:nvPr/>
        </p:nvPicPr>
        <p:blipFill>
          <a:blip r:embed="rId2"/>
          <a:stretch/>
        </p:blipFill>
        <p:spPr>
          <a:xfrm>
            <a:off x="5029200" y="800280"/>
            <a:ext cx="378612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Пользователь\Pictures\мой внучок\соль4.jpeg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Пользователь\Desktop\соль крас и картотеки (3)\P_20210208_102545.jpg"/>
          <p:cNvPicPr/>
          <p:nvPr/>
        </p:nvPicPr>
        <p:blipFill>
          <a:blip r:embed="rId1"/>
          <a:stretch/>
        </p:blipFill>
        <p:spPr>
          <a:xfrm>
            <a:off x="685800" y="152280"/>
            <a:ext cx="76960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ип проекта: 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 направленности - познавательно-исследовательский, творческий, групповой.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 продолжительности-краткосрочный . 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рок реализации с 01.02.21 по 11.02.21                                                                                       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Из цветной соли дети делали сувениры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Picture 2" descr="C:\Users\Пользователь\Desktop\цветная соль\P_20210209_102903.jpg"/>
          <p:cNvPicPr/>
          <p:nvPr/>
        </p:nvPicPr>
        <p:blipFill>
          <a:blip r:embed="rId1"/>
          <a:stretch/>
        </p:blipFill>
        <p:spPr>
          <a:xfrm>
            <a:off x="457200" y="685800"/>
            <a:ext cx="3633840" cy="6172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Пользователь\Desktop\цветная соль\P_20210209_104733.jpg"/>
          <p:cNvPicPr/>
          <p:nvPr/>
        </p:nvPicPr>
        <p:blipFill>
          <a:blip r:embed="rId2"/>
          <a:stretch/>
        </p:blipFill>
        <p:spPr>
          <a:xfrm>
            <a:off x="5105520" y="738360"/>
            <a:ext cx="373356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Пользователь\Desktop\цветная соль\P_20210209_104550.jpg"/>
          <p:cNvPicPr/>
          <p:nvPr/>
        </p:nvPicPr>
        <p:blipFill>
          <a:blip r:embed="rId1"/>
          <a:stretch/>
        </p:blipFill>
        <p:spPr>
          <a:xfrm>
            <a:off x="185760" y="304920"/>
            <a:ext cx="4005360" cy="6553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Пользователь\Desktop\цветная соль\P_20210209_105603.jpg"/>
          <p:cNvPicPr/>
          <p:nvPr/>
        </p:nvPicPr>
        <p:blipFill>
          <a:blip r:embed="rId2"/>
          <a:stretch/>
        </p:blipFill>
        <p:spPr>
          <a:xfrm>
            <a:off x="5105520" y="304920"/>
            <a:ext cx="382752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Эффект «Мертвого моря»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Picture 2" descr="C:\Users\Пользователь\Desktop\проект про соль\P_20210201_110106.jpg"/>
          <p:cNvPicPr/>
          <p:nvPr/>
        </p:nvPicPr>
        <p:blipFill>
          <a:blip r:embed="rId1"/>
          <a:stretch/>
        </p:blipFill>
        <p:spPr>
          <a:xfrm>
            <a:off x="380880" y="1181160"/>
            <a:ext cx="4419720" cy="5524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Пользователь\Desktop\проект про соль\P_20210201_105940.jpg"/>
          <p:cNvPicPr/>
          <p:nvPr/>
        </p:nvPicPr>
        <p:blipFill>
          <a:blip r:embed="rId2"/>
          <a:stretch/>
        </p:blipFill>
        <p:spPr>
          <a:xfrm>
            <a:off x="5257800" y="1187280"/>
            <a:ext cx="386712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9064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А если снег посыпать солью, он быстрее растает?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Дети проверяют эту гипотезу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Picture 2" descr="C:\Users\Пользователь\Desktop\проект про соль\P_20210201_104529.jpg"/>
          <p:cNvPicPr/>
          <p:nvPr/>
        </p:nvPicPr>
        <p:blipFill>
          <a:blip r:embed="rId1"/>
          <a:stretch/>
        </p:blipFill>
        <p:spPr>
          <a:xfrm>
            <a:off x="228600" y="1066680"/>
            <a:ext cx="4518000" cy="579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C:\Users\Пользователь\Desktop\проект про соль\P_20210201_104337.jpg"/>
          <p:cNvPicPr/>
          <p:nvPr/>
        </p:nvPicPr>
        <p:blipFill>
          <a:blip r:embed="rId2"/>
          <a:stretch/>
        </p:blipFill>
        <p:spPr>
          <a:xfrm>
            <a:off x="5029200" y="1050840"/>
            <a:ext cx="396252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амым интересным для детей стал эксперимент по выращиванию кристаллов. Дети проводили эксперименты самостоятельно и с помощью взрослых, следуя чётким инструкциям.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Picture 2" descr="C:\Users\Пользователь\Desktop\проект про соль\P_20210129_112608.jpg"/>
          <p:cNvPicPr/>
          <p:nvPr/>
        </p:nvPicPr>
        <p:blipFill>
          <a:blip r:embed="rId1"/>
          <a:stretch/>
        </p:blipFill>
        <p:spPr>
          <a:xfrm>
            <a:off x="457200" y="1933560"/>
            <a:ext cx="3733920" cy="4848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Users\Пользователь\Desktop\проект про соль\P_20210129_112032.jpg"/>
          <p:cNvPicPr/>
          <p:nvPr/>
        </p:nvPicPr>
        <p:blipFill>
          <a:blip r:embed="rId2"/>
          <a:stretch/>
        </p:blipFill>
        <p:spPr>
          <a:xfrm>
            <a:off x="5029200" y="1981080"/>
            <a:ext cx="3591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Пользователь\Desktop\проект про соль\P_20210129_112254.jpg"/>
          <p:cNvPicPr/>
          <p:nvPr/>
        </p:nvPicPr>
        <p:blipFill>
          <a:blip r:embed="rId1"/>
          <a:stretch/>
        </p:blipFill>
        <p:spPr>
          <a:xfrm>
            <a:off x="457200" y="152280"/>
            <a:ext cx="2962440" cy="4114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Users\Пользователь\Desktop\проект про соль\P_20210129_112551.jpg"/>
          <p:cNvPicPr/>
          <p:nvPr/>
        </p:nvPicPr>
        <p:blipFill>
          <a:blip r:embed="rId2"/>
          <a:stretch/>
        </p:blipFill>
        <p:spPr>
          <a:xfrm>
            <a:off x="5638680" y="152280"/>
            <a:ext cx="3124440" cy="4097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C:\Users\Пользователь\Desktop\проект про соль\P_20210129_111516.jpg"/>
          <p:cNvPicPr/>
          <p:nvPr/>
        </p:nvPicPr>
        <p:blipFill>
          <a:blip r:embed="rId3"/>
          <a:stretch/>
        </p:blipFill>
        <p:spPr>
          <a:xfrm>
            <a:off x="990720" y="3048120"/>
            <a:ext cx="3200400" cy="3809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:\Users\Пользователь\Desktop\проект про соль\P_20210129_112645.jpg"/>
          <p:cNvPicPr/>
          <p:nvPr/>
        </p:nvPicPr>
        <p:blipFill>
          <a:blip r:embed="rId4"/>
          <a:stretch/>
        </p:blipFill>
        <p:spPr>
          <a:xfrm>
            <a:off x="4419720" y="3048120"/>
            <a:ext cx="327636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Наблюдаем, как подрастают кристаллы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Picture 2" descr="C:\Users\Пользователь\Desktop\P_20210210_154407.jpg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Узнали, что с помощью соли можно почистить посуду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9" name="Picture 2" descr="C:\Users\Пользователь\Desktop\проект про соль\P_20210202_115817.jpg"/>
          <p:cNvPicPr/>
          <p:nvPr/>
        </p:nvPicPr>
        <p:blipFill>
          <a:blip r:embed="rId1"/>
          <a:stretch/>
        </p:blipFill>
        <p:spPr>
          <a:xfrm>
            <a:off x="380880" y="1303200"/>
            <a:ext cx="3527640" cy="5554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Users\Пользователь\Desktop\проект про соль\P_20210202_115900.jpg"/>
          <p:cNvPicPr/>
          <p:nvPr/>
        </p:nvPicPr>
        <p:blipFill>
          <a:blip r:embed="rId2"/>
          <a:stretch/>
        </p:blipFill>
        <p:spPr>
          <a:xfrm>
            <a:off x="5105520" y="1295280"/>
            <a:ext cx="3655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 процессе исследовательской деятельности дети уверенно и с интересом  выполняли опыты, наблюдали, удивлялись увиденному, делали выводы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2" name="Picture 2" descr="C:\Users\Пользователь\Desktop\цветная соль\P_20210209_102617.jpg"/>
          <p:cNvPicPr/>
          <p:nvPr/>
        </p:nvPicPr>
        <p:blipFill>
          <a:blip r:embed="rId1"/>
          <a:stretch/>
        </p:blipFill>
        <p:spPr>
          <a:xfrm>
            <a:off x="38160" y="1676520"/>
            <a:ext cx="2628720" cy="4419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Users\Пользователь\Desktop\проект про соль\P_20210201_105649.jpg"/>
          <p:cNvPicPr/>
          <p:nvPr/>
        </p:nvPicPr>
        <p:blipFill>
          <a:blip r:embed="rId2"/>
          <a:stretch/>
        </p:blipFill>
        <p:spPr>
          <a:xfrm>
            <a:off x="6110280" y="1676520"/>
            <a:ext cx="3033720" cy="4419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C:\Users\Пользователь\Desktop\проект про соль\P_20210202_114123.jpg"/>
          <p:cNvPicPr/>
          <p:nvPr/>
        </p:nvPicPr>
        <p:blipFill>
          <a:blip r:embed="rId3"/>
          <a:stretch/>
        </p:blipFill>
        <p:spPr>
          <a:xfrm>
            <a:off x="2971800" y="1676520"/>
            <a:ext cx="2805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3. Заключительный этап -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родуктом нашего проекта стало рисование картин при помощи соли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6" name="Picture 4" descr="C:\Users\Пользователь\Desktop\P_20210210_134033.jpg"/>
          <p:cNvPicPr/>
          <p:nvPr/>
        </p:nvPicPr>
        <p:blipFill>
          <a:blip r:embed="rId1"/>
          <a:stretch/>
        </p:blipFill>
        <p:spPr>
          <a:xfrm>
            <a:off x="914400" y="1828800"/>
            <a:ext cx="7696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Участники проект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ти старшей группы «Радуга» компенсирующей направлен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дител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дагоги группы: Стародубцева Е.Г., Шаповалова О.С., Шушпанова Е.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Users\Пользователь\Pictures\мой внучок\соль2.jpeg"/>
          <p:cNvPicPr/>
          <p:nvPr/>
        </p:nvPicPr>
        <p:blipFill>
          <a:blip r:embed="rId1"/>
          <a:stretch/>
        </p:blipFill>
        <p:spPr>
          <a:xfrm>
            <a:off x="304920" y="380880"/>
            <a:ext cx="4190760" cy="5639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Users\Пользователь\Pictures\мой внучок\соль3.jpeg"/>
          <p:cNvPicPr/>
          <p:nvPr/>
        </p:nvPicPr>
        <p:blipFill>
          <a:blip r:embed="rId2"/>
          <a:stretch/>
        </p:blipFill>
        <p:spPr>
          <a:xfrm>
            <a:off x="4648320" y="380880"/>
            <a:ext cx="42289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Обогащение опытно-экспериментальной лаборатории образцами сол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0" name="Picture 2" descr="C:\Users\Пользователь\Desktop\P_20210210_135645.jpg"/>
          <p:cNvPicPr/>
          <p:nvPr/>
        </p:nvPicPr>
        <p:blipFill>
          <a:blip r:embed="rId1"/>
          <a:stretch/>
        </p:blipFill>
        <p:spPr>
          <a:xfrm>
            <a:off x="457200" y="1600200"/>
            <a:ext cx="3505320" cy="5257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Пользователь\Desktop\P_20210210_135618.jpg"/>
          <p:cNvPicPr/>
          <p:nvPr/>
        </p:nvPicPr>
        <p:blipFill>
          <a:blip r:embed="rId2"/>
          <a:stretch/>
        </p:blipFill>
        <p:spPr>
          <a:xfrm>
            <a:off x="5257800" y="1650960"/>
            <a:ext cx="34815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- Выращивание кристаллов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3" name="Picture 2" descr="C:\Users\Пользователь\Desktop\P_20210210_161759.jpg"/>
          <p:cNvPicPr/>
          <p:nvPr/>
        </p:nvPicPr>
        <p:blipFill>
          <a:blip r:embed="rId1"/>
          <a:stretch/>
        </p:blipFill>
        <p:spPr>
          <a:xfrm>
            <a:off x="19080" y="838080"/>
            <a:ext cx="3386160" cy="6019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C:\Users\Пользователь\Pictures\мой внучок\соль6.jpeg"/>
          <p:cNvPicPr/>
          <p:nvPr/>
        </p:nvPicPr>
        <p:blipFill>
          <a:blip r:embed="rId2"/>
          <a:stretch/>
        </p:blipFill>
        <p:spPr>
          <a:xfrm>
            <a:off x="4648320" y="838080"/>
            <a:ext cx="4467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–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Изготовление сувениров из  цветной соли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6" name="Picture 4" descr="C:\Users\Пользователь\Desktop\P_20210210_135753.jpg"/>
          <p:cNvPicPr/>
          <p:nvPr/>
        </p:nvPicPr>
        <p:blipFill>
          <a:blip r:embed="rId1"/>
          <a:stretch/>
        </p:blipFill>
        <p:spPr>
          <a:xfrm>
            <a:off x="1752480" y="533520"/>
            <a:ext cx="556272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- Создание альбомов «Использование соли»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одителями совместно с детьми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8" name="Picture 4" descr="C:\Users\Пользователь\Desktop\P_20210210_133705.jpg"/>
          <p:cNvPicPr/>
          <p:nvPr/>
        </p:nvPicPr>
        <p:blipFill>
          <a:blip r:embed="rId1"/>
          <a:stretch/>
        </p:blipFill>
        <p:spPr>
          <a:xfrm>
            <a:off x="1219320" y="1549440"/>
            <a:ext cx="61722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Также родители рассказали и показали детям, что соль можно использовать не только на кухне, но и в быту: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0" name="Picture 4" descr="https://s.zefirka.net/images/2019-10-04/skrytaya-polza-soli-v-bytu/skrytaya-polza-soli-v-bytu-8.jpg"/>
          <p:cNvPicPr/>
          <p:nvPr/>
        </p:nvPicPr>
        <p:blipFill>
          <a:blip r:embed="rId1"/>
          <a:stretch/>
        </p:blipFill>
        <p:spPr>
          <a:xfrm>
            <a:off x="228600" y="1655640"/>
            <a:ext cx="3276720" cy="2109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https://i.ytimg.com/vi/vYLRilXK53g/hqdefault.jpg"/>
          <p:cNvPicPr/>
          <p:nvPr/>
        </p:nvPicPr>
        <p:blipFill>
          <a:blip r:embed="rId2"/>
          <a:stretch/>
        </p:blipFill>
        <p:spPr>
          <a:xfrm>
            <a:off x="5394240" y="396252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https://avatars.mds.yandex.net/get-zen_doc/30884/pub_5c5ea38956acc900ad343dfa_5c5ea4da32d0ad00b20c8b0b/scale_1200"/>
          <p:cNvPicPr/>
          <p:nvPr/>
        </p:nvPicPr>
        <p:blipFill>
          <a:blip r:embed="rId3"/>
          <a:stretch/>
        </p:blipFill>
        <p:spPr>
          <a:xfrm>
            <a:off x="3733920" y="1671480"/>
            <a:ext cx="2361960" cy="2094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https://media2.24aul.ru/imgs/5b21b7876241400001ed0966/"/>
          <p:cNvPicPr/>
          <p:nvPr/>
        </p:nvPicPr>
        <p:blipFill>
          <a:blip r:embed="rId4"/>
          <a:stretch/>
        </p:blipFill>
        <p:spPr>
          <a:xfrm>
            <a:off x="6324480" y="1655640"/>
            <a:ext cx="2362320" cy="2109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https://avatars.mds.yandex.net/get-zen_doc/3518430/pub_5f6067cb5622142b939ed453_5f6067ec8b0f2342e53c2e2d/scale_1200"/>
          <p:cNvPicPr/>
          <p:nvPr/>
        </p:nvPicPr>
        <p:blipFill>
          <a:blip r:embed="rId5"/>
          <a:stretch/>
        </p:blipFill>
        <p:spPr>
          <a:xfrm>
            <a:off x="228600" y="3938760"/>
            <a:ext cx="49528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Users\Пользователь\Pictures\мой внучок\про сль1.jpeg"/>
          <p:cNvPicPr/>
          <p:nvPr/>
        </p:nvPicPr>
        <p:blipFill>
          <a:blip r:embed="rId1"/>
          <a:stretch/>
        </p:blipFill>
        <p:spPr>
          <a:xfrm>
            <a:off x="14400" y="0"/>
            <a:ext cx="448128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Пользователь\Pictures\мой внучок\про соль.jpeg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Изготовление альбома «Удивительная соль»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и картотеки проведения опытов с солью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3733560" cy="4952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4191120" y="1447920"/>
            <a:ext cx="4724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ывод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В группе созданы условия для формирования у детей желания самостоятельно познавать окружающий мир, находить ответы на свои вопросы в процессе исследовательской деятельно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дети выяснили, что такое соль, каким образом она попадает к нам на стол, узнали много нового об особенностях соли, ее свойствах, качествах, способах добыч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самостоятельно  провели много интересных опытов, вырастили кристалл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у детей существенно повысился познавательный интерес; дети стали лучше анализировать, обобщать, делать вывод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дети умеют работать в  сотрудничестве со сверстниками и взрослы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Литератур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нциклопедии :                                       «Все обо всем»;                                                 «Я познаю мир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.В. Рыжова «Методика детского экспериментирования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.В. Исакова «Развитие познавательных процессов у старших дошкольников через экспериментальную деятельность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КТ – слайды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тернет ресурс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ь проект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здание условий для формирования у детей желания самостоятельно познавать окружающий мир, находить ответы на свои вопросы в процессе исследовательской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комство ребят  с необычными свойствами соли, и ее применением в быт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140981444"/>
          <p:cNvPicPr/>
          <p:nvPr/>
        </p:nvPicPr>
        <p:blipFill>
          <a:blip r:embed="rId1"/>
          <a:stretch/>
        </p:blipFill>
        <p:spPr>
          <a:xfrm>
            <a:off x="1676520" y="2654280"/>
            <a:ext cx="5333760" cy="2720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241575981"/>
          <p:cNvPicPr/>
          <p:nvPr/>
        </p:nvPicPr>
        <p:blipFill>
          <a:blip r:embed="rId2"/>
          <a:stretch/>
        </p:blipFill>
        <p:spPr>
          <a:xfrm>
            <a:off x="7315200" y="1079640"/>
            <a:ext cx="1600200" cy="1358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241575981"/>
          <p:cNvPicPr/>
          <p:nvPr/>
        </p:nvPicPr>
        <p:blipFill>
          <a:blip r:embed="rId3"/>
          <a:stretch/>
        </p:blipFill>
        <p:spPr>
          <a:xfrm>
            <a:off x="6438960" y="1909800"/>
            <a:ext cx="1752480" cy="1488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241575981"/>
          <p:cNvPicPr/>
          <p:nvPr/>
        </p:nvPicPr>
        <p:blipFill>
          <a:blip r:embed="rId4"/>
          <a:stretch/>
        </p:blipFill>
        <p:spPr>
          <a:xfrm>
            <a:off x="380880" y="3902040"/>
            <a:ext cx="2133720" cy="1812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241575981"/>
          <p:cNvPicPr/>
          <p:nvPr/>
        </p:nvPicPr>
        <p:blipFill>
          <a:blip r:embed="rId5"/>
          <a:stretch/>
        </p:blipFill>
        <p:spPr>
          <a:xfrm>
            <a:off x="7315200" y="4541760"/>
            <a:ext cx="1828800" cy="1554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241575981"/>
          <p:cNvPicPr/>
          <p:nvPr/>
        </p:nvPicPr>
        <p:blipFill>
          <a:blip r:embed="rId6"/>
          <a:stretch/>
        </p:blipFill>
        <p:spPr>
          <a:xfrm>
            <a:off x="3505320" y="5684760"/>
            <a:ext cx="1380960" cy="1173240"/>
          </a:xfrm>
          <a:prstGeom prst="rect">
            <a:avLst/>
          </a:prstGeom>
          <a:ln w="0">
            <a:noFill/>
          </a:ln>
        </p:spPr>
      </p:pic>
      <p:sp>
        <p:nvSpPr>
          <p:cNvPr id="150" name="WordArt 19"/>
          <p:cNvSpPr txBox="1"/>
          <p:nvPr/>
        </p:nvSpPr>
        <p:spPr>
          <a:xfrm>
            <a:off x="1676520" y="685800"/>
            <a:ext cx="5943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20"/>
          <p:cNvSpPr txBox="1"/>
          <p:nvPr/>
        </p:nvSpPr>
        <p:spPr>
          <a:xfrm>
            <a:off x="1828800" y="5486400"/>
            <a:ext cx="5410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Мы полюбили соль, а вы?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дачи проект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яснить, что такое соль, какая она бывает, откуда берется, насколько она важна для челове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имулировать познавательный интерес дет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следовать свойства и качества разного вида соли опытным путе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группе вырастить кристаллы сол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вать умение детей работать в коллективе, желание делиться информацией, участвовать в совместной опытно-экспериментальной  и творческой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ктуаль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56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–то в группе перед обедом на тарелочку с нарезанным луком и чесноком мы положили соль. Ребята, заметив это, спросили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«Зачем вы положили соль?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«А как вы думаете?» -спросили м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и говорили свои вариант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«А вы хотите побольше узнать о соли?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т так и началась работа над нашим  проектом :«Соль-знакомая незнакомк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жидаемые результат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Расширить знания детей о соли, её основных признаках, свойствах, местах добычи, об  использовании соли человек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Формирование знаний, навыков экспериментирования, повышение уровня усвоения программного материа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Пополнение предметно-развивающей среды: обогащение опытно-экспериментальной лаборатории, создание картотеки опытов, загадок, пословиц о со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Развитие наблюдательности, внимания,  умения сравнив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борудование для проведения проект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орудование и материалы для проведения опытов: лупы, прозрачные баночки, стаканчики, ложки , соль, воронки, деревянные палочки, яйца, снег, вода, гуаш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териал для рисования:  альбом для рисования, соль, клей ПВА, цветная со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КТ- слай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Этапы работы над проектом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1.</a:t>
            </a: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Подготовительный этап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вместно с детьми мы обсудили план деятельности с использованием метода трех вопросов. Информировали родителей о предстоящем проекте. Подбирали с помощью родителей информацию,  наглядно-иллюстративный материал, видеоматериалы, литературу по теме исследования (справочники, энциклопедии, интернет и т.д 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105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работали занятия и план мероприятий по теме проекта. Пополнили картотеку пословиц, стихов, загадок  о соли. Подобрали и изготовили материалы для осуществления продуктивной деятельности, создали картотеку опытов с солью. Родители приняли участие в сборе материалов для создания коллекции видов со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cp:lastPrinted>2021-02-11T20:00:59Z</cp:lastPrinted>
  <dcterms:modified xsi:type="dcterms:W3CDTF">2021-02-12T04:16:21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8200000000000010291210207f7000400038000</vt:lpwstr>
  </property>
  <property fmtid="{D5CDD505-2E9C-101B-9397-08002B2CF9AE}" pid="3" name="Version">
    <vt:r8>1</vt:r8>
  </property>
</Properties>
</file>