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60.jpeg" ContentType="image/jpeg"/>
  <Override PartName="/ppt/media/image61.gif" ContentType="image/gif"/>
  <Override PartName="/ppt/media/image14.jpeg" ContentType="image/jpeg"/>
  <Override PartName="/ppt/media/image41.jpeg" ContentType="image/jpeg"/>
  <Override PartName="/ppt/media/image20.jpeg" ContentType="image/jpeg"/>
  <Override PartName="/ppt/media/image15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643-02C5-4434-BF9D-B884D8BB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06C-499F-4387-AE2E-2ACC9EF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584-BAE0-4503-BAE2-941E1D21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8E2-4BEF-4AD8-8E2C-106D57CC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7DA-9D23-4C24-B548-3025665C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EC3-CC54-49A3-9684-8DF01B6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816-6C4F-47E5-AFA6-52FE18A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65D-AE99-43EF-89C2-421363ED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7C2-0FE3-486C-8F9D-16D52891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65E-26B5-41AD-8755-FB925C0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EEF-6F54-4884-8C03-CF96858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DE7-BC19-4EB0-B707-4C403CA9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829F-1E03-4163-A6F0-123448A152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роект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«Соль – знакомая незнакомка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Пользователь\Desktop\соль крас и картотеки (3)\P_20210208_131733.jpg"/>
          <p:cNvPicPr/>
          <p:nvPr/>
        </p:nvPicPr>
        <p:blipFill>
          <a:blip r:embed="rId1"/>
          <a:stretch/>
        </p:blipFill>
        <p:spPr>
          <a:xfrm>
            <a:off x="457200" y="228600"/>
            <a:ext cx="3886200" cy="650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Пользователь\Desktop\соль крас и картотеки (3)\P_20210208_093923.jpg"/>
          <p:cNvPicPr/>
          <p:nvPr/>
        </p:nvPicPr>
        <p:blipFill>
          <a:blip r:embed="rId2"/>
          <a:stretch/>
        </p:blipFill>
        <p:spPr>
          <a:xfrm>
            <a:off x="4876920" y="228600"/>
            <a:ext cx="3886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Пользователь\Desktop\соль крас и картотеки (3)\IMG-916d738c09f2cd04a429535d817621ef-V.jpg"/>
          <p:cNvPicPr/>
          <p:nvPr/>
        </p:nvPicPr>
        <p:blipFill>
          <a:blip r:embed="rId1"/>
          <a:stretch/>
        </p:blipFill>
        <p:spPr>
          <a:xfrm>
            <a:off x="152280" y="138240"/>
            <a:ext cx="4724640" cy="670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Пользователь\Desktop\соль крас и картотеки (3)\P_20210208_132230.jpg"/>
          <p:cNvPicPr/>
          <p:nvPr/>
        </p:nvPicPr>
        <p:blipFill>
          <a:blip r:embed="rId2"/>
          <a:stretch/>
        </p:blipFill>
        <p:spPr>
          <a:xfrm>
            <a:off x="5029200" y="152280"/>
            <a:ext cx="393876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2" descr="C:\Users\Пользователь\Desktop\соль крас и картотеки (3)\P_20210208_132405.jpg"/>
          <p:cNvPicPr/>
          <p:nvPr/>
        </p:nvPicPr>
        <p:blipFill>
          <a:blip r:embed="rId1"/>
          <a:stretch/>
        </p:blipFill>
        <p:spPr>
          <a:xfrm>
            <a:off x="228600" y="152280"/>
            <a:ext cx="4267080" cy="650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ользователь\Desktop\соль крас и картотеки (3)\P_20210208_132209.jpg"/>
          <p:cNvPicPr/>
          <p:nvPr/>
        </p:nvPicPr>
        <p:blipFill>
          <a:blip r:embed="rId2"/>
          <a:stretch/>
        </p:blipFill>
        <p:spPr>
          <a:xfrm>
            <a:off x="4648320" y="160200"/>
            <a:ext cx="434340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 карте дети находят города, где добывают соль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2" descr="C:\Users\Пользователь\Desktop\соль крас и картотеки (3)\P_20210208_093639.jpg"/>
          <p:cNvPicPr/>
          <p:nvPr/>
        </p:nvPicPr>
        <p:blipFill>
          <a:blip r:embed="rId1"/>
          <a:stretch/>
        </p:blipFill>
        <p:spPr>
          <a:xfrm>
            <a:off x="311040" y="1066680"/>
            <a:ext cx="3880080" cy="579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Пользователь\Desktop\соль крас и картотеки (3)\P_20210208_093541.jpg"/>
          <p:cNvPicPr/>
          <p:nvPr/>
        </p:nvPicPr>
        <p:blipFill>
          <a:blip r:embed="rId2"/>
          <a:stretch/>
        </p:blipFill>
        <p:spPr>
          <a:xfrm>
            <a:off x="4952880" y="1066680"/>
            <a:ext cx="38862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Основной этап.                                                                                                                Опытно-экспериментальная деяте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2" descr="C:\Users\Пользователь\Desktop\проект про соль\P_20210202_103346.jpg"/>
          <p:cNvPicPr/>
          <p:nvPr/>
        </p:nvPicPr>
        <p:blipFill>
          <a:blip r:embed="rId1"/>
          <a:stretch/>
        </p:blipFill>
        <p:spPr>
          <a:xfrm>
            <a:off x="762120" y="2133720"/>
            <a:ext cx="3176640" cy="4419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мотрели презентацию о добыче соли и применении её в разных област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отрели  соль через лупу и выяснили, что соль бывает разная (мелкая, крупная, очищенная, каменная, поваренная). Отгадывали загадки. Читали статьи о  том, какую роль играла соль в средние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начала мы изучили свойства соли. Для этого провели опыты и выяснили, что соль белого цвета, не имеет запаха, при нажатии скрипит как снег, сыпучая, растворяется  в тёплой воде быстрее, чем в холодной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2" descr="C:\Users\Пользователь\Desktop\проект про соль\P_20210202_112955.jpg"/>
          <p:cNvPicPr/>
          <p:nvPr/>
        </p:nvPicPr>
        <p:blipFill>
          <a:blip r:embed="rId1"/>
          <a:stretch/>
        </p:blipFill>
        <p:spPr>
          <a:xfrm>
            <a:off x="4114800" y="472428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Пользователь\Desktop\проект про соль\P_20210202_113004.jpg"/>
          <p:cNvPicPr/>
          <p:nvPr/>
        </p:nvPicPr>
        <p:blipFill>
          <a:blip r:embed="rId2"/>
          <a:stretch/>
        </p:blipFill>
        <p:spPr>
          <a:xfrm>
            <a:off x="3657600" y="1676520"/>
            <a:ext cx="280512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Пользователь\Desktop\проект про соль\P_20210202_113020.jpg"/>
          <p:cNvPicPr/>
          <p:nvPr/>
        </p:nvPicPr>
        <p:blipFill>
          <a:blip r:embed="rId3"/>
          <a:stretch/>
        </p:blipFill>
        <p:spPr>
          <a:xfrm>
            <a:off x="6705720" y="4724280"/>
            <a:ext cx="207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Пользователь\Desktop\проект про соль\P_20210202_113118.jpg"/>
          <p:cNvPicPr/>
          <p:nvPr/>
        </p:nvPicPr>
        <p:blipFill>
          <a:blip r:embed="rId4"/>
          <a:stretch/>
        </p:blipFill>
        <p:spPr>
          <a:xfrm>
            <a:off x="6553080" y="1676520"/>
            <a:ext cx="243864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s://marianablog.ru/wp-content/uploads/2018/10/178-900-1024x1024.jpg"/>
          <p:cNvPicPr/>
          <p:nvPr/>
        </p:nvPicPr>
        <p:blipFill>
          <a:blip r:embed="rId5"/>
          <a:stretch/>
        </p:blipFill>
        <p:spPr>
          <a:xfrm>
            <a:off x="76320" y="1905120"/>
            <a:ext cx="327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водили опыты со снегом: в какой воде быстрее растает снег, в пресной или солен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2" descr="C:\Users\Пользователь\Desktop\проект про соль\P_20210201_104300.jpg"/>
          <p:cNvPicPr/>
          <p:nvPr/>
        </p:nvPicPr>
        <p:blipFill>
          <a:blip r:embed="rId1"/>
          <a:stretch/>
        </p:blipFill>
        <p:spPr>
          <a:xfrm>
            <a:off x="228600" y="1295280"/>
            <a:ext cx="3065400" cy="472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Пользователь\Desktop\проект про соль\P_20210201_103240.jpg"/>
          <p:cNvPicPr/>
          <p:nvPr/>
        </p:nvPicPr>
        <p:blipFill>
          <a:blip r:embed="rId2"/>
          <a:stretch/>
        </p:blipFill>
        <p:spPr>
          <a:xfrm>
            <a:off x="5867280" y="1219320"/>
            <a:ext cx="3110040" cy="4724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681360" y="1143000"/>
            <a:ext cx="182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ытным путем, выяснили, что снег тает быстрее в соленой в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А вы знаете почему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тому, что у соленой воды плотность больше и теплопроводность вы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крашивали соль гуашью разного цвет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2" descr="C:\Users\Пользователь\Desktop\соль крас и картотеки (3)\P_20210208_101911.jpg"/>
          <p:cNvPicPr/>
          <p:nvPr/>
        </p:nvPicPr>
        <p:blipFill>
          <a:blip r:embed="rId1"/>
          <a:stretch/>
        </p:blipFill>
        <p:spPr>
          <a:xfrm>
            <a:off x="304920" y="898560"/>
            <a:ext cx="3962160" cy="595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Пользователь\Desktop\соль крас и картотеки (3)\P_20210208_101917.jpg"/>
          <p:cNvPicPr/>
          <p:nvPr/>
        </p:nvPicPr>
        <p:blipFill>
          <a:blip r:embed="rId2"/>
          <a:stretch/>
        </p:blipFill>
        <p:spPr>
          <a:xfrm>
            <a:off x="5029200" y="800280"/>
            <a:ext cx="37861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Пользователь\Pictures\мой внучок\соль4.jpeg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Пользователь\Desktop\соль крас и картотеки (3)\P_20210208_102545.jpg"/>
          <p:cNvPicPr/>
          <p:nvPr/>
        </p:nvPicPr>
        <p:blipFill>
          <a:blip r:embed="rId1"/>
          <a:stretch/>
        </p:blipFill>
        <p:spPr>
          <a:xfrm>
            <a:off x="685800" y="152280"/>
            <a:ext cx="76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ип проекта: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 направленности - познавательно-исследовательский, творческий, групповой.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 продолжительности-краткосрочный .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ок реализации с 01.02.21 по 11.02.21                                                                                       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з цветной соли дети делали сувенир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2" descr="C:\Users\Пользователь\Desktop\цветная соль\P_20210209_102903.jpg"/>
          <p:cNvPicPr/>
          <p:nvPr/>
        </p:nvPicPr>
        <p:blipFill>
          <a:blip r:embed="rId1"/>
          <a:stretch/>
        </p:blipFill>
        <p:spPr>
          <a:xfrm>
            <a:off x="457200" y="685800"/>
            <a:ext cx="3633840" cy="617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Пользователь\Desktop\цветная соль\P_20210209_104733.jpg"/>
          <p:cNvPicPr/>
          <p:nvPr/>
        </p:nvPicPr>
        <p:blipFill>
          <a:blip r:embed="rId2"/>
          <a:stretch/>
        </p:blipFill>
        <p:spPr>
          <a:xfrm>
            <a:off x="5105520" y="738360"/>
            <a:ext cx="37335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Пользователь\Desktop\цветная соль\P_20210209_104550.jpg"/>
          <p:cNvPicPr/>
          <p:nvPr/>
        </p:nvPicPr>
        <p:blipFill>
          <a:blip r:embed="rId1"/>
          <a:stretch/>
        </p:blipFill>
        <p:spPr>
          <a:xfrm>
            <a:off x="185760" y="304920"/>
            <a:ext cx="4005360" cy="655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Пользователь\Desktop\цветная соль\P_20210209_105603.jpg"/>
          <p:cNvPicPr/>
          <p:nvPr/>
        </p:nvPicPr>
        <p:blipFill>
          <a:blip r:embed="rId2"/>
          <a:stretch/>
        </p:blipFill>
        <p:spPr>
          <a:xfrm>
            <a:off x="5105520" y="304920"/>
            <a:ext cx="38275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ффект «Мертвого моря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2" descr="C:\Users\Пользователь\Desktop\проект про соль\P_20210201_110106.jpg"/>
          <p:cNvPicPr/>
          <p:nvPr/>
        </p:nvPicPr>
        <p:blipFill>
          <a:blip r:embed="rId1"/>
          <a:stretch/>
        </p:blipFill>
        <p:spPr>
          <a:xfrm>
            <a:off x="380880" y="1181160"/>
            <a:ext cx="4419720" cy="552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Пользователь\Desktop\проект про соль\P_20210201_105940.jpg"/>
          <p:cNvPicPr/>
          <p:nvPr/>
        </p:nvPicPr>
        <p:blipFill>
          <a:blip r:embed="rId2"/>
          <a:stretch/>
        </p:blipFill>
        <p:spPr>
          <a:xfrm>
            <a:off x="5257800" y="1187280"/>
            <a:ext cx="38671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064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 если снег посыпать солью, он быстрее растает?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ти проверяют эту гипотезу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2" descr="C:\Users\Пользователь\Desktop\проект про соль\P_20210201_104529.jpg"/>
          <p:cNvPicPr/>
          <p:nvPr/>
        </p:nvPicPr>
        <p:blipFill>
          <a:blip r:embed="rId1"/>
          <a:stretch/>
        </p:blipFill>
        <p:spPr>
          <a:xfrm>
            <a:off x="228600" y="1066680"/>
            <a:ext cx="4518000" cy="579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Пользователь\Desktop\проект про соль\P_20210201_104337.jpg"/>
          <p:cNvPicPr/>
          <p:nvPr/>
        </p:nvPicPr>
        <p:blipFill>
          <a:blip r:embed="rId2"/>
          <a:stretch/>
        </p:blipFill>
        <p:spPr>
          <a:xfrm>
            <a:off x="5029200" y="1050840"/>
            <a:ext cx="39625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амым интересным для детей стал эксперимент по выращиванию кристаллов. Дети проводили эксперименты самостоятельно и с помощью взрослых, следуя чётким инструкциям.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Picture 2" descr="C:\Users\Пользователь\Desktop\проект про соль\P_20210129_112608.jpg"/>
          <p:cNvPicPr/>
          <p:nvPr/>
        </p:nvPicPr>
        <p:blipFill>
          <a:blip r:embed="rId1"/>
          <a:stretch/>
        </p:blipFill>
        <p:spPr>
          <a:xfrm>
            <a:off x="457200" y="1933560"/>
            <a:ext cx="3733920" cy="48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Пользователь\Desktop\проект про соль\P_20210129_112032.jpg"/>
          <p:cNvPicPr/>
          <p:nvPr/>
        </p:nvPicPr>
        <p:blipFill>
          <a:blip r:embed="rId2"/>
          <a:stretch/>
        </p:blipFill>
        <p:spPr>
          <a:xfrm>
            <a:off x="5029200" y="1981080"/>
            <a:ext cx="359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Пользователь\Desktop\проект про соль\P_20210129_112254.jpg"/>
          <p:cNvPicPr/>
          <p:nvPr/>
        </p:nvPicPr>
        <p:blipFill>
          <a:blip r:embed="rId1"/>
          <a:stretch/>
        </p:blipFill>
        <p:spPr>
          <a:xfrm>
            <a:off x="457200" y="152280"/>
            <a:ext cx="296244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Пользователь\Desktop\проект про соль\P_20210129_112551.jpg"/>
          <p:cNvPicPr/>
          <p:nvPr/>
        </p:nvPicPr>
        <p:blipFill>
          <a:blip r:embed="rId2"/>
          <a:stretch/>
        </p:blipFill>
        <p:spPr>
          <a:xfrm>
            <a:off x="5638680" y="152280"/>
            <a:ext cx="3124440" cy="409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Пользователь\Desktop\проект про соль\P_20210129_111516.jpg"/>
          <p:cNvPicPr/>
          <p:nvPr/>
        </p:nvPicPr>
        <p:blipFill>
          <a:blip r:embed="rId3"/>
          <a:stretch/>
        </p:blipFill>
        <p:spPr>
          <a:xfrm>
            <a:off x="990720" y="304812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Пользователь\Desktop\проект про соль\P_20210129_112645.jpg"/>
          <p:cNvPicPr/>
          <p:nvPr/>
        </p:nvPicPr>
        <p:blipFill>
          <a:blip r:embed="rId4"/>
          <a:stretch/>
        </p:blipFill>
        <p:spPr>
          <a:xfrm>
            <a:off x="4419720" y="3048120"/>
            <a:ext cx="32763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аблюдаем, как подрастают кристалл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2" descr="C:\Users\Пользователь\Desktop\P_20210210_154407.jpg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знали, что с помощью соли можно почистить посуду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Picture 2" descr="C:\Users\Пользователь\Desktop\проект про соль\P_20210202_115817.jpg"/>
          <p:cNvPicPr/>
          <p:nvPr/>
        </p:nvPicPr>
        <p:blipFill>
          <a:blip r:embed="rId1"/>
          <a:stretch/>
        </p:blipFill>
        <p:spPr>
          <a:xfrm>
            <a:off x="380880" y="1303200"/>
            <a:ext cx="3527640" cy="555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Пользователь\Desktop\проект про соль\P_20210202_115900.jpg"/>
          <p:cNvPicPr/>
          <p:nvPr/>
        </p:nvPicPr>
        <p:blipFill>
          <a:blip r:embed="rId2"/>
          <a:stretch/>
        </p:blipFill>
        <p:spPr>
          <a:xfrm>
            <a:off x="5105520" y="1295280"/>
            <a:ext cx="3655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процессе исследовательской деятельности дети уверенно и с интересом  выполняли опыты, наблюдали, удивлялись увиденному, делали вывод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Picture 2" descr="C:\Users\Пользователь\Desktop\цветная соль\P_20210209_102617.jpg"/>
          <p:cNvPicPr/>
          <p:nvPr/>
        </p:nvPicPr>
        <p:blipFill>
          <a:blip r:embed="rId1"/>
          <a:stretch/>
        </p:blipFill>
        <p:spPr>
          <a:xfrm>
            <a:off x="38160" y="1676520"/>
            <a:ext cx="262872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Пользователь\Desktop\проект про соль\P_20210201_105649.jpg"/>
          <p:cNvPicPr/>
          <p:nvPr/>
        </p:nvPicPr>
        <p:blipFill>
          <a:blip r:embed="rId2"/>
          <a:stretch/>
        </p:blipFill>
        <p:spPr>
          <a:xfrm>
            <a:off x="6110280" y="1676520"/>
            <a:ext cx="3033720" cy="441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Пользователь\Desktop\проект про соль\P_20210202_114123.jpg"/>
          <p:cNvPicPr/>
          <p:nvPr/>
        </p:nvPicPr>
        <p:blipFill>
          <a:blip r:embed="rId3"/>
          <a:stretch/>
        </p:blipFill>
        <p:spPr>
          <a:xfrm>
            <a:off x="2971800" y="1676520"/>
            <a:ext cx="2805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лючительный этап -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дуктом нашего проекта стало рисование картин при помощи сол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Picture 4" descr="C:\Users\Пользователь\Desktop\P_20210210_134033.jpg"/>
          <p:cNvPicPr/>
          <p:nvPr/>
        </p:nvPicPr>
        <p:blipFill>
          <a:blip r:embed="rId1"/>
          <a:stretch/>
        </p:blipFill>
        <p:spPr>
          <a:xfrm>
            <a:off x="914400" y="182880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частник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старшей группы «Радуга» компенсирующей направл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дагоги группы: Стародубцева Е.Г., Шаповалова О.С., Шушпанова Е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Пользователь\Pictures\мой внучок\соль2.jpeg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563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Пользователь\Pictures\мой внучок\соль3.jpeg"/>
          <p:cNvPicPr/>
          <p:nvPr/>
        </p:nvPicPr>
        <p:blipFill>
          <a:blip r:embed="rId2"/>
          <a:stretch/>
        </p:blipFill>
        <p:spPr>
          <a:xfrm>
            <a:off x="4648320" y="380880"/>
            <a:ext cx="4228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богащение опытно-экспериментальной лаборатории образцами сол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Picture 2" descr="C:\Users\Пользователь\Desktop\P_20210210_135645.jpg"/>
          <p:cNvPicPr/>
          <p:nvPr/>
        </p:nvPicPr>
        <p:blipFill>
          <a:blip r:embed="rId1"/>
          <a:stretch/>
        </p:blipFill>
        <p:spPr>
          <a:xfrm>
            <a:off x="457200" y="1600200"/>
            <a:ext cx="3505320" cy="525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Пользователь\Desktop\P_20210210_135618.jpg"/>
          <p:cNvPicPr/>
          <p:nvPr/>
        </p:nvPicPr>
        <p:blipFill>
          <a:blip r:embed="rId2"/>
          <a:stretch/>
        </p:blipFill>
        <p:spPr>
          <a:xfrm>
            <a:off x="5257800" y="1650960"/>
            <a:ext cx="3481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- Выращивание кристаллов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Picture 2" descr="C:\Users\Пользователь\Desktop\P_20210210_161759.jpg"/>
          <p:cNvPicPr/>
          <p:nvPr/>
        </p:nvPicPr>
        <p:blipFill>
          <a:blip r:embed="rId1"/>
          <a:stretch/>
        </p:blipFill>
        <p:spPr>
          <a:xfrm>
            <a:off x="19080" y="838080"/>
            <a:ext cx="3386160" cy="601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Пользователь\Pictures\мой внучок\соль6.jpeg"/>
          <p:cNvPicPr/>
          <p:nvPr/>
        </p:nvPicPr>
        <p:blipFill>
          <a:blip r:embed="rId2"/>
          <a:stretch/>
        </p:blipFill>
        <p:spPr>
          <a:xfrm>
            <a:off x="4648320" y="838080"/>
            <a:ext cx="4467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готовление сувениров из  цветной сол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4" descr="C:\Users\Пользователь\Desktop\P_20210210_135753.jpg"/>
          <p:cNvPicPr/>
          <p:nvPr/>
        </p:nvPicPr>
        <p:blipFill>
          <a:blip r:embed="rId1"/>
          <a:stretch/>
        </p:blipFill>
        <p:spPr>
          <a:xfrm>
            <a:off x="1752480" y="533520"/>
            <a:ext cx="55627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- Создание альбомов «Использование соли»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телями совместно с детьми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4" descr="C:\Users\Пользователь\Desktop\P_20210210_133705.jpg"/>
          <p:cNvPicPr/>
          <p:nvPr/>
        </p:nvPicPr>
        <p:blipFill>
          <a:blip r:embed="rId1"/>
          <a:stretch/>
        </p:blipFill>
        <p:spPr>
          <a:xfrm>
            <a:off x="1219320" y="1549440"/>
            <a:ext cx="61722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акже родители рассказали и показали детям, что соль можно использовать не только на кухне, но и в быту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Picture 4" descr="https://s.zefirka.net/images/2019-10-04/skrytaya-polza-soli-v-bytu/skrytaya-polza-soli-v-bytu-8.jpg"/>
          <p:cNvPicPr/>
          <p:nvPr/>
        </p:nvPicPr>
        <p:blipFill>
          <a:blip r:embed="rId1"/>
          <a:stretch/>
        </p:blipFill>
        <p:spPr>
          <a:xfrm>
            <a:off x="228600" y="1655640"/>
            <a:ext cx="3276720" cy="210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s://i.ytimg.com/vi/vYLRilXK53g/hqdefault.jpg"/>
          <p:cNvPicPr/>
          <p:nvPr/>
        </p:nvPicPr>
        <p:blipFill>
          <a:blip r:embed="rId2"/>
          <a:stretch/>
        </p:blipFill>
        <p:spPr>
          <a:xfrm>
            <a:off x="5394240" y="39625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s://avatars.mds.yandex.net/get-zen_doc/30884/pub_5c5ea38956acc900ad343dfa_5c5ea4da32d0ad00b20c8b0b/scale_1200"/>
          <p:cNvPicPr/>
          <p:nvPr/>
        </p:nvPicPr>
        <p:blipFill>
          <a:blip r:embed="rId3"/>
          <a:stretch/>
        </p:blipFill>
        <p:spPr>
          <a:xfrm>
            <a:off x="3733920" y="1671480"/>
            <a:ext cx="2361960" cy="209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ttps://media2.24aul.ru/imgs/5b21b7876241400001ed0966/"/>
          <p:cNvPicPr/>
          <p:nvPr/>
        </p:nvPicPr>
        <p:blipFill>
          <a:blip r:embed="rId4"/>
          <a:stretch/>
        </p:blipFill>
        <p:spPr>
          <a:xfrm>
            <a:off x="6324480" y="1655640"/>
            <a:ext cx="2362320" cy="210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https://avatars.mds.yandex.net/get-zen_doc/3518430/pub_5f6067cb5622142b939ed453_5f6067ec8b0f2342e53c2e2d/scale_1200"/>
          <p:cNvPicPr/>
          <p:nvPr/>
        </p:nvPicPr>
        <p:blipFill>
          <a:blip r:embed="rId5"/>
          <a:stretch/>
        </p:blipFill>
        <p:spPr>
          <a:xfrm>
            <a:off x="228600" y="3938760"/>
            <a:ext cx="4952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Пользователь\Pictures\мой внучок\про сль1.jpeg"/>
          <p:cNvPicPr/>
          <p:nvPr/>
        </p:nvPicPr>
        <p:blipFill>
          <a:blip r:embed="rId1"/>
          <a:stretch/>
        </p:blipFill>
        <p:spPr>
          <a:xfrm>
            <a:off x="14400" y="0"/>
            <a:ext cx="44812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Пользователь\Pictures\мой внучок\про соль.jpe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зготовление альбома «Удивительная соль»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картотеки проведения опытов с солью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733560" cy="495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В группе созданы условия для формирования у детей желания самостоятельно познавать окружающий мир, находить ответы на свои вопросы в процессе исследовательск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дети выяснили, что такое соль, каким образом она попадает к нам на стол, узнали много нового об особенностях соли, ее свойствах, качествах, способах добы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амостоятельно  провели много интересных опытов, вырастили кристалл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у детей существенно повысился познавательный интерес; дети стали лучше анализировать, обобщать, делать выво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дети умеют работать в  сотрудничестве со сверстниками и взрослы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циклопедии :                                       «Все обо всем»;                                                 «Я познаю мир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.В. Рыжова «Методика детского экспериментировани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В. Исакова «Развитие познавательных процессов у старших дошкольников через экспериментальную деятельность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КТ – слайд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условий для формирования у детей желания самостоятельно познавать окружающий мир, находить ответы на свои вопросы в процессе исследователь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комство ребят  с необычными свойствами соли, и ее применением в бы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140981444"/>
          <p:cNvPicPr/>
          <p:nvPr/>
        </p:nvPicPr>
        <p:blipFill>
          <a:blip r:embed="rId1"/>
          <a:stretch/>
        </p:blipFill>
        <p:spPr>
          <a:xfrm>
            <a:off x="1676520" y="2654280"/>
            <a:ext cx="5333760" cy="2720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241575981"/>
          <p:cNvPicPr/>
          <p:nvPr/>
        </p:nvPicPr>
        <p:blipFill>
          <a:blip r:embed="rId2"/>
          <a:stretch/>
        </p:blipFill>
        <p:spPr>
          <a:xfrm>
            <a:off x="7315200" y="1079640"/>
            <a:ext cx="1600200" cy="1358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241575981"/>
          <p:cNvPicPr/>
          <p:nvPr/>
        </p:nvPicPr>
        <p:blipFill>
          <a:blip r:embed="rId3"/>
          <a:stretch/>
        </p:blipFill>
        <p:spPr>
          <a:xfrm>
            <a:off x="6438960" y="1909800"/>
            <a:ext cx="1752480" cy="148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241575981"/>
          <p:cNvPicPr/>
          <p:nvPr/>
        </p:nvPicPr>
        <p:blipFill>
          <a:blip r:embed="rId4"/>
          <a:stretch/>
        </p:blipFill>
        <p:spPr>
          <a:xfrm>
            <a:off x="380880" y="3902040"/>
            <a:ext cx="2133720" cy="1812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241575981"/>
          <p:cNvPicPr/>
          <p:nvPr/>
        </p:nvPicPr>
        <p:blipFill>
          <a:blip r:embed="rId5"/>
          <a:stretch/>
        </p:blipFill>
        <p:spPr>
          <a:xfrm>
            <a:off x="7315200" y="4541760"/>
            <a:ext cx="1828800" cy="15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241575981"/>
          <p:cNvPicPr/>
          <p:nvPr/>
        </p:nvPicPr>
        <p:blipFill>
          <a:blip r:embed="rId6"/>
          <a:stretch/>
        </p:blipFill>
        <p:spPr>
          <a:xfrm>
            <a:off x="3505320" y="5684760"/>
            <a:ext cx="1380960" cy="1173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9"/>
          <p:cNvSpPr txBox="1"/>
          <p:nvPr/>
        </p:nvSpPr>
        <p:spPr>
          <a:xfrm>
            <a:off x="1676520" y="68580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0"/>
          <p:cNvSpPr txBox="1"/>
          <p:nvPr/>
        </p:nvSpPr>
        <p:spPr>
          <a:xfrm>
            <a:off x="1828800" y="548640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ы полюбили соль, а вы?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, что такое соль, какая она бывает, откуда берется, насколько она важна для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мулировать познавательный интерес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ть свойства и качества разного вида соли опытным пут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руппе вырастить кристаллы сол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е детей работать в коллективе, желание делиться информацией, участвовать в совместной опытно-экспериментальной  и твор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–то в группе перед обедом на тарелочку с нарезанным луком и чесноком мы положили соль. Ребята, заметив это, спросил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Зачем вы положили соль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А как вы думаете?» -спросили м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говорили свои вариан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«А вы хотите побольше узнать о соли?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 так и началась работа над нашим  проектом :«Соль-знакомая незнаком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Расширить знания детей о соли, её основных признаках, свойствах, местах добычи, об  использовании соли челове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Формирование знаний, навыков экспериментирования, повышение уровня усвоения программного матери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полнение предметно-развивающей среды: обогащение опытно-экспериментальной лаборатории, создание картотеки опытов, загадок, пословиц о со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Развитие наблюдательности, внимания,  умения сравн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орудование для проведения проект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рудование и материалы для проведения опытов: лупы, прозрачные баночки, стаканчики, ложки , соль, воронки, деревянные палочки, яйца, снег, вода, гуа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 для рисования:  альбом для рисования, соль, клей ПВА, цветная с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Т- слай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апы работы над проектом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</a:t>
            </a: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Подготовительный эта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 с детьми мы обсудили план деятельности с использованием метода трех вопросов. Информировали родителей о предстоящем проекте. Подбирали с помощью родителей информацию,  наглядно-иллюстративный материал, видеоматериалы, литературу по теме исследования (справочники, энциклопедии, интернет и т.д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аботали занятия и план мероприятий по теме проекта. Пополнили картотеку пословиц, стихов, загадок  о соли. Подобрали и изготовили материалы для осуществления продуктивной деятельности, создали картотеку опытов с солью. Родители приняли участие в сборе материалов для создания коллекции видов со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21-02-11T20:00:59Z</cp:lastPrinted>
  <dcterms:modified xsi:type="dcterms:W3CDTF">2021-02-12T04:16:21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200000000000010291210207f7000400038000</vt:lpwstr>
  </property>
  <property fmtid="{D5CDD505-2E9C-101B-9397-08002B2CF9AE}" pid="3" name="Version">
    <vt:r8>1</vt:r8>
  </property>
</Properties>
</file>