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589-7DA6-4AD4-83CC-2AF5E12A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CC5-8D1C-4988-A16B-7945E94E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7C4-E960-4E13-9B33-2E93BEF0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A87-A587-4600-94F2-C2A8D87D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EC0-513E-40BC-B4FF-91211407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062-5FF7-487E-89A2-C835417F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4BF-A0B3-4FE9-A598-B2FB2017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E93-8CC3-40D1-BF51-DF106151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09F-765A-462E-A08D-4C206E5A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3E0-4DC2-4823-B5B6-F3682E2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3B3-EBA1-44EF-A5A1-E9E25472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345-585F-467A-B648-08ECF4B6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B3E3-8479-4FB4-9291-E82D21C88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665000" y="500040"/>
            <a:ext cx="641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Arial"/>
              </a:rPr>
              <a:t>Презентация к праздник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Arial"/>
              </a:rPr>
              <a:t>посвященн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Arial"/>
              </a:rPr>
              <a:t>Дню Космонав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Братья Монгольфье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51680" y="609300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ья Монгольфь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обретатели воздушного ша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епловых летательных аппаратов"/>
          <p:cNvPicPr/>
          <p:nvPr/>
        </p:nvPicPr>
        <p:blipFill>
          <a:blip r:embed="rId1"/>
          <a:stretch/>
        </p:blipFill>
        <p:spPr>
          <a:xfrm>
            <a:off x="1187280" y="0"/>
            <a:ext cx="6531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 rot="5400000">
            <a:off x="-2838240" y="3422520"/>
            <a:ext cx="684828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пловой летатель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 rot="5400000">
            <a:off x="7057440" y="2674080"/>
            <a:ext cx="2736720" cy="35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ппара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537_4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218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634560" y="63565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рижаб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00x600,fs-MV-05,01,54"/>
          <p:cNvPicPr/>
          <p:nvPr/>
        </p:nvPicPr>
        <p:blipFill>
          <a:blip r:embed="rId1"/>
          <a:stretch/>
        </p:blipFill>
        <p:spPr>
          <a:xfrm>
            <a:off x="0" y="0"/>
            <a:ext cx="5219640" cy="38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600x600,fs-MV-05,01,17"/>
          <p:cNvPicPr/>
          <p:nvPr/>
        </p:nvPicPr>
        <p:blipFill>
          <a:blip r:embed="rId2"/>
          <a:stretch/>
        </p:blipFill>
        <p:spPr>
          <a:xfrm>
            <a:off x="5191200" y="0"/>
            <a:ext cx="395280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Zhivadan"/>
          <p:cNvPicPr/>
          <p:nvPr/>
        </p:nvPicPr>
        <p:blipFill>
          <a:blip r:embed="rId3"/>
          <a:stretch/>
        </p:blipFill>
        <p:spPr>
          <a:xfrm>
            <a:off x="0" y="3860640"/>
            <a:ext cx="5148360" cy="3019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5582880" y="5788080"/>
            <a:ext cx="339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ло время, и через стра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ли летать аэропла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есс все двигался вперед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обрели и само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Первый самоле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278160" y="61182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 само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elta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6735600" y="3333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ьта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olet_1282211682"/>
          <p:cNvPicPr/>
          <p:nvPr/>
        </p:nvPicPr>
        <p:blipFill>
          <a:blip r:embed="rId1"/>
          <a:stretch/>
        </p:blipFill>
        <p:spPr>
          <a:xfrm>
            <a:off x="97164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Луна-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5514120" y="621504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смическая капс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37606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792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32920" y="6336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1228296224_molniya-1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702160" y="623736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мическая ста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500120" y="3214800"/>
            <a:ext cx="6902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авна люди мечтали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ливые мастера, наблюдая за полетом птиц, изобретали для этого различные приспособления и конструкции.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ученые запустили в небо первый воздушный ш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овсем недавно, более 50 лет назад, космическое пространство покорил человек. Это был российский космонавт Юрий Гага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12 апреля во всем мире отмечается День космонав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праздник посвящается этому знаменательному собы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285840" y="1628640"/>
            <a:ext cx="85010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НЬ КОСМОНАВТИ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771640" y="404640"/>
            <a:ext cx="36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2 АПР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039320" y="1428840"/>
            <a:ext cx="7425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Остроносая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маш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блетает всю плане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Транспорт космоса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(ракет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652200" y="64296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142009-03-2225162798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als_rpk_2L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97360" y="644832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пуск космической рак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11040" y="714240"/>
            <a:ext cx="8597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Космическая профе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Очень интерес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Каждый мальчишка стать им р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Названье профессии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                                   </a:t>
            </a: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(космонавт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Gagarin_UA1"/>
          <p:cNvPicPr/>
          <p:nvPr/>
        </p:nvPicPr>
        <p:blipFill>
          <a:blip r:embed="rId1"/>
          <a:stretch/>
        </p:blipFill>
        <p:spPr>
          <a:xfrm>
            <a:off x="4500720" y="0"/>
            <a:ext cx="46321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27742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6480" y="645804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Юрий Гагарин - первый космонав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295920" y="1143000"/>
            <a:ext cx="858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В полёте носит его космона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Одежда имеет названь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d2d8a"/>
                </a:solidFill>
                <a:latin typeface="Arial"/>
              </a:rPr>
              <a:t>                               </a:t>
            </a:r>
            <a:r>
              <a:rPr b="1" i="1" lang="en-US" sz="4400" spc="-1" strike="noStrike">
                <a:solidFill>
                  <a:srgbClr val="2d2d8a"/>
                </a:solidFill>
                <a:latin typeface="Arial"/>
              </a:rPr>
              <a:t>(скафандр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_adc_62425ca2_XL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59289168_161_gagarin_2_14_NN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259920" y="1000080"/>
            <a:ext cx="884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Названье нашей планеты, друз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Назовёт и ребёнок, конеч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                                            </a:t>
            </a: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(Земл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80000" y="8892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02 TMA1 orb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435640" y="5516280"/>
            <a:ext cx="35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нила в гости и жд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чами нас с тобой лу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звезды звали: «Дотян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ой космическую высь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9b40d12f0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59840" y="62564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kar"/>
          <p:cNvPicPr/>
          <p:nvPr/>
        </p:nvPicPr>
        <p:blipFill>
          <a:blip r:embed="rId1"/>
          <a:stretch/>
        </p:blipFill>
        <p:spPr>
          <a:xfrm>
            <a:off x="0" y="0"/>
            <a:ext cx="7380360" cy="390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karus"/>
          <p:cNvPicPr/>
          <p:nvPr/>
        </p:nvPicPr>
        <p:blipFill>
          <a:blip r:embed="rId2"/>
          <a:stretch/>
        </p:blipFill>
        <p:spPr>
          <a:xfrm>
            <a:off x="5334120" y="393372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pic6"/>
          <p:cNvPicPr/>
          <p:nvPr/>
        </p:nvPicPr>
        <p:blipFill>
          <a:blip r:embed="rId3"/>
          <a:stretch/>
        </p:blipFill>
        <p:spPr>
          <a:xfrm>
            <a:off x="0" y="4019400"/>
            <a:ext cx="5292720" cy="2838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12000" y="2133720"/>
            <a:ext cx="30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смотрел на неб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плывут в нем обла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летают в небе птиц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человеку только сн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он взлетает в неб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1428840" y="1285920"/>
            <a:ext cx="65008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и и загадки из сценария «Космический праздник» Никитиной Елены Александровны, Праздники-досуги в детском саду. Выпуск 1. сценарии с нотным приложением. – М.: ТЦ Сфера, 2009. – 6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тежи, рисунки и фотографии из Интернет-ресурсов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reiter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b.gendocs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onardodavinch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-rus-studen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ogi-progress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fedo.u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ctionBook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tersof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erostat4all.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craft.3d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lo-mir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queryfiles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k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.ri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unic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6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news6.com.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301840" y="500040"/>
            <a:ext cx="46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Проекты первых летательных аппаратов"/>
          <p:cNvPicPr/>
          <p:nvPr/>
        </p:nvPicPr>
        <p:blipFill>
          <a:blip r:embed="rId1"/>
          <a:stretch/>
        </p:blipFill>
        <p:spPr>
          <a:xfrm>
            <a:off x="611280" y="0"/>
            <a:ext cx="5392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6300720" y="1773360"/>
            <a:ext cx="26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тер крылья сделал себ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 к солнцу подняться, стать ближе к лу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 ввысь вознестись и на мир посмотре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крылья совсем не хотели лет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hertezhi_Leonardo_da_Vinchi"/>
          <p:cNvPicPr/>
          <p:nvPr/>
        </p:nvPicPr>
        <p:blipFill>
          <a:blip r:embed="rId1"/>
          <a:stretch/>
        </p:blipFill>
        <p:spPr>
          <a:xfrm>
            <a:off x="324000" y="1197000"/>
            <a:ext cx="84596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летательный аппарат да Винчи"/>
          <p:cNvPicPr/>
          <p:nvPr/>
        </p:nvPicPr>
        <p:blipFill>
          <a:blip r:embed="rId1"/>
          <a:stretch/>
        </p:blipFill>
        <p:spPr>
          <a:xfrm>
            <a:off x="611280" y="260280"/>
            <a:ext cx="79563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ВДП история Бланшар 2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Untitled-1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6a00df3520bf34883401348250c4f8970c-800wi"/>
          <p:cNvPicPr/>
          <p:nvPr/>
        </p:nvPicPr>
        <p:blipFill>
          <a:blip r:embed="rId1"/>
          <a:stretch/>
        </p:blipFill>
        <p:spPr>
          <a:xfrm>
            <a:off x="0" y="0"/>
            <a:ext cx="5003640" cy="339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31939073_3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86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ong"/>
          <p:cNvPicPr/>
          <p:nvPr/>
        </p:nvPicPr>
        <p:blipFill>
          <a:blip r:embed="rId3"/>
          <a:stretch/>
        </p:blipFill>
        <p:spPr>
          <a:xfrm>
            <a:off x="0" y="3429000"/>
            <a:ext cx="48592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716360" y="522936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 шар воздушный он изобр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л нагревать его снизу огн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 воздух горячий тянул его ввы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от... рядом солнце, и вот она - вы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3184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parisballoon"/>
          <p:cNvPicPr/>
          <p:nvPr/>
        </p:nvPicPr>
        <p:blipFill>
          <a:blip r:embed="rId1"/>
          <a:stretch/>
        </p:blipFill>
        <p:spPr>
          <a:xfrm>
            <a:off x="108000" y="115920"/>
            <a:ext cx="8891640" cy="5964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61657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здорово, так здорово лететь в большой корзи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изу дома как коробы, а рядом небо син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449960" y="6165720"/>
            <a:ext cx="46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душный шар несет меня в большое путешеств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круг сплошные облака, внизу — все неизвест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2:26:45Z</dcterms:created>
  <dc:creator>Компьютер</dc:creator>
  <dc:description/>
  <dc:language>en-US</dc:language>
  <cp:lastModifiedBy>Admin</cp:lastModifiedBy>
  <dcterms:modified xsi:type="dcterms:W3CDTF">2017-04-07T09:30:27Z</dcterms:modified>
  <cp:revision>40</cp:revision>
  <dc:subject/>
  <dc:title>Слайд 1</dc:title>
</cp:coreProperties>
</file>