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2D3-17AF-4EAB-A406-D01A352B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EC6-A0C0-4181-8F79-33075738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0A8F4-ECDD-46E3-B36F-B980FD04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D6450-DCFF-44F5-A5CD-55E5B9A0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D65F4-F8B9-46F3-8678-3CF0CEB4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A4A8C-88EF-4549-920C-8B784F65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799E0-1177-487C-8F3A-2009733F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B2011-0591-4207-A779-E4785819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F5727-0565-45C5-B581-5AD61C00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D4765-25C6-4383-9B21-53C05DE7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B5468-92E7-415C-B1DA-5B842FD8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587-CB57-42DC-A4D0-2A33D354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C31-32A1-440C-94FF-5F74C826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949A-1136-4AA9-84BC-FEB581AC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0872-4AA6-4333-B8A1-D8118409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F3FB-F24E-40FE-A45A-AEB89E94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916A-CB25-43A8-9F87-20AA27B4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3587-7945-48AD-B3DA-632CF318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3484-6DB7-4F25-AD26-72A714C9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5948-FA4F-4E9B-AD0F-AC2E2849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73E-69E9-44FC-8193-F002EC22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7BD5-167E-4246-B591-83056FF4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499F-DF14-4871-8912-601E08D1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1378-DCAA-4666-8E59-1F4BB505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F0F0-CC55-40B4-90F2-2C9E6FDE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FFD3-92DE-4735-A827-3CE06FD5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920A7-58AC-48AF-96BF-A7CB727C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7176-2E1E-4351-A908-D7901FEC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2113-83CF-4185-ADC8-A4416F76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6EC7C-74F4-4941-A0D7-54F1AF0D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B647-3267-4DB6-BC13-C9753F25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DF0-4AC6-41B6-95A3-2934568A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E50C1-14A5-4F14-BB47-91E9581D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FB0D-A089-491F-90EE-E71AA4A0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1033-747F-4B21-9564-873538B1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C71E-A83C-49C0-9E55-36384182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53C83-F53F-49EE-9D4D-BD42A498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8647C-694E-4B5E-90B5-9C7C4C5A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29C1-8C92-487D-A7B1-A92BB833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B2A8D-3719-42FA-80A8-5A68B1EF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FD09-B064-41C8-AC39-B458705F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1B2FD-88DE-42D2-97F3-DAA8AA3F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E4A-3A2E-40E6-80B8-3CFCA08F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8A621-701A-43F5-8ADC-6251F0BF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4B6C-999B-42C3-A165-337EC757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D265-407D-4931-AA59-48CC9C60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6CE2-829F-416E-B05A-9B093E1A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88ED2-F6F3-4100-8DAC-F6148FC7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F33D-31D8-4019-A115-271C73E9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63F2-E298-4751-8D15-9ED63D19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46879-FB56-4B38-8F32-9A300DAF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71DC4-FEB7-41E7-A546-5EEEF4A3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09203-1C61-4EC3-ABB0-3B80CD43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688-1349-4072-ABFC-B3886E8C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770C-29A3-4C5B-90DC-3C93C78C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C0ED6-F25D-4C18-8C55-A187CF32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1CAC7-4974-414B-BF8D-5A4BFB8A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0177C-7203-4215-91A6-66928EB2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6D6D1-BE2D-439B-A7E5-FD7FA28F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1502E-9F76-490A-A6CF-8A5DA095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5C7EC-E33D-4248-8D24-C7CA763D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C9C05-4790-4F20-8B3E-6CC79C63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AEC80-713A-4BD1-A403-A29A9B86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A0D34-19F5-4CF4-B059-DCFE92C8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48B-B616-42DD-97FC-AD68E651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B735D-523A-48A6-A3C4-4390D7DB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549D-FDBC-4F75-A501-A27B3039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AE721-15E3-4801-8DCB-9713DBFB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159D5-FA62-4A6D-B58D-1F8FE645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6AD9C-C7BB-41C1-9132-075BF2DE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5981D-3F25-4C36-8FF1-842C04CB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27755-9982-4B36-B075-93BE2A05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BF910-6C1F-4920-9204-32A45F6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8FC4E-F145-48BC-830C-D6AE2EFD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A71CC-EFAC-41B9-897F-7049316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5C5-6EB2-4636-A8E9-CCA602F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3582A-F82B-4BBF-B20D-A177801B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AA980-5486-4FB3-A7E0-EB905C18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3BF9E-9EAF-40A6-B646-3A26C668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F04BF-0ECE-48C4-8C47-44E32BA3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89FF0-3614-4E4E-AD38-B6369A54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FFDC4-F612-4A7D-A4EB-DC72F431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A1A5A-9A42-48E8-A870-4687D59C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DF7D6-07BF-4BEE-87D0-BF8FB597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F370C-95DC-43DF-8CEE-FA967029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282B-D912-4D79-A9EC-BA49F144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F2D-D062-4413-A8AB-7E9396D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0EB8-3A4D-4F39-B1D6-25A69443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909C8-891F-4CC9-B3C7-2162D83E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498A2-4F20-48A8-AF53-C518677D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BED65-EF11-4BEB-8A88-6BC63953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453E4-5F40-4FCA-B20E-CF051ADC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3C755-D675-41D6-882D-37169E4D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5A1CE-205E-48B0-86EF-85B50EB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4263F-6493-4A62-A5A5-69EDC4A2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9CEAF-6455-443F-94F9-4F38B981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0A245-49CC-4CB4-AC8F-18962145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06A-D0B2-4A98-9461-37089F12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6D98D-5A7E-4C74-816E-D0D1BF8B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4AB86-4406-49D3-96AE-C4CF7975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13FFF-8364-47F9-AFF2-8DF61733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EA277-3EEF-4327-A6D0-1A7242E8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ED6FA-C380-40AE-8464-A8C22A6F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D9175-5D45-40B6-9A41-4A384C5E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05A34-EEC9-43B1-9FDB-FA44034F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6494B-2D9F-4858-AA8C-06ED34AA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9230C-D6D6-4B93-8154-A5F00AF7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D4681-830A-439E-8808-CCD178ED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F187-F554-4AAD-9FD6-01D230F00701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00A0-0BDD-49AB-AE06-2A387F637349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353C-DC40-4989-8C44-E99B352DF4C0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8221-0D18-4F69-BF2F-CE39D61FCED8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0847-F6B7-4D3C-8720-3F4D2EAC9EAE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BD12-7E81-4B06-84B3-F5BBEFEEB284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41F9-26C7-4945-A92A-E26A5A4D8FE6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769F-05A4-4FFF-B056-C1D18BEFE66A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60FF-C3F2-4285-B9F8-18AC7FFD0333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89040" y="274680"/>
            <a:ext cx="7851600" cy="1712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C:\Users\User\Desktop\image_58cb8f4786d72.jpg"/>
          <p:cNvPicPr/>
          <p:nvPr/>
        </p:nvPicPr>
        <p:blipFill>
          <a:blip r:embed="rId2"/>
          <a:stretch/>
        </p:blipFill>
        <p:spPr>
          <a:xfrm rot="20529000">
            <a:off x="365040" y="2995200"/>
            <a:ext cx="5008680" cy="31719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C:\Users\User\Desktop\adhd_homework.jpg"/>
          <p:cNvPicPr/>
          <p:nvPr/>
        </p:nvPicPr>
        <p:blipFill>
          <a:blip r:embed="rId3"/>
          <a:stretch/>
        </p:blipFill>
        <p:spPr>
          <a:xfrm rot="1158000">
            <a:off x="4109760" y="1825560"/>
            <a:ext cx="4653000" cy="3095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c535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79200" y="378000"/>
            <a:ext cx="8912520" cy="17128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Английский- 11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Математика- 5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Окружающий мир- 2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46160" y="255600"/>
            <a:ext cx="8864640" cy="1841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а- 17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ет- 3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8845560" cy="18478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981080"/>
            <a:ext cx="86868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Ругают –1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елают замечания- 4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Говорят, надо стараться..- 1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Бьют- 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1474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Да- 8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ет- 1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030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УВАЖАЕМЫЕ РОДИТЕЛИ!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1. Оказываете ли Вы помощь ребенку при выполнен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В чем она заключаетс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2. В какое время Ваш ребенок садится за уроки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3. Какие предметы ему даются легче, по каким испытывает затрудне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4. Всегда ли есть у ребенка запись в дневнике о налич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5. Сколько в среднем уходит времени на выполнение письменных заданий ______;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устных заданий ___ .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Задание № 1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Старший ребенок у нас в свое время ходил в группу продленного дня. Уроки там делал кое-как, ну и успеваемость была соответствующая. Поэтому младшему строго-настрого наказала: без нас уроки не делать. Я прихожу после 18 часов, мы ужинаем и садимся за уроки. Я сижу рядом, при необходимости подсказываю или заставляю переделывать.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Вопросы: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Должен ли ребенок дожидаться родителей, чтобы выполнить домашнее задание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Как вы думаете, должно ли домашнее задание выполняться сначала в черновом варианте, а потом в тетради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571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Задание № 2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Мы с женой сразу договорились: пусть Светлана учится сама, как может. Я и в тетрадки не заглядываю. Жена иногда интересуется. Но мы считаем, раз ученица – Света, то пусть и свои учебные проблемы решает сама. Что не понимает, у ребят, у учительницы спросит, а уж отметка – что заработает, то и получит. Двойку получит, значит, гулять не пойдет, а как иначе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Franklin Gothic Book"/>
              </a:rPr>
              <a:t>Вопросы:</a:t>
            </a: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Как вы оцениваете поведение родителей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Нужно ли помогать ребенку в учебной деятельности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Если ребенок получит двойку, то какие будут ваши действия? 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077320" cy="1457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41911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Это в идеале.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А в обычной школьной жизни много нюансов, мешающих плодотворному сотрудничеству учителя и уче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34" name="Picture 4" descr="C:\Users\User\Desktop\am38IXuECQY.jpg"/>
          <p:cNvPicPr/>
          <p:nvPr/>
        </p:nvPicPr>
        <p:blipFill>
          <a:blip r:embed="rId2"/>
          <a:stretch/>
        </p:blipFill>
        <p:spPr>
          <a:xfrm>
            <a:off x="533520" y="1371600"/>
            <a:ext cx="81532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“</a:t>
            </a: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Ребенок, что тесто,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как замесил, так и выросло”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аша задача – приучить ребенка трудиться правильно, не нанося вред здоровью, т. к. учеба – это главный труд школь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06" name="Прямоугольник 3" descr=""/>
          <p:cNvPicPr/>
          <p:nvPr/>
        </p:nvPicPr>
        <p:blipFill>
          <a:blip r:embed="rId1"/>
          <a:stretch/>
        </p:blipFill>
        <p:spPr>
          <a:xfrm>
            <a:off x="853920" y="457200"/>
            <a:ext cx="74361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i="1" lang="ru-RU" sz="2700" spc="-1" strike="noStrike">
                <a:solidFill>
                  <a:srgbClr val="575f6d"/>
                </a:solidFill>
                <a:latin typeface="Franklin Gothic Book"/>
              </a:rPr>
              <a:t>Раздаются карточки с началом предложения, а родители должны его продолжить.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У нашего ребенка есть специальное место, где он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Самостоятельно справляется с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Готовит с трудом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Мы оказываем помощь ребенку в приготовлении домашних заданий. Эта помощь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заключается в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Когда ребенок учит уроки, мы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Franklin Gothic Book"/>
              </a:rPr>
              <a:t>- Если ребенок выполнил домашнее задание небрежно, то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396720" y="907920"/>
            <a:ext cx="8382240" cy="2810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46160" y="371520"/>
            <a:ext cx="8845560" cy="18414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68360" y="2438280"/>
            <a:ext cx="8377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Да – 18 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Franklin Gothic Book"/>
              </a:rPr>
              <a:t>Нет - 2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09440" y="420840"/>
            <a:ext cx="8882280" cy="15364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837720" y="2492280"/>
            <a:ext cx="8007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1 час – 7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2 часа-10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3 часа и более – 3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5f6d"/>
                </a:solidFill>
                <a:latin typeface="Franklin Gothic Book"/>
              </a:rPr>
              <a:t>(норма в 3 классе - 2 часа)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9440" y="420840"/>
            <a:ext cx="8882280" cy="1536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Литература – 13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Математика- 10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Русск. яз.- 8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Окружающий мир- 5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Информатика- 4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575f6d"/>
                </a:solidFill>
                <a:latin typeface="Franklin Gothic Book"/>
              </a:rPr>
              <a:t>Английский- 2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10-07T13:50:3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