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239-30D8-4687-B1FC-8FDC8644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559-54BB-43D6-952A-2B613164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D7276-83B1-48B8-A71B-0C7E0972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3DA78-290A-4FAD-955B-EE874996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01743-EAF6-4D80-A1AD-CFFE33A9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555C3-A533-4656-B028-8EF0E4FF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ED5E9-72E3-4BBE-901F-9041CCD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52D93-B620-4B09-9E3C-DFBB458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14F7F-E648-441A-95CD-01C87765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5D0BC-53D3-4486-B009-6801E72D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5B2B5-1FC7-46B2-850B-B5914D3B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612-6488-4EBE-A78B-9529BE11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8EA-FBD6-41B1-8833-40C2ED31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26AF-711C-4DA8-B698-C3D7C894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17E1-94A9-451D-8662-938D306D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C1CC-1446-4012-9B8B-71A91C4A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F55B-D993-433A-90C8-D10BE760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D897-E07D-4CBD-85BC-8442E0D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E47E-D2F5-4893-9DCE-ADEFF452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84EE-E330-43B2-9879-8A28C93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013-4570-46DA-BC0C-FB598597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96D5-E920-45BA-B94B-EA48170A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7FBE-B6FC-4799-A468-B27FBE27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E842-9BBC-4EC0-8718-91AFEEBF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628A-6345-4654-9022-C760C32A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F228-6F71-4771-9B65-AEA0DFA1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8644-CED2-443D-9DED-273C34E4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7220-B628-448B-B2F8-54F4D693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7DFE-7EBC-4D22-8179-8D756114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8AE0-D3D4-4AED-96A9-6AB8F3E2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EFF7-6639-4B91-ABA5-A0670D74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DF2-217B-4304-A63F-D1674971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2421-DC6A-41B8-B8F1-46156D67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9E2C-5999-4F7F-A7E6-E51D0DC5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DFF0-9136-4400-B933-D70052E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03FE-D0F9-4B0A-97B4-BFA0153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C29B-4DBF-4D25-8604-2CC40B35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AEAE-A5EA-4BF9-AA93-1FC2A1E1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9983-4821-41B7-8FF1-C953A2E3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6558-0EF1-4628-8F04-6A05B7FC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1BE2-8E3D-48A3-8AE1-79C727C9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A6FB-CC1F-41E8-A02B-A084ED6C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FFF-C0EB-488B-B73B-CC611EFB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A053-D9E1-47CA-91E7-901B0F47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6D23-11E3-4BA0-AE2D-6AB3110A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B86C-BAF4-48D3-A546-CCDBB13E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92C7-57D7-4325-8A48-DEA2D3BE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2EB5-64B3-47C7-8BBC-E5CB8E4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B1FCB-7968-4D9E-A376-75D9025C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3316-2784-4A24-A7C6-A01C4858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EE925-6519-456F-A8A9-DB6833EC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071CB-3067-4E88-80F1-83EF642E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37BB7-5E88-41D8-A7E0-065AABD9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D52-CB44-4FE4-B9B1-58485D66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5A4E-9556-4E32-A35D-E499B0F8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3BF6-6474-475D-8853-5D790667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3735-41C2-4A4B-8881-A8850B56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29783-2E30-4453-92A4-6AC4E397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AACD-0A80-43E0-B63B-A572D6A9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6657-B215-498A-B0B9-0E6B6F1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8345E-F3AC-4E30-96A3-C98413B6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AE87-FA3E-4EFF-BB68-DC87AB0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E447-EEE6-4A7E-AB04-80E8EB58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D8910-E518-4D78-B138-F030F872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588-FBE2-4A4A-8478-BB94CEE2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567DC-097B-4DE9-A1C4-5DD6A553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08220-58AA-400B-BA35-65D93A3A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49115-83D5-445D-8F95-18A080A0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7067E-2B57-47B4-BFEE-CDE25095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96492-B24D-41F4-B71B-D834B3D0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B7AF4-F293-4DA0-B3BB-057E0CDF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F3460-02D4-4B4C-B0CE-F1B12F8B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D679-FEA0-444F-A1AC-EC54EA6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17A8D-D801-496C-9B72-7C883BC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DC995-93A7-4975-BECC-5D4C6E04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E43-B8A8-4174-81B4-437316AA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9D511-2021-40A3-88FB-500929CA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68A1-EC1D-4E71-8768-A0C61C73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B8555-D46A-497E-9D8C-787F8C2A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B1526-4C81-4BD9-BC3D-DCC57A5B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9E72E-7870-4A81-898B-7A2D0EBC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19EFB-D80A-4683-A756-009E4F45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5C382-CF8A-4906-BA2F-D1CCFF76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15F4C-F629-4219-82F7-CCC12D9D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50CEE-CBD9-44A2-9B1D-270F6472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20AE3-09AE-4483-BFBB-E320DB0B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A4C-1996-4F72-A3B9-E329F43C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3C59A-6E5B-4125-82DE-1078D11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8865-6CA5-4B21-A834-D3F4FE5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3FF5-5A98-4E94-8387-A977DA3C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71F3-C65E-42C5-83B9-34E28F21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75BAC-A7C5-400A-8604-0C260FC4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7D9E7-3134-473C-9865-CF1BFCCC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2FBED-7F08-469C-9089-CAE6F2F5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094AA-FE47-4D71-9D1A-CF00B8BC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7812A-A323-48CC-A951-79039A7B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DCEC8-87DA-4098-9912-103B13F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461-FBB8-465B-80B4-8579098D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3F374-D330-4A8B-937C-81F1ED7E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6081-9F5A-464F-8E97-130789BA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ED84E-DF1E-4F40-952A-94444C1B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5A82-3A74-490E-A181-95FB8201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DA85C-31E0-42C7-9F5F-8CA54F75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6BF86-6B0B-471F-A20A-E12B5DD7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2CFB1-D90C-4EBE-A381-5555C6A5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D5544-E353-47D9-8EFC-D2B51C9D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20A77-1D89-4629-9D36-BEF36D82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7915A-E456-414D-A7E0-3375AC24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92D-C37E-4B6A-BDD1-EC5E085FAD78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3C81-5792-4D64-B635-ED332D13BF5D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F06C-A387-4823-BA19-9D7B53191422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795B-B5DD-4AA2-90A5-E1EE3370A4D2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0449-C82F-4250-B735-CD33229A185F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7F82-E11A-4A68-8988-38F9E790739D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8986-09D1-4813-B555-72A3671C3F0C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9E60-ED43-4ABC-8752-8CC17D9238FE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093B-B717-492D-957D-B77B566265C1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9040" y="274680"/>
            <a:ext cx="7851600" cy="1712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C:\Users\User\Desktop\image_58cb8f4786d72.jpg"/>
          <p:cNvPicPr/>
          <p:nvPr/>
        </p:nvPicPr>
        <p:blipFill>
          <a:blip r:embed="rId2"/>
          <a:stretch/>
        </p:blipFill>
        <p:spPr>
          <a:xfrm rot="20529000">
            <a:off x="365040" y="2995200"/>
            <a:ext cx="5008680" cy="3171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C:\Users\User\Desktop\adhd_homework.jpg"/>
          <p:cNvPicPr/>
          <p:nvPr/>
        </p:nvPicPr>
        <p:blipFill>
          <a:blip r:embed="rId3"/>
          <a:stretch/>
        </p:blipFill>
        <p:spPr>
          <a:xfrm rot="1158000">
            <a:off x="4109760" y="1825560"/>
            <a:ext cx="4653000" cy="3095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c535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79200" y="378000"/>
            <a:ext cx="8912520" cy="17128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Английский- 11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Математика- 5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Окружающий мир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46160" y="255600"/>
            <a:ext cx="8864640" cy="1841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17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3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981080"/>
            <a:ext cx="86868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Ругают –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елают замечания- 4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Говорят, надо стараться..-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Бьют- 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1474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8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030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УВАЖАЕМЫЕ РОДИТЕЛИ!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1. Оказываете ли Вы помощь ребенку при выполнен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В чем она заключаетс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2. В какое время Ваш ребенок садится за уроки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3. Какие предметы ему даются легче, по каким испытывает затрудне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4. Всегда ли есть у ребенка запись в дневнике о налич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5. Сколько в среднем уходит времени на выполнение письменных заданий ______;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устных заданий ___ 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1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Старший ребенок у нас в свое время ходил в группу продленного дня. Уроки там делал кое-как, ну и успеваемость была соответствующая. Поэтому младшему строго-настрого наказала: без нас уроки не делать. Я прихожу после 18 часов, мы ужинаем и садимся за уроки. Я сижу рядом, при необходимости подсказываю или заставляю переделывать.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олжен ли ребенок дожидаться родителей, чтобы выполнить домашнее задание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думаете, должно ли домашнее задание выполняться сначала в черновом варианте, а потом в тетрад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571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2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Мы с женой сразу договорились: пусть Светлана учится сама, как может. Я и в тетрадки не заглядываю. Жена иногда интересуется. Но мы считаем, раз ученица – Света, то пусть и свои учебные проблемы решает сама. Что не понимает, у ребят, у учительницы спросит, а уж отметка – что заработает, то и получит. Двойку получит, значит, гулять не пойдет, а как иначе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оцениваете поведение родителей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Нужно ли помогать ребенку в учебной деятельност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Если ребенок получит двойку, то какие будут ваши действия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077320" cy="1457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41911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Это в идеале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А в обычной школьной жизни много нюансов, мешающих плодотворному сотрудничеству учителя и уче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34" name="Picture 4" descr="C:\Users\User\Desktop\am38IXuECQY.jpg"/>
          <p:cNvPicPr/>
          <p:nvPr/>
        </p:nvPicPr>
        <p:blipFill>
          <a:blip r:embed="rId2"/>
          <a:stretch/>
        </p:blipFill>
        <p:spPr>
          <a:xfrm>
            <a:off x="533520" y="1371600"/>
            <a:ext cx="81532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“</a:t>
            </a: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Ребенок, что тесто,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как замесил, так и выросло”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ша задача – приучить ребенка трудиться правильно, не нанося вред здоровью, т. к. учеба – это главный труд школь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06" name="Прямоугольник 3" descr=""/>
          <p:cNvPicPr/>
          <p:nvPr/>
        </p:nvPicPr>
        <p:blipFill>
          <a:blip r:embed="rId1"/>
          <a:stretch/>
        </p:blipFill>
        <p:spPr>
          <a:xfrm>
            <a:off x="853920" y="457200"/>
            <a:ext cx="74361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i="1" lang="ru-RU" sz="2700" spc="-1" strike="noStrike">
                <a:solidFill>
                  <a:srgbClr val="575f6d"/>
                </a:solidFill>
                <a:latin typeface="Franklin Gothic Book"/>
              </a:rPr>
              <a:t>Раздаются карточки с началом предложения, а родители должны его продолжить.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У нашего ребенка есть специальное место, где он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Самостоятельно справляется с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Готовит с трудом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Мы оказываем помощь ребенку в приготовлении домашних заданий. Эта помощь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заключается в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Когда ребенок учит уроки, мы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Если ребенок выполнил домашнее задание небрежно, то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396720" y="907920"/>
            <a:ext cx="8382240" cy="2810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46160" y="371520"/>
            <a:ext cx="8845560" cy="1841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68360" y="2438280"/>
            <a:ext cx="837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Да – 18 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Нет 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9440" y="420840"/>
            <a:ext cx="8882280" cy="15364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1 час – 7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2 часа-10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3 часа и более – 3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(норма в 3 классе - 2 часа)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9440" y="420840"/>
            <a:ext cx="8882280" cy="1536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Литература – 13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Математика- 10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Русск. яз.- 8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Окружающий мир- 5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Информатика- 4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Английский- 2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10-07T13:50:3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