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FBF-570C-46E5-BE1D-3C2EB1C2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7E9-B836-4FC7-B931-6E35AD27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C324C-EBCD-4B3E-A7D6-E646D1DE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BCA66-B38F-476D-BC9B-081166A1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8A002-F2B5-4660-8FA1-AD306CA5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51B1F-974A-424C-9184-B0F1D048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C84E3-0C4E-4340-9ADF-085BC97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CE084-1243-49E8-B8F0-C8306CA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DA3B7-4252-4D32-A164-B44964B9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31887-187C-41C4-BE12-D9DE51C8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5CD37-1B05-42EE-AB9E-7440A104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BC2-D78D-4558-80E5-04AEE821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C01-FE6B-4A0C-8862-FE38C21B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FD8F-0121-435B-839B-396D45B4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1DC9-9B0B-4AF0-8D0E-6D4B6391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36B0-ECF6-414E-9E76-CB47E92A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53A3-CB35-4E13-B4DE-99C9C5A3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A78D-DFDE-4E36-8D96-FD18DC35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2925-B60D-4F11-89D5-6E28904B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E9C3-D9D2-4A47-939E-4961765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CAC-6A4B-4946-B166-D14AF118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BBDA-B540-4048-AC0F-C4214D9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5A15-4886-4448-9E77-DE8E731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00AA-58EC-4633-8CD8-EB9CA1DB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AF16-8EA0-4457-B3CD-EB2E9DAB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35FB-0A84-4291-9610-BF084036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332D-1ABD-4FB1-9A8E-796DA0D2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E450-A097-49DF-911B-2519481E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0465-7AAA-4C4E-9B85-CAAF5DC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B651-81EF-48B8-84E4-ECA8D6D3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C936-4E19-41E6-8EFA-1BC156C3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799-07F8-4D12-A6F9-5253223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F0BA-51A3-4D10-8D50-BA38B3E1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3491-641C-4E57-99A7-9B67736F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3015-8206-4AD3-8BF9-DC8CB87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CCFE-1E98-4085-B3DB-1A82C63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D66F-47F3-490B-A671-D2C76C7D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BFBD-93E3-4871-B9DA-54C2AAF6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F62B-1A4F-4BE9-8307-0C87D69D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C05A-4BD2-4FC0-A567-15C11345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ED8B-E271-4AFB-B6AC-987FDB72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2E06-423F-4DE4-8C3B-2B137579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DD6-A0D5-4B05-98F6-69BE31E5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14F6-2181-4AD0-B2EB-E1BACBAD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AE4B-0242-49B2-B4EE-837E0683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06C1-8A5C-4012-9005-F06765D4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6588-CD30-4098-88CA-2B588B7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8E0F-48B3-4A06-BEAD-A55FE778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1A3E-2064-4EE3-A477-89F1FAE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1234-09EB-4620-A198-8CC4DC1A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64A9-330F-4122-B64A-3C8BBFCB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D365-A65C-4ABB-872B-39B99ADD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B079-E74A-4B98-8875-5BA5F1D5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40E-1268-4FED-89A3-03B2735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C905-B054-417F-9B91-1239B90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CFA09-7DEE-4DFB-BD31-4C323A57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2264B-34F3-4B6A-AE4C-406A5732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04C0-F1C3-432F-89F1-2E911CCA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B9BB-5DC5-4E18-9C12-E06AEBA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6BCC9-96CF-4291-9FD7-9102A5A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A884-C7AA-4707-A7E4-6AC60D9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EC34-75EE-4EAA-8F78-606A7DB1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ACB18-A7C1-451F-9463-A94DC56B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DEDA-80A4-42BD-AC16-610C1151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081-2644-447D-A086-88935CEB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CACD-87A0-4285-A152-F31498ED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23B9A-437D-4C0E-8322-6C54E7DC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87225-F189-401E-8500-6E79405D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62A1-C265-4EE8-8573-4D028F4D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CEB6-26C1-403D-92EA-67326CE9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F7E3D-5413-442F-9BFD-312F8A1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C272D-D606-4AFC-949B-640A586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BA6E-2485-495A-8E20-0A6E1FC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1AFC-0319-43F5-9115-F404BB4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C908E-1371-4285-9A0D-96257BD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90B-48F7-4C83-9153-4AC9079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47A6-B759-4735-ABFD-EAAA7282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BB217-B927-4C95-835D-9A441E94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4E103-2B6C-4042-9492-2CE9DB46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1F1A-2648-424B-8DC2-AD2948FF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347C-FB43-4A97-9087-60A8E80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BADF6-2EAF-4C11-9763-A6A0CEC9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3131-47C3-4B4A-AF43-4EA84EB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5450E-2352-4928-BDA9-1FCE9D27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36CF3-0712-40A3-BA65-7D741918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95F8-C90D-4ABA-BFA9-AC3342A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84E-E82B-4F07-8006-335F8AEF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C428-ECDC-49E4-943F-9C869DA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AC1E-5867-41B5-A45A-D5F8793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5BC0-A3E3-4FB1-9FAE-E8ED5ABC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2376-3EEA-4285-A523-11A8890F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AEB67-4D30-426E-B0FE-950D2353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006F-7191-4CDF-98CF-B8CEC32D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99BE-C60D-4F98-9BD5-6414872F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7F840-D586-43DB-80C4-CB594E8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A0351-654F-4914-9F67-32136BE3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9267-C4D5-4300-BBA9-D63827BC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C23-B68B-4A61-8558-837551A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59B7F-485F-40A2-9B3D-80D0C57C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A9A7-9F5A-4074-96F8-C448F915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9FA53-C1A1-4BDE-BB09-612900A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107E-B46E-47A0-93A0-8D35190C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FA250-219A-495C-A968-E00C41DC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40C0-29A7-4A8A-B1D8-165A98EC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C1C6-5271-4A89-99CE-101F409C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B0E5B-289C-41A1-9168-D46F6FB4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00981-19CE-4C12-8A3E-09BA8582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82392-48A3-433D-8581-82C6C3A4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8F83-4DB7-42CE-8524-DF9DADD702C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B58C-9621-442A-B4FB-EA95D72022F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A383-7184-441D-BA4E-A37219F22140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F705-021E-44AD-9649-862A97F7D73C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F8D-1F37-480A-AD84-DA02FF83B7E3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463A-4C81-4E41-A50A-DA32946FC37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322-E4DE-4B38-A87E-80344E004E64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BDD-6DD9-4D66-9FFB-31AC7A3829EB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BD10-5517-4938-B54C-FC83611C1554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9040" y="274680"/>
            <a:ext cx="7851600" cy="1712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C:\Users\User\Desktop\image_58cb8f4786d72.jpg"/>
          <p:cNvPicPr/>
          <p:nvPr/>
        </p:nvPicPr>
        <p:blipFill>
          <a:blip r:embed="rId2"/>
          <a:stretch/>
        </p:blipFill>
        <p:spPr>
          <a:xfrm rot="20529000">
            <a:off x="365040" y="2995200"/>
            <a:ext cx="5008680" cy="3171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C:\Users\User\Desktop\adhd_homework.jpg"/>
          <p:cNvPicPr/>
          <p:nvPr/>
        </p:nvPicPr>
        <p:blipFill>
          <a:blip r:embed="rId3"/>
          <a:stretch/>
        </p:blipFill>
        <p:spPr>
          <a:xfrm rot="1158000">
            <a:off x="4109760" y="1825560"/>
            <a:ext cx="4653000" cy="3095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c535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79200" y="378000"/>
            <a:ext cx="8912520" cy="17128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Английский- 11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Математика- 5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Окружающий мир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864640" cy="1841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1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981080"/>
            <a:ext cx="86868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Ругают –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елают замечания- 4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Говорят, надо стараться..-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Бьют- 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1474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8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УВАЖАЕМЫЕ РОДИТЕЛИ!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1. Оказываете ли Вы помощь ребенку при выполнен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В чем она заключаетс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2. В какое время Ваш ребенок садится за уроки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3. Какие предметы ему даются легче, по каким испытывает затрудне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4. Всегда ли есть у ребенка запись в дневнике о налич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5. Сколько в среднем уходит времени на выполнение письменных заданий ______;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устных заданий ___ 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1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Старший ребенок у нас в свое время ходил в группу продленного дня. Уроки там делал кое-как, ну и успеваемость была соответствующая. Поэтому младшему строго-настрого наказала: без нас уроки не делать. Я прихожу после 18 часов, мы ужинаем и садимся за уроки. Я сижу рядом, при необходимости подсказываю или заставляю переделывать.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олжен ли ребенок дожидаться родителей, чтобы выполнить домашнее задание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думаете, должно ли домашнее задание выполняться сначала в черновом варианте, а потом в тетрад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57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2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Мы с женой сразу договорились: пусть Светлана учится сама, как может. Я и в тетрадки не заглядываю. Жена иногда интересуется. Но мы считаем, раз ученица – Света, то пусть и свои учебные проблемы решает сама. Что не понимает, у ребят, у учительницы спросит, а уж отметка – что заработает, то и получит. Двойку получит, значит, гулять не пойдет, а как иначе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оцениваете поведение родителей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Нужно ли помогать ребенку в учебной деятельност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Если ребенок получит двойку, то какие будут ваши действия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077320" cy="1457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41911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Это в идеале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А в обычной школьной жизни много нюансов, мешающих плодотворному сотрудничеству учителя и уче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34" name="Picture 4" descr="C:\Users\User\Desktop\am38IXuECQY.jpg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“</a:t>
            </a: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Ребенок, что тесто,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как замесил, так и выросло”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ша задача – приучить ребенка трудиться правильно, не нанося вред здоровью, т. к. учеба – это главный труд школь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853920" y="457200"/>
            <a:ext cx="7436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i="1" lang="ru-RU" sz="2700" spc="-1" strike="noStrike">
                <a:solidFill>
                  <a:srgbClr val="575f6d"/>
                </a:solidFill>
                <a:latin typeface="Franklin Gothic Book"/>
              </a:rPr>
              <a:t>Раздаются карточки с началом предложения, а родители должны его продолжить.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У нашего ребенка есть специальное место, где он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Самостоятельно справляется с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Готовит с трудом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Мы оказываем помощь ребенку в приготовлении домашних заданий. Эта помощь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заключается в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Когда ребенок учит уроки, мы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Если ребенок выполнил домашнее задание небрежно, то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396720" y="907920"/>
            <a:ext cx="8382240" cy="2810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46160" y="371520"/>
            <a:ext cx="8845560" cy="1841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68360" y="2438280"/>
            <a:ext cx="837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Да – 18 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Нет 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882280" cy="15364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1 час – 7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2 часа-10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3 часа и более – 3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(норма в 3 классе - 2 часа)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882280" cy="1536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Литература – 13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Математика- 10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Русск. яз.- 8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Окружающий мир- 5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Информатика- 4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Английский- 2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10-07T13:50:3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