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7.jpeg" ContentType="image/jpeg"/>
  <Override PartName="/ppt/media/image5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gif" ContentType="image/gif"/>
  <Override PartName="/ppt/media/image21.jpeg" ContentType="image/jpeg"/>
  <Override PartName="/ppt/media/image26.jpeg" ContentType="image/jpeg"/>
  <Override PartName="/ppt/media/image32.jpeg" ContentType="image/jpeg"/>
  <Override PartName="/ppt/media/image16.jpeg" ContentType="image/jpeg"/>
  <Override PartName="/ppt/media/image20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9.gif" ContentType="image/gif"/>
  <Override PartName="/ppt/media/image14.jpeg" ContentType="image/jpeg"/>
  <Override PartName="/ppt/media/image41.jpeg" ContentType="image/jpeg"/>
  <Override PartName="/ppt/media/image2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27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32D-BA32-43A5-8A75-F5654D2F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BB6-21AA-4AA5-B6BD-A698B86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2D1-C385-42C5-A0A9-AA3B54F1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6A0-4B3C-4D54-918A-90A849E3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5BD-8B5B-47ED-99D7-56E5DDFB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0EF-D383-4026-AFCA-0E7D53B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099-95CC-4679-B1A4-829FC1E3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A9D-F64C-48FA-A2FA-98C88EBC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552-2756-4873-A921-5121AC5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004-894B-443C-95F5-03657F0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52A-DD99-4012-876A-5EB3AFA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8BE-A96C-43BB-9BCB-B6EC19A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5E1E-5983-48FE-B9E4-77150C2C6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Анна</cp:lastModifiedBy>
  <dcterms:modified xsi:type="dcterms:W3CDTF">2017-05-11T03:19:41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