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024-34AE-4CA8-816B-93F0FC81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6BC-D814-44B1-BAEA-82F9028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421-2466-4426-8533-F977D4FC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F22-385D-4C0D-8E2D-19E209C5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2A9-8C50-4804-AA3C-46E27591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774-B380-459B-A3C0-BAD3124E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104-6356-461A-8FEA-97C83380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A55-D8FD-402E-81C1-B93D0F4F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36C-4431-48FD-93BE-31BBFAD8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BC8E-3CE4-4F67-9FD5-DA4BDA3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E29-C58C-4A99-BE5E-5FDA2A7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50F-A7BD-4CAF-B035-45120647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ecfa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EABD-EAFA-4DE5-BC52-4D9853C64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2;&#208;&#183;&#208;&#190;&#208;&#177;&#209;&#128;&#208;&#176;&#208;&#182;&#208;&#181;&#208;&#189;&#208;&#184;&#208;&#181;:Peter_II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880" y="5409720"/>
            <a:ext cx="3787920" cy="58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групп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14479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катерина II – правительниц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Просвещённый абсолют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ложенная коми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формы Екатерины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тог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5105520" y="1371600"/>
            <a:ext cx="4008240" cy="49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работа по шабл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нать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«Просвещённый абсолютизм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женная комиссия, секуляризация, кодификац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ы в России Екатерины II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ять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овые терм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реформ Екатерины I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влияние на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воить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ния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ью, дополнительными рубр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ловарём, схем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порного консп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ические ч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560" y="6858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сть ум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меры в действи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а выбирать и привлекать на службу лично неприятных людей, но умных и способных, щедро их награжда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окровие сочеталось с честолюб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Users\Марина\Desktop\Урок по ФГОС\ek.jpg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-19080" y="-34920"/>
            <a:ext cx="9602640" cy="73836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84" name="TextBox 3"/>
          <p:cNvSpPr/>
          <p:nvPr/>
        </p:nvSpPr>
        <p:spPr>
          <a:xfrm>
            <a:off x="6028200" y="6246720"/>
            <a:ext cx="150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п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022440" y="45100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924160" y="563868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ство меры в дейст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6"/>
          <p:cNvSpPr/>
          <p:nvPr/>
        </p:nvSpPr>
        <p:spPr>
          <a:xfrm>
            <a:off x="76320" y="4395960"/>
            <a:ext cx="5825880" cy="874440"/>
          </a:xfrm>
          <a:prstGeom prst="rightArrow">
            <a:avLst>
              <a:gd name="adj1" fmla="val 50000"/>
              <a:gd name="adj2" fmla="val 49999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7"/>
          <p:cNvSpPr/>
          <p:nvPr/>
        </p:nvSpPr>
        <p:spPr>
          <a:xfrm>
            <a:off x="76320" y="5218200"/>
            <a:ext cx="5715000" cy="1030320"/>
          </a:xfrm>
          <a:prstGeom prst="rightArrow">
            <a:avLst>
              <a:gd name="adj1" fmla="val 50000"/>
              <a:gd name="adj2" fmla="val 49998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8"/>
          <p:cNvSpPr/>
          <p:nvPr/>
        </p:nvSpPr>
        <p:spPr>
          <a:xfrm>
            <a:off x="169920" y="6024600"/>
            <a:ext cx="5638680" cy="1081080"/>
          </a:xfrm>
          <a:prstGeom prst="rightArrow">
            <a:avLst>
              <a:gd name="adj1" fmla="val 50000"/>
              <a:gd name="adj2" fmla="val 50009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3"/>
          <p:cNvSpPr/>
          <p:nvPr/>
        </p:nvSpPr>
        <p:spPr>
          <a:xfrm>
            <a:off x="6156720" y="1598760"/>
            <a:ext cx="297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анализ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51721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676520" y="64911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Екатер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ль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228600" y="152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Просвещённый абсолютизм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28600" y="22860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свещённый абсолютизм»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литика абсолютизма второй половины XVIII в., которая выражалась в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и наиболее устаревших сторон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и общества по инициативе монарха-реформа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761200" y="6324480"/>
            <a:ext cx="36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работа с понят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24840"/>
            <a:ext cx="914400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воих мемуарах Екатерина так характериз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стояние России в начале своего царств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инансы были истощ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рмия не получала жалованья за 3 меся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орговля находилась в упад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бо многие ее отрасли были отданы в монопол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 было правильной системы в государственном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енное ведомство было погружено в дол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рское едва держалось, находясь в крайнем пренебре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уховенство было недовольно отнятием у него зем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авосудие продавалось с торгу, и зако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уководствовались только в тех случаях, когда они благоприятствовали лицу си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28600" y="430560"/>
            <a:ext cx="868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оженная комиссия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67-1769)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коллегиальный орг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России XVIII в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ываемый для кодификации законов, вступивших в силу после Соборного уложения 164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761200" y="6324480"/>
            <a:ext cx="36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работа с понят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8600" y="124920"/>
            <a:ext cx="8763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истории задаёт нам вопросы. Давайте ответим на некоторые из них при помощи викторины « Колесо истории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йдёте в учебнике п.2 с.10-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частвовал в Уложенной комисс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говорилось в «Наказе», составленной Екатериной II , с которым познакомили собравших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е удалось создать свод новых зак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формы Екатерины I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3г.- Реформа Се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4 г.- Секуляризация церковных зе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5 г.- Губернск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2 г.- Полицейск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5 г.- Жалованная грамота дворян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5 г. - Жалованная грамота гор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6 г.- Школьн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768040" y="6324480"/>
            <a:ext cx="5519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работа в группе (учимся сообщ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990720"/>
            <a:ext cx="484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мини-тест по теме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ростых вопроса (да-н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ложный вопрос (требует  развернутого отве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ortrait-of-Catherine-II-Wearing-a-Kokoshnik-Copy"/>
          <p:cNvPicPr/>
          <p:nvPr/>
        </p:nvPicPr>
        <p:blipFill>
          <a:blip r:embed="rId1"/>
          <a:stretch/>
        </p:blipFill>
        <p:spPr>
          <a:xfrm>
            <a:off x="5334120" y="1295280"/>
            <a:ext cx="398916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2765520" y="6324480"/>
            <a:ext cx="464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толстые и тонк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00px-Christian_August_of_Anhalt-Zerbst,_1725_(Antoine_Pesne)"/>
          <p:cNvPicPr/>
          <p:nvPr/>
        </p:nvPicPr>
        <p:blipFill>
          <a:blip r:embed="rId1"/>
          <a:stretch/>
        </p:blipFill>
        <p:spPr>
          <a:xfrm>
            <a:off x="152280" y="914400"/>
            <a:ext cx="4129200" cy="5181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Johanna_Elizabeth_of_Holstein-Gottorp"/>
          <p:cNvPicPr/>
          <p:nvPr/>
        </p:nvPicPr>
        <p:blipFill>
          <a:blip r:embed="rId2"/>
          <a:stretch/>
        </p:blipFill>
        <p:spPr>
          <a:xfrm>
            <a:off x="4495680" y="914400"/>
            <a:ext cx="40514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18000" y="617220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истиан-Август Ангальт-Цербст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197600" y="6172200"/>
            <a:ext cx="49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ганна-Елизавета Гольштейн-Готторп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§ 18, вопросы и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чинение «Почему эпоху Екатерины II называют «Золотым веком дворянств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окумент « Из Указа Екатерины II. 1767 г.», ответы на вопросы, с.14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0"/>
          <a:ext cx="9067680" cy="2814480"/>
        </p:xfrm>
        <a:graphic>
          <a:graphicData uri="http://schemas.openxmlformats.org/drawingml/2006/table">
            <a:tbl>
              <a:tblPr/>
              <a:tblGrid>
                <a:gridCol w="1752480"/>
                <a:gridCol w="2057400"/>
                <a:gridCol w="2667240"/>
                <a:gridCol w="2590560"/>
              </a:tblGrid>
              <a:tr h="235476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мент урока, вызвавший интер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я изменил в уро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я а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по 5-ти бальной систем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по 5-ти бальной систем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 txBox="1"/>
          <p:nvPr/>
        </p:nvSpPr>
        <p:spPr>
          <a:xfrm>
            <a:off x="228240" y="2819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катерина II – правительниц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Просвещённый абсолютиз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ложенная коми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формы Екатерины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тог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4343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3 феврал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744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София Фредерика Августа приехала в Петербург по приглашению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лизаветы Петровн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перешла из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лютеранст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слав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и получила имя Екатерины Алексеевны в честь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катерины 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атери импер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03"/>
          <p:cNvPicPr/>
          <p:nvPr/>
        </p:nvPicPr>
        <p:blipFill>
          <a:blip r:embed="rId1"/>
          <a:stretch/>
        </p:blipFill>
        <p:spPr>
          <a:xfrm>
            <a:off x="4572000" y="533520"/>
            <a:ext cx="4572000" cy="556236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3"/>
          <p:cNvSpPr/>
          <p:nvPr/>
        </p:nvSpPr>
        <p:spPr>
          <a:xfrm>
            <a:off x="391680" y="6005520"/>
            <a:ext cx="408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домысл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Екатерина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Вели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2 — 1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жиз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я 1729 г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ноября 1796 г. (67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он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 (12 сентября) 1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шественник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т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емник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аве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Ekaterina1760"/>
          <p:cNvPicPr/>
          <p:nvPr/>
        </p:nvPicPr>
        <p:blipFill>
          <a:blip r:embed="rId1"/>
          <a:stretch/>
        </p:blipFill>
        <p:spPr>
          <a:xfrm>
            <a:off x="4390920" y="1047600"/>
            <a:ext cx="4751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oronation_portrait_of_Peter_III_of_Russia_-1761"/>
          <p:cNvPicPr/>
          <p:nvPr/>
        </p:nvPicPr>
        <p:blipFill>
          <a:blip r:embed="rId1"/>
          <a:stretch/>
        </p:blipFill>
        <p:spPr>
          <a:xfrm>
            <a:off x="0" y="0"/>
            <a:ext cx="5253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81120" y="304560"/>
            <a:ext cx="3962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45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Екатерина была обвенчана с Карлом Петром-Ульрихом (Петром Феодоровичем) — будущим императором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тром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3434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октября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54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ликого князя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тр Федоровича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го супруги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атерины Алексеев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сын — будущий император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057ukinSS_PtImpPavla1MTROP"/>
          <p:cNvPicPr/>
          <p:nvPr/>
        </p:nvPicPr>
        <p:blipFill>
          <a:blip r:embed="rId1"/>
          <a:stretch/>
        </p:blipFill>
        <p:spPr>
          <a:xfrm>
            <a:off x="4343400" y="228600"/>
            <a:ext cx="49528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60199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 январ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лизаветы Петровн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и восшествие на престол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тра I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Екатерина 2 у гроба императрицы Елизаветы"/>
          <p:cNvPicPr/>
          <p:nvPr/>
        </p:nvPicPr>
        <p:blipFill>
          <a:blip r:embed="rId1"/>
          <a:stretch/>
        </p:blipFill>
        <p:spPr>
          <a:xfrm>
            <a:off x="0" y="0"/>
            <a:ext cx="7772400" cy="5905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7772400" y="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Н. Ге.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гро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рицы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1981080" y="3200400"/>
            <a:ext cx="4953240" cy="914400"/>
          </a:xfrm>
          <a:custGeom>
            <a:avLst/>
            <a:gdLst>
              <a:gd name="textAreaLeft" fmla="*/ 0 w 4953240"/>
              <a:gd name="textAreaRight" fmla="*/ 4953600 w 49532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чины свержения Петра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Пётр III Фёдорович, супруг Екатерин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0"/>
            <a:ext cx="2327040" cy="32004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6858000" y="1447920"/>
            <a:ext cx="2286000" cy="1371600"/>
          </a:xfrm>
          <a:prstGeom prst="wedgeRoundRectCallout">
            <a:avLst>
              <a:gd name="adj1" fmla="val -72083"/>
              <a:gd name="adj2" fmla="val 82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ачества» Пет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талкивали дворя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0" y="1523880"/>
            <a:ext cx="2209680" cy="1371600"/>
          </a:xfrm>
          <a:prstGeom prst="wedgeRoundRectCallout">
            <a:avLst>
              <a:gd name="adj1" fmla="val 65231"/>
              <a:gd name="adj2" fmla="val 72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пое завершение Войны с Прусс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0880" y="4572000"/>
            <a:ext cx="2286000" cy="1600200"/>
          </a:xfrm>
          <a:prstGeom prst="wedgeRoundRectCallout">
            <a:avLst>
              <a:gd name="adj1" fmla="val 50893"/>
              <a:gd name="adj2" fmla="val -91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новых мундиров прусского образ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791320" y="4419720"/>
            <a:ext cx="3200400" cy="1752480"/>
          </a:xfrm>
          <a:prstGeom prst="wedgeRoundRectCallout">
            <a:avLst>
              <a:gd name="adj1" fmla="val -52884"/>
              <a:gd name="adj2" fmla="val -71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и о войне с Данией за присоединение Шлезвига к Голштинскому герцог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3429000" y="4800600"/>
            <a:ext cx="2133720" cy="1371600"/>
          </a:xfrm>
          <a:prstGeom prst="wedgeRoundRectCallout">
            <a:avLst>
              <a:gd name="adj1" fmla="val -14060"/>
              <a:gd name="adj2" fmla="val -113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императора избавится от супр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4572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енняя политика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катерины 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241200" y="3351240"/>
            <a:ext cx="378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ем: подводящий 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04-20T03:29:2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