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236-7EA4-45DF-A641-573A40A9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A6E-CA43-49D3-A0C0-140095FF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AEC-AF1D-4754-AF09-0D6049BE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DB5-89FC-4F65-A2D1-2227D18F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08B-B528-495A-8A3A-DAFB68D1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06E3-BEFD-461E-81EF-4D75B916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27A-2173-44B3-BDDB-680ABB21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746-930C-4849-A767-E87DDD3C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545-6F85-485F-A737-00023858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86C-803B-4965-80CC-F6D57FA1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BA8-3554-47E1-A20F-50F027DA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29C-10A8-4115-8BFE-2C4326B2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ecfa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155C-87D2-4331-A93F-823DE31DA5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52;&#208;&#183;&#208;&#190;&#208;&#177;&#209;&#128;&#208;&#176;&#208;&#182;&#208;&#181;&#208;&#189;&#208;&#184;&#208;&#181;:Peter_III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66880" y="5409720"/>
            <a:ext cx="3787920" cy="58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: группир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144792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катерина II – правительница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Просвещённый абсолютиз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ложенная комис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формы Екатерины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тоги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5105520" y="1371600"/>
            <a:ext cx="4008240" cy="497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: работа по шабло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знать: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«Просвещённый абсолютизм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женная комиссия, секуляризация, кодификац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ормы в России Екатерины II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 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нять: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новые терми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реформ Екатерины I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влияние на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 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воить: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мения: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ью, дополнительными рубрик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ловарём, схем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порного консп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ихологические че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4560" y="6858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пени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кость ум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меры в действия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ла выбирать и привлекать на службу лично неприятных людей, но умных и способных, щедро их награждал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днокровие сочеталось с честолюби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Users\Марина\Desktop\Урок по ФГОС\ek.jpg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-19080" y="-34920"/>
            <a:ext cx="9602640" cy="73836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84" name="TextBox 3"/>
          <p:cNvSpPr/>
          <p:nvPr/>
        </p:nvSpPr>
        <p:spPr>
          <a:xfrm>
            <a:off x="6028200" y="6246720"/>
            <a:ext cx="15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п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6022440" y="45100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5924160" y="563868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увство меры в дейст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право 6"/>
          <p:cNvSpPr/>
          <p:nvPr/>
        </p:nvSpPr>
        <p:spPr>
          <a:xfrm>
            <a:off x="76320" y="4395960"/>
            <a:ext cx="5825880" cy="874440"/>
          </a:xfrm>
          <a:prstGeom prst="rightArrow">
            <a:avLst>
              <a:gd name="adj1" fmla="val 50000"/>
              <a:gd name="adj2" fmla="val 49999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право 7"/>
          <p:cNvSpPr/>
          <p:nvPr/>
        </p:nvSpPr>
        <p:spPr>
          <a:xfrm>
            <a:off x="76320" y="5218200"/>
            <a:ext cx="5715000" cy="1030320"/>
          </a:xfrm>
          <a:prstGeom prst="rightArrow">
            <a:avLst>
              <a:gd name="adj1" fmla="val 50000"/>
              <a:gd name="adj2" fmla="val 49998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вправо 8"/>
          <p:cNvSpPr/>
          <p:nvPr/>
        </p:nvSpPr>
        <p:spPr>
          <a:xfrm>
            <a:off x="169920" y="6024600"/>
            <a:ext cx="5638680" cy="1081080"/>
          </a:xfrm>
          <a:prstGeom prst="rightArrow">
            <a:avLst>
              <a:gd name="adj1" fmla="val 50000"/>
              <a:gd name="adj2" fmla="val 50009"/>
            </a:avLst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дзаголовок 3"/>
          <p:cNvSpPr/>
          <p:nvPr/>
        </p:nvSpPr>
        <p:spPr>
          <a:xfrm>
            <a:off x="6156720" y="1598760"/>
            <a:ext cx="2972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: анализ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51721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1676520" y="649116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Екатерин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льт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Просвещённый абсолютизм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228600" y="22860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свещённый абсолютизм»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олитика абсолютизма второй половины XVIII в., которая выражалась в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ании наиболее устаревших сторон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и общества по инициативе монарха-реформатор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761200" y="6324480"/>
            <a:ext cx="36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: работа с понят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24840"/>
            <a:ext cx="9144000" cy="67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своих мемуарах Екатерина так характеризов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стояние России в начале своего царств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Финансы были истоще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рмия не получала жалованья за 3 меся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орговля находилась в упад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бо многие ее отрасли были отданы в монопол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 было правильной системы в государственном хозяй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оенное ведомство было погружено в долг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орское едва держалось, находясь в крайнем пренебреж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уховенство было недовольно отнятием у него земе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авосудие продавалось с торгу, и зако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уководствовались только в тех случаях, когда они благоприятствовали лицу силь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28600" y="430560"/>
            <a:ext cx="8680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ложенная комиссия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67-1769)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й коллегиальный орга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тории России XVIII в.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ываемый для кодификации законов, вступивших в силу после Соборного уложения 1649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761200" y="6324480"/>
            <a:ext cx="36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: работа с понят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28600" y="124920"/>
            <a:ext cx="8763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со истории задаёт нам вопросы. Давайте ответим на некоторые из них при помощи викторины « Колесо истории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йдёте в учебнике п.2 с.10-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?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участвовал в Уложенной комисси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?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говорилось в «Наказе», составленной Екатериной II , с которым познакомили собравших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?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не удалось создать свод новых закон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формы Екатерины I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63г.- Реформа Сен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64 г.- Секуляризация церковных зем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75 г.- Губернская рефор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82 г.- Полицейская рефор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85 г.- Жалованная грамота дворянст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85 г. - Жалованная грамота горо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86 г.- Школьная рефор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768040" y="6324480"/>
            <a:ext cx="5519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: работа в группе (учимся сообщ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560" y="990720"/>
            <a:ext cx="484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мини-тест по теме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простых вопроса (да-н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ложный вопрос (требует  развернутого отве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Portrait-of-Catherine-II-Wearing-a-Kokoshnik-Copy"/>
          <p:cNvPicPr/>
          <p:nvPr/>
        </p:nvPicPr>
        <p:blipFill>
          <a:blip r:embed="rId1"/>
          <a:stretch/>
        </p:blipFill>
        <p:spPr>
          <a:xfrm>
            <a:off x="5334120" y="1295280"/>
            <a:ext cx="3989160" cy="48006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2765520" y="6324480"/>
            <a:ext cx="4641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: толстые и тонки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200px-Christian_August_of_Anhalt-Zerbst,_1725_(Antoine_Pesne)"/>
          <p:cNvPicPr/>
          <p:nvPr/>
        </p:nvPicPr>
        <p:blipFill>
          <a:blip r:embed="rId1"/>
          <a:stretch/>
        </p:blipFill>
        <p:spPr>
          <a:xfrm>
            <a:off x="152280" y="914400"/>
            <a:ext cx="4129200" cy="5181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Johanna_Elizabeth_of_Holstein-Gottorp"/>
          <p:cNvPicPr/>
          <p:nvPr/>
        </p:nvPicPr>
        <p:blipFill>
          <a:blip r:embed="rId2"/>
          <a:stretch/>
        </p:blipFill>
        <p:spPr>
          <a:xfrm>
            <a:off x="4495680" y="914400"/>
            <a:ext cx="405144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18000" y="6172200"/>
            <a:ext cx="42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истиан-Август Ангальт-Цербст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4197600" y="6172200"/>
            <a:ext cx="49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ганна-Елизавета Гольштейн-Готторп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§ 18, вопросы и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чинение «Почему эпоху Екатерины II называют «Золотым веком дворянства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окумент « Из Указа Екатерины II. 1767 г.», ответы на вопросы, с.14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0"/>
          <a:ext cx="9067680" cy="2814480"/>
        </p:xfrm>
        <a:graphic>
          <a:graphicData uri="http://schemas.openxmlformats.org/drawingml/2006/table">
            <a:tbl>
              <a:tblPr/>
              <a:tblGrid>
                <a:gridCol w="1752480"/>
                <a:gridCol w="2057400"/>
                <a:gridCol w="2667240"/>
                <a:gridCol w="2590560"/>
              </a:tblGrid>
              <a:tr h="2354760"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мент урока, вызвавший интер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бы я изменил в уро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я а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по 5-ти бальной систем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це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по 5-ти бальной систем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11" name=""/>
          <p:cNvSpPr txBox="1"/>
          <p:nvPr/>
        </p:nvSpPr>
        <p:spPr>
          <a:xfrm>
            <a:off x="228240" y="2819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катерина II – правительница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Просвещённый абсолютиз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ложенная комис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формы Екатерины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тоги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омашнее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51920"/>
            <a:ext cx="4343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3 феврал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744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София Фредерика Августа приехала в Петербург по приглашению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лизаветы Петровн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перешла из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лютеранств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авославие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и получила имя Екатерины Алексеевны в честь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катерины I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атери императр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003"/>
          <p:cNvPicPr/>
          <p:nvPr/>
        </p:nvPicPr>
        <p:blipFill>
          <a:blip r:embed="rId1"/>
          <a:stretch/>
        </p:blipFill>
        <p:spPr>
          <a:xfrm>
            <a:off x="4572000" y="533520"/>
            <a:ext cx="4572000" cy="5562360"/>
          </a:xfrm>
          <a:prstGeom prst="rect">
            <a:avLst/>
          </a:prstGeom>
          <a:ln w="0">
            <a:noFill/>
          </a:ln>
        </p:spPr>
      </p:pic>
      <p:sp>
        <p:nvSpPr>
          <p:cNvPr id="51" name="Подзаголовок 3"/>
          <p:cNvSpPr/>
          <p:nvPr/>
        </p:nvSpPr>
        <p:spPr>
          <a:xfrm>
            <a:off x="391680" y="6005520"/>
            <a:ext cx="4085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: домысл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Екатерина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Вели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ы прав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62 — 17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ы жизн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ая 1729 г.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ноября 1796 г. (67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ронац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 (12 сентября) 17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едшественник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етр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еемник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авел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Ekaterina1760"/>
          <p:cNvPicPr/>
          <p:nvPr/>
        </p:nvPicPr>
        <p:blipFill>
          <a:blip r:embed="rId1"/>
          <a:stretch/>
        </p:blipFill>
        <p:spPr>
          <a:xfrm>
            <a:off x="4390920" y="1047600"/>
            <a:ext cx="475164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Coronation_portrait_of_Peter_III_of_Russia_-1761"/>
          <p:cNvPicPr/>
          <p:nvPr/>
        </p:nvPicPr>
        <p:blipFill>
          <a:blip r:embed="rId1"/>
          <a:stretch/>
        </p:blipFill>
        <p:spPr>
          <a:xfrm>
            <a:off x="0" y="0"/>
            <a:ext cx="5253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81120" y="304560"/>
            <a:ext cx="39625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ентября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745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 Екатерина была обвенчана с Карлом Петром-Ульрихом (Петром Феодоровичем) — будущим императором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тром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3434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октября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754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еликого князя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тр Федоровича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его супруги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катерины Алексеев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сын — будущий император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057ukinSS_PtImpPavla1MTROP"/>
          <p:cNvPicPr/>
          <p:nvPr/>
        </p:nvPicPr>
        <p:blipFill>
          <a:blip r:embed="rId1"/>
          <a:stretch/>
        </p:blipFill>
        <p:spPr>
          <a:xfrm>
            <a:off x="4343400" y="228600"/>
            <a:ext cx="495288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60199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5 январ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176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рть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Елизаветы Петровн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и восшествие на престол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етра II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Екатерина 2 у гроба императрицы Елизаветы"/>
          <p:cNvPicPr/>
          <p:nvPr/>
        </p:nvPicPr>
        <p:blipFill>
          <a:blip r:embed="rId1"/>
          <a:stretch/>
        </p:blipFill>
        <p:spPr>
          <a:xfrm>
            <a:off x="0" y="0"/>
            <a:ext cx="7772400" cy="5905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1"/>
          <p:cNvSpPr/>
          <p:nvPr/>
        </p:nvSpPr>
        <p:spPr>
          <a:xfrm>
            <a:off x="7772400" y="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Н. Ге. 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гроб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ератрицы Елиза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4"/>
          <p:cNvSpPr/>
          <p:nvPr/>
        </p:nvSpPr>
        <p:spPr>
          <a:xfrm>
            <a:off x="1981080" y="3200400"/>
            <a:ext cx="4953240" cy="914400"/>
          </a:xfrm>
          <a:custGeom>
            <a:avLst/>
            <a:gdLst>
              <a:gd name="textAreaLeft" fmla="*/ 0 w 4953240"/>
              <a:gd name="textAreaRight" fmla="*/ 4953600 w 495324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чины свержения Петра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Пётр III Фёдорович, супруг Екатерин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0"/>
            <a:ext cx="2327040" cy="32004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6"/>
          <p:cNvSpPr/>
          <p:nvPr/>
        </p:nvSpPr>
        <p:spPr>
          <a:xfrm>
            <a:off x="6858000" y="1447920"/>
            <a:ext cx="2286000" cy="1371600"/>
          </a:xfrm>
          <a:prstGeom prst="wedgeRoundRectCallout">
            <a:avLst>
              <a:gd name="adj1" fmla="val -72083"/>
              <a:gd name="adj2" fmla="val 8240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удачества» Пет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талкивали дворя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0" y="1523880"/>
            <a:ext cx="2209680" cy="1371600"/>
          </a:xfrm>
          <a:prstGeom prst="wedgeRoundRectCallout">
            <a:avLst>
              <a:gd name="adj1" fmla="val 65231"/>
              <a:gd name="adj2" fmla="val 72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пое завершение Войны с Прусс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380880" y="4572000"/>
            <a:ext cx="2286000" cy="1600200"/>
          </a:xfrm>
          <a:prstGeom prst="wedgeRoundRectCallout">
            <a:avLst>
              <a:gd name="adj1" fmla="val 50893"/>
              <a:gd name="adj2" fmla="val -9137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новых мундиров прусского образ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5791320" y="4419720"/>
            <a:ext cx="3200400" cy="1752480"/>
          </a:xfrm>
          <a:prstGeom prst="wedgeRoundRectCallout">
            <a:avLst>
              <a:gd name="adj1" fmla="val -52884"/>
              <a:gd name="adj2" fmla="val -71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хи о войне с Данией за присоединение Шлезвига к Голштинскому герцог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3429000" y="4800600"/>
            <a:ext cx="2133720" cy="1371600"/>
          </a:xfrm>
          <a:prstGeom prst="wedgeRoundRectCallout">
            <a:avLst>
              <a:gd name="adj1" fmla="val -14060"/>
              <a:gd name="adj2" fmla="val -11335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императора избавится от супр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4572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утренняя политика</a:t>
            </a:r>
            <a:br>
              <a:rPr sz="6000"/>
            </a:b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Екатерины I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241200" y="3351240"/>
            <a:ext cx="378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: подводящий диа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3-04-20T03:29:2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