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F791-79F8-4030-9B02-55A371A4D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ED9D-E414-41CD-9169-957F3303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465E-CD67-4C24-8D58-FC54E1CD0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1EF7-9E79-4442-9D6C-DB508828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FA65-EB9A-4E5D-8076-865A2E3F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7CAF-E321-45FC-B0C0-91E02C1A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7C99-0CFA-4C2B-9511-BE6C3E91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7296-2270-4201-947C-6743F652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E27C-A099-480F-9D17-BB5CFF79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3156-5860-43D4-8D51-41AC4D39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4D5B-3FCA-4B2A-B685-BE1F2CD9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86C5-4782-4B1D-9431-CA08CEBB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ecfa"/>
            </a:gs>
            <a:gs pos="100000">
              <a:srgbClr val="8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6AC7-B664-4931-A5EB-880B39A00B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208;&#152;&#208;&#183;&#208;&#190;&#208;&#177;&#209;&#128;&#208;&#176;&#208;&#182;&#208;&#181;&#208;&#189;&#208;&#184;&#208;&#181;:Peter_III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Екатерина II – правительница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«Просвещённый абсолютизм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ложенная комисс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еформы Екатерины 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Итоги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Домашне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сихологические че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4560" y="68580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пени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кость ум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о меры в действиях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ла выбирать и привлекать на службу лично неприятных людей, но умных и способных, щедро их награждал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аднокровие сочеталось с честолюбие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C:\Users\Марина\Desktop\Урок по ФГОС\ek.jpg"/>
          <p:cNvPicPr/>
          <p:nvPr/>
        </p:nvPicPr>
        <p:blipFill>
          <a:blip r:embed="rId1"/>
          <a:stretch/>
        </p:blipFill>
        <p:spPr>
          <a:xfrm>
            <a:off x="6477120" y="0"/>
            <a:ext cx="266688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00800" cy="46209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1676520" y="649116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исьмо Екатерины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Вольте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228600" y="15228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Просвещённый абсолютизм» - э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095880" y="4495680"/>
            <a:ext cx="2667240" cy="19256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3276720" y="649116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исьмо Екатерины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Вольте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228600" y="228600"/>
            <a:ext cx="8001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свещённый абсолютизм»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олитика абсолютизма второй половины XVIII в., которая выражалась в преобразовании наиболее устаревших сторон жизни общества по инициативе монарха-реформато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0" y="24840"/>
            <a:ext cx="9144000" cy="67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своих мемуарах Екатерина так характеризов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остояние России в начале своего царств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Финансы были истоще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рмия не получала жалованья за 3 месяц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орговля находилась в упад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бо многие ее отрасли были отданы в монопол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е было правильной системы в государственном хозяй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оенное ведомство было погружено в долг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морское едва держалось, находясь в крайнем пренебреже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Духовенство было недовольно отнятием у него земел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авосудие продавалось с торгу, и зако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уководствовались только в тех случаях, когда они благоприятствовали лицу сильн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228600" y="430560"/>
            <a:ext cx="8680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ложенная комиссия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767-1769)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ный коллегиальный орга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стории России XVIII в.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ываемый для кодификации законов, вступивших в силу после Соборного уложения 1649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28600" y="673560"/>
            <a:ext cx="8763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есо истории задаёт нам вопросы. Давайте ответим на некоторые из них при помощи викторины « Колесо истории». Ответы найдёте в учебнике п.2 с.10-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?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участвовал в Уложенной комиссии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?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говорилось в «Наказе», составленной Екатериной II , с которым познакомили собравшихс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?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не удалось создать свод новых законо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формы Екатерины I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44756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63г.- Реформа Сен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64 г.- Секуляризация церковных зем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75 г.- Губернская рефор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82 г.- Полицейская рефор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85 г.- Жалованная грамота дворянст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85 г. - Жалованная грамота горо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86 г.- Школьная рефор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49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 мини-тест по теме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простых вопроса (да-н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ложный вопрос (треб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ернутого отве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Portrait-of-Catherine-II-Wearing-a-Kokoshnik-Copy"/>
          <p:cNvPicPr/>
          <p:nvPr/>
        </p:nvPicPr>
        <p:blipFill>
          <a:blip r:embed="rId1"/>
          <a:stretch/>
        </p:blipFill>
        <p:spPr>
          <a:xfrm>
            <a:off x="5154480" y="1676520"/>
            <a:ext cx="3989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Дмитрий Левицкий"/>
          <p:cNvPicPr/>
          <p:nvPr/>
        </p:nvPicPr>
        <p:blipFill>
          <a:blip r:embed="rId1"/>
          <a:stretch/>
        </p:blipFill>
        <p:spPr>
          <a:xfrm>
            <a:off x="4114800" y="0"/>
            <a:ext cx="502920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Роди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200px-Christian_August_of_Anhalt-Zerbst,_1725_(Antoine_Pesne)"/>
          <p:cNvPicPr/>
          <p:nvPr/>
        </p:nvPicPr>
        <p:blipFill>
          <a:blip r:embed="rId1"/>
          <a:stretch/>
        </p:blipFill>
        <p:spPr>
          <a:xfrm>
            <a:off x="152280" y="914400"/>
            <a:ext cx="4129200" cy="5181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Johanna_Elizabeth_of_Holstein-Gottorp"/>
          <p:cNvPicPr/>
          <p:nvPr/>
        </p:nvPicPr>
        <p:blipFill>
          <a:blip r:embed="rId2"/>
          <a:stretch/>
        </p:blipFill>
        <p:spPr>
          <a:xfrm>
            <a:off x="4495680" y="914400"/>
            <a:ext cx="4051440" cy="52578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9"/>
          <p:cNvSpPr/>
          <p:nvPr/>
        </p:nvSpPr>
        <p:spPr>
          <a:xfrm>
            <a:off x="0" y="6172200"/>
            <a:ext cx="425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истиан-Август Ангальт-Цербст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4197960" y="6172200"/>
            <a:ext cx="49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оганна-Елизавета Гольштейн-Готторп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304560"/>
            <a:ext cx="48769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 нравстенности и жизненных идеала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еня обворовывают так же, как и всех, но это хороший знак и показывает, что есть что вороват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ранныя слова оскорбляют уста, из которых исходят,столько же, сколько и уши, в которыя входя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уде увидишь пороки ближняго, — не оказывай ему свои осужд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лкие слабости проходят сами собо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еловек только тогда счастлив, когда заня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 всяком возрасте почитай родите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ожь изо всех вреднейших есть пор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 хвалю громко, а порицаю вполголо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род, который поет и пляшет, зла не дум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089ovikovskiy_ekaterina2"/>
          <p:cNvPicPr/>
          <p:nvPr/>
        </p:nvPicPr>
        <p:blipFill>
          <a:blip r:embed="rId1"/>
          <a:stretch/>
        </p:blipFill>
        <p:spPr>
          <a:xfrm>
            <a:off x="4746600" y="0"/>
            <a:ext cx="439740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0"/>
            <a:ext cx="5410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 период ее правления значительно увеличилась государственная территория Росс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з 50 губерний 11 были приобретены в годы ее царств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аселение страны увеличилось с 19 до 34 миллионов челов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умма государственных доходов выросла с 16 до 68 миллионов рублей (население увеличилось - вдвое, а доходы - более, чем в четыре раз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Были построены 144 новых города (более 4 городов в год на протяжении всего царствовани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Было издано более 200 законодательных ак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 Россию хлынул поток переселенцев из Европ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очти вдвое увеличилась армия, количество кораблей российского флота выросло с 20 до 67 линейных кораблей, не считая других суд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Армией и флотом было одержано 78 блестящих побед, упрочивших международный авторитет Росси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453px-Cath2russia"/>
          <p:cNvPicPr/>
          <p:nvPr/>
        </p:nvPicPr>
        <p:blipFill>
          <a:blip r:embed="rId1"/>
          <a:stretch/>
        </p:blipFill>
        <p:spPr>
          <a:xfrm>
            <a:off x="5460840" y="609480"/>
            <a:ext cx="36831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533520"/>
            <a:ext cx="43434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13 февраля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1744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София Фредерика Августа приехала в Петербург по приглашению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Елизаветы Петровны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, перешла из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лютеранства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в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авославие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и получила имя Екатерины Алексеевны в честь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Екатерины I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атери императр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003"/>
          <p:cNvPicPr/>
          <p:nvPr/>
        </p:nvPicPr>
        <p:blipFill>
          <a:blip r:embed="rId1"/>
          <a:stretch/>
        </p:blipFill>
        <p:spPr>
          <a:xfrm>
            <a:off x="4572000" y="533520"/>
            <a:ext cx="45720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Екатерина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 Вели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ы правл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62 — 17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ы жизн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мая 1729 г.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ноября 1796 г. (67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оронац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 (12 сентября) 17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едшественник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етр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еемник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авел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Ekaterina1760"/>
          <p:cNvPicPr/>
          <p:nvPr/>
        </p:nvPicPr>
        <p:blipFill>
          <a:blip r:embed="rId1"/>
          <a:stretch/>
        </p:blipFill>
        <p:spPr>
          <a:xfrm>
            <a:off x="4390920" y="1047600"/>
            <a:ext cx="475164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Coronation_portrait_of_Peter_III_of_Russia_-1761"/>
          <p:cNvPicPr/>
          <p:nvPr/>
        </p:nvPicPr>
        <p:blipFill>
          <a:blip r:embed="rId1"/>
          <a:stretch/>
        </p:blipFill>
        <p:spPr>
          <a:xfrm>
            <a:off x="0" y="0"/>
            <a:ext cx="52531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81120" y="304560"/>
            <a:ext cx="39625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ентября 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745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а Екатерина была обвенчана с Карлом Петром-Ульрихом (Петром Феодоровичем) — будущим императором 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тром I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1 октября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754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у великого князя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етр Федоровича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и его супруги Екатерины Алексеевны родился сын — будущий император Павел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057ukinSS_PtImpPavla1MTROP"/>
          <p:cNvPicPr/>
          <p:nvPr/>
        </p:nvPicPr>
        <p:blipFill>
          <a:blip r:embed="rId1"/>
          <a:stretch/>
        </p:blipFill>
        <p:spPr>
          <a:xfrm>
            <a:off x="4343400" y="228600"/>
            <a:ext cx="47862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601992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5 января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176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рть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Елизаветы Петровны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и восшествие на престол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етра III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Екатерина 2 у гроба императрицы Елизаветы"/>
          <p:cNvPicPr/>
          <p:nvPr/>
        </p:nvPicPr>
        <p:blipFill>
          <a:blip r:embed="rId1"/>
          <a:stretch/>
        </p:blipFill>
        <p:spPr>
          <a:xfrm>
            <a:off x="0" y="0"/>
            <a:ext cx="7772400" cy="59054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1"/>
          <p:cNvSpPr/>
          <p:nvPr/>
        </p:nvSpPr>
        <p:spPr>
          <a:xfrm>
            <a:off x="7772400" y="0"/>
            <a:ext cx="137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.Н. Ге. Екатери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 гроб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ператрицы Елиза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4"/>
          <p:cNvSpPr/>
          <p:nvPr/>
        </p:nvSpPr>
        <p:spPr>
          <a:xfrm>
            <a:off x="1981080" y="3200400"/>
            <a:ext cx="4953240" cy="914400"/>
          </a:xfrm>
          <a:custGeom>
            <a:avLst/>
            <a:gdLst>
              <a:gd name="textAreaLeft" fmla="*/ 0 w 4953240"/>
              <a:gd name="textAreaRight" fmla="*/ 4953600 w 495324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ичины свержения Петра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Пётр III Фёдорович, супруг Екатерин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0"/>
            <a:ext cx="2327040" cy="320040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6"/>
          <p:cNvSpPr/>
          <p:nvPr/>
        </p:nvSpPr>
        <p:spPr>
          <a:xfrm>
            <a:off x="6858000" y="1447920"/>
            <a:ext cx="2286000" cy="1371600"/>
          </a:xfrm>
          <a:prstGeom prst="wedgeRoundRectCallout">
            <a:avLst>
              <a:gd name="adj1" fmla="val -72083"/>
              <a:gd name="adj2" fmla="val 8240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Чудачества» Петра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отталкивали дворя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0" y="1523880"/>
            <a:ext cx="2209680" cy="1371600"/>
          </a:xfrm>
          <a:prstGeom prst="wedgeRoundRectCallout">
            <a:avLst>
              <a:gd name="adj1" fmla="val 65231"/>
              <a:gd name="adj2" fmla="val 7210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елепое завершение Войны с Прусс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8"/>
          <p:cNvSpPr/>
          <p:nvPr/>
        </p:nvSpPr>
        <p:spPr>
          <a:xfrm>
            <a:off x="380880" y="4572000"/>
            <a:ext cx="2667240" cy="1600200"/>
          </a:xfrm>
          <a:prstGeom prst="wedgeRoundRectCallout">
            <a:avLst>
              <a:gd name="adj1" fmla="val 50893"/>
              <a:gd name="adj2" fmla="val -9137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ведение новых мундиров прусского образ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9"/>
          <p:cNvSpPr/>
          <p:nvPr/>
        </p:nvSpPr>
        <p:spPr>
          <a:xfrm>
            <a:off x="5791320" y="4419720"/>
            <a:ext cx="2971800" cy="1523880"/>
          </a:xfrm>
          <a:prstGeom prst="wedgeRoundRectCallout">
            <a:avLst>
              <a:gd name="adj1" fmla="val -52884"/>
              <a:gd name="adj2" fmla="val -7145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лухи о войне с Данией за присоединение Шлезвига к Голштинскому герцог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"/>
          <p:cNvSpPr/>
          <p:nvPr/>
        </p:nvSpPr>
        <p:spPr>
          <a:xfrm>
            <a:off x="3429000" y="4800600"/>
            <a:ext cx="2133720" cy="1295280"/>
          </a:xfrm>
          <a:prstGeom prst="wedgeRoundRectCallout">
            <a:avLst>
              <a:gd name="adj1" fmla="val -14060"/>
              <a:gd name="adj2" fmla="val -11335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Желание императора избавится от супру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4572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утренняя политика</a:t>
            </a:r>
            <a:br>
              <a:rPr sz="6000"/>
            </a:br>
            <a:r>
              <a:rPr b="1" i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Екатерины I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1</cp:lastModifiedBy>
  <dcterms:modified xsi:type="dcterms:W3CDTF">2023-10-08T15:36:2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