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0FE-DD46-44E3-BF0A-119A1792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DC2-6867-4322-A474-3E0AABE2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EA0-F5C0-4B54-BFE9-3127EA9D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24E-396E-4110-A639-FC17ED1F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F65-7343-4FB1-9E57-C8C13E2C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242-413F-4A9B-9AF7-78E2098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99B-8478-4DCC-8F9F-4B9423C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456-CC6B-438B-9A73-8E20030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77B-334C-4632-A1C5-EEDD4BD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C0A-170F-498D-A361-BEBB150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CD3-C62B-4BE7-B672-D3AEBEB9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579-6C55-4B31-9B44-A0021C6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ecfa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D27-4752-4D91-A23C-175240114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Peter_II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ческие ч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5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у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меры в 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а выбирать и привлекать на службу лично неприятных людей, но умных и способных, щедро их награжд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окровие сочеталось с честолюб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Марина\Desktop\Урок по ФГОС\ek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620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6765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28600" y="152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Просвещённый абсолютизм»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667240" cy="192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2767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28600" y="22860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свещённый абсолютизм»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итика абсолютизма второй половины XVIII в., которая выражалась в преобразовании наиболее устаревших сторон жизни общества по инициативе монарха-реформат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24840"/>
            <a:ext cx="9144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воих мемуарах Екатерина так характериз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ояние России в начале своего царств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нансы были исто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рмия не получала жалованья за 3 меся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орговля находилась в упа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бо многие ее отрасли были отданы в монопо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было правильной системы в государственн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енное ведомство было погружено в дол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рское едва держалось, находясь в крайнем пренебре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уховенство было недовольно отнятием у него зем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авосудие продавалось с торгу, и зак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ствовались только в тех случаях, когда они благоприятствовали лицу си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28600" y="430560"/>
            <a:ext cx="868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оженная комисси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67-1769)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коллегиальный орг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России XVIII в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аемый для кодификации законов, вступивших в силу после Соборного уложения 164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8600" y="67356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стории задаёт нам вопросы. Давайте ответим на некоторые из них при помощи викторины « Колесо истории». Ответы найдёте в учебнике п.2 с.10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аствовал в Уложенной комисс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оворилось в «Наказе», составленной Екатериной II , с которым познакомили собравших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удалось создать свод новых зак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формы Екатерины 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3г.- Реформа С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4 г.- Секуляризация церковных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5 г.- Губерн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2 г.- Полицей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- Жалованная грамота дворян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 - Жалованная грамота го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6 г.- Школьн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мини-тест по теме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ростых вопроса (да-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ожный вопрос (треб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ого отве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ortrait-of-Catherine-II-Wearing-a-Kokoshnik-Copy"/>
          <p:cNvPicPr/>
          <p:nvPr/>
        </p:nvPicPr>
        <p:blipFill>
          <a:blip r:embed="rId1"/>
          <a:stretch/>
        </p:blipFill>
        <p:spPr>
          <a:xfrm>
            <a:off x="5154480" y="1676520"/>
            <a:ext cx="398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Дмитрий Левицкий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Christian_August_of_Anhalt-Zerbst,_1725_(Antoine_Pesne)"/>
          <p:cNvPicPr/>
          <p:nvPr/>
        </p:nvPicPr>
        <p:blipFill>
          <a:blip r:embed="rId1"/>
          <a:stretch/>
        </p:blipFill>
        <p:spPr>
          <a:xfrm>
            <a:off x="152280" y="914400"/>
            <a:ext cx="4129200" cy="5181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ohanna_Elizabeth_of_Holstein-Gottorp"/>
          <p:cNvPicPr/>
          <p:nvPr/>
        </p:nvPicPr>
        <p:blipFill>
          <a:blip r:embed="rId2"/>
          <a:stretch/>
        </p:blipFill>
        <p:spPr>
          <a:xfrm>
            <a:off x="4495680" y="914400"/>
            <a:ext cx="40514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0" y="617220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-Август Ангальт-Цербст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97960" y="617220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ганна-Елизавета Гольштейн-Готторп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 нравстенности и жизненных идеал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ня обворовывают так же, как и всех, но это хороший знак и показывает, что есть что вор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нныя слова оскорбляют уста, из которых исходят,столько же, сколько и уши, в которыя вход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е увидишь пороки ближняго, — не оказывай ему свои 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лкие слабости проходят сами соб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к только тогда счастлив, когда зан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сяком возрасте почитай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жь изо всех вреднейших есть по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хвалю громко, а порицаю вполгол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од, который поет и пляшет, зла не ду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089ovikovskiy_ekaterina2"/>
          <p:cNvPicPr/>
          <p:nvPr/>
        </p:nvPicPr>
        <p:blipFill>
          <a:blip r:embed="rId1"/>
          <a:stretch/>
        </p:blipFill>
        <p:spPr>
          <a:xfrm>
            <a:off x="4746600" y="0"/>
            <a:ext cx="4397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период ее правления значительно увеличилась государственная территория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 50 губерний 11 были приобретены в годы ее цар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еление страны увеличилось с 19 до 34 миллионов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умма государственных доходов выросла с 16 до 68 миллионов рублей (население увеличилось - вдвое, а доходы - более, чем в четыре раз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ыли построены 144 новых города (более 4 городов в год на протяжении всего царствова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ыло издано более 200 законодательн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Россию хлынул поток переселенцев из Евро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чти вдвое увеличилась армия, количество кораблей российского флота выросло с 20 до 67 линейных кораблей, не считая других су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рмией и флотом было одержано 78 блестящих побед, упрочивших международный авторитет Росс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453px-Cath2russia"/>
          <p:cNvPicPr/>
          <p:nvPr/>
        </p:nvPicPr>
        <p:blipFill>
          <a:blip r:embed="rId1"/>
          <a:stretch/>
        </p:blipFill>
        <p:spPr>
          <a:xfrm>
            <a:off x="5460840" y="609480"/>
            <a:ext cx="3683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4343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3 феврал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74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София Фредерика Августа приехала в Петербург по приглашению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ерешла из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ютеранс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и получила имя Екатерины Алексеевны в честь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катерины 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тери импер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03"/>
          <p:cNvPicPr/>
          <p:nvPr/>
        </p:nvPicPr>
        <p:blipFill>
          <a:blip r:embed="rId1"/>
          <a:stretch/>
        </p:blipFill>
        <p:spPr>
          <a:xfrm>
            <a:off x="4572000" y="5335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2 — 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я 1729 г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оября 1796 г. (67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он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(12 сентября) 1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шествен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ем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ве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Ekaterina1760"/>
          <p:cNvPicPr/>
          <p:nvPr/>
        </p:nvPicPr>
        <p:blipFill>
          <a:blip r:embed="rId1"/>
          <a:stretch/>
        </p:blipFill>
        <p:spPr>
          <a:xfrm>
            <a:off x="4390920" y="1047600"/>
            <a:ext cx="4751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oronation_portrait_of_Peter_III_of_Russia_-1761"/>
          <p:cNvPicPr/>
          <p:nvPr/>
        </p:nvPicPr>
        <p:blipFill>
          <a:blip r:embed="rId1"/>
          <a:stretch/>
        </p:blipFill>
        <p:spPr>
          <a:xfrm>
            <a:off x="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30456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45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Екатерина была обвенчана с Карлом Петром-Ульрихом (Петром Феодоровичем) — будущим императором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ом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 октябр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75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у великого княз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тр Федорович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его супруги Екатерины Алексеевны родился сын — будущий император Павел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057ukinSS_PtImpPavla1MTROP"/>
          <p:cNvPicPr/>
          <p:nvPr/>
        </p:nvPicPr>
        <p:blipFill>
          <a:blip r:embed="rId1"/>
          <a:stretch/>
        </p:blipFill>
        <p:spPr>
          <a:xfrm>
            <a:off x="4343400" y="228600"/>
            <a:ext cx="47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6019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 январ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восшествие на престо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тра I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Екатерина 2 у гроба императрицы Елизаветы"/>
          <p:cNvPicPr/>
          <p:nvPr/>
        </p:nvPicPr>
        <p:blipFill>
          <a:blip r:embed="rId1"/>
          <a:stretch/>
        </p:blipFill>
        <p:spPr>
          <a:xfrm>
            <a:off x="0" y="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7772400" y="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Н. Ге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г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ератрицы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1981080" y="3200400"/>
            <a:ext cx="4953240" cy="914400"/>
          </a:xfrm>
          <a:custGeom>
            <a:avLst/>
            <a:gdLst>
              <a:gd name="textAreaLeft" fmla="*/ 0 w 4953240"/>
              <a:gd name="textAreaRight" fmla="*/ 4953600 w 4953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чины свержения Петра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Пётр III Фёдорович, супруг Екатер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0"/>
            <a:ext cx="232704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858000" y="1447920"/>
            <a:ext cx="2286000" cy="1371600"/>
          </a:xfrm>
          <a:prstGeom prst="wedgeRoundRectCallout">
            <a:avLst>
              <a:gd name="adj1" fmla="val -72083"/>
              <a:gd name="adj2" fmla="val 8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Чудачества» Петр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талкивали дворя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0" y="1523880"/>
            <a:ext cx="2209680" cy="1371600"/>
          </a:xfrm>
          <a:prstGeom prst="wedgeRoundRectCallout">
            <a:avLst>
              <a:gd name="adj1" fmla="val 65231"/>
              <a:gd name="adj2" fmla="val 72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лепое завершение Войны с Пру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380880" y="4572000"/>
            <a:ext cx="2667240" cy="1600200"/>
          </a:xfrm>
          <a:prstGeom prst="wedgeRoundRectCallout">
            <a:avLst>
              <a:gd name="adj1" fmla="val 50893"/>
              <a:gd name="adj2" fmla="val -91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едение новых мундиров прусского образ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5791320" y="4419720"/>
            <a:ext cx="2971800" cy="1523880"/>
          </a:xfrm>
          <a:prstGeom prst="wedgeRoundRectCallout">
            <a:avLst>
              <a:gd name="adj1" fmla="val -52884"/>
              <a:gd name="adj2" fmla="val -71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ухи о войне с Данией за присоединение Шлезвига к Голштинскому герцог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3429000" y="4800600"/>
            <a:ext cx="2133720" cy="1295280"/>
          </a:xfrm>
          <a:prstGeom prst="wedgeRoundRectCallout">
            <a:avLst>
              <a:gd name="adj1" fmla="val -14060"/>
              <a:gd name="adj2" fmla="val -113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елание императора избавится от супр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яя политика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катерины 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1</cp:lastModifiedBy>
  <dcterms:modified xsi:type="dcterms:W3CDTF">2023-10-08T15:3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