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9E5-E6C1-460D-B755-B26C3588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AC1-F312-4781-94FF-EF6E5380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0EF-1F7F-4B67-95F3-E90B9458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CD7-DF19-469E-8109-49F89F69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7AC4-2D96-4704-8C9C-48F5D491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523C-B837-4863-90B5-F4FDEA2F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E623-7FD6-4669-83C2-581DF4C3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1CD2-429F-487F-8E65-CFF21BCD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6231-6FB6-4C4B-96B2-9D6A44BA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05E4-0C0F-456D-9C93-4E1F076B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2386-8147-4E8A-8B0F-93C2FD16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8AA-729E-470A-9FAB-2AA6C820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D53D-3045-4141-9041-75038A1E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56EE-D2B3-4ABF-9191-899B57D4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0D4F-7580-48B6-9E98-AFC67D63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FC5A-1D4D-4274-893B-3534B865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423A-66A9-4242-A176-726D3C75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356-BF87-4B32-9A4F-5E560F9E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5E9-1D6F-4191-BB7F-DD1A47C8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1E07-C2DD-415A-87DB-7595C27B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C7B-B76C-42ED-A214-B0AC8450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C46-51D6-4144-BE5E-FAED8292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BD8-9C99-473E-A7FE-A53985A8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DD9-7BB6-4A32-B2B9-3175C52F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F85C-9919-4A67-ADC8-B3FB1E69A0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299C-911B-4E52-8DE4-D7271FAF63D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845676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Экспериментально-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исследовательская деятельность детей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старшего дошкольного возраст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56800" y="5229000"/>
            <a:ext cx="828684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дготовила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ищук Мария Иван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2023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5" descr="логотип новый.jpg"/>
          <p:cNvPicPr/>
          <p:nvPr/>
        </p:nvPicPr>
        <p:blipFill>
          <a:blip r:embed="rId1"/>
          <a:stretch/>
        </p:blipFill>
        <p:spPr>
          <a:xfrm>
            <a:off x="7351560" y="420840"/>
            <a:ext cx="143856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:\Users\Asus\Downloads\1670240451_kartinkin-net-p-opiti-kartinki-instagram-64.jpg"/>
          <p:cNvPicPr/>
          <p:nvPr/>
        </p:nvPicPr>
        <p:blipFill>
          <a:blip r:embed="rId2"/>
          <a:stretch/>
        </p:blipFill>
        <p:spPr>
          <a:xfrm>
            <a:off x="1571760" y="2444760"/>
            <a:ext cx="521496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Структура </a:t>
            </a:r>
            <a:br>
              <a:rPr sz="4000"/>
            </a:b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исследовательской деятельности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еление и постановка проблемы (выбор темы исследова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вижение гипоте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ск и предложение возможных вариантов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бор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ение полученных да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Тематическое содержание </a:t>
            </a: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исследовательской деятельности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пыт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экспериментирование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 предметами и их свой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оллекционировани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классификационная раб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утешествие по карт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ространство мир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утешествие по «реке времени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сторическое врем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Факторы, «запускающие» </a:t>
            </a: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исследовательскую мотивацию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изна объекта или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жность объекта или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формационный конфлик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Формы работ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упп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групп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ивидуа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Савенков А.И. 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«Детское исследование как метод обучения старших дошкольников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80074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Методика проведения учебных исследований в детском сад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ка проведения тренировочных занят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ка проведения самостоятельных исследов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44440"/>
            <a:ext cx="8447040" cy="16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Создание уголка 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«Маленький исследователь»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ы и приб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точк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мволическими изображен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«методов исследован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точк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ображения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«темы исследован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андаши и фломастеры + маленькие лист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44080"/>
            <a:ext cx="8373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 Black"/>
              </a:rPr>
              <a:t>Карточки </a:t>
            </a:r>
            <a:r>
              <a:rPr b="0" lang="ru-RU" sz="3200" spc="-1" strike="noStrike" u="sng">
                <a:solidFill>
                  <a:srgbClr val="ffff66"/>
                </a:solidFill>
                <a:uFillTx/>
                <a:latin typeface="Arial Black"/>
              </a:rPr>
              <a:t>«методов исследования»</a:t>
            </a:r>
            <a:br>
              <a:rPr sz="40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0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Карточки с изображением </a:t>
            </a:r>
            <a:br>
              <a:rPr sz="36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тем исследования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6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оследовательност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от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тренировочного зан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Выбор темы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спользуя карточки «темы исследова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Составление плана исследования,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я карточки «методов исследова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Сбор материала,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я составленному плану, фиксируем схематично в виде пикт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Обобщение полученных данных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деляя главное, отмечая второстепе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Доклад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обязательным обсужд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3739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66"/>
                </a:solidFill>
                <a:uFillTx/>
                <a:latin typeface="Arial Black"/>
              </a:rPr>
              <a:t>Правила сопровождения детского исследован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662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да подходите к проведению работы творчес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 детей действовать самостоятельно, независимо, избегайте прямых инструк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сдерживайте инициативы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делайте за них то, что они могут сделать, или то, что они могут научиться делать самостоя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спешите с вынесением оценочных сужд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гайте детям учиться управлять процессом усвоения знани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 прослеживать связи между различными предметами, событиями и явлен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 формировать навыки самостоятельного решения проблем исследова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) анализировать, синтезировать и классифицировать информ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« …Умейте открыть перед ребенком в окружающем мире что-то одно, но открыть так, чтобы кусочек жизни заиграл перед детьми всеми красками радуги. Оставляйте всегда что-то недосказанное, чтобы ребенку захотелось ещё и ещё раз возвратиться к тому, что он узнал…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76360" y="4508280"/>
            <a:ext cx="5568840" cy="15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.А.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 Black"/>
              </a:rPr>
              <a:t>Методы и приемы активизации    учебно-исследовательской деятельности дошкольников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мение видеть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выдвигать гипоте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задавать вопр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давать определения поняти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 классифицир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 наблюд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ние  в действии, или  как  провести эксперимен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 анализировать, выделять  главное  и  второстепен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мся делать  выводы и  умозаключ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У</a:t>
            </a:r>
            <a:r>
              <a:rPr b="0" lang="ru-RU" sz="4400" spc="-1" strike="noStrike">
                <a:solidFill>
                  <a:srgbClr val="ffff66"/>
                </a:solidFill>
                <a:latin typeface="Arial Black"/>
              </a:rPr>
              <a:t>мение видеть 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смотрите на мир чужими глаз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оставьте рассказ от имени другого персонаж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оставьте рассказ, используя данную концовку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колько значений у предмет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Назовите как можно больше признаков предмет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блюдение как способ выявления пробл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ма одна — сюжетов мн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рис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Учимся выдвигать гипотез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8560" y="1412640"/>
            <a:ext cx="8785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ипотетические предположения о причинах событий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 самые правдоподобные (логичные) причины соб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 две-три самых фантастических, самых неправдоподобных причины этих же соб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пражнения на обстоятельств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 каких  условиях  каждый  из  этих  предметов  будет  очень  полезны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 каких  условиях  эти  же  предметы  могут  быть  совершенно бесполезны и даже вредны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Учимся задавать вопрос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пражнение «Исправление ошибо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гра «Угадай, о чем спросили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Учимся давать </a:t>
            </a:r>
            <a:br>
              <a:rPr sz="4400"/>
            </a:b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определения понятия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с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ъяснение посредством прим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адки как определение понят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»Трудные слов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Учимся  классифицирова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йдите  предметы  и  явления,  которые  можно  поделить надв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берите  слова  с  противоположным  значением  к  слова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грушки               животные            ры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струменты      автомобили        плане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ьшие               летние                 весел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Учимся  наблюдать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пражнения  на  развит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нимания и  наблюдательно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47040" cy="13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Познание  в действии, или  как  провести эксперимент</a:t>
            </a: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82342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ысленный экспери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ы  с  реальными  объек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  с  клякс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  с  акварел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  «Определяем   плавучесть  предметов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  «Как  вода  исчезает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ы  с  лучом  с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ы  с  магнитом  и  металл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ксперименты  с  собственным  отражение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Литератур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450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изация мыслительной деятельности детей дошкольного и младшего школьного возраста: материалы Всероссийской заочной научно –практической конференции с международным участием, 18-19 апреля 2012 года. Киров: Изд-во ВятГТУ, 2012, с. 461-55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венков А.И. Детское исследование как метод обучения старших дошкольников. Лекции 5-8. М.: Педагогический Университет, «Первое сентября», 2007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венков А.И. Маленький исследователь. Как научить дошкольника приобретать знания. Ярославль: Академия развития, 200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венков А.И. Одаренные дети в детском саду и школе: Учеб. пособие для студ. высш. пед. учеб. заведений. - М.: Издательский центр «Ака­демия», 2000. - 232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Дошкольное образование» № 7, 2004. Тематический номер по развитию исследовательских способностей детей.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http://dob.1september.ru/article.php?ID=200702317(можно просмотреть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ыбина О. В.,Рахманова Н. П., Щетинина В. В. "Неизведанное рядом. Опыты и эксперименты для дошкольников" Издательство: Сфера, 2012 г.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birint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ooks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/246808/ (можно просмотреть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385120" cy="30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Спасибо за вним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6021000"/>
            <a:ext cx="794556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онят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Экспериментирование (практикум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ектная деяте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сследовательская деяте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Экспериментиров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b7"/>
                </a:solidFill>
                <a:uFillTx/>
                <a:latin typeface="Arial"/>
              </a:rPr>
              <a:t>Иллюстрац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тех или иных законов природы (живой или неживой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то важный компонент структуры исследовательской деятельности, т.е. её ча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оследовательность </a:t>
            </a: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детского экспериментирования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блемная ситу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леполаг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движение гипоте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верка предполо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мулирование выво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роектная деятельност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полагает </a:t>
            </a:r>
            <a:r>
              <a:rPr b="0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составление чёткого пла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оводимых изысканий, ясное формулирование и </a:t>
            </a:r>
            <a:r>
              <a:rPr b="0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осознание проблем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ыработку реальных гипотез, их проверку в соответствии с четким план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екте важен </a:t>
            </a:r>
            <a:r>
              <a:rPr b="0" lang="ru-RU" sz="3200" spc="-1" strike="noStrike" u="sng">
                <a:solidFill>
                  <a:srgbClr val="ffffb7"/>
                </a:solidFill>
                <a:uFillTx/>
                <a:latin typeface="Arial"/>
              </a:rPr>
              <a:t>результат - готовый продук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роект = 5П + 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бл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ектирование (планир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иск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ду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ен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тфолио – папка, в которой собрано всё по данному проек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C:\Users\Asus\Downloads\e832fda3402b42ac780e30be16ae9ba4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Исследовательская деятельность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ятельность, связанная с решением творческой, исследовательской задачи с заранее </a:t>
            </a: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неизвестным решением.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Исследовательская деятельность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должна быть </a:t>
            </a: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свободной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практически нерегламентированной какими-либо внешними установками, в ней </a:t>
            </a: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больш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места для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импровизации.</a:t>
            </a:r>
            <a:br>
              <a:rPr sz="2800"/>
            </a:b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08:01:55Z</dcterms:created>
  <dc:creator>User</dc:creator>
  <dc:description/>
  <dc:language>en-US</dc:language>
  <cp:lastModifiedBy>Пользователь Asus</cp:lastModifiedBy>
  <dcterms:modified xsi:type="dcterms:W3CDTF">2023-10-07T15:26:16Z</dcterms:modified>
  <cp:revision>18</cp:revision>
  <dc:subject/>
  <dc:title>Организация исследовательской деятельности детей старшего дошкольного возраста</dc:title>
</cp:coreProperties>
</file>