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55F-7584-466C-AB2C-D7354678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A53-1CFD-443A-A947-23B866C5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A8C-8823-4DF2-B41C-F12E0AFC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04C-70E8-4F89-B302-3CCF4ED3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D5E7-DAF5-4792-8F2B-607154B2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CADC-F392-449E-A60B-9FF34E26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B954-EBA8-45EF-8FF8-440FAC26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E83E-829E-4E4A-BB67-62ABBBED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0085-866C-4AB2-B4AA-7E570A73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0C9F-25B5-4E6C-882F-BB9802D3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0528-D6D3-4A9D-BED5-5BF10868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DDE-3DDC-4076-9E2B-4277670D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7F67-9CB9-4987-B927-F5676112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B0D8-4E1C-40C0-9175-10FF3EC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6D55-D6F1-41A6-81AC-BEDE2F6C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97FA-AC20-4132-B454-1DBFAF27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C93A-66F3-41C7-AB58-7EBB1EC6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6E3-BBBD-4E0F-96E1-8D6C050F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8AE-DA77-486E-935E-F7731C45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EE8-538E-4290-BA8E-B95522EA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7AC-8FB1-4363-9E5A-9BB18636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8B1-87BE-4F97-85A4-4991F30F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234-965B-49EE-B846-636B55BA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EBC-DF1A-4278-BC15-96C8FD9E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95AB-EDB2-4142-868C-3755381A8F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B7E0-C8F1-4010-A91A-946F6ABF85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84567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Экспериментально-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исследовательская деятельность детей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старшего дошкольного возраст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56800" y="5229000"/>
            <a:ext cx="828684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дготовила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ищук Мария Ива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2023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5" descr="логотип новый.jpg"/>
          <p:cNvPicPr/>
          <p:nvPr/>
        </p:nvPicPr>
        <p:blipFill>
          <a:blip r:embed="rId1"/>
          <a:stretch/>
        </p:blipFill>
        <p:spPr>
          <a:xfrm>
            <a:off x="7351560" y="420840"/>
            <a:ext cx="1438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:\Users\Asus\Downloads\1670240451_kartinkin-net-p-opiti-kartinki-instagram-64.jpg"/>
          <p:cNvPicPr/>
          <p:nvPr/>
        </p:nvPicPr>
        <p:blipFill>
          <a:blip r:embed="rId2"/>
          <a:stretch/>
        </p:blipFill>
        <p:spPr>
          <a:xfrm>
            <a:off x="1571760" y="2444760"/>
            <a:ext cx="52149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Структура </a:t>
            </a:r>
            <a:br>
              <a:rPr sz="4000"/>
            </a:b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исследовательской деятельност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ение и постановка проблемы (выбор темы исслед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вижение гипоте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и предложение возможных вариантов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бор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ение полученных д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Тематическое содержание 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исследовательской деятельност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пыт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экспериментирование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 предметами и их св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ллекционировани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лассификационная раб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утешествие по карт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ространство мир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утешествие по «реке времени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торическое врем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Факторы, «запускающие» 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исследовательскую мотивацию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изна объекта или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ость объекта или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ционный конфли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Формы работ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упп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групп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Савенков А.И.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«Детское исследование как метод обучения старших дошкольников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8007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Методика проведения учебных исследований в детском са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ка проведения тренировочных зан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ка проведения самостоятельных исследов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16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Создание уголка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«Маленький исследователь»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ы и приб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точк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мволическими изображ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«методов исследова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точк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ения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«темы исследова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андаши и фломастеры + маленькие лис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73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Карточки </a:t>
            </a:r>
            <a:r>
              <a:rPr b="0" lang="ru-RU" sz="3200" spc="-1" strike="noStrike" u="sng">
                <a:solidFill>
                  <a:srgbClr val="ffff66"/>
                </a:solidFill>
                <a:uFillTx/>
                <a:latin typeface="Arial Black"/>
              </a:rPr>
              <a:t>«методов исследования»</a:t>
            </a: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0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Карточки с изображением </a:t>
            </a:r>
            <a:br>
              <a:rPr sz="36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тем исследования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следовательнос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тренировочного за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Выбор темы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спользуя карточки «темы исследов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Составление плана исследования,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карточки «методов исследов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Сбор материала,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я составленному плану, фиксируем схематично в виде пикт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Обобщение полученных данных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еляя главное, отмечая второстепе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Доклад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обязательным обсужд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3739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66"/>
                </a:solidFill>
                <a:uFillTx/>
                <a:latin typeface="Arial Black"/>
              </a:rPr>
              <a:t>Правила сопровождения детского исследован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662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да подходите к проведению работы творчес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 детей действовать самостоятельно, независимо, избегайте прямых инструк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держивайте инициативы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делайте за них то, что они могут сделать, или то, что они могут научиться делать самостоя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пешите с вынесением оценочных сужд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гайте детям учиться управлять процессом усвоения зна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 прослеживать связи между различными предметами, событиями и явлен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 формировать навыки самостоятельного решения проблем исследова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 анализировать, синтезировать и классифицировать информ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« …Умейте открыть перед ребенком в окружающем мире что-то одно, но открыть так, чтобы кусочек жизни заиграл перед детьми всеми красками радуги. Оставляйте всегда что-то недосказанное, чтобы ребенку захотелось ещё и ещё раз возвратиться к тому, что он узнал…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76360" y="4508280"/>
            <a:ext cx="556884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 Black"/>
              </a:rPr>
              <a:t>Методы и приемы активизации    учебно-исследовательской деятельности дошкольников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ение видеть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выдвигать гипоте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задавать 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давать определения поняти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 классифицир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 наблю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ние  в действии, или  как  провести экспериме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 анализировать, выделять  главное  и  второстепен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делать  выводы и  умозаклю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У</a:t>
            </a: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мение видеть 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мотрите на мир чужими глаз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оставьте рассказ от имени другого персонаж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оставьте рассказ, используя данную концовку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колько значений у предмет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Назовите как можно больше признаков предмет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блюдение как способ выявления пробл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а одна — сюжетов м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рис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чимся выдвигать гипотез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8560" y="1412640"/>
            <a:ext cx="8785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отетические предположения о причинах событий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 самые правдоподобные (логичные) причины соб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 две-три самых фантастических, самых неправдоподобных причины этих же соб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пражнения на обстоятельств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 каких  условиях  каждый  из  этих  предметов  будет  очень  полезны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 каких  условиях  эти  же  предметы  могут  быть  совершенно бесполезны и даже вредны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чимся задавать вопрос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пражнение «Исправление ошибо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гра «Угадай, о чем спросили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Учимся давать </a:t>
            </a:r>
            <a:br>
              <a:rPr sz="4400"/>
            </a:b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определения понятия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ение посредством прим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дки как определение пон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»Трудные сло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чимся  классифицирова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йдите  предметы  и  явления,  которые  можно  поделить надв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берите  слова  с  противоположным  значением  к  слова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грушки               животные            ры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струменты      автомобили        плане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ие               летние                 весел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Учимся  наблюдать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пражнения  на  развит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нимания и  наблюдательн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4704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Познание  в действии, или  как  провести эксперимент</a:t>
            </a: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8234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ысленный экспери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реальными  объек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с  клякс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с  акварел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«Определяем   плавучесть  предметов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«Как  вода  исчезает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лучом  с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магнитом  и  метал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собственным  отражение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Литератур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450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изация мыслительной деятельности детей дошкольного и младшего школьного возраста: материалы Всероссийской заочной научно –практической конференции с международным участием, 18-19 апреля 2012 года. Киров: Изд-во ВятГТУ, 2012, с. 461-5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венков А.И. Детское исследование как метод обучения старших дошкольников. Лекции 5-8. М.: Педагогический Университет, «Первое сентября», 2007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венков А.И. Маленький исследователь. Как научить дошкольника приобретать знания. Ярославль: Академия развития, 200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венков А.И. Одаренные дети в детском саду и школе: Учеб. пособие для студ. высш. пед. учеб. заведений. - М.: Издательский центр «Ака­демия», 2000. - 232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Дошкольное образование» № 7, 2004. Тематический номер по развитию исследовательских способностей детей.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http://dob.1september.ru/article.php?ID=200702317(можно просмотреть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ыбина О. В.,Рахманова Н. П., Щетинина В. В. "Неизведанное рядом. Опыты и эксперименты для дошкольников" Издательство: Сфера, 2012 г.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birint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ooks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/246808/ (можно просмотреть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38512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6021000"/>
            <a:ext cx="794556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нят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Экспериментирование (практику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ектная деяте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следовательская деяте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Экспериментиров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b7"/>
                </a:solidFill>
                <a:uFillTx/>
                <a:latin typeface="Arial"/>
              </a:rPr>
              <a:t>Иллюстр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тех или иных законов природы (живой или неживой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то важный компонент структуры исследовательской деятельности, т.е. её ча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следовательность 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детского экспериментирования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блемная ситу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леполаг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движение гипоте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верка предпол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улирование выво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роектная деятельнос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полагает </a:t>
            </a:r>
            <a:r>
              <a:rPr b="0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составление чёткого пла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оводимых изысканий, ясное формулирование и </a:t>
            </a:r>
            <a:r>
              <a:rPr b="0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осознание проблем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ыработку реальных гипотез, их проверку в соответствии с четким план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екте важен </a:t>
            </a:r>
            <a:r>
              <a:rPr b="0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результат - готовый продук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роект = 5П + 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бл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ектирование (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иск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ду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тфолио – папка, в которой собрано всё по данному проек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C:\Users\Asus\Downloads\e832fda3402b42ac780e30be16ae9ba4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Исследовательская деятельность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ятельность, связанная с решением творческой, исследовательской задачи с заранее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неизвестным решением.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Исследовательская деятельно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олжна быть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свободной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практически нерегламентированной какими-либо внешними установками, в ней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больш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места для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импровизации.</a:t>
            </a:r>
            <a:br>
              <a:rPr sz="2800"/>
            </a:b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08:01:55Z</dcterms:created>
  <dc:creator>User</dc:creator>
  <dc:description/>
  <dc:language>en-US</dc:language>
  <cp:lastModifiedBy>Пользователь Asus</cp:lastModifiedBy>
  <dcterms:modified xsi:type="dcterms:W3CDTF">2023-10-07T15:26:16Z</dcterms:modified>
  <cp:revision>18</cp:revision>
  <dc:subject/>
  <dc:title>Организация исследовательской деятельности детей старшего дошкольного возраста</dc:title>
</cp:coreProperties>
</file>