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C8918-CD60-49AC-8F27-3A13E5F25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4728A-14CD-4499-BF29-243C6244B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5B364-5248-4C82-B1A5-058ABD9CE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111F3-2EC8-4393-BEDD-3DE3FF7E0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FA4B0-C947-4FFE-B7FC-F7CE7F5B8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5A71C-E4ED-4604-861E-CAEB86F46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4A9DD-CBA4-45CF-8990-4389B9118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E5216-1573-4743-9BA1-051713595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4F7DB-707A-4C0E-BB45-9002706C3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A586A-CCE5-4EE0-96E7-C44CB8F88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17C64-FDF2-435F-92A4-0E82DC469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57B87-2C61-4104-8896-6F82AB22C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E6F4C-8D0F-4AF1-809E-00B32B25B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E0F26-4974-4FD9-89D1-065040FC4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6C83B-C7B2-4326-8FEE-38FD67412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BAF1D-5E28-49AA-B3A9-BF60F481D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4A441-82AB-44C0-8EE8-DB41D3D80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7C7AA-B1D7-41E2-97C8-AB9F74A38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174D1-51BE-48D4-984E-77F47F8C0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992CA-BD5B-4549-8775-42753CBA3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181AA-6087-4A44-B853-66DBAC3BF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EC04B-E6C5-456C-B602-51303EDDF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4B8B8-6489-461D-9DBE-CAB23B3F2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7E694-C67B-436C-9B6D-EE011C94A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3A61A-C87F-44BB-BEF3-612B3B1E24B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FC430-6278-4AED-994F-1078333BA84C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-360" y="692280"/>
            <a:ext cx="845676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b7"/>
                </a:solidFill>
                <a:latin typeface="Times New Roman"/>
              </a:rPr>
              <a:t>              </a:t>
            </a:r>
            <a:r>
              <a:rPr b="1" lang="ru-RU" sz="2800" spc="-1" strike="noStrike">
                <a:solidFill>
                  <a:srgbClr val="ffffb7"/>
                </a:solidFill>
                <a:latin typeface="Times New Roman"/>
              </a:rPr>
              <a:t>Экспериментально- </a:t>
            </a:r>
            <a:br>
              <a:rPr sz="2800"/>
            </a:br>
            <a:r>
              <a:rPr b="1" lang="ru-RU" sz="2800" spc="-1" strike="noStrike">
                <a:solidFill>
                  <a:srgbClr val="ffffb7"/>
                </a:solidFill>
                <a:latin typeface="Times New Roman"/>
              </a:rPr>
              <a:t>исследовательская деятельность детей </a:t>
            </a:r>
            <a:br>
              <a:rPr sz="2800"/>
            </a:br>
            <a:r>
              <a:rPr b="1" lang="ru-RU" sz="2800" spc="-1" strike="noStrike">
                <a:solidFill>
                  <a:srgbClr val="ffffb7"/>
                </a:solidFill>
                <a:latin typeface="Times New Roman"/>
              </a:rPr>
              <a:t>старшего дошкольного возраста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856800" y="5229000"/>
            <a:ext cx="8286840" cy="110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</a:rPr>
              <a:t>Подготовила 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</a:rPr>
              <a:t>Сищук Мария Иванов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</a:rPr>
              <a:t>2023г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Рисунок 5" descr="логотип новый.jpg"/>
          <p:cNvPicPr/>
          <p:nvPr/>
        </p:nvPicPr>
        <p:blipFill>
          <a:blip r:embed="rId1"/>
          <a:stretch/>
        </p:blipFill>
        <p:spPr>
          <a:xfrm>
            <a:off x="7351560" y="420840"/>
            <a:ext cx="1438560" cy="1158840"/>
          </a:xfrm>
          <a:prstGeom prst="rect">
            <a:avLst/>
          </a:prstGeom>
          <a:ln w="0">
            <a:noFill/>
          </a:ln>
        </p:spPr>
      </p:pic>
      <p:pic>
        <p:nvPicPr>
          <p:cNvPr id="101" name="Рисунок 6" descr="C:\Users\Asus\Downloads\1670240451_kartinkin-net-p-opiti-kartinki-instagram-64.jpg"/>
          <p:cNvPicPr/>
          <p:nvPr/>
        </p:nvPicPr>
        <p:blipFill>
          <a:blip r:embed="rId2"/>
          <a:stretch/>
        </p:blipFill>
        <p:spPr>
          <a:xfrm>
            <a:off x="1571760" y="2444760"/>
            <a:ext cx="5214960" cy="34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66"/>
                </a:solidFill>
                <a:latin typeface="Arial Black"/>
              </a:rPr>
              <a:t>Структура </a:t>
            </a:r>
            <a:br>
              <a:rPr sz="4000"/>
            </a:br>
            <a:r>
              <a:rPr b="1" lang="ru-RU" sz="3200" spc="-1" strike="noStrike">
                <a:solidFill>
                  <a:srgbClr val="ffff66"/>
                </a:solidFill>
                <a:latin typeface="Arial Black"/>
              </a:rPr>
              <a:t>исследовательской деятельности: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ыделение и постановка проблемы (выбор темы исследования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ыдвижение гипотез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иск и предложение возможных вариантов реш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бор материал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бобщение полученных данны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66"/>
                </a:solidFill>
                <a:latin typeface="Arial Black"/>
              </a:rPr>
              <a:t>Тематическое содержание </a:t>
            </a:r>
            <a:r>
              <a:rPr b="1" lang="ru-RU" sz="3200" spc="-1" strike="noStrike">
                <a:solidFill>
                  <a:srgbClr val="ffff66"/>
                </a:solidFill>
                <a:latin typeface="Arial Black"/>
              </a:rPr>
              <a:t>исследовательской деятельности: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Опыты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(экспериментирование)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с предметами и их свойств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Коллекционирование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(классификационная работа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Путешествие по карте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(пространство мира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Путешествие по «реке времени»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(историческое время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66"/>
                </a:solidFill>
                <a:latin typeface="Arial Black"/>
              </a:rPr>
              <a:t>Факторы, «запускающие» </a:t>
            </a:r>
            <a:r>
              <a:rPr b="1" lang="ru-RU" sz="3200" spc="-1" strike="noStrike">
                <a:solidFill>
                  <a:srgbClr val="ffff66"/>
                </a:solidFill>
                <a:latin typeface="Arial Black"/>
              </a:rPr>
              <a:t>исследовательскую мотивацию: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овизна объекта или явл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ложность объекта или явл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нформационный конфлик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66"/>
                </a:solidFill>
                <a:latin typeface="Arial Black"/>
              </a:rPr>
              <a:t>Формы работы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Группова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одгруппова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ндивидуальна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66"/>
                </a:solidFill>
                <a:latin typeface="Arial Black"/>
              </a:rPr>
              <a:t>Савенков А.И. </a:t>
            </a:r>
            <a:br>
              <a:rPr sz="3200"/>
            </a:br>
            <a:r>
              <a:rPr b="1" lang="ru-RU" sz="3200" spc="-1" strike="noStrike">
                <a:solidFill>
                  <a:srgbClr val="ffff66"/>
                </a:solidFill>
                <a:latin typeface="Arial Black"/>
              </a:rPr>
              <a:t>«Детское исследование как метод обучения старших дошкольников»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7720" y="1916280"/>
            <a:ext cx="8007480" cy="417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b7"/>
                </a:solidFill>
                <a:uFillTx/>
                <a:latin typeface="Arial"/>
              </a:rPr>
              <a:t>Методика проведения учебных исследований в детском саду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етодика проведения тренировочных заняти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етодика проведения самостоятельных исследовани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95280" y="244440"/>
            <a:ext cx="8447040" cy="167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66"/>
                </a:solidFill>
                <a:latin typeface="Arial Black"/>
              </a:rPr>
              <a:t>Создание уголка </a:t>
            </a:r>
            <a:br>
              <a:rPr sz="3200"/>
            </a:br>
            <a:r>
              <a:rPr b="0" lang="ru-RU" sz="3200" spc="-1" strike="noStrike">
                <a:solidFill>
                  <a:srgbClr val="ffff66"/>
                </a:solidFill>
                <a:latin typeface="Arial Black"/>
              </a:rPr>
              <a:t>«Маленький исследователь»: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Материалы и прибор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арточки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имволическими изображениям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ru-RU" sz="3200" spc="-1" strike="noStrike" u="sng">
                <a:solidFill>
                  <a:srgbClr val="ffffb7"/>
                </a:solidFill>
                <a:uFillTx/>
                <a:latin typeface="Arial"/>
              </a:rPr>
              <a:t>«методов исследования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арточки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зображениями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3200" spc="-1" strike="noStrike" u="sng">
                <a:solidFill>
                  <a:srgbClr val="ffffb7"/>
                </a:solidFill>
                <a:uFillTx/>
                <a:latin typeface="Arial"/>
              </a:rPr>
              <a:t>«темы исследования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арандаши и фломастеры + маленькие листочк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000" y="244080"/>
            <a:ext cx="837396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66"/>
                </a:solidFill>
                <a:latin typeface="Arial Black"/>
              </a:rPr>
              <a:t>Карточки </a:t>
            </a:r>
            <a:r>
              <a:rPr b="0" lang="ru-RU" sz="3200" spc="-1" strike="noStrike" u="sng">
                <a:solidFill>
                  <a:srgbClr val="ffff66"/>
                </a:solidFill>
                <a:uFillTx/>
                <a:latin typeface="Arial Black"/>
              </a:rPr>
              <a:t>«методов исследования»</a:t>
            </a:r>
            <a:br>
              <a:rPr sz="4000"/>
            </a:b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32" name="Picture 4" descr=""/>
          <p:cNvPicPr/>
          <p:nvPr/>
        </p:nvPicPr>
        <p:blipFill>
          <a:blip r:embed="rId1"/>
          <a:stretch/>
        </p:blipFill>
        <p:spPr>
          <a:xfrm>
            <a:off x="684360" y="1268280"/>
            <a:ext cx="770400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66"/>
                </a:solidFill>
                <a:latin typeface="Arial Black"/>
              </a:rPr>
              <a:t>Карточки с изображением </a:t>
            </a:r>
            <a:br>
              <a:rPr sz="3600"/>
            </a:br>
            <a:r>
              <a:rPr b="1" lang="ru-RU" sz="3600" spc="-1" strike="noStrike">
                <a:solidFill>
                  <a:srgbClr val="ffff66"/>
                </a:solidFill>
                <a:latin typeface="Arial Black"/>
              </a:rPr>
              <a:t>тем исследования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34" name="Picture 4" descr=""/>
          <p:cNvPicPr/>
          <p:nvPr/>
        </p:nvPicPr>
        <p:blipFill>
          <a:blip r:embed="rId1"/>
          <a:stretch/>
        </p:blipFill>
        <p:spPr>
          <a:xfrm>
            <a:off x="1332000" y="1628640"/>
            <a:ext cx="669600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66"/>
                </a:solidFill>
                <a:latin typeface="Arial Black"/>
              </a:rPr>
              <a:t>Последовательность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9200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дготов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оведение тренировочного занят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b7"/>
                </a:solidFill>
                <a:uFillTx/>
                <a:latin typeface="Arial"/>
              </a:rPr>
              <a:t>Выбор темы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используя карточки «темы исследования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b7"/>
                </a:solidFill>
                <a:uFillTx/>
                <a:latin typeface="Arial"/>
              </a:rPr>
              <a:t>Составление плана исследования,</a:t>
            </a:r>
            <a:r>
              <a:rPr b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спользуя карточки «методов исследования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b7"/>
                </a:solidFill>
                <a:uFillTx/>
                <a:latin typeface="Arial"/>
              </a:rPr>
              <a:t>Сбор материала,</a:t>
            </a:r>
            <a:r>
              <a:rPr b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ледуя составленному плану, фиксируем схематично в виде пиктограм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b7"/>
                </a:solidFill>
                <a:uFillTx/>
                <a:latin typeface="Arial"/>
              </a:rPr>
              <a:t>Обобщение полученных данных</a:t>
            </a:r>
            <a:r>
              <a:rPr b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 ,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ыделяя главное, отмечая второстепенно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b7"/>
                </a:solidFill>
                <a:uFillTx/>
                <a:latin typeface="Arial"/>
              </a:rPr>
              <a:t>Доклад</a:t>
            </a:r>
            <a:r>
              <a:rPr b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 обязательным обсуждение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68000" y="115920"/>
            <a:ext cx="8373960" cy="144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ff66"/>
                </a:solidFill>
                <a:uFillTx/>
                <a:latin typeface="Arial Black"/>
              </a:rPr>
              <a:t>Правила сопровождения детского исследования</a:t>
            </a: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78920" y="1413000"/>
            <a:ext cx="866628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сегда подходите к проведению работы творческ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Учите детей действовать самостоятельно, независимо, избегайте прямых инструкци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е сдерживайте инициативы дете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е делайте за них то, что они могут сделать, или то, что они могут научиться делать самостоятельно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е спешите с вынесением оценочных суждений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могайте детям учиться управлять процессом усвоения знаний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а) прослеживать связи между различными предметами, событиями и явлениям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б) формировать навыки самостоятельного решения проблем исследования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) анализировать, синтезировать и классифицировать информацию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385120" cy="381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b7"/>
                </a:solidFill>
                <a:latin typeface="Arial Black"/>
              </a:rPr>
              <a:t>« …Умейте открыть перед ребенком в окружающем мире что-то одно, но открыть так, чтобы кусочек жизни заиграл перед детьми всеми красками радуги. Оставляйте всегда что-то недосказанное, чтобы ребенку захотелось ещё и ещё раз возвратиться к тому, что он узнал…»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276360" y="4508280"/>
            <a:ext cx="5568840" cy="15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66"/>
                </a:solidFill>
                <a:latin typeface="Arial"/>
              </a:rPr>
              <a:t>В.А.Сухомлински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Arial Black"/>
              </a:rPr>
              <a:t>Методы и приемы активизации    учебно-исследовательской деятельности дошкольников</a:t>
            </a: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Умение видеть проблем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Учимся выдвигать гипотез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Учимся задавать вопрос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Учимся давать определения понятия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Учимся  классифицирова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Учимся  наблюдать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знание  в действии, или  как  провести эксперимент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Учимся  анализировать, выделять  главное  и  второстепенно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Учимся делать  выводы и  умозаключени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66"/>
                </a:solidFill>
                <a:latin typeface="Arial Black"/>
              </a:rPr>
              <a:t>У</a:t>
            </a:r>
            <a:r>
              <a:rPr b="0" lang="ru-RU" sz="4400" spc="-1" strike="noStrike">
                <a:solidFill>
                  <a:srgbClr val="ffff66"/>
                </a:solidFill>
                <a:latin typeface="Arial Black"/>
              </a:rPr>
              <a:t>мение видеть проблемы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«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Посмотрите на мир чужими глазами»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«Составьте рассказ от имени другого персонажа»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«Составьте рассказ, используя данную концовку»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«Сколько значений у предмета»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«Назовите как можно больше признаков предмета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Наблюдение как способ выявления проблем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Тема одна — сюжетов много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(рисование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24000" y="244440"/>
            <a:ext cx="8518320" cy="116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66"/>
                </a:solidFill>
                <a:latin typeface="Arial Black"/>
              </a:rPr>
              <a:t>Учимся выдвигать гипотезы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58560" y="1412640"/>
            <a:ext cx="878508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Гипотетические предположения о причинах событий: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spcBef>
                <a:spcPts val="601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зови самые правдоподобные (логичные) причины событи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spcBef>
                <a:spcPts val="601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зови две-три самых фантастических, самых неправдоподобных причины этих же событи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Упражнения на обстоятельства: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spcBef>
                <a:spcPts val="601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  каких  условиях  каждый  из  этих  предметов  будет  очень  полезным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spcBef>
                <a:spcPts val="601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  каких  условиях  эти  же  предметы  могут  быть  совершенно бесполезны и даже вредны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66"/>
                </a:solidFill>
                <a:latin typeface="Arial Black"/>
              </a:rPr>
              <a:t>Учимся задавать вопросы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Упражнение «Исправление ошибок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Игра «Угадай, о чем спросили»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66"/>
                </a:solidFill>
                <a:latin typeface="Arial Black"/>
              </a:rPr>
              <a:t>Учимся давать </a:t>
            </a:r>
            <a:br>
              <a:rPr sz="4400"/>
            </a:br>
            <a:r>
              <a:rPr b="1" lang="ru-RU" sz="4400" spc="-1" strike="noStrike">
                <a:solidFill>
                  <a:srgbClr val="ffff66"/>
                </a:solidFill>
                <a:latin typeface="Arial Black"/>
              </a:rPr>
              <a:t>определения понятиям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писа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Характеристи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зъяснение посредством пример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равне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зличе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агадки как определение поняти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гра «»Трудные слова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66"/>
                </a:solidFill>
                <a:latin typeface="Arial Black"/>
              </a:rPr>
              <a:t>Учимся  классифицировать</a:t>
            </a: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54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Задание: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айдите  предметы  и  явления,  которые  можно  поделить надво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дберите  слова  с  противоположным  значением  к  словам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грушки               животные            рыб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нструменты      автомобили        планеты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большие               летние                 веселые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66"/>
                </a:solidFill>
                <a:latin typeface="Arial Black"/>
              </a:rPr>
              <a:t>Учимся  наблюдать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</a:t>
            </a: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Упражнения  на  развитие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внимания и  наблюдательности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50920" y="404280"/>
            <a:ext cx="8447040" cy="134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66"/>
                </a:solidFill>
                <a:latin typeface="Arial Black"/>
              </a:rPr>
              <a:t>Познание  в действии, или  как  провести эксперимент</a:t>
            </a:r>
            <a:r>
              <a:rPr b="1" lang="ru-RU" sz="4000" spc="-1" strike="noStrike">
                <a:solidFill>
                  <a:srgbClr val="ffff66"/>
                </a:solidFill>
                <a:latin typeface="Arial Black"/>
              </a:rPr>
              <a:t> </a:t>
            </a: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0920" y="1905120"/>
            <a:ext cx="8234280" cy="454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Мысленный эксперимен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Эксперименты  с  реальными  объектам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Эксперимент  с  кляксой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Эксперимент  с  акварель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Эксперимент  «Определяем   плавучесть  предметов»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Эксперимент  «Как  вода  исчезает»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Эксперименты  с  лучом  све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Эксперименты  с  магнитом  и  металлам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Эксперименты  с  собственным  отражением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66"/>
                </a:solidFill>
                <a:latin typeface="Arial Black"/>
              </a:rPr>
              <a:t>Литература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94920" y="980640"/>
            <a:ext cx="845028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ктивизация мыслительной деятельности детей дошкольного и младшего школьного возраста: материалы Всероссийской заочной научно –практической конференции с международным участием, 18-19 апреля 2012 года. Киров: Изд-во ВятГТУ, 2012, с. 461-55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авенков А.И. Детское исследование как метод обучения старших дошкольников. Лекции 5-8. М.: Педагогический Университет, «Первое сентября», 2007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авенков А.И. Маленький исследователь. Как научить дошкольника приобретать знания. Ярославль: Академия развития, 2003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авенков А.И. Одаренные дети в детском саду и школе: Учеб. пособие для студ. высш. пед. учеб. заведений. - М.: Издательский центр «Ака­демия», 2000. - 232 с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«Дошкольное образование» № 7, 2004. Тематический номер по развитию исследовательских способностей детей. </a:t>
            </a:r>
            <a:r>
              <a:rPr b="0" lang="ru-RU" sz="1800" spc="-1" strike="noStrike">
                <a:solidFill>
                  <a:srgbClr val="ffff66"/>
                </a:solidFill>
                <a:latin typeface="Arial"/>
              </a:rPr>
              <a:t>http://dob.1september.ru/article.php?ID=200702317(можно просмотреть!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ыбина О. В.,Рахманова Н. П., Щетинина В. В. "Неизведанное рядом. Опыты и эксперименты для дошкольников" Издательство: Сфера, 2012 г. 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http</a:t>
            </a:r>
            <a:r>
              <a:rPr b="0" lang="ru-RU" sz="1800" spc="-1" strike="noStrike">
                <a:solidFill>
                  <a:srgbClr val="ffff66"/>
                </a:solidFill>
                <a:latin typeface="Arial"/>
              </a:rPr>
              <a:t>://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www</a:t>
            </a:r>
            <a:r>
              <a:rPr b="0" lang="ru-RU" sz="1800" spc="-1" strike="noStrike">
                <a:solidFill>
                  <a:srgbClr val="ffff66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labirint</a:t>
            </a:r>
            <a:r>
              <a:rPr b="0" lang="ru-RU" sz="1800" spc="-1" strike="noStrike">
                <a:solidFill>
                  <a:srgbClr val="ffff66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ru</a:t>
            </a:r>
            <a:r>
              <a:rPr b="0" lang="ru-RU" sz="1800" spc="-1" strike="noStrike">
                <a:solidFill>
                  <a:srgbClr val="ffff66"/>
                </a:solidFill>
                <a:latin typeface="Arial"/>
              </a:rPr>
              <a:t>/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books</a:t>
            </a:r>
            <a:r>
              <a:rPr b="0" lang="ru-RU" sz="1800" spc="-1" strike="noStrike">
                <a:solidFill>
                  <a:srgbClr val="ffff66"/>
                </a:solidFill>
                <a:latin typeface="Arial"/>
              </a:rPr>
              <a:t>/246808/ (можно просмотреть!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1268280"/>
            <a:ext cx="8385120" cy="309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66"/>
                </a:solidFill>
                <a:latin typeface="Times New Roman"/>
              </a:rPr>
              <a:t>Спасибо за внимание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99640" y="6021000"/>
            <a:ext cx="7945560" cy="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7720" bIns="277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66"/>
                </a:solidFill>
                <a:latin typeface="Arial Black"/>
              </a:rPr>
              <a:t>Понятия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Экспериментирование (практикум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Проектная деятельност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Исследовательская деятельност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66"/>
                </a:solidFill>
                <a:latin typeface="Arial Black"/>
              </a:rPr>
              <a:t>Экспериментирование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ffffb7"/>
                </a:solidFill>
                <a:uFillTx/>
                <a:latin typeface="Arial"/>
              </a:rPr>
              <a:t>Иллюстрация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тех или иных законов природы (живой или неживой)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Это важный компонент структуры исследовательской деятельности, т.е. её часть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66"/>
                </a:solidFill>
                <a:latin typeface="Arial Black"/>
              </a:rPr>
              <a:t>Последовательность </a:t>
            </a:r>
            <a:r>
              <a:rPr b="1" lang="ru-RU" sz="3200" spc="-1" strike="noStrike">
                <a:solidFill>
                  <a:srgbClr val="ffff66"/>
                </a:solidFill>
                <a:latin typeface="Arial Black"/>
              </a:rPr>
              <a:t>детского экспериментирования: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Проблемная ситуаци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Целеполагани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Выдвижение гипотез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Проверка предположени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Формулирование выводов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66"/>
                </a:solidFill>
                <a:latin typeface="Arial Black"/>
              </a:rPr>
              <a:t>Проектная деятельность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едполагает </a:t>
            </a:r>
            <a:r>
              <a:rPr b="0" lang="ru-RU" sz="3200" spc="-1" strike="noStrike" u="sng">
                <a:solidFill>
                  <a:srgbClr val="ffffb7"/>
                </a:solidFill>
                <a:uFillTx/>
                <a:latin typeface="Arial"/>
              </a:rPr>
              <a:t>составление чёткого плана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проводимых изысканий, ясное формулирование и </a:t>
            </a:r>
            <a:r>
              <a:rPr b="0" lang="ru-RU" sz="3200" spc="-1" strike="noStrike" u="sng">
                <a:solidFill>
                  <a:srgbClr val="ffffb7"/>
                </a:solidFill>
                <a:uFillTx/>
                <a:latin typeface="Arial"/>
              </a:rPr>
              <a:t>осознание проблемы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, выработку реальных гипотез, их проверку в соответствии с четким плано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проекте важен </a:t>
            </a:r>
            <a:r>
              <a:rPr b="0" lang="ru-RU" sz="3200" spc="-1" strike="noStrike" u="sng">
                <a:solidFill>
                  <a:srgbClr val="ffffb7"/>
                </a:solidFill>
                <a:uFillTx/>
                <a:latin typeface="Arial"/>
              </a:rPr>
              <a:t>результат - готовый продукт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деятельност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66"/>
                </a:solidFill>
                <a:latin typeface="Arial Black"/>
              </a:rPr>
              <a:t>Проект = 5П + П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66"/>
                </a:solidFill>
                <a:latin typeface="Arial"/>
              </a:rPr>
              <a:t>П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роблем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66"/>
                </a:solidFill>
                <a:latin typeface="Arial"/>
              </a:rPr>
              <a:t>П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роектирование (планирование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66"/>
                </a:solidFill>
                <a:latin typeface="Arial"/>
              </a:rPr>
              <a:t>П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иск информац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66"/>
                </a:solidFill>
                <a:latin typeface="Arial"/>
              </a:rPr>
              <a:t>П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родук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66"/>
                </a:solidFill>
                <a:latin typeface="Arial"/>
              </a:rPr>
              <a:t>П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резентац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ru-RU" sz="3200" spc="-1" strike="noStrike">
                <a:solidFill>
                  <a:srgbClr val="ffff66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66"/>
                </a:solidFill>
                <a:latin typeface="Arial"/>
              </a:rPr>
              <a:t>П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ртфолио – папка, в которой собрано всё по данному проект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66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Picture 2" descr="C:\Users\Asus\Downloads\e832fda3402b42ac780e30be16ae9ba4-800x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66"/>
                </a:solidFill>
                <a:latin typeface="Times New Roman"/>
              </a:rPr>
              <a:t>Исследовательская деятельность :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Деятельность, связанная с решением творческой, исследовательской задачи с заранее </a:t>
            </a:r>
            <a:r>
              <a:rPr b="1" lang="ru-RU" sz="2800" spc="-1" strike="noStrike" u="sng">
                <a:solidFill>
                  <a:srgbClr val="ffffb7"/>
                </a:solidFill>
                <a:uFillTx/>
                <a:latin typeface="Times New Roman"/>
              </a:rPr>
              <a:t>неизвестным решением.</a:t>
            </a:r>
            <a:br>
              <a:rPr sz="2800"/>
            </a:b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Исследовательская деятельность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должна быть </a:t>
            </a:r>
            <a:r>
              <a:rPr b="1" lang="ru-RU" sz="2800" spc="-1" strike="noStrike" u="sng">
                <a:solidFill>
                  <a:srgbClr val="ffffb7"/>
                </a:solidFill>
                <a:uFillTx/>
                <a:latin typeface="Times New Roman"/>
              </a:rPr>
              <a:t>свободной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, практически нерегламентированной какими-либо внешними установками, в ней </a:t>
            </a:r>
            <a:r>
              <a:rPr b="1" lang="ru-RU" sz="2800" spc="-1" strike="noStrike" u="sng">
                <a:solidFill>
                  <a:srgbClr val="ffffb7"/>
                </a:solidFill>
                <a:uFillTx/>
                <a:latin typeface="Times New Roman"/>
              </a:rPr>
              <a:t>больше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места для</a:t>
            </a:r>
            <a:r>
              <a:rPr b="1" lang="ru-RU" sz="28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1" lang="ru-RU" sz="2800" spc="-1" strike="noStrike" u="sng">
                <a:solidFill>
                  <a:srgbClr val="ffffb7"/>
                </a:solidFill>
                <a:uFillTx/>
                <a:latin typeface="Times New Roman"/>
              </a:rPr>
              <a:t>импровизации.</a:t>
            </a:r>
            <a:br>
              <a:rPr sz="2800"/>
            </a:br>
            <a:r>
              <a:rPr b="1" lang="ru-RU" sz="2800" spc="-1" strike="noStrike" u="sng">
                <a:solidFill>
                  <a:srgbClr val="ffffb7"/>
                </a:solidFill>
                <a:uFillTx/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13T08:01:55Z</dcterms:created>
  <dc:creator>User</dc:creator>
  <dc:description/>
  <dc:language>en-US</dc:language>
  <cp:lastModifiedBy>Пользователь Asus</cp:lastModifiedBy>
  <dcterms:modified xsi:type="dcterms:W3CDTF">2023-10-07T15:26:16Z</dcterms:modified>
  <cp:revision>18</cp:revision>
  <dc:subject/>
  <dc:title>Организация исследовательской деятельности детей старшего дошкольного возраста</dc:title>
</cp:coreProperties>
</file>