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png" ContentType="image/png"/>
  <Override PartName="/ppt/media/image8.wmf" ContentType="image/x-wmf"/>
  <Override PartName="/ppt/media/image12.png" ContentType="image/png"/>
  <Override PartName="/ppt/media/image11.wmf" ContentType="image/x-wmf"/>
  <Override PartName="/ppt/media/image17.jpeg" ContentType="image/jpeg"/>
  <Override PartName="/ppt/media/image7.png" ContentType="image/png"/>
  <Override PartName="/ppt/media/image19.jpeg" ContentType="image/jpeg"/>
  <Override PartName="/ppt/media/image18.jpeg" ContentType="image/jpeg"/>
  <Override PartName="/ppt/media/image15.gif" ContentType="image/gif"/>
  <Override PartName="/ppt/media/image3.jpeg" ContentType="image/jpeg"/>
  <Override PartName="/ppt/media/image14.gif" ContentType="image/gif"/>
  <Override PartName="/ppt/media/image1.wmf" ContentType="image/x-wmf"/>
  <Override PartName="/ppt/media/image6.png" ContentType="image/png"/>
  <Override PartName="/ppt/media/image4.jpeg" ContentType="image/jpeg"/>
  <Override PartName="/ppt/media/image13.gif" ContentType="image/gif"/>
  <Override PartName="/ppt/media/image16.jpeg" ContentType="image/jpeg"/>
  <Override PartName="/ppt/media/image5.jpeg" ContentType="image/jpeg"/>
  <Override PartName="/ppt/media/image2.gif" ContentType="image/gif"/>
  <Override PartName="/ppt/media/image10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2F2C8-CEF1-40FE-9380-1B09450FD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-158760"/>
            <a:ext cx="822816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4E482-76F6-4E3B-B6FE-71F62628A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-158760"/>
            <a:ext cx="822816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B9A2D-003C-4DA2-997F-0868C2312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-158760"/>
            <a:ext cx="822816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A56EB-B670-45A6-9B92-E4B64B8B3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9140FB-BAA0-4FE9-B0F2-7BC241FF9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-158760"/>
            <a:ext cx="822816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5E1741-9E7E-4099-8E79-86D3CAD41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158760"/>
            <a:ext cx="822816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CE689A-2D74-4C05-A60F-CA8AAEA2D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158760"/>
            <a:ext cx="822816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8AFF38-2CB1-40FA-B405-0A2F12B50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-158760"/>
            <a:ext cx="822816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92181D-D7D6-4923-96AD-A9C53CC54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-158760"/>
            <a:ext cx="8228160" cy="933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5F7CBC-9BB2-47F7-90A3-4142EA971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-158760"/>
            <a:ext cx="822816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7FE582-C020-44BF-A5FB-F3E4256EC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-158760"/>
            <a:ext cx="822816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4B74B-579E-4F01-BC4C-8E9B2CA51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-158760"/>
            <a:ext cx="822816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B87E57-F526-44AF-9747-86928A95D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-158760"/>
            <a:ext cx="822816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2FF417-DE63-4BBD-A96A-8617A05EE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-158760"/>
            <a:ext cx="822816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60B5C6-9994-49A9-AD95-C4B5BEA75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158760"/>
            <a:ext cx="822816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B4161A-6DDA-448C-85FD-7D523F128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-158760"/>
            <a:ext cx="822816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28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136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28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136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861F0B-DDE8-4F14-A0F1-952B74272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69378E-8743-4368-9243-B59136D28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-158760"/>
            <a:ext cx="822816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E078B9-C766-46E2-84E2-133540C24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-158760"/>
            <a:ext cx="822816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FE8069-840D-4F0D-A4EB-5EB2D5500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-158760"/>
            <a:ext cx="822816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83C9B7-DEDF-4618-BC3E-887E57050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-158760"/>
            <a:ext cx="822816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12071B-8174-4564-A315-501E7B2CC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158760"/>
            <a:ext cx="822816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9FBC8-25E6-472B-B979-731D6DE65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7200" y="-158760"/>
            <a:ext cx="8228160" cy="933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866C76-A805-4A9D-BDA5-8F671A3F8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-158760"/>
            <a:ext cx="822816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21D210-CBD1-44A6-A6F8-B6EBDFE26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-158760"/>
            <a:ext cx="822816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8FAC32-A297-4FD5-91AD-7A4358BBC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-158760"/>
            <a:ext cx="822816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3E150C-ED02-4110-9E06-8BB379DE9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-158760"/>
            <a:ext cx="822816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A99F08-61F0-4DC0-AAC0-C8F05031B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-158760"/>
            <a:ext cx="822816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B80BDA-6CC9-45C9-9C11-5E7651CF2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-158760"/>
            <a:ext cx="822816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28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136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28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136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38D728-1767-4C44-9E7F-DE73CBEE1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-158760"/>
            <a:ext cx="822816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F1A3F-AB31-47B7-9782-79FA50768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-158760"/>
            <a:ext cx="822816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79584-F2B2-45AD-9729-EE14C3934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-158760"/>
            <a:ext cx="8228160" cy="933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D5892-36B5-423A-81CE-4DD790A0A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158760"/>
            <a:ext cx="822816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D688D-7B09-4768-A4A2-164019DE2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-158760"/>
            <a:ext cx="822816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FC001-0D84-463A-9E1D-6640C6DE6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-158760"/>
            <a:ext cx="822816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36BFF-6A71-4F36-8C2C-B3445143B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770D185-0A92-4480-9F24-5304953F3FD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1"/>
          <p:cNvGrpSpPr/>
          <p:nvPr/>
        </p:nvGrpSpPr>
        <p:grpSpPr>
          <a:xfrm>
            <a:off x="0" y="0"/>
            <a:ext cx="9158400" cy="6856560"/>
            <a:chOff x="0" y="0"/>
            <a:chExt cx="9158400" cy="6856560"/>
          </a:xfrm>
        </p:grpSpPr>
        <p:sp>
          <p:nvSpPr>
            <p:cNvPr id="42" name="Rectangle 2"/>
            <p:cNvSpPr/>
            <p:nvPr/>
          </p:nvSpPr>
          <p:spPr>
            <a:xfrm>
              <a:off x="8304480" y="1080"/>
              <a:ext cx="837720" cy="685512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Rectangle 3"/>
            <p:cNvSpPr/>
            <p:nvPr/>
          </p:nvSpPr>
          <p:spPr>
            <a:xfrm>
              <a:off x="1676160" y="0"/>
              <a:ext cx="304200" cy="685656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Rectangle 4"/>
            <p:cNvSpPr/>
            <p:nvPr/>
          </p:nvSpPr>
          <p:spPr>
            <a:xfrm>
              <a:off x="2742480" y="0"/>
              <a:ext cx="685440" cy="685656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Rectangle 5"/>
            <p:cNvSpPr/>
            <p:nvPr/>
          </p:nvSpPr>
          <p:spPr>
            <a:xfrm>
              <a:off x="3580560" y="0"/>
              <a:ext cx="380880" cy="685656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Rectangle 6"/>
            <p:cNvSpPr/>
            <p:nvPr/>
          </p:nvSpPr>
          <p:spPr>
            <a:xfrm>
              <a:off x="2133360" y="0"/>
              <a:ext cx="609120" cy="685656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Rectangle 7"/>
            <p:cNvSpPr/>
            <p:nvPr/>
          </p:nvSpPr>
          <p:spPr>
            <a:xfrm>
              <a:off x="761760" y="0"/>
              <a:ext cx="914040" cy="685656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Rectangle 8"/>
            <p:cNvSpPr/>
            <p:nvPr/>
          </p:nvSpPr>
          <p:spPr>
            <a:xfrm>
              <a:off x="456840" y="0"/>
              <a:ext cx="304560" cy="6856560"/>
            </a:xfrm>
            <a:prstGeom prst="rect">
              <a:avLst/>
            </a:prstGeom>
            <a:gradFill rotWithShape="0">
              <a:gsLst>
                <a:gs pos="0">
                  <a:srgbClr val="511b00"/>
                </a:gs>
                <a:gs pos="50000">
                  <a:srgbClr val="602000"/>
                </a:gs>
                <a:gs pos="100000">
                  <a:srgbClr val="511b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Rectangle 9"/>
            <p:cNvSpPr/>
            <p:nvPr/>
          </p:nvSpPr>
          <p:spPr>
            <a:xfrm>
              <a:off x="0" y="0"/>
              <a:ext cx="456840" cy="6856560"/>
            </a:xfrm>
            <a:prstGeom prst="rect">
              <a:avLst/>
            </a:prstGeom>
            <a:gradFill rotWithShape="0">
              <a:gsLst>
                <a:gs pos="0">
                  <a:srgbClr val="4b19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Rectangle 10"/>
            <p:cNvSpPr/>
            <p:nvPr/>
          </p:nvSpPr>
          <p:spPr>
            <a:xfrm>
              <a:off x="3428280" y="0"/>
              <a:ext cx="380520" cy="685656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Rectangle 11"/>
            <p:cNvSpPr/>
            <p:nvPr/>
          </p:nvSpPr>
          <p:spPr>
            <a:xfrm>
              <a:off x="4419000" y="0"/>
              <a:ext cx="837720" cy="685656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Rectangle 12"/>
            <p:cNvSpPr/>
            <p:nvPr/>
          </p:nvSpPr>
          <p:spPr>
            <a:xfrm>
              <a:off x="1980720" y="0"/>
              <a:ext cx="228240" cy="685656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Rectangle 13"/>
            <p:cNvSpPr/>
            <p:nvPr/>
          </p:nvSpPr>
          <p:spPr>
            <a:xfrm>
              <a:off x="5237640" y="0"/>
              <a:ext cx="399600" cy="685656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Rectangle 14"/>
            <p:cNvSpPr/>
            <p:nvPr/>
          </p:nvSpPr>
          <p:spPr>
            <a:xfrm>
              <a:off x="7390080" y="0"/>
              <a:ext cx="228240" cy="6856560"/>
            </a:xfrm>
            <a:prstGeom prst="rect">
              <a:avLst/>
            </a:prstGeom>
            <a:gradFill rotWithShape="0">
              <a:gsLst>
                <a:gs pos="0">
                  <a:srgbClr val="5c1e00"/>
                </a:gs>
                <a:gs pos="50000">
                  <a:srgbClr val="602000"/>
                </a:gs>
                <a:gs pos="100000">
                  <a:srgbClr val="5c1e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Rectangle 15"/>
            <p:cNvSpPr/>
            <p:nvPr/>
          </p:nvSpPr>
          <p:spPr>
            <a:xfrm>
              <a:off x="7313760" y="0"/>
              <a:ext cx="106632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Rectangle 16"/>
            <p:cNvSpPr/>
            <p:nvPr/>
          </p:nvSpPr>
          <p:spPr>
            <a:xfrm>
              <a:off x="5561640" y="0"/>
              <a:ext cx="990000" cy="685656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5000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Rectangle 17"/>
            <p:cNvSpPr/>
            <p:nvPr/>
          </p:nvSpPr>
          <p:spPr>
            <a:xfrm>
              <a:off x="6094800" y="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Rectangle 18"/>
            <p:cNvSpPr/>
            <p:nvPr/>
          </p:nvSpPr>
          <p:spPr>
            <a:xfrm>
              <a:off x="6932880" y="0"/>
              <a:ext cx="380520" cy="6856560"/>
            </a:xfrm>
            <a:prstGeom prst="rect">
              <a:avLst/>
            </a:prstGeom>
            <a:gradFill rotWithShape="0">
              <a:gsLst>
                <a:gs pos="0">
                  <a:srgbClr val="5c1e00"/>
                </a:gs>
                <a:gs pos="50000">
                  <a:srgbClr val="602000"/>
                </a:gs>
                <a:gs pos="100000">
                  <a:srgbClr val="5c1e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Rectangle 19"/>
            <p:cNvSpPr/>
            <p:nvPr/>
          </p:nvSpPr>
          <p:spPr>
            <a:xfrm>
              <a:off x="4253760" y="0"/>
              <a:ext cx="240840" cy="685656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Rectangle 20"/>
            <p:cNvSpPr/>
            <p:nvPr/>
          </p:nvSpPr>
          <p:spPr>
            <a:xfrm>
              <a:off x="3755160" y="0"/>
              <a:ext cx="533160" cy="685656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21"/>
            <p:cNvSpPr/>
            <p:nvPr/>
          </p:nvSpPr>
          <p:spPr>
            <a:xfrm>
              <a:off x="1080" y="6150240"/>
              <a:ext cx="9142560" cy="705960"/>
            </a:xfrm>
            <a:prstGeom prst="pi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2"/>
            <p:cNvSpPr/>
            <p:nvPr/>
          </p:nvSpPr>
          <p:spPr>
            <a:xfrm>
              <a:off x="0" y="6137280"/>
              <a:ext cx="9158400" cy="276120"/>
            </a:xfrm>
            <a:prstGeom prst="pie">
              <a:avLst/>
            </a:prstGeom>
            <a:gradFill rotWithShape="0">
              <a:gsLst>
                <a:gs pos="0">
                  <a:srgbClr val="070707"/>
                </a:gs>
                <a:gs pos="50000">
                  <a:srgbClr val="000000"/>
                </a:gs>
                <a:gs pos="100000">
                  <a:srgbClr val="07070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-158760"/>
            <a:ext cx="822816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ftr" idx="4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sldNum" idx="5"/>
          </p:nvPr>
        </p:nvSpPr>
        <p:spPr>
          <a:xfrm>
            <a:off x="6552720" y="6243480"/>
            <a:ext cx="2132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DCA9508-FF6A-4578-9B05-918A57984330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dt" idx="6"/>
          </p:nvPr>
        </p:nvSpPr>
        <p:spPr>
          <a:xfrm>
            <a:off x="457200" y="6248160"/>
            <a:ext cx="21319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"/>
          <p:cNvGrpSpPr/>
          <p:nvPr/>
        </p:nvGrpSpPr>
        <p:grpSpPr>
          <a:xfrm>
            <a:off x="0" y="0"/>
            <a:ext cx="9158400" cy="6856560"/>
            <a:chOff x="0" y="0"/>
            <a:chExt cx="9158400" cy="6856560"/>
          </a:xfrm>
        </p:grpSpPr>
        <p:sp>
          <p:nvSpPr>
            <p:cNvPr id="105" name="Rectangle 2"/>
            <p:cNvSpPr/>
            <p:nvPr/>
          </p:nvSpPr>
          <p:spPr>
            <a:xfrm>
              <a:off x="8304480" y="1080"/>
              <a:ext cx="837720" cy="685512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Rectangle 3"/>
            <p:cNvSpPr/>
            <p:nvPr/>
          </p:nvSpPr>
          <p:spPr>
            <a:xfrm>
              <a:off x="1676160" y="0"/>
              <a:ext cx="304200" cy="685656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Rectangle 4"/>
            <p:cNvSpPr/>
            <p:nvPr/>
          </p:nvSpPr>
          <p:spPr>
            <a:xfrm>
              <a:off x="2742480" y="0"/>
              <a:ext cx="685440" cy="685656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Rectangle 5"/>
            <p:cNvSpPr/>
            <p:nvPr/>
          </p:nvSpPr>
          <p:spPr>
            <a:xfrm>
              <a:off x="3580560" y="0"/>
              <a:ext cx="380880" cy="685656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Rectangle 6"/>
            <p:cNvSpPr/>
            <p:nvPr/>
          </p:nvSpPr>
          <p:spPr>
            <a:xfrm>
              <a:off x="2133360" y="0"/>
              <a:ext cx="609120" cy="685656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Rectangle 7"/>
            <p:cNvSpPr/>
            <p:nvPr/>
          </p:nvSpPr>
          <p:spPr>
            <a:xfrm>
              <a:off x="761760" y="0"/>
              <a:ext cx="914040" cy="685656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Rectangle 8"/>
            <p:cNvSpPr/>
            <p:nvPr/>
          </p:nvSpPr>
          <p:spPr>
            <a:xfrm>
              <a:off x="456840" y="0"/>
              <a:ext cx="304560" cy="6856560"/>
            </a:xfrm>
            <a:prstGeom prst="rect">
              <a:avLst/>
            </a:prstGeom>
            <a:gradFill rotWithShape="0">
              <a:gsLst>
                <a:gs pos="0">
                  <a:srgbClr val="511b00"/>
                </a:gs>
                <a:gs pos="50000">
                  <a:srgbClr val="602000"/>
                </a:gs>
                <a:gs pos="100000">
                  <a:srgbClr val="511b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Rectangle 9"/>
            <p:cNvSpPr/>
            <p:nvPr/>
          </p:nvSpPr>
          <p:spPr>
            <a:xfrm>
              <a:off x="0" y="0"/>
              <a:ext cx="456840" cy="6856560"/>
            </a:xfrm>
            <a:prstGeom prst="rect">
              <a:avLst/>
            </a:prstGeom>
            <a:gradFill rotWithShape="0">
              <a:gsLst>
                <a:gs pos="0">
                  <a:srgbClr val="4b19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Rectangle 10"/>
            <p:cNvSpPr/>
            <p:nvPr/>
          </p:nvSpPr>
          <p:spPr>
            <a:xfrm>
              <a:off x="3428280" y="0"/>
              <a:ext cx="380520" cy="685656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Rectangle 11"/>
            <p:cNvSpPr/>
            <p:nvPr/>
          </p:nvSpPr>
          <p:spPr>
            <a:xfrm>
              <a:off x="4419000" y="0"/>
              <a:ext cx="837720" cy="685656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Rectangle 12"/>
            <p:cNvSpPr/>
            <p:nvPr/>
          </p:nvSpPr>
          <p:spPr>
            <a:xfrm>
              <a:off x="1980720" y="0"/>
              <a:ext cx="228240" cy="685656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Rectangle 13"/>
            <p:cNvSpPr/>
            <p:nvPr/>
          </p:nvSpPr>
          <p:spPr>
            <a:xfrm>
              <a:off x="5237640" y="0"/>
              <a:ext cx="399600" cy="685656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Rectangle 14"/>
            <p:cNvSpPr/>
            <p:nvPr/>
          </p:nvSpPr>
          <p:spPr>
            <a:xfrm>
              <a:off x="7390080" y="0"/>
              <a:ext cx="228240" cy="6856560"/>
            </a:xfrm>
            <a:prstGeom prst="rect">
              <a:avLst/>
            </a:prstGeom>
            <a:gradFill rotWithShape="0">
              <a:gsLst>
                <a:gs pos="0">
                  <a:srgbClr val="5c1e00"/>
                </a:gs>
                <a:gs pos="50000">
                  <a:srgbClr val="602000"/>
                </a:gs>
                <a:gs pos="100000">
                  <a:srgbClr val="5c1e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Rectangle 15"/>
            <p:cNvSpPr/>
            <p:nvPr/>
          </p:nvSpPr>
          <p:spPr>
            <a:xfrm>
              <a:off x="7313760" y="0"/>
              <a:ext cx="106632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Rectangle 16"/>
            <p:cNvSpPr/>
            <p:nvPr/>
          </p:nvSpPr>
          <p:spPr>
            <a:xfrm>
              <a:off x="5561640" y="0"/>
              <a:ext cx="990000" cy="685656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5000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Rectangle 17"/>
            <p:cNvSpPr/>
            <p:nvPr/>
          </p:nvSpPr>
          <p:spPr>
            <a:xfrm>
              <a:off x="6094800" y="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Rectangle 18"/>
            <p:cNvSpPr/>
            <p:nvPr/>
          </p:nvSpPr>
          <p:spPr>
            <a:xfrm>
              <a:off x="6932880" y="0"/>
              <a:ext cx="380520" cy="6856560"/>
            </a:xfrm>
            <a:prstGeom prst="rect">
              <a:avLst/>
            </a:prstGeom>
            <a:gradFill rotWithShape="0">
              <a:gsLst>
                <a:gs pos="0">
                  <a:srgbClr val="5c1e00"/>
                </a:gs>
                <a:gs pos="50000">
                  <a:srgbClr val="602000"/>
                </a:gs>
                <a:gs pos="100000">
                  <a:srgbClr val="5c1e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Rectangle 19"/>
            <p:cNvSpPr/>
            <p:nvPr/>
          </p:nvSpPr>
          <p:spPr>
            <a:xfrm>
              <a:off x="4253760" y="0"/>
              <a:ext cx="240840" cy="685656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Rectangle 20"/>
            <p:cNvSpPr/>
            <p:nvPr/>
          </p:nvSpPr>
          <p:spPr>
            <a:xfrm>
              <a:off x="3755160" y="0"/>
              <a:ext cx="533160" cy="685656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Freeform 21"/>
            <p:cNvSpPr/>
            <p:nvPr/>
          </p:nvSpPr>
          <p:spPr>
            <a:xfrm>
              <a:off x="1080" y="6150240"/>
              <a:ext cx="9142560" cy="705960"/>
            </a:xfrm>
            <a:prstGeom prst="pi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Freeform 22"/>
            <p:cNvSpPr/>
            <p:nvPr/>
          </p:nvSpPr>
          <p:spPr>
            <a:xfrm>
              <a:off x="0" y="6137280"/>
              <a:ext cx="9158400" cy="276120"/>
            </a:xfrm>
            <a:prstGeom prst="pie">
              <a:avLst/>
            </a:prstGeom>
            <a:gradFill rotWithShape="0">
              <a:gsLst>
                <a:gs pos="0">
                  <a:srgbClr val="070707"/>
                </a:gs>
                <a:gs pos="50000">
                  <a:srgbClr val="000000"/>
                </a:gs>
                <a:gs pos="100000">
                  <a:srgbClr val="07070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1508040"/>
            <a:ext cx="777096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dt" idx="7"/>
          </p:nvPr>
        </p:nvSpPr>
        <p:spPr>
          <a:xfrm>
            <a:off x="457200" y="6243480"/>
            <a:ext cx="21319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ftr" idx="8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2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9F4BC65-B73B-43CA-A087-6A0952CBC5B4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gif"/><Relationship Id="rId3" Type="http://schemas.openxmlformats.org/officeDocument/2006/relationships/image" Target="../media/image14.gif"/><Relationship Id="rId4" Type="http://schemas.openxmlformats.org/officeDocument/2006/relationships/image" Target="../media/image15.gi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8.wmf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58760"/>
            <a:ext cx="822960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униципальное бюджетное образовательное учреждение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Парнинская средняя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общеобразовательная шко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2" descr=""/>
          <p:cNvPicPr/>
          <p:nvPr/>
        </p:nvPicPr>
        <p:blipFill>
          <a:blip r:embed="rId1"/>
          <a:stretch/>
        </p:blipFill>
        <p:spPr>
          <a:xfrm>
            <a:off x="7093080" y="4869000"/>
            <a:ext cx="2050920" cy="1989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3"/>
          <p:cNvSpPr/>
          <p:nvPr/>
        </p:nvSpPr>
        <p:spPr>
          <a:xfrm>
            <a:off x="755640" y="1773360"/>
            <a:ext cx="7129440" cy="692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РЕДНЫЕ  ПРИВЫЧКИ </a:t>
            </a:r>
            <a:br>
              <a:rPr sz="4000"/>
            </a:br>
            <a:r>
              <a:rPr b="1" i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ДРОСТКОВ </a:t>
            </a:r>
            <a:br>
              <a:rPr sz="4000"/>
            </a:br>
            <a:r>
              <a:rPr b="1" i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 ИХ ПРОФИЛАКТИК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Picture 5" descr=""/>
          <p:cNvPicPr/>
          <p:nvPr/>
        </p:nvPicPr>
        <p:blipFill>
          <a:blip r:embed="rId2"/>
          <a:stretch/>
        </p:blipFill>
        <p:spPr>
          <a:xfrm>
            <a:off x="250920" y="1628640"/>
            <a:ext cx="1655640" cy="160992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6"/>
          <p:cNvSpPr/>
          <p:nvPr/>
        </p:nvSpPr>
        <p:spPr>
          <a:xfrm>
            <a:off x="5364000" y="6093000"/>
            <a:ext cx="11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022г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Прямоугольник 4"/>
          <p:cNvSpPr/>
          <p:nvPr/>
        </p:nvSpPr>
        <p:spPr>
          <a:xfrm>
            <a:off x="785880" y="1143000"/>
            <a:ext cx="74293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3600" spc="-1" strike="noStrike">
                <a:solidFill>
                  <a:srgbClr val="ff5050"/>
                </a:solidFill>
                <a:latin typeface="Times New Roman"/>
                <a:ea typeface="Times New Roman"/>
              </a:rPr>
              <a:t>Самое главное – это ваше воспитание, поддержка и любовь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3600" spc="-1" strike="noStrike">
                <a:solidFill>
                  <a:srgbClr val="ff5050"/>
                </a:solidFill>
                <a:latin typeface="Times New Roman"/>
                <a:ea typeface="Times New Roman"/>
              </a:rPr>
              <a:t>Ваш ребёнок, состоявшийся как нравственная и успешная личность - самая высокая мера оценки вашего жизненного пути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1" descr=""/>
          <p:cNvPicPr/>
          <p:nvPr/>
        </p:nvPicPr>
        <p:blipFill>
          <a:blip r:embed="rId1"/>
          <a:stretch/>
        </p:blipFill>
        <p:spPr>
          <a:xfrm>
            <a:off x="395280" y="1484280"/>
            <a:ext cx="8156520" cy="386568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2" descr=""/>
          <p:cNvPicPr/>
          <p:nvPr/>
        </p:nvPicPr>
        <p:blipFill>
          <a:blip r:embed="rId2"/>
          <a:stretch/>
        </p:blipFill>
        <p:spPr>
          <a:xfrm>
            <a:off x="2571840" y="4114800"/>
            <a:ext cx="3643200" cy="217188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3" descr=""/>
          <p:cNvPicPr/>
          <p:nvPr/>
        </p:nvPicPr>
        <p:blipFill>
          <a:blip r:embed="rId3"/>
          <a:stretch/>
        </p:blipFill>
        <p:spPr>
          <a:xfrm>
            <a:off x="357120" y="392040"/>
            <a:ext cx="2214720" cy="193824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4" descr=""/>
          <p:cNvPicPr/>
          <p:nvPr/>
        </p:nvPicPr>
        <p:blipFill>
          <a:blip r:embed="rId4"/>
          <a:stretch/>
        </p:blipFill>
        <p:spPr>
          <a:xfrm>
            <a:off x="7429680" y="1071720"/>
            <a:ext cx="1571400" cy="1214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7772400" cy="621648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2" descr=""/>
          <p:cNvPicPr/>
          <p:nvPr/>
        </p:nvPicPr>
        <p:blipFill>
          <a:blip r:embed="rId2"/>
          <a:stretch/>
        </p:blipFill>
        <p:spPr>
          <a:xfrm>
            <a:off x="6324480" y="3200400"/>
            <a:ext cx="2543400" cy="190512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3" descr=""/>
          <p:cNvPicPr/>
          <p:nvPr/>
        </p:nvPicPr>
        <p:blipFill>
          <a:blip r:embed="rId3"/>
          <a:stretch/>
        </p:blipFill>
        <p:spPr>
          <a:xfrm>
            <a:off x="6248520" y="533520"/>
            <a:ext cx="2476440" cy="139068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4" descr=""/>
          <p:cNvPicPr/>
          <p:nvPr/>
        </p:nvPicPr>
        <p:blipFill>
          <a:blip r:embed="rId4"/>
          <a:stretch/>
        </p:blipFill>
        <p:spPr>
          <a:xfrm>
            <a:off x="533520" y="2990880"/>
            <a:ext cx="2971800" cy="2225520"/>
          </a:xfrm>
          <a:prstGeom prst="rect">
            <a:avLst/>
          </a:prstGeom>
          <a:ln w="0">
            <a:noFill/>
          </a:ln>
        </p:spPr>
      </p:pic>
      <p:sp>
        <p:nvSpPr>
          <p:cNvPr id="216" name="Text Box 5"/>
          <p:cNvSpPr/>
          <p:nvPr/>
        </p:nvSpPr>
        <p:spPr>
          <a:xfrm>
            <a:off x="304920" y="5181480"/>
            <a:ext cx="861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Arial Black"/>
              </a:rPr>
              <a:t>Здоровый образ жизни- альтернатива употреблению ПАВ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Text Box 1"/>
          <p:cNvSpPr/>
          <p:nvPr/>
        </p:nvSpPr>
        <p:spPr>
          <a:xfrm>
            <a:off x="539640" y="1268280"/>
            <a:ext cx="813600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9600" spc="-1" strike="noStrike">
                <a:solidFill>
                  <a:srgbClr val="ffffff"/>
                </a:solidFill>
                <a:latin typeface="Georgia"/>
              </a:rPr>
              <a:t>Спасибо за внимание!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457200" y="1676520"/>
            <a:ext cx="83059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облема употребления ПАВ с каждым годом становится все более актуальной, как среди взрослых, так и среди детей младшего школьного возраста и подростков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последние годы значительно увеличилось число  детей и подростков употребляющих ПАВ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WordArt 2"/>
          <p:cNvSpPr txBox="1"/>
          <p:nvPr/>
        </p:nvSpPr>
        <p:spPr>
          <a:xfrm>
            <a:off x="838080" y="685800"/>
            <a:ext cx="67057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w="3168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563924" dir="14050137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Актуальность</a:t>
            </a:r>
            <a:endParaRPr b="1" lang="en-US" sz="1800" spc="1" strike="noStrike">
              <a:ln w="31680">
                <a:solidFill>
                  <a:srgbClr val="ffff00"/>
                </a:solidFill>
                <a:miter/>
              </a:ln>
              <a:solidFill>
                <a:srgbClr val="ff0000"/>
              </a:solidFill>
              <a:effectLst>
                <a:outerShdw dist="563924" dir="14050137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73" name="Picture 3" descr=""/>
          <p:cNvPicPr/>
          <p:nvPr/>
        </p:nvPicPr>
        <p:blipFill>
          <a:blip r:embed="rId1"/>
          <a:stretch/>
        </p:blipFill>
        <p:spPr>
          <a:xfrm>
            <a:off x="6772320" y="4643280"/>
            <a:ext cx="2371680" cy="243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00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304920" y="2361960"/>
            <a:ext cx="853416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аще всего мотивом употребления ПАВ выделяют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желание быть принятым в группу, нежелание быть « белой вороной»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юбопытство или протестное поведени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чень часто называется  -объяснение  «просто так»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ремление ощутить себя взрослым и влияние товарищ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2"/>
          <p:cNvSpPr/>
          <p:nvPr/>
        </p:nvSpPr>
        <p:spPr>
          <a:xfrm>
            <a:off x="0" y="255276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Rectangle 3"/>
          <p:cNvSpPr/>
          <p:nvPr/>
        </p:nvSpPr>
        <p:spPr>
          <a:xfrm>
            <a:off x="0" y="346716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WordArt 4"/>
          <p:cNvSpPr txBox="1"/>
          <p:nvPr/>
        </p:nvSpPr>
        <p:spPr>
          <a:xfrm>
            <a:off x="2666880" y="1295280"/>
            <a:ext cx="3816360" cy="752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w="3168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563924" dir="14050137" blurRad="0" rotWithShape="0">
                    <a:srgbClr val="c7dfd3">
                      <a:alpha val="80000"/>
                    </a:srgbClr>
                  </a:outerShdw>
                </a:effectLst>
                <a:latin typeface="Arial Black"/>
              </a:rPr>
              <a:t> </a:t>
            </a:r>
            <a:endParaRPr b="1" lang="en-US" sz="1800" spc="1" strike="noStrike">
              <a:ln w="31680">
                <a:solidFill>
                  <a:srgbClr val="ffff00"/>
                </a:solidFill>
                <a:miter/>
              </a:ln>
              <a:solidFill>
                <a:srgbClr val="ff0000"/>
              </a:solidFill>
              <a:effectLst>
                <a:outerShdw dist="563924" dir="14050137" blurRad="0" rotWithShape="0">
                  <a:srgbClr val="c7dfd3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78" name="Picture 5" descr=""/>
          <p:cNvPicPr/>
          <p:nvPr/>
        </p:nvPicPr>
        <p:blipFill>
          <a:blip r:embed="rId1"/>
          <a:stretch/>
        </p:blipFill>
        <p:spPr>
          <a:xfrm>
            <a:off x="6357960" y="76320"/>
            <a:ext cx="2406600" cy="185256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2" descr=""/>
          <p:cNvPicPr/>
          <p:nvPr/>
        </p:nvPicPr>
        <p:blipFill>
          <a:blip r:embed="rId2"/>
          <a:stretch/>
        </p:blipFill>
        <p:spPr>
          <a:xfrm>
            <a:off x="500040" y="214200"/>
            <a:ext cx="3143160" cy="2095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пецифические дефекты воспит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бычаи и традиции социальной сре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Недостатки в воспитательной рабо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Достаточно снисходительное отношение в обществе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к употреблению алкогольных напитков и курени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ценка отказа выпить как проявление недоброжела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о отношению к други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Давление компании и наличие в ней отрицательны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«авторитетных» людей как примера для подраж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Нравственная незрелость подрост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ext Box 1"/>
          <p:cNvSpPr/>
          <p:nvPr/>
        </p:nvSpPr>
        <p:spPr>
          <a:xfrm>
            <a:off x="1835280" y="2708280"/>
            <a:ext cx="6213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Text Box 2"/>
          <p:cNvSpPr/>
          <p:nvPr/>
        </p:nvSpPr>
        <p:spPr>
          <a:xfrm>
            <a:off x="2627280" y="1773360"/>
            <a:ext cx="4465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500040" y="1428840"/>
            <a:ext cx="7972560" cy="46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урение     Алкоголь     Наркотик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Разрушается здоровье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Деградирует лич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нижаются умственные способ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Ухудшается работоспособ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Прямоугольник 4"/>
          <p:cNvSpPr/>
          <p:nvPr/>
        </p:nvSpPr>
        <p:spPr>
          <a:xfrm>
            <a:off x="2941920" y="857160"/>
            <a:ext cx="3544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9973"/>
                </a:solidFill>
                <a:latin typeface="Times New Roman"/>
                <a:ea typeface="Times New Roman"/>
              </a:rPr>
              <a:t>Вредные привычк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Picture 12" descr="File0046"/>
          <p:cNvPicPr/>
          <p:nvPr/>
        </p:nvPicPr>
        <p:blipFill>
          <a:blip r:embed="rId1"/>
          <a:stretch/>
        </p:blipFill>
        <p:spPr>
          <a:xfrm>
            <a:off x="0" y="4857840"/>
            <a:ext cx="1500120" cy="172872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2" descr="File0046"/>
          <p:cNvPicPr/>
          <p:nvPr/>
        </p:nvPicPr>
        <p:blipFill>
          <a:blip r:embed="rId2"/>
          <a:stretch/>
        </p:blipFill>
        <p:spPr>
          <a:xfrm>
            <a:off x="152280" y="5010120"/>
            <a:ext cx="1500480" cy="172872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12" descr="File0046"/>
          <p:cNvPicPr/>
          <p:nvPr/>
        </p:nvPicPr>
        <p:blipFill>
          <a:blip r:embed="rId3"/>
          <a:stretch/>
        </p:blipFill>
        <p:spPr>
          <a:xfrm>
            <a:off x="304920" y="5162400"/>
            <a:ext cx="1500120" cy="172908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4" descr=""/>
          <p:cNvPicPr/>
          <p:nvPr/>
        </p:nvPicPr>
        <p:blipFill>
          <a:blip r:embed="rId4"/>
          <a:stretch/>
        </p:blipFill>
        <p:spPr>
          <a:xfrm>
            <a:off x="3286080" y="5000760"/>
            <a:ext cx="2071800" cy="1404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9" name="Object 6"/>
          <p:cNvGraphicFramePr/>
          <p:nvPr/>
        </p:nvGraphicFramePr>
        <p:xfrm>
          <a:off x="7429680" y="5072040"/>
          <a:ext cx="1357200" cy="1327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0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429680" y="5072040"/>
                    <a:ext cx="1357200" cy="132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extBox 6"/>
          <p:cNvSpPr/>
          <p:nvPr/>
        </p:nvSpPr>
        <p:spPr>
          <a:xfrm>
            <a:off x="214200" y="142920"/>
            <a:ext cx="8786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009973"/>
                </a:solidFill>
                <a:latin typeface="Times New Roman"/>
                <a:ea typeface="Times New Roman"/>
              </a:rPr>
              <a:t>Последствия вредных привычек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TextBox 7"/>
          <p:cNvSpPr/>
          <p:nvPr/>
        </p:nvSpPr>
        <p:spPr>
          <a:xfrm>
            <a:off x="214200" y="1000080"/>
            <a:ext cx="8643960" cy="533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Заражение вирусным гепатитом и ВИЧ-инфекцие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Истощение организма, нервной системы и психик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Личность деградирует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Разрушение отношений с родителями, родными, друзьям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овершение преступлени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Рождение неполноценных дете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реждевременная смерть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3" name="Picture 7" descr=""/>
          <p:cNvPicPr/>
          <p:nvPr/>
        </p:nvPicPr>
        <p:blipFill>
          <a:blip r:embed="rId1"/>
          <a:stretch/>
        </p:blipFill>
        <p:spPr>
          <a:xfrm>
            <a:off x="6215040" y="3857760"/>
            <a:ext cx="1857240" cy="247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1752120" y="5028840"/>
            <a:ext cx="71629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 среднем курильщик тратит тысячи и миллионы рублей на сигареты каждый год. Лечение заболеваний, связанных с курением тоже обходится недешев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офилактика вредных привычек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вая истина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курение, употребление спиртных напитков, пива и наркотических веществ — это не вредная привычка, а заболевание, зачастую неизлечимое, которое человек приобретает добровольно, начав употреблять сигареты, спиртные напитки и наркотические веществ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торая истина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алкоголизм и наркомания как заболевание начинает развиваться, как правило, после первого употребления спиртных напитков и наркотического вещества, развивается оно у всех по-разному, но с постоянным нарастанием потребности увеличения дозы прием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ретья истина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человек, предлагающий тебе сигарету, спиртное и  наркотик, — враг твоего здоровья (исключение может составлять только случай — назначение врача), так как он ради своей наживы за твои же деньги отбирает у тебя здоровь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Object 3" descr=""/>
          <p:cNvPicPr/>
          <p:nvPr/>
        </p:nvPicPr>
        <p:blipFill>
          <a:blip r:embed="rId1"/>
          <a:stretch/>
        </p:blipFill>
        <p:spPr>
          <a:xfrm>
            <a:off x="3643200" y="2071800"/>
            <a:ext cx="1714680" cy="2421000"/>
          </a:xfrm>
          <a:prstGeom prst="rect">
            <a:avLst/>
          </a:prstGeom>
          <a:ln w="0">
            <a:noFill/>
          </a:ln>
        </p:spPr>
      </p:pic>
      <p:sp>
        <p:nvSpPr>
          <p:cNvPr id="199" name="TextBox 2"/>
          <p:cNvSpPr/>
          <p:nvPr/>
        </p:nvSpPr>
        <p:spPr>
          <a:xfrm>
            <a:off x="571680" y="642960"/>
            <a:ext cx="2428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 u="sng">
                <a:solidFill>
                  <a:srgbClr val="009973"/>
                </a:solidFill>
                <a:uFillTx/>
                <a:latin typeface="Times New Roman"/>
                <a:ea typeface="Times New Roman"/>
              </a:rPr>
              <a:t>Информаци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 u="sng">
                <a:solidFill>
                  <a:srgbClr val="009973"/>
                </a:solidFill>
                <a:uFillTx/>
                <a:latin typeface="Times New Roman"/>
                <a:ea typeface="Times New Roman"/>
              </a:rPr>
              <a:t>о зависимост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TextBox 3"/>
          <p:cNvSpPr/>
          <p:nvPr/>
        </p:nvSpPr>
        <p:spPr>
          <a:xfrm>
            <a:off x="4572000" y="428760"/>
            <a:ext cx="435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 u="sng">
                <a:solidFill>
                  <a:srgbClr val="009973"/>
                </a:solidFill>
                <a:uFillTx/>
                <a:latin typeface="Times New Roman"/>
                <a:ea typeface="Times New Roman"/>
              </a:rPr>
              <a:t>Не замалчивайте тему курения, алкоголя и наркотик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TextBox 4"/>
          <p:cNvSpPr/>
          <p:nvPr/>
        </p:nvSpPr>
        <p:spPr>
          <a:xfrm>
            <a:off x="2857680" y="1571760"/>
            <a:ext cx="307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 u="sng">
                <a:solidFill>
                  <a:srgbClr val="009973"/>
                </a:solidFill>
                <a:uFillTx/>
                <a:latin typeface="Times New Roman"/>
                <a:ea typeface="Times New Roman"/>
              </a:rPr>
              <a:t>Говорите обо всё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TextBox 5"/>
          <p:cNvSpPr/>
          <p:nvPr/>
        </p:nvSpPr>
        <p:spPr>
          <a:xfrm>
            <a:off x="285840" y="2714760"/>
            <a:ext cx="3143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 u="sng">
                <a:solidFill>
                  <a:srgbClr val="009973"/>
                </a:solidFill>
                <a:uFillTx/>
                <a:latin typeface="Times New Roman"/>
                <a:ea typeface="Times New Roman"/>
              </a:rPr>
              <a:t>Высказывание своей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 u="sng">
                <a:solidFill>
                  <a:srgbClr val="009973"/>
                </a:solidFill>
                <a:uFillTx/>
                <a:latin typeface="Times New Roman"/>
                <a:ea typeface="Times New Roman"/>
              </a:rPr>
              <a:t>точки зр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TextBox 7"/>
          <p:cNvSpPr/>
          <p:nvPr/>
        </p:nvSpPr>
        <p:spPr>
          <a:xfrm>
            <a:off x="5500800" y="2643120"/>
            <a:ext cx="3500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 u="sng">
                <a:solidFill>
                  <a:srgbClr val="009973"/>
                </a:solidFill>
                <a:uFillTx/>
                <a:latin typeface="Times New Roman"/>
                <a:ea typeface="Times New Roman"/>
              </a:rPr>
              <a:t>Интересуйтесь друзьями своего ребён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TextBox 8"/>
          <p:cNvSpPr/>
          <p:nvPr/>
        </p:nvSpPr>
        <p:spPr>
          <a:xfrm>
            <a:off x="1785960" y="4572000"/>
            <a:ext cx="564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 u="sng">
                <a:solidFill>
                  <a:srgbClr val="009973"/>
                </a:solidFill>
                <a:uFillTx/>
                <a:latin typeface="Times New Roman"/>
                <a:ea typeface="Times New Roman"/>
              </a:rPr>
              <a:t>Не оскорбляйте чувства подростка постоянной  подозрительность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TextBox 9"/>
          <p:cNvSpPr/>
          <p:nvPr/>
        </p:nvSpPr>
        <p:spPr>
          <a:xfrm>
            <a:off x="500040" y="5643720"/>
            <a:ext cx="350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 u="sng">
                <a:solidFill>
                  <a:srgbClr val="009973"/>
                </a:solidFill>
                <a:uFillTx/>
                <a:latin typeface="Times New Roman"/>
                <a:ea typeface="Times New Roman"/>
              </a:rPr>
              <a:t>Согласовать позицию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 u="sng">
                <a:solidFill>
                  <a:srgbClr val="009973"/>
                </a:solidFill>
                <a:uFillTx/>
                <a:latin typeface="Times New Roman"/>
                <a:ea typeface="Times New Roman"/>
              </a:rPr>
              <a:t>обоих родителе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TextBox 10"/>
          <p:cNvSpPr/>
          <p:nvPr/>
        </p:nvSpPr>
        <p:spPr>
          <a:xfrm>
            <a:off x="714240" y="285840"/>
            <a:ext cx="814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 u="sng">
                <a:solidFill>
                  <a:srgbClr val="009973"/>
                </a:solidFill>
                <a:uFillTx/>
                <a:latin typeface="Times New Roman"/>
                <a:ea typeface="Times New Roman"/>
              </a:rPr>
              <a:t>Родительский приме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31T19:50:52Z</dcterms:created>
  <dc:creator>Татьяна</dc:creator>
  <dc:description/>
  <dc:language>en-US</dc:language>
  <cp:lastModifiedBy>Oksan</cp:lastModifiedBy>
  <dcterms:modified xsi:type="dcterms:W3CDTF">2023-10-10T04:36:17Z</dcterms:modified>
  <cp:revision>35</cp:revision>
  <dc:subject/>
  <dc:title>Слайд 1</dc:title>
</cp:coreProperties>
</file>