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png" ContentType="image/png"/>
  <Override PartName="/ppt/media/image57.png" ContentType="image/png"/>
  <Override PartName="/ppt/media/image18.jpeg" ContentType="image/jpeg"/>
  <Override PartName="/ppt/media/image15.png" ContentType="image/png"/>
  <Override PartName="/ppt/media/image55.wmf" ContentType="image/x-wmf"/>
  <Override PartName="/ppt/media/image17.jpeg" ContentType="image/jpeg"/>
  <Override PartName="/ppt/media/image16.jpeg" ContentType="image/jpeg"/>
  <Override PartName="/ppt/media/image1.jpeg" ContentType="image/jpeg"/>
  <Override PartName="/ppt/media/image23.jpeg" ContentType="image/jpeg"/>
  <Override PartName="/ppt/media/image2.wmf" ContentType="image/x-wmf"/>
  <Override PartName="/ppt/media/image3.gif" ContentType="image/gif"/>
  <Override PartName="/ppt/media/image6.wmf" ContentType="image/x-wmf"/>
  <Override PartName="/ppt/media/image4.png" ContentType="image/png"/>
  <Override PartName="/ppt/media/image12.jpeg" ContentType="image/jpeg"/>
  <Override PartName="/ppt/media/image34.png" ContentType="image/png"/>
  <Override PartName="/ppt/media/image7.wmf" ContentType="image/x-wmf"/>
  <Override PartName="/ppt/media/image14.jpeg" ContentType="image/jpeg"/>
  <Override PartName="/ppt/media/image43.png" ContentType="image/png"/>
  <Override PartName="/ppt/media/image44.png" ContentType="image/png"/>
  <Override PartName="/ppt/media/image46.png" ContentType="image/png"/>
  <Override PartName="/ppt/media/image36.png" ContentType="image/png"/>
  <Override PartName="/ppt/media/image56.wmf" ContentType="image/x-wmf"/>
  <Override PartName="/ppt/media/image47.wmf" ContentType="image/x-wmf"/>
  <Override PartName="/ppt/media/image48.wmf" ContentType="image/x-wmf"/>
  <Override PartName="/ppt/media/image10.jpeg" ContentType="image/jpeg"/>
  <Override PartName="/ppt/media/image28.png" ContentType="image/png"/>
  <Override PartName="/ppt/media/image49.wmf" ContentType="image/x-wmf"/>
  <Override PartName="/ppt/media/image31.png" ContentType="image/png"/>
  <Override PartName="/ppt/media/image39.wmf" ContentType="image/x-wmf"/>
  <Override PartName="/ppt/media/image41.png" ContentType="image/png"/>
  <Override PartName="/ppt/media/image40.wmf" ContentType="image/x-wmf"/>
  <Override PartName="/ppt/media/image53.png" ContentType="image/png"/>
  <Override PartName="/ppt/media/image51.jpeg" ContentType="image/jpeg"/>
  <Override PartName="/ppt/media/image33.jpeg" ContentType="image/jpeg"/>
  <Override PartName="/ppt/media/image30.png" ContentType="image/png"/>
  <Override PartName="/ppt/media/image37.jpeg" ContentType="image/jpeg"/>
  <Override PartName="/ppt/media/image5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5.gif" ContentType="image/gif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media/image42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A4DF-1E5B-408D-A92D-C0027D0B1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A9FD-F6EB-45D2-A3A6-38F07221F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6CB-7F3D-469E-9675-0CDE82EA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F82-01B5-4403-87DB-0386048B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E4B-F7DD-4D6E-8070-748829C5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734-2367-4882-B166-4E2A6195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617-7124-4DD8-A20E-33F44AC5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E14-39B2-4187-B18F-C2EFF8C7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302-089D-46C9-9BC3-740E4F48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023-C2ED-4F29-B394-7900B280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38D-74E8-4980-BA57-DF3F5F5C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A9A-C4CE-40CA-B5D4-2F6BD68F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136-1622-49D5-868E-09A71914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257-8F06-44A2-88B6-C13225F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B5B-C469-4759-A256-94818338DE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image" Target="../media/image4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7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 ПРИВЫЧКИ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ОСТКОВ </a:t>
            </a: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ИХ ПРОФИЛАКТ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7000920" y="4000680"/>
          <a:ext cx="1857240" cy="25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0920" y="4000680"/>
                    <a:ext cx="1857240" cy="25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7160" y="42840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ассивное кур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480" y="1428840"/>
            <a:ext cx="8643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дыхают 50 %  ды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1 час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7858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257184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17146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5"/>
          <a:stretch/>
        </p:blipFill>
        <p:spPr>
          <a:xfrm>
            <a:off x="128592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21430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7"/>
          <a:stretch/>
        </p:blipFill>
        <p:spPr>
          <a:xfrm>
            <a:off x="314316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8"/>
          <a:stretch/>
        </p:blipFill>
        <p:spPr>
          <a:xfrm>
            <a:off x="364320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9"/>
          <a:stretch/>
        </p:blipFill>
        <p:spPr>
          <a:xfrm>
            <a:off x="4214880" y="32860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10"/>
          <a:stretch/>
        </p:blipFill>
        <p:spPr>
          <a:xfrm>
            <a:off x="4786200" y="3214800"/>
            <a:ext cx="500040" cy="65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1"/>
          <a:stretch/>
        </p:blipFill>
        <p:spPr>
          <a:xfrm>
            <a:off x="7786800" y="3214800"/>
            <a:ext cx="500040" cy="65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12"/>
          <a:stretch/>
        </p:blipFill>
        <p:spPr>
          <a:xfrm>
            <a:off x="428616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13"/>
          <a:stretch/>
        </p:blipFill>
        <p:spPr>
          <a:xfrm>
            <a:off x="478620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14"/>
          <a:stretch/>
        </p:blipFill>
        <p:spPr>
          <a:xfrm>
            <a:off x="5357880" y="4643280"/>
            <a:ext cx="500040" cy="65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15"/>
          <a:stretch/>
        </p:blipFill>
        <p:spPr>
          <a:xfrm>
            <a:off x="5929200" y="4572000"/>
            <a:ext cx="500040" cy="654120"/>
          </a:xfrm>
          <a:prstGeom prst="rect">
            <a:avLst/>
          </a:prstGeom>
          <a:ln w="0">
            <a:noFill/>
          </a:ln>
        </p:spPr>
      </p:pic>
      <p:sp>
        <p:nvSpPr>
          <p:cNvPr id="101" name="Блок-схема: процесс 19"/>
          <p:cNvSpPr/>
          <p:nvPr/>
        </p:nvSpPr>
        <p:spPr>
          <a:xfrm>
            <a:off x="214200" y="3000240"/>
            <a:ext cx="5357880" cy="107172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процесс 20"/>
          <p:cNvSpPr/>
          <p:nvPr/>
        </p:nvSpPr>
        <p:spPr>
          <a:xfrm>
            <a:off x="7572240" y="3000240"/>
            <a:ext cx="928800" cy="107172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роцесс 21"/>
          <p:cNvSpPr/>
          <p:nvPr/>
        </p:nvSpPr>
        <p:spPr>
          <a:xfrm>
            <a:off x="4143240" y="4429080"/>
            <a:ext cx="2571840" cy="1000080"/>
          </a:xfrm>
          <a:prstGeom prst="flowChartProcess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 23"/>
          <p:cNvSpPr/>
          <p:nvPr/>
        </p:nvSpPr>
        <p:spPr>
          <a:xfrm>
            <a:off x="6000840" y="3286080"/>
            <a:ext cx="1285920" cy="571680"/>
          </a:xfrm>
          <a:prstGeom prst="pie">
            <a:avLst/>
          </a:prstGeom>
          <a:gradFill rotWithShape="0">
            <a:gsLst>
              <a:gs pos="0">
                <a:srgbClr val="ffa487"/>
              </a:gs>
              <a:gs pos="100000">
                <a:srgbClr val="ffe3dc"/>
              </a:gs>
            </a:gsLst>
            <a:lin ang="81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 закурена квартир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 все щели лезет ды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дно, скоро мы «закурим»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ть того и не хоти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1"/>
          <a:stretch/>
        </p:blipFill>
        <p:spPr>
          <a:xfrm>
            <a:off x="2071800" y="285840"/>
            <a:ext cx="493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х, какой он «взрослый»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стом с папиросу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будет так дымить, 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му взрослым и не быть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57160" y="3214800"/>
            <a:ext cx="46436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т дымят они вдвоём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не думают о том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их будущие дети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друг родятся с сигаретой?</a:t>
            </a:r>
            <a:br>
              <a:rPr sz="36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143680" y="2928960"/>
            <a:ext cx="3357360" cy="332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714240" y="2928960"/>
            <a:ext cx="3357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Алког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57120" y="1071720"/>
            <a:ext cx="850104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инный спирт получен в 9 веке – араб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1 веке – итальянц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16 веке – завезли в Росс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43000" y="3357720"/>
            <a:ext cx="3071880" cy="296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143680" y="3357720"/>
            <a:ext cx="300024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642600"/>
            <a:ext cx="8572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держание алкоголя в пиве достигает в некоторых сортах 14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тылка светлого пива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50 грамм вод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тыре бутылки за день 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200 грамм вод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929280" y="4357800"/>
            <a:ext cx="18766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нергетические коктей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спиртному добавляется кофеин в размере четырех чашек крепкого кофе на бан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йне опасно для здоровья смешивать энергетические напитки с алкогол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ступает гипертонический кр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рушается ритм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огут отказать почк</a:t>
            </a:r>
            <a:r>
              <a:rPr b="1" i="1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500280" y="5143680"/>
            <a:ext cx="2357640" cy="15001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"/>
          <p:cNvPicPr/>
          <p:nvPr/>
        </p:nvPicPr>
        <p:blipFill>
          <a:blip r:embed="rId2"/>
          <a:stretch/>
        </p:blipFill>
        <p:spPr>
          <a:xfrm>
            <a:off x="428760" y="4286160"/>
            <a:ext cx="1714320" cy="2357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"/>
          <p:cNvPicPr/>
          <p:nvPr/>
        </p:nvPicPr>
        <p:blipFill>
          <a:blip r:embed="rId3"/>
          <a:stretch/>
        </p:blipFill>
        <p:spPr>
          <a:xfrm>
            <a:off x="7072200" y="435780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рень рано начинает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«змием» дружбу заводить.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т, не всё он понимает,</a:t>
            </a:r>
            <a:br>
              <a:rPr sz="3600"/>
            </a:br>
            <a:r>
              <a:rPr b="0" i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чет в рабство угод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1857240" y="2714760"/>
            <a:ext cx="528660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 здоровь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чен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5214960" y="1143000"/>
            <a:ext cx="321480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642960" y="3000240"/>
            <a:ext cx="342900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рдце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уды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214880" y="357120"/>
            <a:ext cx="4000320" cy="262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714240" y="3571920"/>
            <a:ext cx="2500560" cy="275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3"/>
          <a:stretch/>
        </p:blipFill>
        <p:spPr>
          <a:xfrm>
            <a:off x="6286680" y="3571920"/>
            <a:ext cx="21430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дростковый возрас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2920" y="2143080"/>
            <a:ext cx="88581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стройка организ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сихогормональные процес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овление ли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определённость социального полож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C:\Documents and Settings\Admin\Рабочий стол\image6986.gif"/>
          <p:cNvPicPr/>
          <p:nvPr/>
        </p:nvPicPr>
        <p:blipFill>
          <a:blip r:embed="rId1"/>
          <a:stretch/>
        </p:blipFill>
        <p:spPr>
          <a:xfrm>
            <a:off x="0" y="2000160"/>
            <a:ext cx="2000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4200" y="71424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щённое дыхани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слюноотделения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желудочного сока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ширение сосудов кожи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рушение терморегуляции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стрение заболеваний почек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Обострение мочевыводящих путей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Снижение сопротивляемости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к  инфекционным заболеваниям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Страдает нервная система и головной мозг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00040" y="3143160"/>
            <a:ext cx="1844640" cy="32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"/>
          <p:cNvGraphicFramePr/>
          <p:nvPr/>
        </p:nvGraphicFramePr>
        <p:xfrm>
          <a:off x="6000840" y="500040"/>
          <a:ext cx="2428920" cy="306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00840" y="500040"/>
                    <a:ext cx="242892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8286840" y="2143080"/>
          <a:ext cx="357120" cy="92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86840" y="2143080"/>
                    <a:ext cx="3571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840" y="1213920"/>
            <a:ext cx="837252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тадии опьянения</a:t>
            </a:r>
            <a:br>
              <a:rPr sz="48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гкая (0,05 -0,07 % алкоголя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редняя (1,2 % алкоголя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яжёлая (2,5 -3 % алкоголя)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6572160" y="1428840"/>
            <a:ext cx="1357560" cy="13032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2" descr=""/>
          <p:cNvPicPr/>
          <p:nvPr/>
        </p:nvPicPr>
        <p:blipFill>
          <a:blip r:embed="rId2"/>
          <a:stretch/>
        </p:blipFill>
        <p:spPr>
          <a:xfrm>
            <a:off x="5500800" y="3143160"/>
            <a:ext cx="1143000" cy="1451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7000920" y="4429080"/>
            <a:ext cx="135720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-12 г чистого алкоголя на 1 кг веса  - смертельная доза!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2000520" cy="184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Documents and Settings\Admin\Рабочий стол\post-402-1179689794.gif"/>
          <p:cNvPicPr/>
          <p:nvPr/>
        </p:nvPicPr>
        <p:blipFill>
          <a:blip r:embed="rId2"/>
          <a:stretch/>
        </p:blipFill>
        <p:spPr>
          <a:xfrm flipH="1">
            <a:off x="6214680" y="428760"/>
            <a:ext cx="2025720" cy="200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5143680" y="4000680"/>
            <a:ext cx="314316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Object 3"/>
          <p:cNvGraphicFramePr/>
          <p:nvPr/>
        </p:nvGraphicFramePr>
        <p:xfrm>
          <a:off x="642960" y="4071960"/>
          <a:ext cx="2071800" cy="21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2960" y="4071960"/>
                    <a:ext cx="20718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44416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чему?</a:t>
            </a:r>
            <a:br>
              <a:rPr sz="2500"/>
            </a:br>
            <a:br>
              <a:rPr sz="25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 почему бы и нет?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Была «крутая тусовка»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Было ску-у-у-у-чно…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чайно, за компанию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Мне так интереснее жить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Я, как все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пьют, и я пью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Дело было вечером, делать было нечего.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отрываться же мне от компании.</a:t>
            </a:r>
            <a:br>
              <a:rPr sz="2800"/>
            </a:br>
            <a:br>
              <a:rPr sz="2500"/>
            </a:b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428760" y="4429080"/>
            <a:ext cx="1785960" cy="14749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" descr=""/>
          <p:cNvPicPr/>
          <p:nvPr/>
        </p:nvPicPr>
        <p:blipFill>
          <a:blip r:embed="rId2"/>
          <a:stretch/>
        </p:blipFill>
        <p:spPr>
          <a:xfrm>
            <a:off x="6786720" y="285840"/>
            <a:ext cx="1785960" cy="1546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3"/>
          <a:stretch/>
        </p:blipFill>
        <p:spPr>
          <a:xfrm>
            <a:off x="6500880" y="5143680"/>
            <a:ext cx="21430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285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котик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н                              Белый мак</a:t>
            </a:r>
            <a:br>
              <a:rPr sz="3200"/>
            </a:br>
            <a:br>
              <a:rPr sz="2200"/>
            </a:br>
            <a:br>
              <a:rPr sz="3200"/>
            </a:br>
            <a:br>
              <a:rPr sz="2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714920" y="192888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500040" y="1928880"/>
            <a:ext cx="39290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й                Героин                Морфий</a:t>
            </a:r>
            <a:br>
              <a:rPr sz="3600"/>
            </a:br>
            <a:br>
              <a:rPr sz="2500"/>
            </a:br>
            <a:r>
              <a:rPr b="1" lang="ru-RU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сокая степень зависимости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курю, я в дыме таю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«рай» волшебный улетаю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ря ты, парень, так шалишь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ад кромешный ты летишь.</a:t>
            </a:r>
            <a:br>
              <a:rPr sz="28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14720" y="1857240"/>
            <a:ext cx="46782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гнетение центральной нервной системы</a:t>
            </a:r>
            <a:br>
              <a:rPr sz="3600"/>
            </a:br>
            <a:br>
              <a:rPr sz="32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каин    Крек   Кофеин   Никотин   Амфетамины  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СД      Мескалин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оссии - 34 тысяч человек гибнет ежегодно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котическая зависимость  –  3 - 7 дней приёма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 - 5 лет  –  срок жизни наркоманов.</a:t>
            </a:r>
            <a:br>
              <a:rPr sz="3200"/>
            </a:br>
            <a:br>
              <a:rPr sz="2500"/>
            </a:b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лобицин      1 г  =  10 г героин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3357720" y="2286000"/>
            <a:ext cx="25765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о, скажи, с тобою, детка?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Да поссорилась я с «предком»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 нами лучше оттянись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юнь на всё и уколись.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Нет, не буду, - им скажу,</a:t>
            </a:r>
            <a:br>
              <a:rPr sz="3200"/>
            </a:b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Я здоровьем дорожу!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43080" y="357192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142920" y="5214960"/>
          <a:ext cx="114300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5214960"/>
                    <a:ext cx="11430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Box 3"/>
          <p:cNvSpPr/>
          <p:nvPr/>
        </p:nvSpPr>
        <p:spPr>
          <a:xfrm>
            <a:off x="928800" y="28584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во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42920" y="1071720"/>
            <a:ext cx="88581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ецифические дефекты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ычаи и традиции социа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достатки в воспитатель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аточно снисходительное отношение в обще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употреблению алкогольных напитков и кур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отказа выпить как проявление недоброжела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тношению к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вление компании и наличие в ней отриц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авторитетных» людей как примера для подра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равственная незрелость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ject 3" descr=""/>
          <p:cNvPicPr/>
          <p:nvPr/>
        </p:nvPicPr>
        <p:blipFill>
          <a:blip r:embed="rId1"/>
          <a:stretch/>
        </p:blipFill>
        <p:spPr>
          <a:xfrm>
            <a:off x="3643200" y="2071800"/>
            <a:ext cx="1714680" cy="2421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571680" y="64296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Инфор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о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572000" y="428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Не замалчивайте тему курения, алкоголя и наркот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2857680" y="15717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Говорите обо вс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285840" y="27147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Высказывание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точки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5500800" y="26431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Интересуйтесь друзьями своего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1785960" y="457200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Не оскорбляйте чувства подростка постоянной  подозри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500040" y="564372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Согласовать пози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обоих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0"/>
          <p:cNvSpPr/>
          <p:nvPr/>
        </p:nvSpPr>
        <p:spPr>
          <a:xfrm>
            <a:off x="714240" y="285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76092"/>
                </a:solidFill>
                <a:uFillTx/>
                <a:latin typeface="Times New Roman"/>
                <a:ea typeface="Times New Roman"/>
              </a:rPr>
              <a:t>Родительский 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редные привыч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    Алкоголь     Наркотик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ается здоровь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градирует ли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аются умственны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худшается работоспособ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File0046"/>
          <p:cNvPicPr/>
          <p:nvPr/>
        </p:nvPicPr>
        <p:blipFill>
          <a:blip r:embed="rId1"/>
          <a:stretch/>
        </p:blipFill>
        <p:spPr>
          <a:xfrm>
            <a:off x="0" y="4857840"/>
            <a:ext cx="1500120" cy="17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86080" y="5000760"/>
            <a:ext cx="207180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Object 6"/>
          <p:cNvGraphicFramePr/>
          <p:nvPr/>
        </p:nvGraphicFramePr>
        <p:xfrm>
          <a:off x="7429680" y="5072040"/>
          <a:ext cx="1357200" cy="13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9680" y="5072040"/>
                    <a:ext cx="1357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214200" y="14292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следствия вредных привы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14200" y="1000080"/>
            <a:ext cx="864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ражение вирусным гепатитом и ВИЧ-инфек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щение организма, нервной системы и псих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ость деградир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ение отношений с родителями, родными, друз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ие преступ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ждение неполноцен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ждевременная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6215040" y="3857760"/>
            <a:ext cx="18572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7"/>
          <p:cNvSpPr/>
          <p:nvPr/>
        </p:nvSpPr>
        <p:spPr>
          <a:xfrm>
            <a:off x="285840" y="928800"/>
            <a:ext cx="864396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амое главное – это ваше воспитание, поддержка и любов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аш ребёнок, состоявшийся как нравственная и успешная личность - самая высокая мера оценки вашего жизненного пу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котические ве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от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овый спир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иу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ши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500040" y="3571920"/>
          <a:ext cx="228600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571920"/>
                    <a:ext cx="22860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6500880" y="3357720"/>
            <a:ext cx="2071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58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«Курени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1071720"/>
            <a:ext cx="84009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ико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ртельная доза – 1 г на 1 кг массы т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143760" y="1071720"/>
            <a:ext cx="251748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714240" y="3571920"/>
            <a:ext cx="3286440" cy="260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5214960" y="3571920"/>
            <a:ext cx="335772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отрицательно влияет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нервную сис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ыхатель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34495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500720" y="3929040"/>
            <a:ext cx="414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40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зговое вещество надпоче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ртериальное д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вратник желу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итм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7149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327492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2"/>
          <a:stretch/>
        </p:blipFill>
        <p:spPr>
          <a:xfrm>
            <a:off x="5286240" y="1214280"/>
            <a:ext cx="2857680" cy="369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3"/>
          <a:stretch/>
        </p:blipFill>
        <p:spPr>
          <a:xfrm>
            <a:off x="1357200" y="4143240"/>
            <a:ext cx="3729240" cy="2214720"/>
          </a:xfrm>
          <a:prstGeom prst="rect">
            <a:avLst/>
          </a:prstGeom>
          <a:ln w="0">
            <a:noFill/>
          </a:ln>
        </p:spPr>
      </p:pic>
      <p:pic>
        <p:nvPicPr>
          <p:cNvPr id="81" name="Object 2" descr=""/>
          <p:cNvPicPr/>
          <p:nvPr/>
        </p:nvPicPr>
        <p:blipFill>
          <a:blip r:embed="rId4"/>
          <a:stretch/>
        </p:blipFill>
        <p:spPr>
          <a:xfrm>
            <a:off x="3857760" y="2286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5480" y="357120"/>
            <a:ext cx="8643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арушаютс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оспособность    зрение     слух    обоня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 пыхтит, как паровоз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ть ещё и не под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 то уже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помин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коро дважды два забуд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сли пыл свой не остуди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57120" y="2857680"/>
            <a:ext cx="285768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yarskaya</dc:creator>
  <dc:description/>
  <dc:language>en-US</dc:language>
  <cp:lastModifiedBy>девайс</cp:lastModifiedBy>
  <dcterms:modified xsi:type="dcterms:W3CDTF">2015-01-21T04:06:53Z</dcterms:modified>
  <cp:revision>89</cp:revision>
  <dc:subject/>
  <dc:title>Слайд 1</dc:title>
</cp:coreProperties>
</file>