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8.jpeg" ContentType="image/jpeg"/>
  <Override PartName="/ppt/media/image15.png" ContentType="image/png"/>
  <Override PartName="/ppt/media/image55.wmf" ContentType="image/x-wmf"/>
  <Override PartName="/ppt/media/image17.jpeg" ContentType="image/jpeg"/>
  <Override PartName="/ppt/media/image16.jpeg" ContentType="image/jpeg"/>
  <Override PartName="/ppt/media/image1.jpeg" ContentType="image/jpeg"/>
  <Override PartName="/ppt/media/image23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14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36.png" ContentType="image/png"/>
  <Override PartName="/ppt/media/image56.wmf" ContentType="image/x-wmf"/>
  <Override PartName="/ppt/media/image47.wmf" ContentType="image/x-wmf"/>
  <Override PartName="/ppt/media/image48.wmf" ContentType="image/x-wmf"/>
  <Override PartName="/ppt/media/image10.jpeg" ContentType="image/jpeg"/>
  <Override PartName="/ppt/media/image28.png" ContentType="image/png"/>
  <Override PartName="/ppt/media/image49.wmf" ContentType="image/x-wmf"/>
  <Override PartName="/ppt/media/image31.png" ContentType="image/png"/>
  <Override PartName="/ppt/media/image39.wmf" ContentType="image/x-wmf"/>
  <Override PartName="/ppt/media/image41.png" ContentType="image/png"/>
  <Override PartName="/ppt/media/image40.wmf" ContentType="image/x-wmf"/>
  <Override PartName="/ppt/media/image53.png" ContentType="image/png"/>
  <Override PartName="/ppt/media/image51.jpeg" ContentType="image/jpeg"/>
  <Override PartName="/ppt/media/image33.jpeg" ContentType="image/jpeg"/>
  <Override PartName="/ppt/media/image30.png" ContentType="image/png"/>
  <Override PartName="/ppt/media/image37.jpeg" ContentType="image/jpeg"/>
  <Override PartName="/ppt/media/image5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5.gif" ContentType="image/gif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42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B91-2337-4AE8-ADAB-11D919767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A65-AAE6-44BC-ADB4-B7BA8993E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FB5-AD63-43F4-B01C-F382CCB0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2EA-84E0-4889-B6D0-A7416575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816-62FC-4E8C-80AB-B9CF145B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770-1C7F-4A8C-A979-58135362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750-976D-4901-B26E-C5C0F98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373-4700-42E6-9EFF-4C98117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1F1-AC0A-4321-A01B-A2E8AAC8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D7B-D7E6-4917-97DA-C42F457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A14-8955-431C-93BD-D0FB9A2B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C5B-B663-4111-A18B-FD1EA52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96E-FD86-4D07-BE35-EC25CFA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EB6-95E0-4E68-A883-6DDE14C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BA3F-4C6A-4D60-AB01-7A0DE4F3D4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7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 ПРИВЫЧКИ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ИХ ПРОФИЛАК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7000920" y="4000680"/>
          <a:ext cx="1857240" cy="25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4000680"/>
                    <a:ext cx="185724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ассивное ку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дыхают 50 %  ды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1 час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17146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12859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21430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7"/>
          <a:stretch/>
        </p:blipFill>
        <p:spPr>
          <a:xfrm>
            <a:off x="314316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>
            <a:off x="364320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9"/>
          <a:stretch/>
        </p:blipFill>
        <p:spPr>
          <a:xfrm>
            <a:off x="4214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10"/>
          <a:stretch/>
        </p:blipFill>
        <p:spPr>
          <a:xfrm>
            <a:off x="47862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1"/>
          <a:stretch/>
        </p:blipFill>
        <p:spPr>
          <a:xfrm>
            <a:off x="77868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12"/>
          <a:stretch/>
        </p:blipFill>
        <p:spPr>
          <a:xfrm>
            <a:off x="428616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13"/>
          <a:stretch/>
        </p:blipFill>
        <p:spPr>
          <a:xfrm>
            <a:off x="478620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15"/>
          <a:stretch/>
        </p:blipFill>
        <p:spPr>
          <a:xfrm>
            <a:off x="5929200" y="4572000"/>
            <a:ext cx="500040" cy="65412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процесс 19"/>
          <p:cNvSpPr/>
          <p:nvPr/>
        </p:nvSpPr>
        <p:spPr>
          <a:xfrm>
            <a:off x="214200" y="3000240"/>
            <a:ext cx="535788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процесс 20"/>
          <p:cNvSpPr/>
          <p:nvPr/>
        </p:nvSpPr>
        <p:spPr>
          <a:xfrm>
            <a:off x="7572240" y="3000240"/>
            <a:ext cx="92880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21"/>
          <p:cNvSpPr/>
          <p:nvPr/>
        </p:nvSpPr>
        <p:spPr>
          <a:xfrm>
            <a:off x="4143240" y="4429080"/>
            <a:ext cx="2571840" cy="100008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 23"/>
          <p:cNvSpPr/>
          <p:nvPr/>
        </p:nvSpPr>
        <p:spPr>
          <a:xfrm>
            <a:off x="6000840" y="3286080"/>
            <a:ext cx="1285920" cy="571680"/>
          </a:xfrm>
          <a:prstGeom prst="pie">
            <a:avLst/>
          </a:prstGeom>
          <a:gradFill rotWithShape="0">
            <a:gsLst>
              <a:gs pos="0">
                <a:srgbClr val="ffa487"/>
              </a:gs>
              <a:gs pos="100000">
                <a:srgbClr val="ffe3dc"/>
              </a:gs>
            </a:gsLst>
            <a:lin ang="81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закурена квартир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 все щели лезет д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но, скоро мы «закурим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того и не хот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1"/>
          <a:stretch/>
        </p:blipFill>
        <p:spPr>
          <a:xfrm>
            <a:off x="2071800" y="285840"/>
            <a:ext cx="493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х, какой он «взрослый»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стом с папиросу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будет так дымить, 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му взрослым и не быть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57160" y="3214800"/>
            <a:ext cx="46436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 дымят они вдвоём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 думают о том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их будущие дети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друг родятся с сигаретой?</a:t>
            </a:r>
            <a:br>
              <a:rPr sz="36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143680" y="2928960"/>
            <a:ext cx="3357360" cy="332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14240" y="292896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лког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57120" y="1071720"/>
            <a:ext cx="85010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нный спирт получен в 9 веке – араб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1 веке – италья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6 веке – завезли в Росс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43000" y="3357720"/>
            <a:ext cx="3071880" cy="296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143680" y="3357720"/>
            <a:ext cx="30002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64260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алкоголя в пиве достигает в некоторых сортах 14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тылка светлого пив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5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 бутылки за день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20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929280" y="4357800"/>
            <a:ext cx="18766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нергетические коктей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пиртному добавляется кофеин в размере четырех чашек крепкого кофе на ба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йне опасно для здоровья смешивать энергетические напитки с алкогол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ступает гипертонический кр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рушается ритм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огут отказать почк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500280" y="5143680"/>
            <a:ext cx="235764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2"/>
          <a:stretch/>
        </p:blipFill>
        <p:spPr>
          <a:xfrm>
            <a:off x="428760" y="4286160"/>
            <a:ext cx="171432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рень рано начинает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«змием» дружбу заводить.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т, не всё он понимает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чет в рабство угод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1857240" y="2714760"/>
            <a:ext cx="52866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 здоров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ен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21480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42960" y="3000240"/>
            <a:ext cx="34290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рдц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уды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4000320" cy="262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2500560" cy="275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6286680" y="3571920"/>
            <a:ext cx="2143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ростковый возра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2920" y="2143080"/>
            <a:ext cx="8858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стройка орган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гормональные процес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овление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пределённость социального по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Documents and Settings\Admin\Рабочий стол\image6986.gif"/>
          <p:cNvPicPr/>
          <p:nvPr/>
        </p:nvPicPr>
        <p:blipFill>
          <a:blip r:embed="rId1"/>
          <a:stretch/>
        </p:blipFill>
        <p:spPr>
          <a:xfrm>
            <a:off x="0" y="2000160"/>
            <a:ext cx="2000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ённое дыхани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слюноотделения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желудочного сока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ение сосудов кожи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ушение терморегуляции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стрение заболеваний почек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Обострение мочевыводящих путей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нижение сопротивляемости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к  инфекционным заболеваниям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традает нервная система и головной мозг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00040" y="3143160"/>
            <a:ext cx="184464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6000840" y="500040"/>
          <a:ext cx="2428920" cy="306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00840" y="500040"/>
                    <a:ext cx="2428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8286840" y="2143080"/>
          <a:ext cx="357120" cy="9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6840" y="2143080"/>
                    <a:ext cx="3571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3725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адии опьянения</a:t>
            </a:r>
            <a:br>
              <a:rPr sz="48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кая (0,05 -0,07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няя (1,2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яжёлая (2,5 -3 % алкоголя)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6572160" y="1428840"/>
            <a:ext cx="1357560" cy="13032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2"/>
          <a:stretch/>
        </p:blipFill>
        <p:spPr>
          <a:xfrm>
            <a:off x="5500800" y="3143160"/>
            <a:ext cx="1143000" cy="1451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7000920" y="4429080"/>
            <a:ext cx="13572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12 г чистого алкоголя на 1 кг веса  - смертельная доза!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2000520" cy="184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Admin\Рабочий стол\post-402-1179689794.gif"/>
          <p:cNvPicPr/>
          <p:nvPr/>
        </p:nvPicPr>
        <p:blipFill>
          <a:blip r:embed="rId2"/>
          <a:stretch/>
        </p:blipFill>
        <p:spPr>
          <a:xfrm flipH="1">
            <a:off x="6214680" y="428760"/>
            <a:ext cx="2025720" cy="200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5143680" y="4000680"/>
            <a:ext cx="314316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3"/>
          <p:cNvGraphicFramePr/>
          <p:nvPr/>
        </p:nvGraphicFramePr>
        <p:xfrm>
          <a:off x="642960" y="4071960"/>
          <a:ext cx="2071800" cy="21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4071960"/>
                    <a:ext cx="20718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44416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чему?</a:t>
            </a:r>
            <a:br>
              <a:rPr sz="2500"/>
            </a:br>
            <a:br>
              <a:rPr sz="25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почему бы и нет?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Была «крутая тусовка»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Было ску-у-у-у-чно…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чайно, за компани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Мне так интереснее жить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Я, как вс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пьют, и я пь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Дело было вечером, делать было нечего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отрываться же мне от компании.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428760" y="4429080"/>
            <a:ext cx="1785960" cy="14749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" descr=""/>
          <p:cNvPicPr/>
          <p:nvPr/>
        </p:nvPicPr>
        <p:blipFill>
          <a:blip r:embed="rId2"/>
          <a:stretch/>
        </p:blipFill>
        <p:spPr>
          <a:xfrm>
            <a:off x="6786720" y="285840"/>
            <a:ext cx="1785960" cy="1546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3"/>
          <a:stretch/>
        </p:blipFill>
        <p:spPr>
          <a:xfrm>
            <a:off x="6500880" y="5143680"/>
            <a:ext cx="21430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к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                              Белый мак</a:t>
            </a:r>
            <a:br>
              <a:rPr sz="3200"/>
            </a:br>
            <a:br>
              <a:rPr sz="2200"/>
            </a:br>
            <a:br>
              <a:rPr sz="3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714920" y="192888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3929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й                Героин                Морфий</a:t>
            </a:r>
            <a:br>
              <a:rPr sz="3600"/>
            </a:br>
            <a:br>
              <a:rPr sz="2500"/>
            </a:b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сокая степень зависимости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курю, я в дыме таю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«рай» волшебный улетаю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я ты, парень, так шалиш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ад кромешный ты летишь.</a:t>
            </a:r>
            <a:br>
              <a:rPr sz="28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14720" y="1857240"/>
            <a:ext cx="46782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гнетение центральной нервной системы</a:t>
            </a:r>
            <a:br>
              <a:rPr sz="3600"/>
            </a:b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каин    Крек   Кофеин   Никотин   Амфетамины 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СД      Мескалин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оссии - 34 тысяч человек гибнет ежегодно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тическая зависимость  –  3 - 7 дней приёма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- 5 лет  –  срок жизни наркоманов.</a:t>
            </a:r>
            <a:br>
              <a:rPr sz="3200"/>
            </a:br>
            <a:br>
              <a:rPr sz="25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обицин      1 г  =  10 г героин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357720" y="2286000"/>
            <a:ext cx="25765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, скажи, с тобою, детка?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а поссорилась я с «предком»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 нами лучше оттянис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юнь на всё и уколись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т, не буду, - им скажу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Я здоровьем дорожу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3080" y="35719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42920" y="5214960"/>
          <a:ext cx="11430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214960"/>
                    <a:ext cx="11430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3"/>
          <p:cNvSpPr/>
          <p:nvPr/>
        </p:nvSpPr>
        <p:spPr>
          <a:xfrm>
            <a:off x="928800" y="28584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42920" y="1071720"/>
            <a:ext cx="8858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фические дефекты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ычаи и традиции социа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достатки в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о снисходительное отношение в общ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употреблению алкогольных напитков и ку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отказа выпить как проявление недоброжел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ление компании и наличие в ней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авторитетных» людей как примера для подра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равственная незрел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ject 3" descr=""/>
          <p:cNvPicPr/>
          <p:nvPr/>
        </p:nvPicPr>
        <p:blipFill>
          <a:blip r:embed="rId1"/>
          <a:stretch/>
        </p:blipFill>
        <p:spPr>
          <a:xfrm>
            <a:off x="3643200" y="2071800"/>
            <a:ext cx="1714680" cy="2421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571680" y="6429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572000" y="428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замалчивайте тему курения, алкоголя и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857680" y="15717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Говорите обо вс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85840" y="27147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Высказывание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500800" y="26431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тересуйтесь друзьями своего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785960" y="45720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оскорбляйте чувства подростка постоянной  подозри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500040" y="564372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Согласовать пози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бо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714240" y="285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Родительски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редные привыч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    Алкоголь     Наркот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ается здоров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градирует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аются умственны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худшается работоспособ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File0046"/>
          <p:cNvPicPr/>
          <p:nvPr/>
        </p:nvPicPr>
        <p:blipFill>
          <a:blip r:embed="rId1"/>
          <a:stretch/>
        </p:blipFill>
        <p:spPr>
          <a:xfrm>
            <a:off x="0" y="4857840"/>
            <a:ext cx="15001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86080" y="5000760"/>
            <a:ext cx="207180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6"/>
          <p:cNvGraphicFramePr/>
          <p:nvPr/>
        </p:nvGraphicFramePr>
        <p:xfrm>
          <a:off x="7429680" y="5072040"/>
          <a:ext cx="1357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9680" y="5072040"/>
                    <a:ext cx="1357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214200" y="142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следствия вредных привы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14200" y="100008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ражение вирусным гепатитом и ВИЧ-инфе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щение организма, нервной системы и псих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сть деградир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ение отношений с родителями, родными, 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ие преступ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ждение неполноц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8572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285840" y="928800"/>
            <a:ext cx="86439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амое главное – это ваше воспитание, поддержка и любов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аш ребёнок, состоявшийся как нравственная и успешная личность - самая высокая мера оценки вашего жизненного пу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ческие ве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т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у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ши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500040" y="3571920"/>
          <a:ext cx="22860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71920"/>
                    <a:ext cx="22860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6500880" y="3357720"/>
            <a:ext cx="2071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58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Курени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0717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ртельная доза – 1 г на 1 кг массы т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143760" y="1071720"/>
            <a:ext cx="251748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714240" y="3571920"/>
            <a:ext cx="3286440" cy="260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5214960" y="3571920"/>
            <a:ext cx="335772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отрицательно влияе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нервную сис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ыхатель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4495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00720" y="3929040"/>
            <a:ext cx="41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зговое вещество надпоче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териальное д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вратник желу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тм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149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327492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2857680" cy="369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3"/>
          <a:stretch/>
        </p:blipFill>
        <p:spPr>
          <a:xfrm>
            <a:off x="1357200" y="4143240"/>
            <a:ext cx="372924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2" descr=""/>
          <p:cNvPicPr/>
          <p:nvPr/>
        </p:nvPicPr>
        <p:blipFill>
          <a:blip r:embed="rId4"/>
          <a:stretch/>
        </p:blipFill>
        <p:spPr>
          <a:xfrm>
            <a:off x="3857760" y="2286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480" y="35712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ушаютс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оспособность    зрение     слух    обон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 пыхтит, как парово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ещё и не под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то уже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поми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коро дважды два забу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ыл свой не остуд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28576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yarskaya</dc:creator>
  <dc:description/>
  <dc:language>en-US</dc:language>
  <cp:lastModifiedBy>девайс</cp:lastModifiedBy>
  <dcterms:modified xsi:type="dcterms:W3CDTF">2015-01-21T04:06:53Z</dcterms:modified>
  <cp:revision>89</cp:revision>
  <dc:subject/>
  <dc:title>Слайд 1</dc:title>
</cp:coreProperties>
</file>