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wmf" ContentType="image/x-wmf"/>
  <Override PartName="/ppt/media/image20.png" ContentType="image/png"/>
  <Override PartName="/ppt/media/image57.png" ContentType="image/png"/>
  <Override PartName="/ppt/media/image18.jpeg" ContentType="image/jpeg"/>
  <Override PartName="/ppt/media/image15.png" ContentType="image/png"/>
  <Override PartName="/ppt/media/image55.wmf" ContentType="image/x-wmf"/>
  <Override PartName="/ppt/media/image17.jpeg" ContentType="image/jpeg"/>
  <Override PartName="/ppt/media/image16.jpeg" ContentType="image/jpeg"/>
  <Override PartName="/ppt/media/image1.jpeg" ContentType="image/jpeg"/>
  <Override PartName="/ppt/media/image23.jpeg" ContentType="image/jpeg"/>
  <Override PartName="/ppt/media/image2.wmf" ContentType="image/x-wmf"/>
  <Override PartName="/ppt/media/image3.gif" ContentType="image/gif"/>
  <Override PartName="/ppt/media/image6.wmf" ContentType="image/x-wmf"/>
  <Override PartName="/ppt/media/image4.png" ContentType="image/png"/>
  <Override PartName="/ppt/media/image12.jpeg" ContentType="image/jpeg"/>
  <Override PartName="/ppt/media/image34.png" ContentType="image/png"/>
  <Override PartName="/ppt/media/image7.wmf" ContentType="image/x-wmf"/>
  <Override PartName="/ppt/media/image14.jpeg" ContentType="image/jpeg"/>
  <Override PartName="/ppt/media/image43.png" ContentType="image/png"/>
  <Override PartName="/ppt/media/image44.png" ContentType="image/png"/>
  <Override PartName="/ppt/media/image46.png" ContentType="image/png"/>
  <Override PartName="/ppt/media/image36.png" ContentType="image/png"/>
  <Override PartName="/ppt/media/image56.wmf" ContentType="image/x-wmf"/>
  <Override PartName="/ppt/media/image47.wmf" ContentType="image/x-wmf"/>
  <Override PartName="/ppt/media/image48.wmf" ContentType="image/x-wmf"/>
  <Override PartName="/ppt/media/image10.jpeg" ContentType="image/jpeg"/>
  <Override PartName="/ppt/media/image28.png" ContentType="image/png"/>
  <Override PartName="/ppt/media/image49.wmf" ContentType="image/x-wmf"/>
  <Override PartName="/ppt/media/image31.png" ContentType="image/png"/>
  <Override PartName="/ppt/media/image39.wmf" ContentType="image/x-wmf"/>
  <Override PartName="/ppt/media/image41.png" ContentType="image/png"/>
  <Override PartName="/ppt/media/image40.wmf" ContentType="image/x-wmf"/>
  <Override PartName="/ppt/media/image53.png" ContentType="image/png"/>
  <Override PartName="/ppt/media/image51.jpeg" ContentType="image/jpeg"/>
  <Override PartName="/ppt/media/image33.jpeg" ContentType="image/jpeg"/>
  <Override PartName="/ppt/media/image30.png" ContentType="image/png"/>
  <Override PartName="/ppt/media/image37.jpeg" ContentType="image/jpeg"/>
  <Override PartName="/ppt/media/image5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5.gif" ContentType="image/gif"/>
  <Override PartName="/ppt/media/image5.png" ContentType="image/png"/>
  <Override PartName="/ppt/media/image35.png" ContentType="image/png"/>
  <Override PartName="/ppt/media/image29.jpeg" ContentType="image/jpeg"/>
  <Override PartName="/ppt/media/image52.jpeg" ContentType="image/jpeg"/>
  <Override PartName="/ppt/media/image42.wmf" ContentType="image/x-wmf"/>
  <Override PartName="/ppt/media/image9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7667-F147-4D21-B676-C07CFFBF7F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AA48-2FB4-470B-8611-678D607439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B6E4-1101-48DE-9BD3-AEDD0AF1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2BC1-DDCE-418D-BA4F-D31F7FB7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D111-FEDE-49EA-B526-072A1C40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DD3F-80FF-4350-8C2F-1886C7B9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D36E-3360-4697-B8A1-33784445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AD6E-6054-40C4-B455-BE8926E4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3ED1-C9AA-4A06-9A4B-6EF63DD6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88E7-3D54-4DBD-8C6D-A4BEEBA6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AD4B-2F88-494D-87D0-F99E022A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BF44-2CE5-4466-9097-0398570A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9525-3F9C-464C-9912-A872D3EC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23B-B082-4C4C-AAB1-93B5F81D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9334-850C-4EBC-A587-F8B60BFB689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gif"/><Relationship Id="rId3" Type="http://schemas.openxmlformats.org/officeDocument/2006/relationships/image" Target="../media/image4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7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7.wmf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ДНЫЕ  ПРИВЫЧКИ 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РОСТКОВ 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ИХ ПРОФИЛАКТИ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Object 3"/>
          <p:cNvGraphicFramePr/>
          <p:nvPr/>
        </p:nvGraphicFramePr>
        <p:xfrm>
          <a:off x="7000920" y="4000680"/>
          <a:ext cx="1857240" cy="25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0920" y="4000680"/>
                    <a:ext cx="1857240" cy="25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57160" y="42840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ассивное кур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5480" y="1428840"/>
            <a:ext cx="8643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дыхают 50 %  ды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 1 час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78588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35712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257184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4"/>
          <a:stretch/>
        </p:blipFill>
        <p:spPr>
          <a:xfrm>
            <a:off x="171468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5"/>
          <a:stretch/>
        </p:blipFill>
        <p:spPr>
          <a:xfrm>
            <a:off x="128592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6"/>
          <a:stretch/>
        </p:blipFill>
        <p:spPr>
          <a:xfrm>
            <a:off x="214308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7"/>
          <a:stretch/>
        </p:blipFill>
        <p:spPr>
          <a:xfrm>
            <a:off x="314316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8"/>
          <a:stretch/>
        </p:blipFill>
        <p:spPr>
          <a:xfrm>
            <a:off x="364320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9"/>
          <a:stretch/>
        </p:blipFill>
        <p:spPr>
          <a:xfrm>
            <a:off x="421488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10"/>
          <a:stretch/>
        </p:blipFill>
        <p:spPr>
          <a:xfrm>
            <a:off x="4786200" y="3214800"/>
            <a:ext cx="500040" cy="653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11"/>
          <a:stretch/>
        </p:blipFill>
        <p:spPr>
          <a:xfrm>
            <a:off x="7786800" y="3214800"/>
            <a:ext cx="500040" cy="653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12"/>
          <a:stretch/>
        </p:blipFill>
        <p:spPr>
          <a:xfrm>
            <a:off x="4286160" y="46432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13"/>
          <a:stretch/>
        </p:blipFill>
        <p:spPr>
          <a:xfrm>
            <a:off x="4786200" y="46432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14"/>
          <a:stretch/>
        </p:blipFill>
        <p:spPr>
          <a:xfrm>
            <a:off x="5357880" y="46432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15"/>
          <a:stretch/>
        </p:blipFill>
        <p:spPr>
          <a:xfrm>
            <a:off x="5929200" y="4572000"/>
            <a:ext cx="500040" cy="654120"/>
          </a:xfrm>
          <a:prstGeom prst="rect">
            <a:avLst/>
          </a:prstGeom>
          <a:ln w="0">
            <a:noFill/>
          </a:ln>
        </p:spPr>
      </p:pic>
      <p:sp>
        <p:nvSpPr>
          <p:cNvPr id="101" name="Блок-схема: процесс 19"/>
          <p:cNvSpPr/>
          <p:nvPr/>
        </p:nvSpPr>
        <p:spPr>
          <a:xfrm>
            <a:off x="214200" y="3000240"/>
            <a:ext cx="5357880" cy="1071720"/>
          </a:xfrm>
          <a:prstGeom prst="flowChartProcess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Блок-схема: процесс 20"/>
          <p:cNvSpPr/>
          <p:nvPr/>
        </p:nvSpPr>
        <p:spPr>
          <a:xfrm>
            <a:off x="7572240" y="3000240"/>
            <a:ext cx="928800" cy="1071720"/>
          </a:xfrm>
          <a:prstGeom prst="flowChartProcess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Блок-схема: процесс 21"/>
          <p:cNvSpPr/>
          <p:nvPr/>
        </p:nvSpPr>
        <p:spPr>
          <a:xfrm>
            <a:off x="4143240" y="4429080"/>
            <a:ext cx="2571840" cy="1000080"/>
          </a:xfrm>
          <a:prstGeom prst="flowChartProcess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Равно 23"/>
          <p:cNvSpPr/>
          <p:nvPr/>
        </p:nvSpPr>
        <p:spPr>
          <a:xfrm>
            <a:off x="6000840" y="3286080"/>
            <a:ext cx="1285920" cy="571680"/>
          </a:xfrm>
          <a:prstGeom prst="pie">
            <a:avLst/>
          </a:prstGeom>
          <a:gradFill rotWithShape="0">
            <a:gsLst>
              <a:gs pos="0">
                <a:srgbClr val="ffa487"/>
              </a:gs>
              <a:gs pos="100000">
                <a:srgbClr val="ffe3dc"/>
              </a:gs>
            </a:gsLst>
            <a:lin ang="81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35676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к закурена квартир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 все щели лезет ды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дно, скоро мы «закурим»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оть того и не хоти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2" descr=""/>
          <p:cNvPicPr/>
          <p:nvPr/>
        </p:nvPicPr>
        <p:blipFill>
          <a:blip r:embed="rId1"/>
          <a:stretch/>
        </p:blipFill>
        <p:spPr>
          <a:xfrm>
            <a:off x="2071800" y="285840"/>
            <a:ext cx="4930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х, какой он «взрослый»,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остом с папиросу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будет так дымить, 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му взрослым и не быть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857160" y="3214800"/>
            <a:ext cx="464364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т дымят они вдвоём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не думают о том,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 их будущие дети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друг родятся с сигаретой?</a:t>
            </a:r>
            <a:br>
              <a:rPr sz="36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143680" y="2928960"/>
            <a:ext cx="3357360" cy="3322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714240" y="2928960"/>
            <a:ext cx="3357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Алкогол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57120" y="1071720"/>
            <a:ext cx="850104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нный спирт получен в 9 веке – араб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11 веке – итальянц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16 веке – завезли в Росс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143000" y="3357720"/>
            <a:ext cx="3071880" cy="2968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5143680" y="3357720"/>
            <a:ext cx="300024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642600"/>
            <a:ext cx="85726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держание алкоголя в пиве достигает в некоторых сортах 14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тылка светлого пива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50 грамм водк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тыре бутылки за день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200 грамм водк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6929280" y="4357800"/>
            <a:ext cx="187668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Энергетические коктейл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76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спиртному добавляется кофеин в размере четырех чашек крепкого кофе на банк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йне опасно для здоровья смешивать энергетические напитки с алкоголе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ступает гипертонический кри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рушается ритм серд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могут отказать почк</a:t>
            </a:r>
            <a:r>
              <a:rPr b="1" i="1" lang="ru-RU" sz="32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3" descr=""/>
          <p:cNvPicPr/>
          <p:nvPr/>
        </p:nvPicPr>
        <p:blipFill>
          <a:blip r:embed="rId1"/>
          <a:stretch/>
        </p:blipFill>
        <p:spPr>
          <a:xfrm>
            <a:off x="3500280" y="5143680"/>
            <a:ext cx="2357640" cy="15001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"/>
          <p:cNvPicPr/>
          <p:nvPr/>
        </p:nvPicPr>
        <p:blipFill>
          <a:blip r:embed="rId2"/>
          <a:stretch/>
        </p:blipFill>
        <p:spPr>
          <a:xfrm>
            <a:off x="428760" y="4286160"/>
            <a:ext cx="1714320" cy="23576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6" descr=""/>
          <p:cNvPicPr/>
          <p:nvPr/>
        </p:nvPicPr>
        <p:blipFill>
          <a:blip r:embed="rId3"/>
          <a:stretch/>
        </p:blipFill>
        <p:spPr>
          <a:xfrm>
            <a:off x="7072200" y="4357800"/>
            <a:ext cx="164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рень рано начинает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«змием» дружбу заводить.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т, не всё он понимает,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очет в рабство угоди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1857240" y="2714760"/>
            <a:ext cx="5286600" cy="38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д здоровь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елуд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чень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5214960" y="1143000"/>
            <a:ext cx="3214800" cy="2662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642960" y="3000240"/>
            <a:ext cx="342900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ердце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суды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4214880" y="357120"/>
            <a:ext cx="4000320" cy="2625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714240" y="3571920"/>
            <a:ext cx="2500560" cy="2751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3"/>
          <a:stretch/>
        </p:blipFill>
        <p:spPr>
          <a:xfrm>
            <a:off x="6286680" y="3571920"/>
            <a:ext cx="214308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дростковый возрас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2920" y="2143080"/>
            <a:ext cx="88581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естройка организ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сихогормональные процес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ановление лич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определённость социального полож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C:\Documents and Settings\Admin\Рабочий стол\image6986.gif"/>
          <p:cNvPicPr/>
          <p:nvPr/>
        </p:nvPicPr>
        <p:blipFill>
          <a:blip r:embed="rId1"/>
          <a:stretch/>
        </p:blipFill>
        <p:spPr>
          <a:xfrm>
            <a:off x="0" y="2000160"/>
            <a:ext cx="20001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4200" y="714240"/>
            <a:ext cx="87156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ащённое дыхание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иление слюноотделения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иление желудочного сока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ширение сосудов кожи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рушение терморегуляции.</a:t>
            </a: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острение заболеваний почек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Обострение мочевыводящих путей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Снижение сопротивляемости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к  инфекционным заболеваниям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Страдает нервная система и головной мозг.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1"/>
          <a:stretch/>
        </p:blipFill>
        <p:spPr>
          <a:xfrm>
            <a:off x="500040" y="3143160"/>
            <a:ext cx="1844640" cy="32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2"/>
          <p:cNvGraphicFramePr/>
          <p:nvPr/>
        </p:nvGraphicFramePr>
        <p:xfrm>
          <a:off x="6000840" y="500040"/>
          <a:ext cx="2428920" cy="306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00840" y="500040"/>
                    <a:ext cx="242892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3"/>
          <p:cNvGraphicFramePr/>
          <p:nvPr/>
        </p:nvGraphicFramePr>
        <p:xfrm>
          <a:off x="8286840" y="2143080"/>
          <a:ext cx="357120" cy="92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86840" y="2143080"/>
                    <a:ext cx="3571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3840" y="1213920"/>
            <a:ext cx="837252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тадии опьянения</a:t>
            </a:r>
            <a:br>
              <a:rPr sz="48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егкая (0,05 -0,07 % алкоголя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редняя (1,2 % алкоголя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яжёлая (2,5 -3 % алкоголя)</a:t>
            </a:r>
            <a:br>
              <a:rPr sz="2500"/>
            </a:br>
            <a:br>
              <a:rPr sz="2500"/>
            </a:b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"/>
          <p:cNvPicPr/>
          <p:nvPr/>
        </p:nvPicPr>
        <p:blipFill>
          <a:blip r:embed="rId1"/>
          <a:stretch/>
        </p:blipFill>
        <p:spPr>
          <a:xfrm>
            <a:off x="6572160" y="1428840"/>
            <a:ext cx="1357560" cy="130320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2" descr=""/>
          <p:cNvPicPr/>
          <p:nvPr/>
        </p:nvPicPr>
        <p:blipFill>
          <a:blip r:embed="rId2"/>
          <a:stretch/>
        </p:blipFill>
        <p:spPr>
          <a:xfrm>
            <a:off x="5500800" y="3143160"/>
            <a:ext cx="1143000" cy="1451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3"/>
          <a:stretch/>
        </p:blipFill>
        <p:spPr>
          <a:xfrm>
            <a:off x="7000920" y="4429080"/>
            <a:ext cx="135720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-12 г чистого алкоголя на 1 кг веса  - смертельная доза!</a:t>
            </a:r>
            <a:br>
              <a:rPr sz="3200"/>
            </a:br>
            <a:br>
              <a:rPr sz="24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1"/>
          <a:stretch/>
        </p:blipFill>
        <p:spPr>
          <a:xfrm>
            <a:off x="714240" y="357120"/>
            <a:ext cx="2000520" cy="1844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Documents and Settings\Admin\Рабочий стол\post-402-1179689794.gif"/>
          <p:cNvPicPr/>
          <p:nvPr/>
        </p:nvPicPr>
        <p:blipFill>
          <a:blip r:embed="rId2"/>
          <a:stretch/>
        </p:blipFill>
        <p:spPr>
          <a:xfrm flipH="1">
            <a:off x="6214680" y="428760"/>
            <a:ext cx="2025720" cy="2009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3"/>
          <a:stretch/>
        </p:blipFill>
        <p:spPr>
          <a:xfrm>
            <a:off x="5143680" y="4000680"/>
            <a:ext cx="3143160" cy="22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Object 3"/>
          <p:cNvGraphicFramePr/>
          <p:nvPr/>
        </p:nvGraphicFramePr>
        <p:xfrm>
          <a:off x="642960" y="4071960"/>
          <a:ext cx="2071800" cy="2147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2960" y="4071960"/>
                    <a:ext cx="207180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999720"/>
            <a:ext cx="8444160" cy="52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чему?</a:t>
            </a:r>
            <a:br>
              <a:rPr sz="2500"/>
            </a:br>
            <a:br>
              <a:rPr sz="25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 почему бы и нет?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Была «крутая тусовка»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Было ску-у-у-у-чно…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учайно, за компанию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Мне так интереснее жить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Я, как все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се пьют, и я пью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Дело было вечером, делать было нечего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 отрываться же мне от компании.</a:t>
            </a:r>
            <a:br>
              <a:rPr sz="2800"/>
            </a:br>
            <a:br>
              <a:rPr sz="2500"/>
            </a:b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Object 4" descr=""/>
          <p:cNvPicPr/>
          <p:nvPr/>
        </p:nvPicPr>
        <p:blipFill>
          <a:blip r:embed="rId1"/>
          <a:stretch/>
        </p:blipFill>
        <p:spPr>
          <a:xfrm>
            <a:off x="428760" y="4429080"/>
            <a:ext cx="1785960" cy="147492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2" descr=""/>
          <p:cNvPicPr/>
          <p:nvPr/>
        </p:nvPicPr>
        <p:blipFill>
          <a:blip r:embed="rId2"/>
          <a:stretch/>
        </p:blipFill>
        <p:spPr>
          <a:xfrm>
            <a:off x="6786720" y="285840"/>
            <a:ext cx="1785960" cy="154620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3" descr=""/>
          <p:cNvPicPr/>
          <p:nvPr/>
        </p:nvPicPr>
        <p:blipFill>
          <a:blip r:embed="rId3"/>
          <a:stretch/>
        </p:blipFill>
        <p:spPr>
          <a:xfrm>
            <a:off x="6500880" y="5143680"/>
            <a:ext cx="214308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92852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Наркотики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ероин                              Белый мак</a:t>
            </a:r>
            <a:br>
              <a:rPr sz="3200"/>
            </a:br>
            <a:br>
              <a:rPr sz="2200"/>
            </a:br>
            <a:br>
              <a:rPr sz="3200"/>
            </a:br>
            <a:br>
              <a:rPr sz="2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4714920" y="192888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500040" y="1928880"/>
            <a:ext cx="39290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ий                Героин                Морфий</a:t>
            </a:r>
            <a:br>
              <a:rPr sz="3600"/>
            </a:br>
            <a:br>
              <a:rPr sz="2500"/>
            </a:br>
            <a:r>
              <a:rPr b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ысокая степень зависимости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Я курю, я в дыме таю,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«рай» волшебный улетаю.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ря ты, парень, так шалишь,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ад кромешный ты летишь.</a:t>
            </a:r>
            <a:br>
              <a:rPr sz="28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2214720" y="1857240"/>
            <a:ext cx="467820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Угнетение центральной нервной системы</a:t>
            </a:r>
            <a:br>
              <a:rPr sz="3600"/>
            </a:br>
            <a:br>
              <a:rPr sz="32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каин    Крек   Кофеин   Никотин   Амфетамины  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СД      Мескалин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России - 34 тысяч человек гибнет ежегодно.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котическая зависимость  –  3 - 7 дней приёма.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3 - 5 лет  –  срок жизни наркоманов.</a:t>
            </a:r>
            <a:br>
              <a:rPr sz="3200"/>
            </a:br>
            <a:br>
              <a:rPr sz="2500"/>
            </a:b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илобицин      1 г  =  10 г героин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3357720" y="2286000"/>
            <a:ext cx="257652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Что, скажи, с тобою, детка?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Да поссорилась я с «предком».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С нами лучше оттянись,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люнь на всё и уколись.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Нет, не буду, - им скажу,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Я здоровьем дорожу!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143080" y="3571920"/>
            <a:ext cx="42148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2"/>
          <p:cNvGraphicFramePr/>
          <p:nvPr/>
        </p:nvGraphicFramePr>
        <p:xfrm>
          <a:off x="142920" y="5214960"/>
          <a:ext cx="1143000" cy="14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5214960"/>
                    <a:ext cx="114300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Box 3"/>
          <p:cNvSpPr/>
          <p:nvPr/>
        </p:nvSpPr>
        <p:spPr>
          <a:xfrm>
            <a:off x="928800" y="285840"/>
            <a:ext cx="607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ыв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142920" y="1071720"/>
            <a:ext cx="88581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ецифические дефекты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ычаи и традиции социаль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достатки в воспитательной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статочно снисходительное отношение в обществ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 употреблению алкогольных напитков и кур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ка отказа выпить как проявление недоброжела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отношению к друг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авление компании и наличие в ней отрицате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авторитетных» людей как примера для подра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равственная незрелость подрост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Object 3" descr=""/>
          <p:cNvPicPr/>
          <p:nvPr/>
        </p:nvPicPr>
        <p:blipFill>
          <a:blip r:embed="rId1"/>
          <a:stretch/>
        </p:blipFill>
        <p:spPr>
          <a:xfrm>
            <a:off x="3643200" y="2071800"/>
            <a:ext cx="1714680" cy="2421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2"/>
          <p:cNvSpPr/>
          <p:nvPr/>
        </p:nvSpPr>
        <p:spPr>
          <a:xfrm>
            <a:off x="571680" y="642960"/>
            <a:ext cx="242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Информ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о завис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4572000" y="4287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Не замалчивайте тему курения, алкоголя и наркот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2857680" y="157176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Говорите обо вс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285840" y="2714760"/>
            <a:ext cx="31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Высказывание сво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точки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5500800" y="264312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Интересуйтесь друзьями своего ребё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1785960" y="4572000"/>
            <a:ext cx="56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Не оскорбляйте чувства подростка постоянной  подозритель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500040" y="564372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Согласовать пози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обоих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0"/>
          <p:cNvSpPr/>
          <p:nvPr/>
        </p:nvSpPr>
        <p:spPr>
          <a:xfrm>
            <a:off x="714240" y="285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Родительский при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редные привыч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рение     Алкоголь     Наркотик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рушается здоровь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еградирует ли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нижаются умственные способ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худшается работоспособ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2" descr="File0046"/>
          <p:cNvPicPr/>
          <p:nvPr/>
        </p:nvPicPr>
        <p:blipFill>
          <a:blip r:embed="rId1"/>
          <a:stretch/>
        </p:blipFill>
        <p:spPr>
          <a:xfrm>
            <a:off x="0" y="4857840"/>
            <a:ext cx="1500120" cy="172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286080" y="5000760"/>
            <a:ext cx="2071800" cy="14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Object 6"/>
          <p:cNvGraphicFramePr/>
          <p:nvPr/>
        </p:nvGraphicFramePr>
        <p:xfrm>
          <a:off x="7429680" y="5072040"/>
          <a:ext cx="1357200" cy="132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29680" y="5072040"/>
                    <a:ext cx="135720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6"/>
          <p:cNvSpPr/>
          <p:nvPr/>
        </p:nvSpPr>
        <p:spPr>
          <a:xfrm>
            <a:off x="214200" y="14292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следствия вредных привыч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214200" y="1000080"/>
            <a:ext cx="86439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ражение вирусным гепатитом и ВИЧ-инфек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тощение организма, нервной системы и псих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ичность деградиру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рушение отношений с родителями, родными, друзь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вершение преступ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ождение неполноценны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ждевременная смер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"/>
          <p:cNvPicPr/>
          <p:nvPr/>
        </p:nvPicPr>
        <p:blipFill>
          <a:blip r:embed="rId1"/>
          <a:stretch/>
        </p:blipFill>
        <p:spPr>
          <a:xfrm>
            <a:off x="6215040" y="3857760"/>
            <a:ext cx="185724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7"/>
          <p:cNvSpPr/>
          <p:nvPr/>
        </p:nvSpPr>
        <p:spPr>
          <a:xfrm>
            <a:off x="285840" y="928800"/>
            <a:ext cx="864396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Самое главное – это ваше воспитание, поддержка и любов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Ваш ребёнок, состоявшийся как нравственная и успешная личность - самая высокая мера оценки вашего жизненного пут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Наркотические вещест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коти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иловый спир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иу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ашиш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ерои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Object 2"/>
          <p:cNvGraphicFramePr/>
          <p:nvPr/>
        </p:nvGraphicFramePr>
        <p:xfrm>
          <a:off x="500040" y="3571920"/>
          <a:ext cx="228600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571920"/>
                    <a:ext cx="228600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6500880" y="3357720"/>
            <a:ext cx="207180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77580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«Курение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5840" y="1071720"/>
            <a:ext cx="84009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ико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мертельная доза – 1 г на 1 кг массы те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6143760" y="1071720"/>
            <a:ext cx="2517480" cy="1000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714240" y="3571920"/>
            <a:ext cx="3286440" cy="2606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4"/>
          <a:stretch/>
        </p:blipFill>
        <p:spPr>
          <a:xfrm>
            <a:off x="5214960" y="3571920"/>
            <a:ext cx="335772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рение отрицательно влияет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нервную систе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ыхательный цен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642960" y="1357200"/>
            <a:ext cx="344952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4500720" y="3929040"/>
            <a:ext cx="4143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42840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озговое вещество надпочеч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ртериальное дав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вратник желуд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итм сердечных сокращ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7149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1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3274920" cy="2571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"/>
          <p:cNvPicPr/>
          <p:nvPr/>
        </p:nvPicPr>
        <p:blipFill>
          <a:blip r:embed="rId2"/>
          <a:stretch/>
        </p:blipFill>
        <p:spPr>
          <a:xfrm>
            <a:off x="5286240" y="1214280"/>
            <a:ext cx="2857680" cy="3699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3"/>
          <a:stretch/>
        </p:blipFill>
        <p:spPr>
          <a:xfrm>
            <a:off x="1357200" y="4143240"/>
            <a:ext cx="3729240" cy="2214720"/>
          </a:xfrm>
          <a:prstGeom prst="rect">
            <a:avLst/>
          </a:prstGeom>
          <a:ln w="0">
            <a:noFill/>
          </a:ln>
        </p:spPr>
      </p:pic>
      <p:pic>
        <p:nvPicPr>
          <p:cNvPr id="81" name="Object 2" descr=""/>
          <p:cNvPicPr/>
          <p:nvPr/>
        </p:nvPicPr>
        <p:blipFill>
          <a:blip r:embed="rId4"/>
          <a:stretch/>
        </p:blipFill>
        <p:spPr>
          <a:xfrm>
            <a:off x="3857760" y="22860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85480" y="357120"/>
            <a:ext cx="86439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Нарушаются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оспособность    зрение     слух    обоня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н пыхтит, как паровоз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оть ещё и не под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 то уже вним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запомин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коро дважды два забуде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пыл свой не остуди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57120" y="2857680"/>
            <a:ext cx="28576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yarskaya</dc:creator>
  <dc:description/>
  <dc:language>en-US</dc:language>
  <cp:lastModifiedBy>девайс</cp:lastModifiedBy>
  <dcterms:modified xsi:type="dcterms:W3CDTF">2015-01-21T04:06:53Z</dcterms:modified>
  <cp:revision>89</cp:revision>
  <dc:subject/>
  <dc:title>Слайд 1</dc:title>
</cp:coreProperties>
</file>