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image3.gif" ContentType="image/gif"/>
  <Override PartName="/ppt/media/sting.wav" ContentType="audio/x-wav"/>
  <Override PartName="/ppt/media/drumroll.wav" ContentType="audio/x-wav"/>
  <Override PartName="/ppt/media/image7.gif" ContentType="image/gif"/>
  <Override PartName="/ppt/media/image4.gif" ContentType="image/gif"/>
  <Override PartName="/ppt/media/image5.gif" ContentType="image/gif"/>
  <Override PartName="/ppt/media/image6.gif" ContentType="image/gif"/>
  <Override PartName="/ppt/media/cashreg.wav" ContentType="audio/x-wav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9991-819D-44FC-9EFD-3C0C345DE5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16A1-3147-4A99-BAB0-A120B7AD3C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9F4E-48BE-4203-8ABF-95EDE14468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65A7-94F4-4CF4-8670-19730CCF9A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7587-3829-415D-863F-BBBD763F95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8E77-4870-4AB5-BC54-54805B0832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D63-11F9-4AEB-B69F-EEEBC83D27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2204-7A0A-411B-8278-D9567579EB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4B0-F4C2-4DAE-817D-DD6ED02277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2E46-A260-45A4-91AA-833CEB393C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9C67-6FC2-4F9C-8A4B-BAD1D9A86C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CD8B-EC66-4275-8121-95F049D9EA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3EF6-8ADB-4FFB-9EB1-34B1B8F817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AA0F-5ED8-42C9-AE48-D675CB7DE7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476F-B9F8-415A-9E24-B72F9A6015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0E98-79C3-4B68-80E3-54FF0169D1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A3AB-B20C-4A6C-B21E-DF1260B14A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1ECA-F4E3-486D-A1C3-D7651BEE78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9BA5-9B26-4418-9E99-B6FC7F7665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C49A-E809-4B3E-A6F1-C5FBE82DFF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E0AD-A98D-4F3F-9973-41A5A41A91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20F8-90EF-4A87-A790-1C892FF1C4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9495-6BBF-4FA7-B643-D637DD1517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8AC1-3966-43C6-80BD-80BCEC5085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21C4-A981-4780-A2B2-4DBD06AB96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89B1-CA7B-4C1F-8D95-EC0E1194D0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6C12-BE7A-48AA-A322-2464B822A7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017A-AA5C-43DF-ADE5-826197E319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319A-68CB-48FF-B480-16415740D8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8C89-8025-4B34-B693-46F3ACD0DC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6AA1-F93A-4E47-BAB4-A6B9FC4796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9CEF-40A8-4E96-9B84-B20C829146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8F82-B73F-4734-9DCA-E110B5C74D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9AC3-8B70-4DF3-B72E-A7698D391A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89E9-A84D-4636-ABB7-80146898B3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D442-A14A-4682-B292-3671326101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DDDC-09F6-44FF-ABAD-890DF54A82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7617-DFE9-498F-9F74-8DBD6198EA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EAF3-8AF0-4B02-A933-9202BA2224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9249-3C2A-4C0C-976F-1C055E8BD3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5B8D-C6CE-4D21-8355-C97C2C752E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942E-97F1-45D5-B2F6-5570C340C7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36CB-1370-4F53-A706-D09689E674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EBA6-F39A-4D3F-999C-E417A22C73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D798-72A2-414C-BC38-849E649386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3A4-5848-450C-9115-4854C6FF1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5D6E-7725-4486-BADD-22F992E510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03A3-BC15-4661-A04E-BEA708A94F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72BC-F7A1-45ED-BA7A-D23BE216BB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358D-AFEC-467D-8A2E-FBBD6C7E1C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9AEB-CF4F-448B-A8A4-722D2829A3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637A-559D-4C0B-8784-556DFC485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3BBB-C20D-459E-BF66-9D8A2827F8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976-76DD-48EB-8FB6-AF97EA7049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7B2E-A3CF-427C-955D-C215BE4C1A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DE67-20D4-4FDC-ADA5-B841C4CAF6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A1B5-6AE0-4194-B750-C67B63315B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ED66-22F1-4951-8E61-E78BB47855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74E6-3786-40F3-AFB9-509235E72C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A3F8-2FD1-41C8-B66C-7D63C3498C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3A3-1515-4DF6-9E9C-70BB3EBD5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7E3D-BC7D-4DB4-991F-C2B996E867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49E-7C67-41FD-9EFF-E975782D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34C-E6A3-4662-B0BE-F7119A75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050-38F7-4F8A-8156-BAF24801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2E3-3B12-46CB-B034-CF39ED84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BEE-3404-4D94-96A1-925F0B8D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D3C-EFD8-4FC3-83BE-F2E46BED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257-D133-4C33-825D-A68EF218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BBD-50A9-432A-9754-0B8B2E57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7B0-3836-4BDB-87BA-3AD48960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01F-DF25-4D02-BE7A-C06AE08F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BA3-DD7C-45F4-A2E8-E54FA5A8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197-406B-48E8-BB95-4A6CE086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5C74-D948-4660-A7D0-E706282147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stin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K:\он\ny050.gif"/>
          <p:cNvPicPr/>
          <p:nvPr/>
        </p:nvPicPr>
        <p:blipFill>
          <a:blip r:embed="rId1"/>
          <a:stretch/>
        </p:blipFill>
        <p:spPr>
          <a:xfrm>
            <a:off x="3276720" y="4724280"/>
            <a:ext cx="2381040" cy="133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C:\Documents and Settings\1\Рабочий стол\ДЛЯ ПРЕЗЕНТАЦИЙ\анимация\часы.gif"/>
          <p:cNvPicPr/>
          <p:nvPr/>
        </p:nvPicPr>
        <p:blipFill>
          <a:blip r:embed="rId2"/>
          <a:stretch/>
        </p:blipFill>
        <p:spPr>
          <a:xfrm>
            <a:off x="7000920" y="43578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C:\Documents and Settings\1\Рабочий стол\ДЛЯ ПРЕЗЕНТАЦИЙ\Страна фантазии\Рисунок4.gif"/>
          <p:cNvPicPr/>
          <p:nvPr/>
        </p:nvPicPr>
        <p:blipFill>
          <a:blip r:embed="rId3"/>
          <a:stretch/>
        </p:blipFill>
        <p:spPr>
          <a:xfrm>
            <a:off x="357120" y="4000680"/>
            <a:ext cx="191952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8"/>
          <p:cNvSpPr txBox="1"/>
          <p:nvPr/>
        </p:nvSpPr>
        <p:spPr>
          <a:xfrm>
            <a:off x="468360" y="476280"/>
            <a:ext cx="835164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, СЧАСТЛИВЧИ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4296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ТОРИЯ И КУЛЬТУРА ЧУВАШИИ, 7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4" name="stin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714680" y="0"/>
            <a:ext cx="5047920" cy="3786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профессиональный художник – архитектор из чуваше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оисей Спиридо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ётр Егор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 Зайц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профессиональный художник – архитектор из чуваше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оисей Спиридо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ётр Егор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 Зайц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0" y="3621240"/>
            <a:ext cx="3357720" cy="3236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858000" y="0"/>
            <a:ext cx="188928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357200" y="0"/>
            <a:ext cx="5619960" cy="42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толица Чуваши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Шумерл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вочебоксарс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на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толица Чуваши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Шумерл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вочебоксарс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на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57184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786720" y="0"/>
            <a:ext cx="188892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00160" y="-28584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втор поэмы «Нарсп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263700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A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ихаил Сесп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B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C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стантин Ива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Ашмар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571760" y="64296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втор поэмы «Нарсп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A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ихаил Сесп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B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C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стантин Ива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cc00"/>
                </a:solidFill>
                <a:latin typeface="Arial"/>
              </a:rPr>
              <a:t>D</a:t>
            </a:r>
            <a:r>
              <a:rPr b="1" lang="en-US" sz="40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Ашмар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428920" y="3714840"/>
            <a:ext cx="3500280" cy="3375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500880" y="0"/>
            <a:ext cx="2228760" cy="31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71800" y="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 герба Чувашской республик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атолий Митт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лли Юрь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 герба Чувашской республик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атолий Митт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аски Вит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кита Сверч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лли Юрь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3000240" y="4286160"/>
            <a:ext cx="2667240" cy="257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92928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увашский профессиональный театр появился 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за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аран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льянов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53352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увашский профессиональный театр появился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за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боксар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аран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льяновс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4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786040" y="3714840"/>
            <a:ext cx="3286080" cy="3168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35796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колько всего районов в Чуваши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571680" y="0"/>
            <a:ext cx="6667200" cy="5000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ский язык относится к языковой 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финно-угор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рк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вян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европей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ский язык относится к языковой групп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финно-угор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юрк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вян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европейско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8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300024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5929200" y="0"/>
            <a:ext cx="2270160" cy="27860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00160" y="28584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ом «Словаря чувашского языка» являет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. В.Ива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. Сеспел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И. Ашма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втором «Словаря чувашского языка» являет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. В.Ива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. Сеспел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И. Ашма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6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857680" y="3929040"/>
            <a:ext cx="3036600" cy="29289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643800" y="0"/>
            <a:ext cx="1571400" cy="27352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2000160" y="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утки у древних чуваш начиналис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нё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ече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чь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т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колько всего районов в Чуваши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утки у древних чуваш начиналис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нё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ече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чь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утр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32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786040" y="3786120"/>
            <a:ext cx="3186000" cy="3071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143760" y="285840"/>
            <a:ext cx="1643040" cy="2859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571760" y="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755640" y="26028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ия граничит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ар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сков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жегородской област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спубликой Башкортост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увашия граничит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ар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сковской обла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жегородской област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спубликой Башкортост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64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92896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585792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000080" y="0"/>
            <a:ext cx="6000840" cy="45007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учёный-востоковед России, изучавший Китай и Монгол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. С. Пушк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учёный-востоковед России, изучавший Китай и Монгол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. С. Пушк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25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786040" y="3786120"/>
            <a:ext cx="3186000" cy="3071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500880" y="0"/>
            <a:ext cx="1500120" cy="26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643120" y="3827520"/>
            <a:ext cx="3143160" cy="3030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715080" y="0"/>
            <a:ext cx="2143080" cy="37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143000" y="0"/>
            <a:ext cx="6072120" cy="4554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ёный-педагог, создатель современной чувашской письм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. Хузанга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ёный-педагог, создатель современной чувашской письм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. Хузанга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В. Никольск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Я. Бичури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Я. Яковле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50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2928960" y="3786120"/>
            <a:ext cx="3214800" cy="3100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858000" y="0"/>
            <a:ext cx="13953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571680" y="-428760"/>
            <a:ext cx="6572160" cy="49294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ёный-кораблестроитель, математик, инженер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к нау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иколай Никольски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лексей Кры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ннадий Волк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вятослав Фёдо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ёный-кораблестроитель, математик, инженер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к нау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иколай Никольски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лексей Кры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ннадий Волк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вятослав Фёдо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500,0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Picture 6" descr="C:\Documents and Settings\1\Рабочий стол\ДЛЯ ПРЕЗЕНТАЦИЙ\Страна фантазии\Рисунок53.gif"/>
          <p:cNvPicPr/>
          <p:nvPr/>
        </p:nvPicPr>
        <p:blipFill>
          <a:blip r:embed="rId1"/>
          <a:stretch/>
        </p:blipFill>
        <p:spPr>
          <a:xfrm>
            <a:off x="0" y="3757680"/>
            <a:ext cx="3214800" cy="31003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643800" y="0"/>
            <a:ext cx="1428480" cy="24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6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357200" y="0"/>
            <a:ext cx="5619960" cy="42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ш земляк – Герой Советского Сою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К. Поляко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А. Тувалькин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.  Н. Пуд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Е. Павл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C:\Documents and Settings\1\Рабочий стол\ДЛЯ ПРЕЗЕНТАЦИЙ\Страна фантазии\losh14.gif"/>
          <p:cNvPicPr/>
          <p:nvPr/>
        </p:nvPicPr>
        <p:blipFill>
          <a:blip r:embed="rId1"/>
          <a:stretch/>
        </p:blipFill>
        <p:spPr>
          <a:xfrm>
            <a:off x="1285920" y="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drumroll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AutoShape 2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4"/>
          <p:cNvSpPr/>
          <p:nvPr/>
        </p:nvSpPr>
        <p:spPr>
          <a:xfrm>
            <a:off x="53352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ш земляк – Герой Советского Сою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К. Поляко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B</a:t>
            </a:r>
            <a:r>
              <a:rPr b="1" lang="ru-RU" sz="5400" spc="-1" strike="noStrike" baseline="10000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. А. Тувалькин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.  Н. Пуд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 Е. Павл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1,000,000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7" descr="C:\Documents and Settings\1\Рабочий стол\ДЛЯ ПРЕЗЕНТАЦИЙ\Страна фантазии\Рисунок51.gif"/>
          <p:cNvPicPr/>
          <p:nvPr/>
        </p:nvPicPr>
        <p:blipFill>
          <a:blip r:embed="rId1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C:\Documents and Settings\1\Рабочий стол\ДЛЯ ПРЕЗЕНТАЦИЙ\анимация\сияние.gif"/>
          <p:cNvPicPr/>
          <p:nvPr/>
        </p:nvPicPr>
        <p:blipFill>
          <a:blip r:embed="rId2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9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0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ками чувашей являютс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г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т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ув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олг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ками чувашей являютс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ог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тайц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ув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олга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«умов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C:\Documents and Settings\1\Рабочий стол\ДЛЯ ПРЕЗЕНТАЦИЙ\Страна фантазии\Рисунок22.gif"/>
          <p:cNvPicPr/>
          <p:nvPr/>
        </p:nvPicPr>
        <p:blipFill>
          <a:blip r:embed="rId1"/>
          <a:stretch/>
        </p:blipFill>
        <p:spPr>
          <a:xfrm>
            <a:off x="285840" y="-285840"/>
            <a:ext cx="3143160" cy="3056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929280" y="3500280"/>
            <a:ext cx="1714680" cy="29829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Наумова_ТН</cp:lastModifiedBy>
  <dcterms:modified xsi:type="dcterms:W3CDTF">2023-09-28T16:23:41Z</dcterms:modified>
  <cp:revision>45</cp:revision>
  <dc:subject/>
  <dc:title>Who Wants To Be A Millionaire?</dc:title>
</cp:coreProperties>
</file>