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2.gif" ContentType="image/gif"/>
  <Override PartName="/ppt/media/Tarda.wav" ContentType="audio/x-wav"/>
  <Override PartName="/ppt/media/image3.gif" ContentType="image/gif"/>
  <Override PartName="/ppt/media/sting.wav" ContentType="audio/x-wav"/>
  <Override PartName="/ppt/media/drumroll.wav" ContentType="audio/x-wav"/>
  <Override PartName="/ppt/media/image7.gif" ContentType="image/gif"/>
  <Override PartName="/ppt/media/image4.gif" ContentType="image/gif"/>
  <Override PartName="/ppt/media/image5.gif" ContentType="image/gif"/>
  <Override PartName="/ppt/media/image6.gif" ContentType="image/gif"/>
  <Override PartName="/ppt/media/cashreg.wav" ContentType="audio/x-wav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BB8A-693B-4512-A9C0-32626C7D4C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C539-9036-421B-AF2F-6A561D410A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737F-9570-40E8-BAA4-E4523D3F63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CBF4-CA84-460F-B464-AA6C15EDD3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F805-4046-48CE-8651-BF12EE912E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F9E2-B726-4722-832B-B0CA5F09CF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3EAA-2A7A-4069-9696-9F264A7EE0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01FB-5256-44C6-93D1-FF535671A2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CBC9-6B5D-45CB-A953-880D44BDD2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CE4C-D82B-421C-B802-CBC9B92700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86AE-CC92-4E5C-A3C8-624C1F25C3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12EE-12ED-442B-8E60-2F136D124C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879-0889-41D5-8B02-9446A702A7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827B-DD83-4B4E-8871-D4ECE126E7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9B17-7213-462A-8A8C-CD373C8BDA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E4A4-5BDD-46AB-8C07-19A0C26582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C924-192D-4F36-94C2-6A40C60029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76C-13D4-4F8B-BE88-16662E1765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B337-AB9C-4D6E-A777-B296659740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8DB1-B877-41E0-BB68-A6DE895713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1523-8130-4EFB-9A93-4EFB2BC3CB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E9D3-7656-44C0-AF27-016DFD3D8E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E925-823A-459B-A11B-A64070E501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1455-14D0-4C59-AA8A-86C04113B4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47BC-056F-4F05-A268-A20B975195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FB2A-CFEC-40A4-883E-5110CC77AF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E6A6-EF54-4E26-A2CF-2648502D58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10D1-A45F-4BEF-A110-3B7E45EC5F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6DD4-48B7-4A08-BC9A-0D46AFDCE7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1285-AB3E-4014-B777-25194C597B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358A-82B2-44E6-A10A-0B3CED5AB6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FA24-AF2D-4AFA-B58E-D1E04106C1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1038-80ED-4824-AEB2-26FBC6B876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43E-FB25-475C-9142-4EE308F4F4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B23A-A1D6-41D1-BF49-6F1FAFEC64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715B-D594-43C8-AB8C-EC2DBB92E7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FA3E-393F-4122-A305-E824E33C4F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C22B-0D92-4BB0-AF3C-86E7458CD6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E0DD-037F-4E2E-A4EC-A63AA99B1C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0ECE-24DF-4680-A158-A352933584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A13-7296-4AC5-8E8A-745F36F732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2429-85EF-44E4-90B2-DD2FD4BDEB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53F3-6C8B-4227-940C-61CE618FCC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C5BC-94B8-4E34-BFF5-794805C6D3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7399-A928-4BC9-97AF-CD2E131DD0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0555-CA2C-478B-9AF3-3171EFB646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A28F-9BC7-4C0F-82AA-4CD83F0518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C0B8-266D-4F4C-8F6B-6E1119E2EF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94CA-ECD3-4EEF-9DA0-4D9C0F2277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5099-2EBA-4926-92F5-C118D8CCAA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60ED-0842-4835-8608-6B859B1862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C654-A122-4608-8624-852ED78566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131C-C69E-4ABB-8273-5F059F0718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10EB-CD63-4FCD-B929-F2BE920C16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BBFB-F459-44AC-8C0F-13D55627F7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459E-BAAE-4755-B8D9-AC97E822B5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A311-55DE-4B62-A6CF-6869B7BDDA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E8D7-DB85-4FF6-9813-ED10904919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1738-951E-4A66-BE6E-33194D97EB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6447-6A7E-4046-B24A-652725C9B0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5788-5B2E-434D-850F-8D9D0940D4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44C6-6F77-41B8-9AD1-BE956D2541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ED2-61A3-4ED7-8927-324467F8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85A6-C858-43A3-937B-FF7A8FA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719-A349-4C75-9E68-47EB5397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6D3-6025-4B81-A4E6-9483F941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9D5-06E8-4278-8AC0-6142F0F2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EAE-8654-43CA-99F3-EC3159CB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904-B258-4CDA-86DE-CA84F54E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574-CE79-4973-AA33-DD8E957B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F36-E66E-45C0-A7AC-CA448386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81B-9C65-4E80-A449-889126F9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9BE-EFCC-40FA-BBEE-8B4823C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FEB-AC4D-4120-8399-24AC91FB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EC37-DB84-4D63-9711-C54DEC2376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stin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K:\он\ny050.gif"/>
          <p:cNvPicPr/>
          <p:nvPr/>
        </p:nvPicPr>
        <p:blipFill>
          <a:blip r:embed="rId1"/>
          <a:stretch/>
        </p:blipFill>
        <p:spPr>
          <a:xfrm>
            <a:off x="3276720" y="4724280"/>
            <a:ext cx="2381040" cy="133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C:\Documents and Settings\1\Рабочий стол\ДЛЯ ПРЕЗЕНТАЦИЙ\анимация\часы.gif"/>
          <p:cNvPicPr/>
          <p:nvPr/>
        </p:nvPicPr>
        <p:blipFill>
          <a:blip r:embed="rId2"/>
          <a:stretch/>
        </p:blipFill>
        <p:spPr>
          <a:xfrm>
            <a:off x="7000920" y="43578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C:\Documents and Settings\1\Рабочий стол\ДЛЯ ПРЕЗЕНТАЦИЙ\Страна фантазии\Рисунок4.gif"/>
          <p:cNvPicPr/>
          <p:nvPr/>
        </p:nvPicPr>
        <p:blipFill>
          <a:blip r:embed="rId3"/>
          <a:stretch/>
        </p:blipFill>
        <p:spPr>
          <a:xfrm>
            <a:off x="357120" y="4000680"/>
            <a:ext cx="191952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8"/>
          <p:cNvSpPr txBox="1"/>
          <p:nvPr/>
        </p:nvSpPr>
        <p:spPr>
          <a:xfrm>
            <a:off x="468360" y="476280"/>
            <a:ext cx="835164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, СЧАСТЛИВЧИ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4296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ТОРИЯ И КУЛЬТУРА ЧУВАШИИ, 7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4" name="stin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714680" y="0"/>
            <a:ext cx="5047920" cy="3786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профессиональный художник – архитектор из чуваше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оисей Спиридо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ётр Егор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 Зайц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профессиональный художник – архитектор из чуваше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оисей Спиридо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ётр Егор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 Зайц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0" y="3621240"/>
            <a:ext cx="3357720" cy="3236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858000" y="0"/>
            <a:ext cx="188928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357200" y="0"/>
            <a:ext cx="5619960" cy="42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толица Чуваши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Шумерл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вочебоксарс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на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толица Чуваши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Шумерл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вочебоксарс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на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57184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786720" y="0"/>
            <a:ext cx="188892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00160" y="-28584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втор поэмы «Нарсп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263700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A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ихаил Сесп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B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C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стантин Ива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D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Ашмар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571760" y="64296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втор поэмы «Нарсп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A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ихаил Сесп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B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C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стантин Ива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D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Ашмар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428920" y="3714840"/>
            <a:ext cx="3500280" cy="3375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500880" y="0"/>
            <a:ext cx="2228760" cy="31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71800" y="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 герба Чувашской республик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атолий Митт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лли Юрь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 герба Чувашской республик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атолий Митт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лли Юрь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3000240" y="4286160"/>
            <a:ext cx="2667240" cy="257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92928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увашский профессиональный театр появился 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за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аран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льянов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53352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увашский профессиональный театр появился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за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аран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льянов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4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786040" y="3714840"/>
            <a:ext cx="3286080" cy="3168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35796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колько всего районов в Чуваши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571680" y="0"/>
            <a:ext cx="6667200" cy="5000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ский язык относится к языковой групп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финно-угор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юрк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вян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европей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ский язык относится к языковой групп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финно-угор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юрк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вян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европей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8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300024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5929200" y="0"/>
            <a:ext cx="2270160" cy="27860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00160" y="28584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ом «Словаря чувашского языка» являет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. В.Ива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. Сеспел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И. Ашма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ом «Словаря чувашского языка» являет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. В.Ива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. Сеспел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И. Ашма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6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857680" y="3929040"/>
            <a:ext cx="3036600" cy="29289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643800" y="0"/>
            <a:ext cx="1571400" cy="27352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00160" y="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утки у древних чуваш начинались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нё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ече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чь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т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колько всего районов в Чуваши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утки у древних чуваш начинались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нё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ече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чь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т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32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786040" y="3786120"/>
            <a:ext cx="3186000" cy="3071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143760" y="285840"/>
            <a:ext cx="1643040" cy="2859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571760" y="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755640" y="26028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ия граничит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ар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сков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жегородской област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спубликой Башкортоста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ия граничит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ар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сков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жегородской област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спубликой Башкортоста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64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92896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585792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000080" y="0"/>
            <a:ext cx="6000840" cy="45007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учёный-востоковед России, изучавший Китай и Монгол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. С. Пушк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учёный-востоковед России, изучавший Китай и Монгол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. С. Пушк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25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786040" y="3786120"/>
            <a:ext cx="3186000" cy="3071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500880" y="0"/>
            <a:ext cx="1500120" cy="26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643120" y="3827520"/>
            <a:ext cx="3143160" cy="3030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715080" y="0"/>
            <a:ext cx="2143080" cy="37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143000" y="0"/>
            <a:ext cx="6072120" cy="4554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чёный-педагог, создатель современной чувашской письм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. Хузанга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чёный-педагог, создатель современной чувашской письм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. Хузанга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50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928960" y="3786120"/>
            <a:ext cx="3214800" cy="3100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858000" y="0"/>
            <a:ext cx="139536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571680" y="-428760"/>
            <a:ext cx="6572160" cy="49294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чёный-кораблестроитель, математик, инженер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к нау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иколай Никольски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лексей Крыл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ннадий Волк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вятослав Фёдо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чёный-кораблестроитель, математик, инженер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к нау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иколай Никольски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лексей Крыл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ннадий Волк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вятослав Фёдо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500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0" y="3757680"/>
            <a:ext cx="3214800" cy="31003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643800" y="0"/>
            <a:ext cx="1428480" cy="24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357200" y="0"/>
            <a:ext cx="5619960" cy="42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ш земляк – Герой Советского Сою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К. Поляко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А. Тувалькин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.  Н. Пуд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Е. Павл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285920" y="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AutoShape 2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4"/>
          <p:cNvSpPr/>
          <p:nvPr/>
        </p:nvSpPr>
        <p:spPr>
          <a:xfrm>
            <a:off x="53352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ш земляк – Герой Советского Сою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К. Поляко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А. Тувалькин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.  Н. Пуд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Е. Павл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1,000,000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7" descr="C:\Documents and Settings\1\Рабочий стол\ДЛЯ ПРЕЗЕНТАЦИЙ\Страна фантазии\Рисунок51.gif"/>
          <p:cNvPicPr/>
          <p:nvPr/>
        </p:nvPicPr>
        <p:blipFill>
          <a:blip r:embed="rId1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C:\Documents and Settings\1\Рабочий стол\ДЛЯ ПРЕЗЕНТАЦИЙ\анимация\сияние.gif"/>
          <p:cNvPicPr/>
          <p:nvPr/>
        </p:nvPicPr>
        <p:blipFill>
          <a:blip r:embed="rId2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9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0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ками чувашей являютс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г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т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ув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олг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ками чувашей являютс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г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т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ув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олг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C:\Documents and Settings\1\Рабочий стол\ДЛЯ ПРЕЗЕНТАЦИЙ\Страна фантазии\Рисунок22.gif"/>
          <p:cNvPicPr/>
          <p:nvPr/>
        </p:nvPicPr>
        <p:blipFill>
          <a:blip r:embed="rId1"/>
          <a:stretch/>
        </p:blipFill>
        <p:spPr>
          <a:xfrm>
            <a:off x="285840" y="-285840"/>
            <a:ext cx="3143160" cy="3056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929280" y="3500280"/>
            <a:ext cx="1714680" cy="29829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Наумова_ТН</cp:lastModifiedBy>
  <dcterms:modified xsi:type="dcterms:W3CDTF">2023-09-28T16:23:41Z</dcterms:modified>
  <cp:revision>45</cp:revision>
  <dc:subject/>
  <dc:title>Who Wants To Be A Millionaire?</dc:title>
</cp:coreProperties>
</file>