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image3.gif" ContentType="image/gif"/>
  <Override PartName="/ppt/media/sting.wav" ContentType="audio/x-wav"/>
  <Override PartName="/ppt/media/drumroll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media/cashreg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BFB-5B95-41D2-B84A-A80F4701A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4E96-490B-46E8-B06B-5588D7A0F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F3B4-41A2-4C0B-B1B5-9D80B41F1E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CE5-D207-49A0-8A0C-4F6CF44FC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457-27AF-45C0-BBAF-613CEEB1FC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0EC-92B8-4D7D-A95A-E2192189BA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77B-52CF-4B13-8063-F643B2C04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93E-2C01-4C24-861D-DB8E9D7BD2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8941-9104-4FC9-BC8C-6ECEEE5B2E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B3A-3DFF-45A6-8DD4-2FAF18380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8313-E410-41C1-B68B-C818FD3B8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975-43EF-4747-BFFD-128D5E441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84E-0145-498B-AB95-E5432A5484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8298-4142-46DC-AD28-0DECF2238C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A6A-E30F-45D5-9AC8-2AC952ACEC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D26-A4F3-4244-A8A8-C135FD66F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4A5-2DFD-4B02-ADD3-9D6396CF5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33CC-9E0A-4E7E-9D7C-E330D5821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BE9-8099-4C4B-B294-E28A84E183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BA1-6D58-4561-9D6E-B75F729759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087F-9C6D-4012-A1FD-13317DF528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6FA-CE24-43E1-ACFC-BA891C556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4121-AA41-4758-BB8A-4580776725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42FE-FC63-405E-8FC0-47B43327C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C56-CDEB-492A-BEE9-D59AF9F0E9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4E8-C4B8-464B-83A3-BB5B57B0D2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DF4-D3B4-4ADA-8319-9EB1C86894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2302-BEA5-4491-9461-C4C64E16C9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E2C2-4EAB-436F-B882-DCEC8AC5E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8F37-760E-4231-94A8-972CFE6A69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929-C2B3-4D19-84B0-CCBBEF2195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AC81-33B6-42B0-8963-D1E3F34D3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9CA-2235-4645-9271-2A97ADCFC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251-0CD2-45EA-BA3E-5A8E31F3A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5B46-3DA6-4F77-BE14-E6749DD9E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C943-EE13-4BB5-A008-AED684340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F65D-B208-4BED-8821-B8465071A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DAFB-B5B2-461E-A0D3-E65DF4AF21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676-66EF-42EC-9986-06166AB97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872-DB35-4B07-A105-7C3A5E489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C79-1A8B-4559-985C-4B20C57F1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6981-2B07-45FE-B526-0ECCB8D25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57E-F16B-4F8E-B87C-45E105E664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AE6-51C4-4DB6-B33B-F7DEF92F8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32FD-6A87-45C5-8101-8D30E942F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A76-E879-4A55-9704-1E7F95789F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A942-CEC4-46FE-90FE-63F75AA65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BF0-DDE6-4EC8-AEF8-3EA57B032C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49A-0FFB-411E-90C3-EEB61A0AE1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02C-CE30-49EA-9C73-0B4070BCDC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659-B261-4920-B5B6-AE33D8766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349-40AC-4130-9478-5172A553EC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E5C-AA2C-47BC-B1C1-3E29952251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E2DC-2630-4F6E-968E-F1792A6E6D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FDFD-7057-4054-9AAF-E1D4E3061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167A-604C-478A-950B-8FC5AAC712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35E-4713-4A93-8856-DEB02AC21E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F99-1D71-461C-AB90-330CC0084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A28-4AF4-4B09-86F4-8BD549B53D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CC9-1FA3-4B65-93EB-E7C42365D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C9F-74FD-4C27-BB9A-BB2D9EE891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E6B-A8F7-4E8B-8B27-48514E57C5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585-29B2-40BC-99D2-2D7D9F3F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63F-348C-4AE7-B335-40CAFF9D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1FB-1ECE-4218-953D-66267F9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957-3BB7-447F-916E-FFE8458B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D0E-2B09-4D7B-9931-D3CC9BC7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9C4-1F90-48C5-A8B3-D8780C2D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E1A-CE8D-465F-9B3B-19D4AED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33F-220B-4CF9-831C-549BE30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6B0-9671-4BBD-A4D0-E994DB5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529-78D7-46EA-B7D2-680FEF1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DCF-5FD8-434F-BD87-E170576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727-6599-46CB-932D-172CA26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FA4-B7B8-49BF-9404-08306E9C58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tin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K:\он\ny050.gif"/>
          <p:cNvPicPr/>
          <p:nvPr/>
        </p:nvPicPr>
        <p:blipFill>
          <a:blip r:embed="rId1"/>
          <a:stretch/>
        </p:blipFill>
        <p:spPr>
          <a:xfrm>
            <a:off x="3276720" y="4724280"/>
            <a:ext cx="2381040" cy="133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C:\Documents and Settings\1\Рабочий стол\ДЛЯ ПРЕЗЕНТАЦИЙ\анимация\часы.gif"/>
          <p:cNvPicPr/>
          <p:nvPr/>
        </p:nvPicPr>
        <p:blipFill>
          <a:blip r:embed="rId2"/>
          <a:stretch/>
        </p:blipFill>
        <p:spPr>
          <a:xfrm>
            <a:off x="7000920" y="43578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C:\Documents and Settings\1\Рабочий стол\ДЛЯ ПРЕЗЕНТАЦИЙ\Страна фантазии\Рисунок4.gif"/>
          <p:cNvPicPr/>
          <p:nvPr/>
        </p:nvPicPr>
        <p:blipFill>
          <a:blip r:embed="rId3"/>
          <a:stretch/>
        </p:blipFill>
        <p:spPr>
          <a:xfrm>
            <a:off x="357120" y="4000680"/>
            <a:ext cx="191952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>
            <a:off x="468360" y="476280"/>
            <a:ext cx="83516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, СЧАСТЛИВЧИ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429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РИЯ И КУЛЬТУРА ЧУВАШИИ, 7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4" name="sti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714680" y="0"/>
            <a:ext cx="504792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621240"/>
            <a:ext cx="3357720" cy="3236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8892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5718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86720" y="0"/>
            <a:ext cx="188892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-2858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64296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428920" y="3714840"/>
            <a:ext cx="3500280" cy="3375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2228760" cy="31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71800" y="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14840"/>
            <a:ext cx="3286080" cy="3168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35796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8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929200" y="0"/>
            <a:ext cx="227016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28584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6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857680" y="3929040"/>
            <a:ext cx="3036600" cy="2928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57140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143760" y="285840"/>
            <a:ext cx="1643040" cy="2859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755640" y="26028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6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85792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000080" y="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25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1500120" cy="26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643120" y="3827520"/>
            <a:ext cx="3143160" cy="3030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15080" y="0"/>
            <a:ext cx="2143080" cy="37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143000" y="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5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78612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3953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-428760"/>
            <a:ext cx="6572160" cy="49294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75768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428480" cy="24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2859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1,000,00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7" descr="C:\Documents and Settings\1\Рабочий стол\ДЛЯ ПРЕЗЕНТАЦИЙ\Страна фантазии\Рисунок51.gif"/>
          <p:cNvPicPr/>
          <p:nvPr/>
        </p:nvPicPr>
        <p:blipFill>
          <a:blip r:embed="rId1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C:\Documents and Settings\1\Рабочий стол\ДЛЯ ПРЕЗЕНТАЦИЙ\анимация\сияние.gif"/>
          <p:cNvPicPr/>
          <p:nvPr/>
        </p:nvPicPr>
        <p:blipFill>
          <a:blip r:embed="rId2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C:\Documents and Settings\1\Рабочий стол\ДЛЯ ПРЕЗЕНТАЦИЙ\Страна фантазии\Рисунок22.gif"/>
          <p:cNvPicPr/>
          <p:nvPr/>
        </p:nvPicPr>
        <p:blipFill>
          <a:blip r:embed="rId1"/>
          <a:stretch/>
        </p:blipFill>
        <p:spPr>
          <a:xfrm>
            <a:off x="285840" y="-285840"/>
            <a:ext cx="3143160" cy="3056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3500280"/>
            <a:ext cx="1714680" cy="2982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Наумова_ТН</cp:lastModifiedBy>
  <dcterms:modified xsi:type="dcterms:W3CDTF">2023-09-28T16:23:41Z</dcterms:modified>
  <cp:revision>45</cp:revision>
  <dc:subject/>
  <dc:title>Who Wants To Be A Millionaire?</dc:title>
</cp:coreProperties>
</file>