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419DE-7294-454C-A309-262C010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37875-FB8B-4301-A812-C854128E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20DB2-F281-41EC-B145-9FA97DFE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C275F-1DAC-4F33-A7DE-635FBD6B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26042-1405-40EC-A070-CA28C2C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31342-311D-41AB-A950-7F4BA34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2A5FF-1151-4AF6-90D7-82036C89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58829-D49C-418A-B9D6-5974579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6FB44-5587-4B9E-93FE-7DA39DB88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069ED-3826-4B04-ADAC-87B8815DD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45822-636D-40E6-9040-1C1A5AD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BC1EC-4162-4CB1-8F36-D4C6168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8FF1C-9BE3-47C9-833E-63AB8BC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636A6E-DB9F-40F5-A432-A3440E82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336B2-869B-40A3-B225-B3D48FA4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69987-DBC3-4C79-8DFD-B8ED04C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DF3D4-F1D6-48BB-941A-D8571CB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CC1237-E0E0-4BB4-B175-124D3BC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1E269-2FEB-483E-9DFF-92C510D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E57C7E-6D4C-4E7E-B335-A4EC753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53BD7-49BA-48A5-A6B4-6A18CD256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2DDD-AB9F-4943-AF4C-DB95AC45D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8A10-19BF-48CB-9F94-2AD5124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AD45-67E4-4F0D-930A-6A9D087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4DEE-3CF7-414D-A43E-C785B798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B4AC6-F56F-4267-8641-D6F8E89D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259E-CC64-4AFF-8570-5B0CD202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CD9E-07BB-44A0-B3EE-86DB7D6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F5BE-578C-4BAE-B1AD-010F4FAF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2D1D-C64F-4DFF-AB9D-EA6B759B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16BE-EEB2-4BF8-9FAC-8D3B9E7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B156-03D2-4C77-9655-7E0A7CA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46E7-08F3-4D2C-A7ED-39F2B3F82C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CABE-65A2-4151-80F1-63934ED19A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64BF-73FA-450A-A725-955CFE86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4D1E-24DB-4FAB-A254-8B6DE230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D6D8-5BF0-4D69-8CAF-696C8F6E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1E4B-B359-4A88-8DD1-37CA0E4E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C5E4-ECD9-45D6-B10A-A5BE8004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8641-471B-476D-B43F-BF19EA3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A053-5D83-40E5-BAFF-7C416340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362A-2370-41B9-8300-10D21676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433B-9652-423B-9E3B-D7706533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A08D-4DE4-4B8A-A40E-93567C3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7CE3-BEFE-4A49-AC98-0A1D60E1E4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D4AC-B3AE-4533-A4BE-6CAA1B727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71303-B82C-4EBD-898D-5A3441F2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F330E-0686-4751-9A4C-F794E99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39022-33DB-46ED-9081-DA314FD6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D6009-6486-4A14-9585-89F8A295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3B79-FE19-4F55-AC5C-06DEE67D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B4C3B-ED1F-43F2-9E1D-1916770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3D2B-3E81-482F-9E51-DBB3F680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B5268-46A2-4C40-828B-8001151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22FC0-CC93-4E50-BDF8-A072985D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830B0-8433-4083-BE34-474BB9E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BCF3-44C0-462C-926A-D054C7207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733E-B65C-48BF-BC67-E9C8667F6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8C5A-FAF4-4982-8CEB-0E829D27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1F9-C31C-4F86-96D2-0EECCABB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617-100A-45D4-B6F1-84133D8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B9A-BF62-4741-83D6-FA9EB87F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448E-A216-4522-AD11-00BDDF24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5C7F-1305-4254-B527-7781CCE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4C4-E453-439C-BC87-AE0315C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F398-8A2E-4A12-9EF5-9C9BEA6E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D61-FBED-470E-8BD9-A66A37C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B2DD-6185-43B9-B38B-0678C7A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F431-C994-4E5A-B220-347DFA9F1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3FB8A-9780-43F2-A43B-67022F532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32632-3B7A-4A14-B6BF-07047AD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A75AA-6AC5-4A59-8BE4-09D8F19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C0DA4-CF68-4B7C-9C59-8AE9B8F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62FDF-C72C-4726-835A-57261B7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9BBDC-CAE4-4CBA-99B6-A01A5B8C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70D6F-23BC-4472-897B-0F51E30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A8FB8-91AD-46F3-8EFD-40DF114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FBF5A-59AD-491E-937A-C3798C1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52A3A-153B-436A-BACF-2D5A4DAF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D6BC0-D9AA-4B6D-A5ED-FCA8E67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5FAEE-F794-4FC2-9B05-D2C7E0082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BCBF4-53DE-40AF-A802-BCFDFD650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1B397-76F2-4AA5-990A-1A4D624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A34A8-078B-4B6B-A240-ABABEC1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D421A-34E0-45A4-ADEA-587D73D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3E19D-42EB-46D8-B596-3F98BD1B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401FD-9364-40ED-8B3A-CFCEF8F8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5F47C-EEB8-45A0-A90D-2A23D6C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D3F2E-E039-4E4E-9733-81C2C7B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C9B69-EECE-4360-B3BE-3B739525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552D6-3974-48E8-8415-DE7317A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09332-8D7B-4C15-B598-A998157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CEBDB-4D8C-43CD-874A-AAF95DDFF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C13D-599C-4D9F-95A4-05910AAF4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C99C-7769-4EBE-BFD1-5EEB2D6A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0272-7BBA-4989-8FE3-FE2D6C8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4291-281C-494E-B3E8-E0FDFB5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E336-39B2-4321-B587-CE993AA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547640" y="404640"/>
            <a:ext cx="7415280" cy="46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33090-0514-4351-A564-2F658E77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0301-17D5-499C-AB21-E6410189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4DE3-E1A4-409B-9F37-61933732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3F5A-2F8A-4323-A520-F01B7AD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547640" y="4097160"/>
            <a:ext cx="74152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CE39-CC11-4237-92C4-FCE37EA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47440" y="160020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5476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347440" y="4097160"/>
            <a:ext cx="3618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4902-C309-4CB7-B08E-F935813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5504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5476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05504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2080" y="4097160"/>
            <a:ext cx="2387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AC68-442F-4D36-800A-6F280A56E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5E6BC-893F-4D36-A4DC-C961D0053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BD0CA-21FE-49C6-9EB6-24732D6C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1C257-3713-4296-8E7F-615B01A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838EA6-D95D-4524-823C-9A2A286A028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743154-2D0B-4124-B440-5450A738BE1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63CB06-CF92-4DF0-A3DD-462E91A0421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DF9EA2-1BC1-40CE-85C5-E71D2FE43EE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DC10EB-AF5A-4E96-8562-2569162EC93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7FF102-A0C7-4917-9FEE-C191DB98CA0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A7866F-E73F-4C61-8B18-8076608E534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96CA65-EA45-41B2-AF0C-1EA5F84E8FA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14760" y="65246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Isadora Cyr "/>
              </a:rPr>
              <a:t>ProPowerPoint.R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74152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47640" y="1600200"/>
            <a:ext cx="74152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CFF064-7080-4C85-949F-E4DA195BCEC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19240" y="1700280"/>
            <a:ext cx="7989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 ребенка к детскому саду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психолог МБДОУ №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илова Любовь Андр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2124000" y="189000"/>
            <a:ext cx="7020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Концом периода адаптации принято считать момент, когд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и утреннем расставании ребенок не плачет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е охотнее взаимодействует с воспитателем в групп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малыш ориентируется в пространстве групп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ок вспоминает забытые навыки самообслужив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овилась речь и нормальна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нормализуется сон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29313d"/>
                </a:solidFill>
                <a:latin typeface="Calibri"/>
                <a:ea typeface="Times New Roman"/>
              </a:rPr>
              <a:t>восстанавливается аппетит</a:t>
            </a:r>
            <a:r>
              <a:rPr b="1" lang="ru-RU" sz="1800" spc="-1" strike="noStrike">
                <a:solidFill>
                  <a:srgbClr val="29313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24000" y="2565360"/>
            <a:ext cx="7020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72360" y="5084640"/>
            <a:ext cx="36543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"/>
          <p:cNvSpPr/>
          <p:nvPr/>
        </p:nvSpPr>
        <p:spPr>
          <a:xfrm>
            <a:off x="1547640" y="187200"/>
            <a:ext cx="7417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47640" y="1600200"/>
            <a:ext cx="74170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Прямоугольник 2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это приспособление ил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908000" y="1351080"/>
            <a:ext cx="70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-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это приспособление или привыкание организма к новой обстановк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2050920" y="1341360"/>
            <a:ext cx="7093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ационные процессы охватывают три стороны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бенка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его родителе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едагог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124000" y="579600"/>
            <a:ext cx="7020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кий режим дн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тсутствие родных ряд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длительный контак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 сверстника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еобходимость слушаться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­няться незнакомом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росло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резкое уменьшение персона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ния именно к нему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собенности нов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о-предмет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е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1"/>
          <p:cNvSpPr/>
          <p:nvPr/>
        </p:nvSpPr>
        <p:spPr>
          <a:xfrm>
            <a:off x="2254320" y="260280"/>
            <a:ext cx="685800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ебенк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отрицательных эмоций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ежелание вступать в контак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утрата навыков самообслуживания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нарушение сн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аппетита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регрессия реч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изменения в двигательной актив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снижение иммунит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2"/>
          <p:cNvSpPr/>
          <p:nvPr/>
        </p:nvSpPr>
        <p:spPr>
          <a:xfrm>
            <a:off x="2286000" y="404640"/>
            <a:ext cx="6858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явления у родителей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мяти всплывают эпизоды личного опыта посещения детского сад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начинается «маркетинг в песочнице»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обостряется внимание к привычкам и навыкам ребенк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в общении с ребенком и друг с другом появляются слова «детский сад» и «воспитательниц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1"/>
          <p:cNvSpPr/>
          <p:nvPr/>
        </p:nvSpPr>
        <p:spPr>
          <a:xfrm>
            <a:off x="1979640" y="189000"/>
            <a:ext cx="716436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родителя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тревож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обостренное чувство жалости к ребенку и к себ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реобладание интереса ко всему, что связано с обеспечением жизнедеятель­нос­ти ребенк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ое внимание к педагогам 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29313d"/>
                </a:solidFill>
                <a:latin typeface="Calibri"/>
                <a:ea typeface="Times New Roman"/>
              </a:rPr>
              <a:t>многословност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1"/>
          <p:cNvSpPr/>
          <p:nvPr/>
        </p:nvSpPr>
        <p:spPr>
          <a:xfrm>
            <a:off x="2268360" y="1557360"/>
            <a:ext cx="688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Адаптирующегося педагога отличае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чувство внутреннего напряжения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повышенная эмоциональн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2340000" y="170028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Выделяют три степени адаптац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легкую (15-3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среднюю (30-60 дней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29313d"/>
                </a:solidFill>
                <a:latin typeface="Calibri"/>
                <a:ea typeface="Times New Roman"/>
              </a:rPr>
              <a:t>тяжелую (от 2 до 6 месяцев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09:46:29Z</dcterms:created>
  <dc:creator>Владислав</dc:creator>
  <dc:description>http://propowerpoint.ru - Бесплатные шаблоны для презентаций. Полезные советы и уроки PowerPoint .</dc:description>
  <dc:language>en-US</dc:language>
  <cp:lastModifiedBy>Любовь Смирнова</cp:lastModifiedBy>
  <dcterms:modified xsi:type="dcterms:W3CDTF">2023-10-12T11:15:35Z</dcterms:modified>
  <cp:revision>17</cp:revision>
  <dc:subject>Фонарик</dc:subject>
  <dc:title>Шаблон PowerPoint</dc:title>
</cp:coreProperties>
</file>