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338427-51F6-4762-9AC0-9BF08424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3B81B6-12E9-4030-88B0-E5966F98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466DB6-D99E-4445-AB4C-399EEEDB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BB0D79-6D82-45CF-8894-DB572C6E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AC4B79-FAD6-4367-BB2C-028BF142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92E22C-EF69-42AD-9288-BFB85E56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0C433B-55D3-4767-A62C-F3D902BF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6CAF6B-D74F-4A2B-B462-324DF75B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33B8B8-4EF4-4838-A8CB-DA2561AB71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423A9B-9583-4388-BFF8-7CF2DFD879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2EFF00-4A19-48A9-A28C-DE204D72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A5EE93-6BF4-4CDD-926C-CB45CDF1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A50284-CC87-42CF-A33A-0DDA6727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01890B-EA63-496E-A855-3001B8FD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DCA639-2790-49D3-A0DC-7858DF2F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93C403-DA40-41FE-97AE-E3FF812C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9B6FA0-89D7-4752-BCE9-1F90F9E6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A0672D-9CB4-458B-8753-0AAD3DD2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46E07A-3E41-4959-B32E-A5F76BDB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BC837E-286B-4284-AF40-0D3E832D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C746D8-B8EA-4BEE-93B0-B553B697B7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E394A-6B80-472D-B7B9-1C88B4F226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7546C-8EC5-4634-96FF-4086F37E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5B580-007E-4A68-93DA-AE86BD18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E82FC-9E6F-49C0-8B31-BCB4BB1C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67118-6797-47F9-8130-992F5C9C8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79C36-4037-4312-A28A-CC152091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17798-34F1-43FC-869E-1D189DF0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2AFDA-5FDF-4E87-B732-B1669B91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576D2-0E13-4EDF-A17D-5FF41B50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515F5-10E7-481D-93BB-9DC705B0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3A000-FACE-4258-B973-E865D545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07C02-2B2C-45E3-999A-E757E3DC5C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1A421-E26C-4D00-B9F5-FB283F44EB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7F424-B623-4A25-96DA-0E416C52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E78F2-110C-42B8-8169-C50F4FE7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57A23-4D33-448B-8FC2-3B32CB4A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543E4-6ED5-4E97-B64E-03FADA27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B534E-CCDE-442C-BAEF-7CFE8BAB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CF2B5-A6F0-44A5-9E23-7BEDCED0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2CFDE-3104-4ABD-960D-61ACD822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C2AA5-30C7-41F6-B7C9-94519871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05234-E484-4169-8594-96031356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84599-80DD-42D0-8A09-BB636120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E3002-F519-41D4-9578-8AD38694F1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A91BF-8647-46EB-B481-03C26430F0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DB577-A097-4C41-8EDE-7257525D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BC1DC-062B-4507-8D8F-813FE18F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6D18F-F632-49D7-875B-9FB596CE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FFC1E-9421-4E12-9B4D-B1E9A339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56A0B-0763-4C00-A1B0-B5E68325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34B5A-377F-4325-AF10-8CE2FAF0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A391D-8DD0-429F-9541-FA1A152B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7C9A4-0419-4663-B901-4344E0E0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57DD3-5D92-426F-8F58-97D46954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C319A-9C55-4068-8EC4-26BABB2F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4AE24-61C9-4FEB-8B60-9F9DC498D6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8BEB-62C2-4014-85B2-FD5CED1DB4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94D0-BFCF-4594-9E64-74DC1CD6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B0F4-F4D4-43BB-89FF-39BCD487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D718-01D9-4FDE-9D9E-CAAFB062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C57B-320E-4241-97E9-53800674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DA4F-6F84-4BCF-854C-450D189D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9D35-69BF-46D9-B3CC-53D89384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4F11-C5A8-4041-9D42-35FBDD08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1D86-5779-4D7B-AB3C-6B72399B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F8B9-EE28-4624-A34E-1558F349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7A40-0AAA-45AE-BB9F-C96A7982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EA41-A49E-4562-8E73-19CDCECBFF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BDE698-33E0-41E0-AF63-58C1946833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2A82B-4B20-40CE-B0AF-1CA0C653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05FF7-557E-4B93-BCA1-A5EE1F6D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CC8AB0-CD8A-4683-B7ED-23D9A814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CBB46E-F8BD-42D9-AB05-214FC4C0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733B50-EE1F-46D4-ADFF-89DDF67E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E33CAF-8916-4086-BF21-8B52634F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CFC32F-C8D1-4936-8F62-83B8396C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8999B-3AAF-480F-91C2-6E5ABB71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DE501-E02A-4F00-8113-94F8C53B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54C58-F8A7-4B02-9545-7BD97099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BC606-9783-441E-8BBA-B6476D6AE9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3D41AB-832C-4E4B-BAAD-0FCC87C752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D07F46-D346-41C3-81CA-35269F4B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3684E4-E90A-4416-BF6F-06E58EDF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AD45A7-6051-4C46-B295-68B8C380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C23D91-3BA7-4F66-927E-4E07F8D3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E74D94-6A56-4522-8F6D-E507CB1F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A71A6C-D345-4E3A-A7A2-E1131F30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1C5FD4-0BBE-4955-A990-A312AE1F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E3319D-C96E-497B-97E4-7B69D3A8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8FE614-3E99-4AC9-B3FB-E987FD20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785B6A-7AD1-4B99-BBDF-E34F7A67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65BF6E-47D3-4A10-96DB-9E7284382D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8CDA1-1053-4054-A8BC-0ECB44B7D3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406BF-EFF4-41D8-BBA8-EA7C77D0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5A909-48BD-4DCA-9BEB-5E0B3788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4016D-4506-4BB8-9AA5-ED869265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4C86F-388D-4A34-94C4-9BC43F91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3C68F-EEBC-4428-9638-BDF19D90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0E1EA-A38B-464B-9491-C21A013A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EB5D5-E14D-46C9-9025-1DE668A0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37E4E-B14A-47EF-8C91-3DBFF974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4F9B9-99D4-431B-898F-5E584F38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83C84-2971-4740-9E18-41F8CED3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825A3-69EE-4435-9A12-A606F0B7C2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80D8D8-A0D6-4F05-BA8C-AE986E2330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85AF96-7EBD-4AB3-8131-77D4B1B8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8C16E-2A88-4D16-A25F-9E73356B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2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03916A7-D925-49AF-9790-894267ED097C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2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1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A62696-4F1F-43A5-8FBB-5CBF20634237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2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6C7E3F-5BD3-4585-8AF2-6E4166C7671D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524107-5B30-4EA5-BB17-8B40122A7C95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2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938509-8410-4BED-8AE2-FA6AB0650AB4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2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0E7A87-185F-452C-9D3A-8713E154EE23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2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C54522B-AE09-4225-9627-6293133F7146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2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7D5052-C6FE-40AD-9AE2-6754674A27AA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2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1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83DC13-0AC4-441A-9C89-9F3ECBDDDD95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19240" y="1700280"/>
            <a:ext cx="79898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Адаптация ребенка к детскому саду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48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-психолог МБДОУ №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илова Любовь Андре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Прямоугольник 1"/>
          <p:cNvSpPr/>
          <p:nvPr/>
        </p:nvSpPr>
        <p:spPr>
          <a:xfrm>
            <a:off x="2124000" y="189000"/>
            <a:ext cx="702000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Концом периода адаптации принято считать момент, когда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9313d"/>
                </a:solidFill>
                <a:latin typeface="Times New Roman"/>
                <a:ea typeface="Times New Roman"/>
              </a:rPr>
              <a:t>• </a:t>
            </a: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при утреннем расставании ребенок не плачет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ребенок все охотнее взаимодействует с воспитателем в группе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малыш ориентируется в пространстве группы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ребенок вспоминает забытые навыки самообслуживания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восстановилась речь и нормальная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нормализуется сон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восстанавливается аппетит</a:t>
            </a:r>
            <a:r>
              <a:rPr b="1" lang="ru-RU" sz="1800" spc="-1" strike="noStrike">
                <a:solidFill>
                  <a:srgbClr val="29313d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124000" y="2565360"/>
            <a:ext cx="70200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972360" y="5084640"/>
            <a:ext cx="365436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2"/>
          <p:cNvSpPr/>
          <p:nvPr/>
        </p:nvSpPr>
        <p:spPr>
          <a:xfrm>
            <a:off x="1547640" y="187200"/>
            <a:ext cx="74170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1547640" y="1600200"/>
            <a:ext cx="741708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Прямоугольник 1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аптац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- это приспособление или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Прямоугольник 2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аптац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- это приспособление или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Прямоугольник 3"/>
          <p:cNvSpPr/>
          <p:nvPr/>
        </p:nvSpPr>
        <p:spPr>
          <a:xfrm>
            <a:off x="1908000" y="1351080"/>
            <a:ext cx="7056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Адаптация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 -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это приспособление или привыкание организма к новой обстановке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Прямоугольник 1"/>
          <p:cNvSpPr/>
          <p:nvPr/>
        </p:nvSpPr>
        <p:spPr>
          <a:xfrm>
            <a:off x="2050920" y="1341360"/>
            <a:ext cx="709308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Адаптационные процессы охватывают три стороны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ребенка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его родителей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педагогов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Прямоугольник 1"/>
          <p:cNvSpPr/>
          <p:nvPr/>
        </p:nvSpPr>
        <p:spPr>
          <a:xfrm>
            <a:off x="2124000" y="579600"/>
            <a:ext cx="7020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ткий режим дня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отсутствие родных рядом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длительный контакт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 сверстниками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необходимость слушаться 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чи­няться незнакомому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рослому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резкое уменьшение персонального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имания именно к нему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особенности нового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транственно-предметного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ружения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Прямоугольник 1"/>
          <p:cNvSpPr/>
          <p:nvPr/>
        </p:nvSpPr>
        <p:spPr>
          <a:xfrm>
            <a:off x="2254320" y="260280"/>
            <a:ext cx="6858000" cy="59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Адаптирующегося ребенка отличает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преобладание отрицательных эмоций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нежелание вступать в контакт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утрата навыков самообслуживания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нарушение сна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снижение аппетита;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регрессия речи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изменения в двигательной активност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снижение иммунитет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Прямоугольник 2"/>
          <p:cNvSpPr/>
          <p:nvPr/>
        </p:nvSpPr>
        <p:spPr>
          <a:xfrm>
            <a:off x="2286000" y="404640"/>
            <a:ext cx="685800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явления у родителей: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амяти всплывают эпизоды личного опыта посещения детского сада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начинается «маркетинг в песочнице»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обостряется внимание к привычкам и навыкам ребенка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в общении с ребенком и друг с другом появляются слова «детский сад» и «воспитательница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Прямоугольник 1"/>
          <p:cNvSpPr/>
          <p:nvPr/>
        </p:nvSpPr>
        <p:spPr>
          <a:xfrm>
            <a:off x="1979640" y="189000"/>
            <a:ext cx="7164360" cy="59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Адаптирующегося родителя отличает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повышенная тревожность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обостренное чувство жалости к ребенку и к себе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преобладание интереса ко всему, что связано с обеспечением жизнедеятель­нос­ти ребенка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повышенное внимание к педагогам 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многословность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Прямоугольник 1"/>
          <p:cNvSpPr/>
          <p:nvPr/>
        </p:nvSpPr>
        <p:spPr>
          <a:xfrm>
            <a:off x="2268360" y="1557360"/>
            <a:ext cx="6883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Адаптирующегося педагога отличает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чувство внутреннего напряжения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повышенная эмоциональност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Прямоугольник 2"/>
          <p:cNvSpPr/>
          <p:nvPr/>
        </p:nvSpPr>
        <p:spPr>
          <a:xfrm>
            <a:off x="2340000" y="1700280"/>
            <a:ext cx="633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Выделяют три степени адаптации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легкую (15-30 дней)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среднюю (30-60 дней)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тяжелую (от 2 до 6 месяцев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7T09:46:29Z</dcterms:created>
  <dc:creator>Владислав</dc:creator>
  <dc:description>http://propowerpoint.ru - Бесплатные шаблоны для презентаций. Полезные советы и уроки PowerPoint .</dc:description>
  <dc:language>en-US</dc:language>
  <cp:lastModifiedBy>Любовь Смирнова</cp:lastModifiedBy>
  <dcterms:modified xsi:type="dcterms:W3CDTF">2023-10-12T11:15:35Z</dcterms:modified>
  <cp:revision>17</cp:revision>
  <dc:subject>Фонарик</dc:subject>
  <dc:title>Шаблон PowerPoint</dc:title>
</cp:coreProperties>
</file>