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B8482-7326-4690-B5C0-A8FF36F1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7B94F-4136-4121-B4F8-50667E1B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E97BD-606B-440E-B5B7-DACFCC85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D70B8-1E30-476D-80C0-9D7A4D5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CFACC-D68C-4C78-AB80-ADBDFE20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1C4A1-3A63-4C39-995C-22E8D3C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2D431-9B4C-4C21-9A26-AD525494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5B4C3-BBF7-4BA2-9BCD-9BF7FE69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B037E-46A6-4D07-AD2C-AD6F9E604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6B5FDC-8A2E-4E78-AF84-7542E5958F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01451-C5F8-4E09-9010-5939B8D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1A04E6-5942-4B13-86BD-639AAB4B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94194-F131-4DC6-9628-AD8B14B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40CF8-6A96-4B07-B451-3794B45B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097BF-B5F0-4061-805A-74FF7CDA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6A75A-6631-42D3-A5A4-929CC76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B0960F-0A8B-4A59-A1DE-4EA1E863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D66D3-37DE-4107-A641-863E4914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79F7B-24C8-4606-9353-3A94F298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C4AA36-8877-4C3A-90F7-19C107B2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31DC4-9589-417C-B1AE-A19CB74C0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4A11-167F-42DB-B133-3886F345D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1F3F-934D-4461-ACA4-C8F9B7D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B169-BDF1-40A8-B597-0E951EF2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B7DA-CA0F-4A32-A65F-1090B62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C342-7027-48AB-AA10-58D77488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08882-4C6D-419C-ADB3-C255511E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B20E-01C0-417B-AA68-AA529185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5FA10-8110-4960-9059-A8BB26BA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81B1F-1287-4888-8E12-4161F1E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7365-1A0F-4CF1-94FE-C81D720A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ACA08-B1B1-4476-AB68-18892C7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C74A-3422-4620-B3DA-37840F3E7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5718-A4E0-475B-954A-546E91D35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660B-7FD9-44B0-AA7C-C403AD17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CC86-6417-493D-8DDA-A0235A5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650C-BE02-4554-9DE0-D027CFF6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D17A-7A05-490D-AE7A-B3014107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3A76-60FC-4588-8684-C0B35BC9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4999-52BA-448C-A2D1-A1E7BF3B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275A-9916-4498-BFE7-535AF449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7B77-6BCC-4E42-B66B-DEADC343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56D6-D930-4DA2-AA9C-AB76763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C398-C99B-4684-824C-24A6EF0E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6F28-0186-4590-A399-CD69FC6399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08FB6-3023-457B-B778-D8FFF08CA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B2FFD-A2BA-4598-9155-523DDC5A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0AE79-2775-4BDA-8637-1F25C4A9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FBD1E-4FB5-4F58-810A-BD546619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11BED-5C81-499D-8989-7EE8EB5D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4A0B7-F438-4C74-8655-91C0E39A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23CE1-4AE6-4190-B38D-3144A79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EAA0A-2540-41C1-9221-822A6EAF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77FD2-69C1-4DDB-BC61-628A37A6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D8EEB-7FE6-4B92-B68C-350ECB14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FDF5E-EC56-4DDB-8181-E0590458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C5E2D-DB23-40E9-9A81-30C51520E0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8B99-70B3-4380-A1E2-CA4D18C412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EC77-B91D-46A7-AD1F-30F02412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5F5-C520-41A4-9469-1563CD03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DFBB-5E71-4AFA-B2DE-06749E75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4837-B433-4380-AF54-FEE3391E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FB7-EF01-44F0-A241-5D704BA3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DF7D-FE0D-45BD-9188-5196AB57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F940-D1B3-41B5-B446-B5C2DD9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A601-96BA-4EC9-8F62-21A51712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2AB6-7C94-44ED-B7F7-6D66AA44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4E1C-E0F0-4B16-967E-584E4EC1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0D51-986C-4135-82A7-9FC8B19BC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9B14F-4B42-45B8-900A-B752FD663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5B246-58E5-41B2-BB8E-4B95EB7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FA211-2A56-423A-8C1C-839E5D0B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38B51-80EA-4A85-9ABC-6D638114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A22BB-86BB-4944-9380-2D22C8AC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48C36-207F-4B6C-BAAC-27B9CA01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461ED-1C0C-4A09-BA9C-2024F39B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C21FA-30B8-4077-8523-7D5E5BC0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C4CB6-6651-45BB-9C6A-93905A8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03ED9-3DAB-494C-B854-E5DA66DC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BF5F6-2BB4-4B44-A2E4-9A92BB2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2EB88-9B31-4138-B5ED-EBBBBB852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2897D-C708-4272-93E7-6BF277AF52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F267A-C170-4450-BB4A-9E251C17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A3DFF-81BD-4158-85BA-27D7A79C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99EAD-7AC2-4320-A394-C66ACDD4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10E89-BEFC-400B-9799-BA38DFD7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E0290-5174-46D1-8F0E-C49F6A0A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3D2C7-7DBC-4CBD-80BB-11CBB672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103B4-EABD-4987-B4DE-D0DB3812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9FB27-EAD9-4EB8-B97C-C3BDE564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84615-90CA-4DFA-B893-3743D0E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169AF-0B7A-40DD-94D7-082DE98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C7A5D-1373-44FD-AB20-4A9A6C591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7B3DE-DB54-49B5-8374-136EF2864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A77E-65B7-47EA-AE58-3F711226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AE2A-73CE-4709-9063-C482B5A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F85A-0848-4EE2-BE33-ADD96F3C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699E-9341-4AF0-A913-B0380988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11D7-7927-42F2-8AC3-3FD20062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DE52-C733-456B-ADB1-98AF893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30EF9-A446-4CD5-A134-517A6C8B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1FBF-0CE9-4A6F-821B-1A541C0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12A8-808D-4132-BE69-75EDF95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91572-418A-40F4-9474-B9A7562E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11679-3041-481C-B5D9-920DA4DE36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3444D-821F-431D-AF3B-8B5EA9B59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40F77-05BA-4E5A-82A3-C56F8F2F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E6825-7D5F-4E89-B63C-9150EBB4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8D26EF-B031-46CC-A3EA-02433028F7B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CB0DE8-CF4B-404D-A0B2-31D5AB9FF2C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3A07DB-D1A0-40CE-B0AB-51046275608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B683FA-A3B9-4AED-ABB3-621DEFEAA32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4F07B5-F5FD-4028-91CC-758C199D52D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0BA8BD-E7D5-462D-930B-7678AFFF060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EF8BF9-84E0-42D1-ABCA-824EFD3FF35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74D65A-D72A-4826-8E52-4C82480AF8E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684973-84B2-4310-8D5D-98B8F75EBDE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19240" y="1700280"/>
            <a:ext cx="7989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даптация ребенка к детскому саду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-психолог МБДОУ №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илова Любовь Андр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2124000" y="189000"/>
            <a:ext cx="7020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Концом периода адаптации принято считать момент, когда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9313d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и утреннем расставании ребенок не плачет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ок все охотнее взаимодействует с воспитателем в групп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малыш ориентируется в пространстве групп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ок вспоминает забытые навыки самообслужив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восстановилась речь и нормальна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нормализуется сон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восстанавливается аппетит</a:t>
            </a:r>
            <a:r>
              <a:rPr b="1" lang="ru-RU" sz="1800" spc="-1" strike="noStrike">
                <a:solidFill>
                  <a:srgbClr val="29313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24000" y="2565360"/>
            <a:ext cx="70200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72360" y="5084640"/>
            <a:ext cx="36543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2"/>
          <p:cNvSpPr/>
          <p:nvPr/>
        </p:nvSpPr>
        <p:spPr>
          <a:xfrm>
            <a:off x="1547640" y="187200"/>
            <a:ext cx="7417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1547640" y="1600200"/>
            <a:ext cx="74170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это приспособление ил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Прямоугольник 2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это приспособление или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908000" y="1351080"/>
            <a:ext cx="705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 -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это приспособление или привыкание организма к новой обстановк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2050920" y="1341360"/>
            <a:ext cx="7093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ационные процессы охватывают три стороны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ка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его родителей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едагог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2124000" y="579600"/>
            <a:ext cx="7020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кий режим дн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тсутствие родных рядо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длительный контак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 сверстника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необходимость слушаться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­няться незнакомом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росло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резкое уменьшение персональ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ния именно к не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собенности нов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енно-предмет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ен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1"/>
          <p:cNvSpPr/>
          <p:nvPr/>
        </p:nvSpPr>
        <p:spPr>
          <a:xfrm>
            <a:off x="2254320" y="260280"/>
            <a:ext cx="685800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ребенка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еобладание отрицательных эмоций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нежелание вступать в контак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утрата навыков самообслуживания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нарушение сн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снижение аппетита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грессия реч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изменения в двигательной актив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снижение иммунит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2"/>
          <p:cNvSpPr/>
          <p:nvPr/>
        </p:nvSpPr>
        <p:spPr>
          <a:xfrm>
            <a:off x="2286000" y="404640"/>
            <a:ext cx="6858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явления у родителей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амяти всплывают эпизоды личного опыта посещения детского сад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начинается «маркетинг в песочнице»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бостряется внимание к привычкам и навыкам ребенк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в общении с ребенком и друг с другом появляются слова «детский сад» и «воспитательниц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1"/>
          <p:cNvSpPr/>
          <p:nvPr/>
        </p:nvSpPr>
        <p:spPr>
          <a:xfrm>
            <a:off x="1979640" y="189000"/>
            <a:ext cx="716436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родителя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ая тревожност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обостренное чувство жалости к ребенку и к себ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еобладание интереса ко всему, что связано с обеспечением жизнедеятель­нос­ти ребенк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ое внимание к педагогам 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многословност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1"/>
          <p:cNvSpPr/>
          <p:nvPr/>
        </p:nvSpPr>
        <p:spPr>
          <a:xfrm>
            <a:off x="2268360" y="1557360"/>
            <a:ext cx="688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педагога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чувство внутреннего напряжения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ая эмоциональнос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"/>
          <p:cNvSpPr/>
          <p:nvPr/>
        </p:nvSpPr>
        <p:spPr>
          <a:xfrm>
            <a:off x="2340000" y="1700280"/>
            <a:ext cx="63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Выделяют три степени адаптации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легкую (15-30 дней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среднюю (30-60 дней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тяжелую (от 2 до 6 месяцев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09:46:29Z</dcterms:created>
  <dc:creator>Владислав</dc:creator>
  <dc:description>http://propowerpoint.ru - Бесплатные шаблоны для презентаций. Полезные советы и уроки PowerPoint .</dc:description>
  <dc:language>en-US</dc:language>
  <cp:lastModifiedBy>Любовь Смирнова</cp:lastModifiedBy>
  <dcterms:modified xsi:type="dcterms:W3CDTF">2023-10-12T11:15:35Z</dcterms:modified>
  <cp:revision>17</cp:revision>
  <dc:subject>Фонарик</dc:subject>
  <dc:title>Шаблон PowerPoint</dc:title>
</cp:coreProperties>
</file>