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B7A-6C77-4745-AA08-6005CAFF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D77-44D9-4DEA-89C9-39614C86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CF4C-4521-49DB-AF0E-6C3C4BD2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39E-7A6E-4010-972C-192DF320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4269-D730-4C10-80A9-9B31B153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AC72-21FB-4655-887D-03778F6C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E850-C5ED-4D76-BE0E-C84A36F3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E443-3FE0-40AB-8094-AC05A0F3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AC51-9C10-4C1A-A7B5-0F71C3A4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3FF9-3504-44CE-A8B7-9A34AF80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FA63-B11C-4CC5-A557-515C1565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29D-2B80-4E5E-983C-6D28E3ED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5357-761F-43ED-B461-F332DBF8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8532-6519-49C6-A5DA-E3A3F769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33C9-FB43-4BFF-9B89-CD28001E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67AD-C1EA-4BFF-97B8-AEA30BCD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9F95-851F-48E5-B00C-A752AC11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F156-C48A-4889-BAFE-8AF89497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710-471C-441F-AEE5-12108C4D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2F98-BF9D-4FE8-88B3-AEF69DC8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7FFB-B7BD-4F49-898B-AF79EE83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05E-23FD-4265-B0C5-6E2AC101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BBED-A5FB-418A-9536-497CB6AC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C16-F6EC-4053-A68E-584F1CA5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914C-8514-462B-8371-E342EF3981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1904-89DC-4DC6-AFA7-CC0AFA4E44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62028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бщение педагогического опы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360" y="2565000"/>
            <a:ext cx="768492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Организация работы с текстом на уроках русского языка в 5-6 классах как способ формирования коммуникативно-речевых умений школьников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р опыт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урдина Е.В.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итель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рием работы с текстом-клиш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55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«Имя существительное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(отрывок из рассказа И.С. Тургенева «Муму»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атьяна, состоявшая, как мы сказали выше, в должности _______________ (впрочем, ей, как искусной и ученой __________________, поручалось одно тонкое белье), была женщина лет двадцати осьми, маленькая, худая, белокурая, с родинками на левой ___________. Родинки на левой ______________ почитаются на Руси худой приметой – предвещанием несчастной ________…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ния по тексту</a:t>
            </a:r>
            <a:br>
              <a:rPr sz="34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66280" y="1412640"/>
            <a:ext cx="8001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читайте текст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ознакомительны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тением. Из какого произведения этот отрывок и кто его автор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 чем в нем говорится? ( Какова его тема?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акова основная мысль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ставьте пропущенные существительные в текст в нужном падеже, используя слова для справок. Обоснуйте свой выбор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акие неизвестные слова вам встретились в тексте? Заглянем в словар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пределите склонение и падеж существительных в текс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равните свой текст с оригиналом. Дайте оценку своей рабо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ова для справок: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родня, щека, тело, деревня, прачка, молодость, жизн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ыво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организации работы с текстами на уроках русского языка в 5-6 классах мы чаще всего используем комплекс разных приемов, связанных с тремя видами чтения. Наиболее эффективную работу с текстами представляет комплексный анализ текст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6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Актуальность опыт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Цель образования стала соотноситься с формированием ключевых компетентностей. Одной из ключевых компетентностей является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оммуникативна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компетентность.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ктика показывает, что у учащихся коммуникативно-речевые умения слабо сформированы, поэтому актуальность данного опыта не оставляет сомнений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иды речевой деятельност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луш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Чт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Говор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исьм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Коммуникативно-речевые умения, связанные с чтением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е сосредоточить внимание на определенных вопросах со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видеть в процессе чтения то, что будет сказано дальш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ять ключевые фрагменты текс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членять основную мысль высказы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личать главное от второстепенн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улировать вопросы в процессе восприятия текс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лать выводы и обобщения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Функции чтени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знавательна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гулятивна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Ценностно-ориентированна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Виды чтен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зучающе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обеспечивает вдумчивое, глубокое понимание содержание текста и полный его охва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знакомитель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обеспечивает понимание основных идей абзаца и текста в целом, усвоение его содержания без специальной установки на последующее воспроизведени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мотров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обеспечивает получение общего представления о читаемом материал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емы, формирующие навыки изучающего чт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рием составления сводной таблицы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(фрагмент сценария урока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Используя материал учебника «Теория» и примеры из поэмы А.С. Пушкина «Руслан и Людмила» или собственные, составим таблицу «Части речи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Что для этого необходимо сделать? (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рочитать внимательно, выделить главное, занести основные элементы в таблиц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чтобы лучше запомнить теоретический материал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Части реч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66640" y="1752480"/>
          <a:ext cx="8001000" cy="447984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12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сти реч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про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обозначае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е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ществительно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то? Что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мет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лагательно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кой? Чей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знак предме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 т.д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иемы, формирующие навыки ознакомительного чте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 u="sng">
                <a:solidFill>
                  <a:srgbClr val="000000"/>
                </a:solidFill>
                <a:uFillTx/>
                <a:latin typeface="Verdana"/>
              </a:rPr>
              <a:t>Прием выделения ключевых слов в тексте</a:t>
            </a: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5 клас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Орёл и кошка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(1)3а деревней весело играла кошка со своими котятами. (2)Весеннее солнышко грело, и маленькая семья была очень счастлива…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Задание № 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читайте текст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ознакомительным чтение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выделяя маркером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ключевые слов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9T14:29:43Z</dcterms:created>
  <dc:creator>лена081180</dc:creator>
  <dc:description/>
  <dc:language>en-US</dc:language>
  <cp:lastModifiedBy>elena</cp:lastModifiedBy>
  <dcterms:modified xsi:type="dcterms:W3CDTF">2023-10-12T11:29:4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C21E966BD8D54959A48343A4A5C2314E_12</vt:lpwstr>
  </property>
  <property fmtid="{D5CDD505-2E9C-101B-9397-08002B2CF9AE}" pid="3" name="KSOProductBuildVer">
    <vt:lpwstr>1049-12.2.0.13215</vt:lpwstr>
  </property>
</Properties>
</file>