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579-57CF-4CF1-8583-33DA6DA5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D52-0574-492D-B655-83FB9501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6C7-7CDE-4C6E-B4B0-309DF804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601-7B70-4BC3-A95F-AFBF9205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280F-F077-4660-B971-C535EB4A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6AE2-3C24-4885-B9D0-A46642EB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0C56-37B9-4295-9043-927A143B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920D-A6A1-49A5-A612-A1801C89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D3BB-264C-43AD-8A9E-8A3ADCBF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4B32-F10B-456A-9AA3-8CC53B62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39BB-8A3D-49F1-A7CA-630C3E21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0E8-61F6-4BFB-AD11-4D9CD2D1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BCAC-4D9F-4A32-80E0-2B8C1D7D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9870-2095-427E-B083-1FAB59DC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BF51-5ADF-4B86-9A8F-517892F7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C398-A549-4FFC-9453-A1D23BDC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25DD-7030-4AB5-BD0D-3C4A878E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C23-450F-4E7D-B792-BE5DBB2C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F79-A09F-4E82-AD68-ED31EF72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C06-71A4-4630-9A17-AB9CC7BD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CBF-299E-4F28-B991-DB359C77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7DD-B9D8-4F30-AC09-25FC7B0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B2D-1D80-4CEE-9D69-2C0F69A9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F9B-5D8C-41A5-AD3A-B1A7D285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E335-61CC-4AD5-96C3-106A01DF55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F041-B4A2-47AB-87C5-8E1639E457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620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бщение педагогического опы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65000"/>
            <a:ext cx="768492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Организация работы с текстом на уроках русского языка в 5-6 классах как способ формирования коммуникативно-речевых умений школьников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 опыт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рдина Е.В.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ием работы с текстом-клиш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«Имя существительное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(отрывок из рассказа И.С. Тургенева «Муму»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тьяна, состоявшая, как мы сказали выше, в должности _______________ (впрочем, ей, как искусной и ученой __________________, поручалось одно тонкое белье), была женщина лет двадцати осьми, маленькая, худая, белокурая, с родинками на левой ___________. Родинки на левой ______________ почитаются на Руси худой приметой – предвещанием несчастной ________…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ния по тексту</a:t>
            </a:r>
            <a:br>
              <a:rPr sz="34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280" y="1412640"/>
            <a:ext cx="8001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читайте текст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ознакомительны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тением. Из какого произведения этот отрывок и кто его автор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 чем в нем говорится? ( Какова его тема?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кова основная мысль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ставьте пропущенные существительные в текст в нужном падеже, используя слова для справок. Обоснуйте свой выбо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кие неизвестные слова вам встретились в тексте? Заглянем в словар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пределите склонение и падеж существительных в текс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равните свой текст с оригиналом. Дайте оценку своей рабо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ова для справок: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родня, щека, тело, деревня, прачка, молодость, жизн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организации работы с текстами на уроках русского языка в 5-6 классах мы чаще всего используем комплекс разных приемов, связанных с тремя видами чтения. Наиболее эффективную работу с текстами представляет комплексный анализ текс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ктуальность опыт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ль образования стала соотноситься с формированием ключевых компетентностей. Одной из ключевых компетентностей являе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муникативна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омпетентность.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ка показывает, что у учащихся коммуникативно-речевые умения слабо сформированы, поэтому актуальность данного опыта не оставляет сомнений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иды речевой деятельност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луш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т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овор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исьм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оммуникативно-речевые умения, связанные с чтением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сосредоточить внимание на определенных вопросах со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видеть в процессе чтения то, что будет сказано дальш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ять ключевые фрагменты текс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членять основную мысль высказы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личать главное от второстепенн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улировать вопросы в процессе восприятия текс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лать выводы и обобщения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ункции чтени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знавательна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Ценностно-ориентированна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иды чте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зучаю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обеспечивает вдумчивое, глубокое понимание содержание текста и полный его охва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знакомитель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обеспечивает понимание основных идей абзаца и текста в целом, усвоение его содержания без специальной установки на последующее воспроизведе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мотров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обеспечивает получение общего представления о читаемом материал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емы, формирующие навыки изучающего чт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ием составления сводной таблицы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(фрагмент сценария урока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спользуя материал учебника «Теория» и примеры из поэмы А.С. Пушкина «Руслан и Людмила» или собственные, составим таблицу «Части речи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Что для этого необходимо сделать? (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очитать внимательно, выделить главное, занести основные элементы в таблиц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лучше запомнить теоретический материал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и реч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6640" y="1752480"/>
          <a:ext cx="8001000" cy="447984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12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и реч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пр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обознача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ществительно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то? Что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лагательно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кой? Чей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знак предме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емы, формирующие навыки ознакомительного чт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Verdana"/>
              </a:rPr>
              <a:t>Прием выделения ключевых слов в тексте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5 клас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Орёл и кошка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1)3а деревней весело играла кошка со своими котятами. (2)Весеннее солнышко грело, и маленькая семья была очень счастлива…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Задание № 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читайте текст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знакомительным чтение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выделяя маркером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лючевые сло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14:29:43Z</dcterms:created>
  <dc:creator>лена081180</dc:creator>
  <dc:description/>
  <dc:language>en-US</dc:language>
  <cp:lastModifiedBy>elena</cp:lastModifiedBy>
  <dcterms:modified xsi:type="dcterms:W3CDTF">2023-10-12T11:29:4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C21E966BD8D54959A48343A4A5C2314E_12</vt:lpwstr>
  </property>
  <property fmtid="{D5CDD505-2E9C-101B-9397-08002B2CF9AE}" pid="3" name="KSOProductBuildVer">
    <vt:lpwstr>1049-12.2.0.13215</vt:lpwstr>
  </property>
</Properties>
</file>