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291-957A-49B9-A870-BBA4E41E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60A-C7F0-42AE-87F6-FF8F13D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9CE-59F1-4619-8D0C-D63C2909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BCE-9DF1-4B46-B012-1BD0DB7A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735E-9529-4FC1-AC39-9EDDEDEB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A99C-9A60-46DE-9E70-D5436787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5345-D854-40EA-BC5B-5DF88AE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364-0CE5-4A05-905B-532EF98D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D37-2087-4E09-A102-1B6B44CF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2B8F-42B4-4D79-B0FB-6C82BEF1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FE1E-5FCC-4F2F-B21A-2506C440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6D4-4E6D-4A8E-88BB-0905C3E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23F-4496-4646-82F8-0F1DCD6C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2F93-5878-4D68-9E43-37461B0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71CC-CC0B-46DC-869E-A2B0681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62B1-D83F-433E-9926-BBBF99B7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1942-380A-4972-8B5D-BAAA141E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D1C-09D9-4626-A04B-977FBB1C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5B4-CB09-483A-8DA4-B9C738A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BF1-E8FC-4E48-80DE-3ADF04B2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127-5485-45DD-A54F-CB2C3C5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83D-AF03-48A0-BC83-7BBD446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1BB-F7F6-457C-A720-BB84F24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AAE-0A50-4B21-87F9-C16BCA9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768-075D-45D9-8277-B683BB370D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928-522E-44D3-B86B-7753804FC8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Опыт взаимодействия с родителя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 формировани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дошкольников представлени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 здоровом образе жизн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ТОГИ КВН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место заняли команды «Почемучка» и «Кузень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есто у команды «Капитош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место – команда «Берегин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ВСЕМ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ЦЕЛЬ </a:t>
            </a:r>
            <a:br>
              <a:rPr sz="28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танавливать тесную взаимосвязь родителей и воспитателей в воспитании  у детей навыков здорового образа жизни.</a:t>
            </a:r>
            <a:br>
              <a:rPr sz="28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Ориентировать семью на воспитание здорового реб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Помочь в освоении родителями основ личностно-ориентированной педагогики и психологии общения с детьми, обеспечивающее эмоциональное и психическое благополучие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Обеспечить тесное сотрудничество и единые требования дошкольного учреждения и семьи в вопросах здоровья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Формировать у родителей теоретические знания, закрепить навыки и выработать потребности в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Повысить интерес родителей к деятельности дошкольного учреждения и жизни ребенка в н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а проведения: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В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DSC03594"/>
          <p:cNvPicPr/>
          <p:nvPr/>
        </p:nvPicPr>
        <p:blipFill>
          <a:blip r:embed="rId1"/>
          <a:stretch/>
        </p:blipFill>
        <p:spPr>
          <a:xfrm>
            <a:off x="228600" y="152280"/>
            <a:ext cx="3606840" cy="2705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Копия DSC03593"/>
          <p:cNvPicPr/>
          <p:nvPr/>
        </p:nvPicPr>
        <p:blipFill>
          <a:blip r:embed="rId2"/>
          <a:stretch/>
        </p:blipFill>
        <p:spPr>
          <a:xfrm>
            <a:off x="3505320" y="3505320"/>
            <a:ext cx="198108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SC03628"/>
          <p:cNvPicPr/>
          <p:nvPr/>
        </p:nvPicPr>
        <p:blipFill>
          <a:blip r:embed="rId3"/>
          <a:stretch/>
        </p:blipFill>
        <p:spPr>
          <a:xfrm>
            <a:off x="4724280" y="228600"/>
            <a:ext cx="3505320" cy="271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SC03762"/>
          <p:cNvPicPr/>
          <p:nvPr/>
        </p:nvPicPr>
        <p:blipFill>
          <a:blip r:embed="rId4"/>
          <a:stretch/>
        </p:blipFill>
        <p:spPr>
          <a:xfrm>
            <a:off x="380880" y="3657600"/>
            <a:ext cx="16891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DSC03639"/>
          <p:cNvPicPr/>
          <p:nvPr/>
        </p:nvPicPr>
        <p:blipFill>
          <a:blip r:embed="rId5"/>
          <a:stretch/>
        </p:blipFill>
        <p:spPr>
          <a:xfrm>
            <a:off x="6477120" y="3505320"/>
            <a:ext cx="227952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2"/>
          <p:cNvSpPr/>
          <p:nvPr/>
        </p:nvSpPr>
        <p:spPr>
          <a:xfrm>
            <a:off x="0" y="2666880"/>
            <a:ext cx="4419720" cy="914400"/>
          </a:xfrm>
          <a:prstGeom prst="wedgeRoundRectCallout">
            <a:avLst>
              <a:gd name="adj1" fmla="val -29740"/>
              <a:gd name="adj2" fmla="val 30037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Жюри КВН: Зав ДОУ №41 В.А. Жаркова, зав. ДОУ №17 Е.Ю. Коробейникова, зам.зав. С.А. Паркачева, представитель от родителей ДОУ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В. Скурихи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3"/>
          <p:cNvSpPr/>
          <p:nvPr/>
        </p:nvSpPr>
        <p:spPr>
          <a:xfrm rot="10800000">
            <a:off x="4876920" y="2895120"/>
            <a:ext cx="3504960" cy="533520"/>
          </a:xfrm>
          <a:prstGeom prst="wedgeRoundRectCallout">
            <a:avLst>
              <a:gd name="adj1" fmla="val -23550"/>
              <a:gd name="adj2" fmla="val 86606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болельщи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4"/>
          <p:cNvSpPr/>
          <p:nvPr/>
        </p:nvSpPr>
        <p:spPr>
          <a:xfrm rot="10800000">
            <a:off x="0" y="6324480"/>
            <a:ext cx="2666880" cy="533520"/>
          </a:xfrm>
          <a:prstGeom prst="wedgeRoundRectCallout">
            <a:avLst>
              <a:gd name="adj1" fmla="val -18990"/>
              <a:gd name="adj2" fmla="val 108629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едущий – Е.Д. Шмыг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5"/>
          <p:cNvSpPr/>
          <p:nvPr/>
        </p:nvSpPr>
        <p:spPr>
          <a:xfrm rot="10800000">
            <a:off x="3123720" y="6324480"/>
            <a:ext cx="2667240" cy="533520"/>
          </a:xfrm>
          <a:prstGeom prst="wedgeRoundRectCallout">
            <a:avLst>
              <a:gd name="adj1" fmla="val -12620"/>
              <a:gd name="adj2" fmla="val 9375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вукорежиссер – Л.И. Харламо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6"/>
          <p:cNvSpPr/>
          <p:nvPr/>
        </p:nvSpPr>
        <p:spPr>
          <a:xfrm rot="10800000">
            <a:off x="6172200" y="6324480"/>
            <a:ext cx="2666880" cy="533520"/>
          </a:xfrm>
          <a:prstGeom prst="wedgeRoundRectCallout">
            <a:avLst>
              <a:gd name="adj1" fmla="val -12620"/>
              <a:gd name="adj2" fmla="val 9375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сс-секретарь – З.В. Токтохое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SC03600"/>
          <p:cNvPicPr/>
          <p:nvPr/>
        </p:nvPicPr>
        <p:blipFill>
          <a:blip r:embed="rId1"/>
          <a:stretch/>
        </p:blipFill>
        <p:spPr>
          <a:xfrm rot="21232200">
            <a:off x="304560" y="8380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SC03608"/>
          <p:cNvPicPr/>
          <p:nvPr/>
        </p:nvPicPr>
        <p:blipFill>
          <a:blip r:embed="rId2"/>
          <a:stretch/>
        </p:blipFill>
        <p:spPr>
          <a:xfrm rot="516600">
            <a:off x="4952880" y="990360"/>
            <a:ext cx="3530880" cy="264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03620"/>
          <p:cNvPicPr/>
          <p:nvPr/>
        </p:nvPicPr>
        <p:blipFill>
          <a:blip r:embed="rId3"/>
          <a:stretch/>
        </p:blipFill>
        <p:spPr>
          <a:xfrm>
            <a:off x="304920" y="3886200"/>
            <a:ext cx="3022560" cy="2759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риветствие команд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9" descr="DSC03622"/>
          <p:cNvPicPr/>
          <p:nvPr/>
        </p:nvPicPr>
        <p:blipFill>
          <a:blip r:embed="rId4"/>
          <a:stretch/>
        </p:blipFill>
        <p:spPr>
          <a:xfrm rot="417000">
            <a:off x="5334120" y="39625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0"/>
          <p:cNvSpPr/>
          <p:nvPr/>
        </p:nvSpPr>
        <p:spPr>
          <a:xfrm rot="10594200">
            <a:off x="914400" y="3505320"/>
            <a:ext cx="2666880" cy="304560"/>
          </a:xfrm>
          <a:prstGeom prst="wedgeRoundRectCallout">
            <a:avLst>
              <a:gd name="adj1" fmla="val -38356"/>
              <a:gd name="adj2" fmla="val 13962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БЕРЕГИНЯ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 rot="11059200">
            <a:off x="4266720" y="3429000"/>
            <a:ext cx="2667240" cy="380880"/>
          </a:xfrm>
          <a:prstGeom prst="wedgeRoundRectCallout">
            <a:avLst>
              <a:gd name="adj1" fmla="val -33157"/>
              <a:gd name="adj2" fmla="val 112912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КАПИТОШ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 rot="10800000">
            <a:off x="685800" y="6552720"/>
            <a:ext cx="2666880" cy="304920"/>
          </a:xfrm>
          <a:prstGeom prst="wedgeRoundRectCallout">
            <a:avLst>
              <a:gd name="adj1" fmla="val -43513"/>
              <a:gd name="adj2" fmla="val 123958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ПОЧЕМУЧ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 rot="10800000">
            <a:off x="3657600" y="6552720"/>
            <a:ext cx="2666880" cy="304920"/>
          </a:xfrm>
          <a:prstGeom prst="wedgeRoundRectCallout">
            <a:avLst>
              <a:gd name="adj1" fmla="val -48157"/>
              <a:gd name="adj2" fmla="val 167703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КУЗЕНЬ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абота в команда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Picture 5" descr="DSC03635"/>
          <p:cNvPicPr/>
          <p:nvPr/>
        </p:nvPicPr>
        <p:blipFill>
          <a:blip r:embed="rId1"/>
          <a:stretch/>
        </p:blipFill>
        <p:spPr>
          <a:xfrm>
            <a:off x="304920" y="1219320"/>
            <a:ext cx="2946240" cy="24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DSC03634"/>
          <p:cNvPicPr/>
          <p:nvPr/>
        </p:nvPicPr>
        <p:blipFill>
          <a:blip r:embed="rId2"/>
          <a:stretch/>
        </p:blipFill>
        <p:spPr>
          <a:xfrm>
            <a:off x="4800600" y="1219320"/>
            <a:ext cx="3225960" cy="241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DSC03631"/>
          <p:cNvPicPr/>
          <p:nvPr/>
        </p:nvPicPr>
        <p:blipFill>
          <a:blip r:embed="rId3"/>
          <a:stretch/>
        </p:blipFill>
        <p:spPr>
          <a:xfrm>
            <a:off x="228600" y="40384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DSC03632"/>
          <p:cNvPicPr/>
          <p:nvPr/>
        </p:nvPicPr>
        <p:blipFill>
          <a:blip r:embed="rId4"/>
          <a:stretch/>
        </p:blipFill>
        <p:spPr>
          <a:xfrm>
            <a:off x="4800600" y="4038480"/>
            <a:ext cx="35305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Picture 5" descr="DSC03658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DSC03668"/>
          <p:cNvPicPr/>
          <p:nvPr/>
        </p:nvPicPr>
        <p:blipFill>
          <a:blip r:embed="rId2"/>
          <a:stretch/>
        </p:blipFill>
        <p:spPr>
          <a:xfrm>
            <a:off x="5029200" y="121932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DSC03741"/>
          <p:cNvPicPr/>
          <p:nvPr/>
        </p:nvPicPr>
        <p:blipFill>
          <a:blip r:embed="rId3"/>
          <a:stretch/>
        </p:blipFill>
        <p:spPr>
          <a:xfrm>
            <a:off x="4876920" y="38862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SC03683"/>
          <p:cNvPicPr/>
          <p:nvPr/>
        </p:nvPicPr>
        <p:blipFill>
          <a:blip r:embed="rId4"/>
          <a:stretch/>
        </p:blipFill>
        <p:spPr>
          <a:xfrm>
            <a:off x="457200" y="3657600"/>
            <a:ext cx="3200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Ы -за здоровый образ жиз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Picture 4" descr="DSC03742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SC03698"/>
          <p:cNvPicPr/>
          <p:nvPr/>
        </p:nvPicPr>
        <p:blipFill>
          <a:blip r:embed="rId2"/>
          <a:stretch/>
        </p:blipFill>
        <p:spPr>
          <a:xfrm>
            <a:off x="4648320" y="137160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SC03751"/>
          <p:cNvPicPr/>
          <p:nvPr/>
        </p:nvPicPr>
        <p:blipFill>
          <a:blip r:embed="rId3"/>
          <a:stretch/>
        </p:blipFill>
        <p:spPr>
          <a:xfrm>
            <a:off x="3124080" y="432432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тервью для Т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Picture 5" descr="DSC03754"/>
          <p:cNvPicPr/>
          <p:nvPr/>
        </p:nvPicPr>
        <p:blipFill>
          <a:blip r:embed="rId1"/>
          <a:stretch/>
        </p:blipFill>
        <p:spPr>
          <a:xfrm>
            <a:off x="4952880" y="2666880"/>
            <a:ext cx="3748320" cy="4000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SC03769"/>
          <p:cNvPicPr/>
          <p:nvPr/>
        </p:nvPicPr>
        <p:blipFill>
          <a:blip r:embed="rId2"/>
          <a:stretch/>
        </p:blipFill>
        <p:spPr>
          <a:xfrm>
            <a:off x="304920" y="838080"/>
            <a:ext cx="3962160" cy="281952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7"/>
          <p:cNvSpPr/>
          <p:nvPr/>
        </p:nvSpPr>
        <p:spPr>
          <a:xfrm rot="10800000">
            <a:off x="837720" y="3885840"/>
            <a:ext cx="2667240" cy="685800"/>
          </a:xfrm>
          <a:prstGeom prst="wedgeRoundRectCallout">
            <a:avLst>
              <a:gd name="adj1" fmla="val -12620"/>
              <a:gd name="adj2" fmla="val 84023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питан команы «ПОЧЕМУЧКА» Яна Леонидовна Семено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8"/>
          <p:cNvSpPr/>
          <p:nvPr/>
        </p:nvSpPr>
        <p:spPr>
          <a:xfrm rot="10800000">
            <a:off x="2286000" y="5943240"/>
            <a:ext cx="2666880" cy="762120"/>
          </a:xfrm>
          <a:prstGeom prst="wedgeRoundRectCallout">
            <a:avLst>
              <a:gd name="adj1" fmla="val -49111"/>
              <a:gd name="adj2" fmla="val 62495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питан команды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КУЗЕНЬКА» Александр Сергеевич Егор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отография на памя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2" name="Picture 7" descr="DSC03777"/>
          <p:cNvPicPr/>
          <p:nvPr/>
        </p:nvPicPr>
        <p:blipFill>
          <a:blip r:embed="rId1"/>
          <a:stretch/>
        </p:blipFill>
        <p:spPr>
          <a:xfrm>
            <a:off x="2514600" y="1676520"/>
            <a:ext cx="6172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23-10-11T23:54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