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835-38CE-49BD-A59D-846DC2F4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05F-71E2-4D2E-A995-F81AB18B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CCC-26C5-482C-8481-41D78D9E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3D7-3DCD-4449-B3E6-AC15EE52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5A84-08D3-4C09-BA8C-AAE83111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14E1-DBE3-4796-84DB-DDC3887B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CDA4-0F18-4CC1-9137-4255FEA9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E6D7-93EC-4402-BD43-19FBFEAF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563C-3500-49E5-8718-E59E0547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A03B-B51F-4F80-8CBF-F13A899D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689B-B4FC-4C48-96BE-CFDC88FF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A13-DDFF-4F62-A977-A92E1B7E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A6AF-56BD-4C8D-9E79-553874AD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B8FE-140D-4FF6-801B-888549E6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8846-D407-4791-BB4F-00845484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D294-29FB-4F11-BC73-C0CAC810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FA30-BB65-420A-9F9E-97BFEA80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96D-FC1B-4559-998D-E8E19307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00E-D19D-43C4-AC4B-32F55333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66D-C952-4AF1-B954-630B0D43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28C-3F8D-4296-B9B5-EAC0C0B4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594-AA2E-4C1C-ABA4-DF963064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8FF-2A00-4F36-9DF5-C6139074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7BE-1CF8-4BBB-903E-576AD09C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A72D-68DD-42A1-B67E-661094AE67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8B77-D9EA-4CB0-8801-708C33A5AE0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Опыт взаимодействия с родителям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 формированию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 дошкольников представлени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 здоровом образе жизн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ТОГИ КВН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место заняли команды «Почемучка» и «Кузеньк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место у команды «Капитошк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место – команда «Берегиня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БО ВСЕМ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0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ЦЕЛЬ </a:t>
            </a:r>
            <a:br>
              <a:rPr sz="28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Устанавливать тесную взаимосвязь родителей и воспитателей в воспитании  у детей навыков здорового образа жизни.</a:t>
            </a:r>
            <a:br>
              <a:rPr sz="28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ДАЧ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Ориентировать семью на воспитание здорового ребен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 Помочь в освоении родителями основ личностно-ориентированной педагогики и психологии общения с детьми, обеспечивающее эмоциональное и психическое благополучие дет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 Обеспечить тесное сотрудничество и единые требования дошкольного учреждения и семьи в вопросах здоровья дет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 Формировать у родителей теоретические знания, закрепить навыки и выработать потребности в здоровом образе жизн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 Повысить интерес родителей к деятельности дошкольного учреждения и жизни ребенка в н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орма проведения: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КВ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DSC03594"/>
          <p:cNvPicPr/>
          <p:nvPr/>
        </p:nvPicPr>
        <p:blipFill>
          <a:blip r:embed="rId1"/>
          <a:stretch/>
        </p:blipFill>
        <p:spPr>
          <a:xfrm>
            <a:off x="228600" y="152280"/>
            <a:ext cx="3606840" cy="2705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Копия DSC03593"/>
          <p:cNvPicPr/>
          <p:nvPr/>
        </p:nvPicPr>
        <p:blipFill>
          <a:blip r:embed="rId2"/>
          <a:stretch/>
        </p:blipFill>
        <p:spPr>
          <a:xfrm>
            <a:off x="3505320" y="3505320"/>
            <a:ext cx="1981080" cy="274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SC03628"/>
          <p:cNvPicPr/>
          <p:nvPr/>
        </p:nvPicPr>
        <p:blipFill>
          <a:blip r:embed="rId3"/>
          <a:stretch/>
        </p:blipFill>
        <p:spPr>
          <a:xfrm>
            <a:off x="4724280" y="228600"/>
            <a:ext cx="3505320" cy="2712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DSC03762"/>
          <p:cNvPicPr/>
          <p:nvPr/>
        </p:nvPicPr>
        <p:blipFill>
          <a:blip r:embed="rId4"/>
          <a:stretch/>
        </p:blipFill>
        <p:spPr>
          <a:xfrm>
            <a:off x="380880" y="3657600"/>
            <a:ext cx="1689120" cy="274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DSC03639"/>
          <p:cNvPicPr/>
          <p:nvPr/>
        </p:nvPicPr>
        <p:blipFill>
          <a:blip r:embed="rId5"/>
          <a:stretch/>
        </p:blipFill>
        <p:spPr>
          <a:xfrm>
            <a:off x="6477120" y="3505320"/>
            <a:ext cx="2279520" cy="28954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2"/>
          <p:cNvSpPr/>
          <p:nvPr/>
        </p:nvSpPr>
        <p:spPr>
          <a:xfrm>
            <a:off x="0" y="2666880"/>
            <a:ext cx="4419720" cy="914400"/>
          </a:xfrm>
          <a:prstGeom prst="wedgeRoundRectCallout">
            <a:avLst>
              <a:gd name="adj1" fmla="val -29740"/>
              <a:gd name="adj2" fmla="val 30037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Жюри КВН: Зав ДОУ №41 В.А. Жаркова, зав. ДОУ №17 Е.Ю. Коробейникова, зам.зав. С.А. Паркачева, представитель от родителей ДОУ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.В. Скурихин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13"/>
          <p:cNvSpPr/>
          <p:nvPr/>
        </p:nvSpPr>
        <p:spPr>
          <a:xfrm rot="10800000">
            <a:off x="4876920" y="2895120"/>
            <a:ext cx="3504960" cy="533520"/>
          </a:xfrm>
          <a:prstGeom prst="wedgeRoundRectCallout">
            <a:avLst>
              <a:gd name="adj1" fmla="val -23550"/>
              <a:gd name="adj2" fmla="val 86606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манда болельщик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14"/>
          <p:cNvSpPr/>
          <p:nvPr/>
        </p:nvSpPr>
        <p:spPr>
          <a:xfrm rot="10800000">
            <a:off x="0" y="6324480"/>
            <a:ext cx="2666880" cy="533520"/>
          </a:xfrm>
          <a:prstGeom prst="wedgeRoundRectCallout">
            <a:avLst>
              <a:gd name="adj1" fmla="val -18990"/>
              <a:gd name="adj2" fmla="val 108629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едущий – Е.Д. Шмыг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15"/>
          <p:cNvSpPr/>
          <p:nvPr/>
        </p:nvSpPr>
        <p:spPr>
          <a:xfrm rot="10800000">
            <a:off x="3123720" y="6324480"/>
            <a:ext cx="2667240" cy="533520"/>
          </a:xfrm>
          <a:prstGeom prst="wedgeRoundRectCallout">
            <a:avLst>
              <a:gd name="adj1" fmla="val -12620"/>
              <a:gd name="adj2" fmla="val 93750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Звукорежиссер – Л.И. Харламов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16"/>
          <p:cNvSpPr/>
          <p:nvPr/>
        </p:nvSpPr>
        <p:spPr>
          <a:xfrm rot="10800000">
            <a:off x="6172200" y="6324480"/>
            <a:ext cx="2666880" cy="533520"/>
          </a:xfrm>
          <a:prstGeom prst="wedgeRoundRectCallout">
            <a:avLst>
              <a:gd name="adj1" fmla="val -12620"/>
              <a:gd name="adj2" fmla="val 93750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есс-секретарь – З.В. Токтохоев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DSC03600"/>
          <p:cNvPicPr/>
          <p:nvPr/>
        </p:nvPicPr>
        <p:blipFill>
          <a:blip r:embed="rId1"/>
          <a:stretch/>
        </p:blipFill>
        <p:spPr>
          <a:xfrm rot="21232200">
            <a:off x="304560" y="838080"/>
            <a:ext cx="3530520" cy="2648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DSC03608"/>
          <p:cNvPicPr/>
          <p:nvPr/>
        </p:nvPicPr>
        <p:blipFill>
          <a:blip r:embed="rId2"/>
          <a:stretch/>
        </p:blipFill>
        <p:spPr>
          <a:xfrm rot="516600">
            <a:off x="4952880" y="990360"/>
            <a:ext cx="3530880" cy="2647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DSC03620"/>
          <p:cNvPicPr/>
          <p:nvPr/>
        </p:nvPicPr>
        <p:blipFill>
          <a:blip r:embed="rId3"/>
          <a:stretch/>
        </p:blipFill>
        <p:spPr>
          <a:xfrm>
            <a:off x="304920" y="3886200"/>
            <a:ext cx="3022560" cy="2759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Приветствие команд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7" name="Picture 9" descr="DSC03622"/>
          <p:cNvPicPr/>
          <p:nvPr/>
        </p:nvPicPr>
        <p:blipFill>
          <a:blip r:embed="rId4"/>
          <a:stretch/>
        </p:blipFill>
        <p:spPr>
          <a:xfrm rot="417000">
            <a:off x="5334120" y="39625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0"/>
          <p:cNvSpPr/>
          <p:nvPr/>
        </p:nvSpPr>
        <p:spPr>
          <a:xfrm rot="10594200">
            <a:off x="914400" y="3505320"/>
            <a:ext cx="2666880" cy="304560"/>
          </a:xfrm>
          <a:prstGeom prst="wedgeRoundRectCallout">
            <a:avLst>
              <a:gd name="adj1" fmla="val -38356"/>
              <a:gd name="adj2" fmla="val 139620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МАНДА «БЕРЕГИНЯ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 rot="11059200">
            <a:off x="4266720" y="3429000"/>
            <a:ext cx="2667240" cy="380880"/>
          </a:xfrm>
          <a:prstGeom prst="wedgeRoundRectCallout">
            <a:avLst>
              <a:gd name="adj1" fmla="val -33157"/>
              <a:gd name="adj2" fmla="val 112912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МАНДА «КАПИТОШКА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 rot="10800000">
            <a:off x="685800" y="6552720"/>
            <a:ext cx="2666880" cy="304920"/>
          </a:xfrm>
          <a:prstGeom prst="wedgeRoundRectCallout">
            <a:avLst>
              <a:gd name="adj1" fmla="val -43513"/>
              <a:gd name="adj2" fmla="val 123958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МАНДА «ПОЧЕМУЧКА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 rot="10800000">
            <a:off x="3657600" y="6552720"/>
            <a:ext cx="2666880" cy="304920"/>
          </a:xfrm>
          <a:prstGeom prst="wedgeRoundRectCallout">
            <a:avLst>
              <a:gd name="adj1" fmla="val -48157"/>
              <a:gd name="adj2" fmla="val 167703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МАНДА «КУЗЕНЬКА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абота в команда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" name="Picture 5" descr="DSC03635"/>
          <p:cNvPicPr/>
          <p:nvPr/>
        </p:nvPicPr>
        <p:blipFill>
          <a:blip r:embed="rId1"/>
          <a:stretch/>
        </p:blipFill>
        <p:spPr>
          <a:xfrm>
            <a:off x="304920" y="1219320"/>
            <a:ext cx="2946240" cy="243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DSC03634"/>
          <p:cNvPicPr/>
          <p:nvPr/>
        </p:nvPicPr>
        <p:blipFill>
          <a:blip r:embed="rId2"/>
          <a:stretch/>
        </p:blipFill>
        <p:spPr>
          <a:xfrm>
            <a:off x="4800600" y="1219320"/>
            <a:ext cx="3225960" cy="2419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DSC03631"/>
          <p:cNvPicPr/>
          <p:nvPr/>
        </p:nvPicPr>
        <p:blipFill>
          <a:blip r:embed="rId3"/>
          <a:stretch/>
        </p:blipFill>
        <p:spPr>
          <a:xfrm>
            <a:off x="228600" y="4038480"/>
            <a:ext cx="3530520" cy="2648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DSC03632"/>
          <p:cNvPicPr/>
          <p:nvPr/>
        </p:nvPicPr>
        <p:blipFill>
          <a:blip r:embed="rId4"/>
          <a:stretch/>
        </p:blipFill>
        <p:spPr>
          <a:xfrm>
            <a:off x="4800600" y="4038480"/>
            <a:ext cx="35305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Picture 5" descr="DSC03658"/>
          <p:cNvPicPr/>
          <p:nvPr/>
        </p:nvPicPr>
        <p:blipFill>
          <a:blip r:embed="rId1"/>
          <a:stretch/>
        </p:blipFill>
        <p:spPr>
          <a:xfrm>
            <a:off x="457200" y="10666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DSC03668"/>
          <p:cNvPicPr/>
          <p:nvPr/>
        </p:nvPicPr>
        <p:blipFill>
          <a:blip r:embed="rId2"/>
          <a:stretch/>
        </p:blipFill>
        <p:spPr>
          <a:xfrm>
            <a:off x="5029200" y="1219320"/>
            <a:ext cx="2844720" cy="2133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DSC03741"/>
          <p:cNvPicPr/>
          <p:nvPr/>
        </p:nvPicPr>
        <p:blipFill>
          <a:blip r:embed="rId3"/>
          <a:stretch/>
        </p:blipFill>
        <p:spPr>
          <a:xfrm>
            <a:off x="4876920" y="3886200"/>
            <a:ext cx="3454200" cy="2590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DSC03683"/>
          <p:cNvPicPr/>
          <p:nvPr/>
        </p:nvPicPr>
        <p:blipFill>
          <a:blip r:embed="rId4"/>
          <a:stretch/>
        </p:blipFill>
        <p:spPr>
          <a:xfrm>
            <a:off x="457200" y="3657600"/>
            <a:ext cx="3200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МЫ -за здоровый образ жизн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3" name="Picture 4" descr="DSC03742"/>
          <p:cNvPicPr/>
          <p:nvPr/>
        </p:nvPicPr>
        <p:blipFill>
          <a:blip r:embed="rId1"/>
          <a:stretch/>
        </p:blipFill>
        <p:spPr>
          <a:xfrm>
            <a:off x="228600" y="1371600"/>
            <a:ext cx="4114800" cy="3124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SC03698"/>
          <p:cNvPicPr/>
          <p:nvPr/>
        </p:nvPicPr>
        <p:blipFill>
          <a:blip r:embed="rId2"/>
          <a:stretch/>
        </p:blipFill>
        <p:spPr>
          <a:xfrm>
            <a:off x="4648320" y="137160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DSC03751"/>
          <p:cNvPicPr/>
          <p:nvPr/>
        </p:nvPicPr>
        <p:blipFill>
          <a:blip r:embed="rId3"/>
          <a:stretch/>
        </p:blipFill>
        <p:spPr>
          <a:xfrm>
            <a:off x="3124080" y="4324320"/>
            <a:ext cx="3378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нтервью для Т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7" name="Picture 5" descr="DSC03754"/>
          <p:cNvPicPr/>
          <p:nvPr/>
        </p:nvPicPr>
        <p:blipFill>
          <a:blip r:embed="rId1"/>
          <a:stretch/>
        </p:blipFill>
        <p:spPr>
          <a:xfrm>
            <a:off x="4952880" y="2666880"/>
            <a:ext cx="3748320" cy="4000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DSC03769"/>
          <p:cNvPicPr/>
          <p:nvPr/>
        </p:nvPicPr>
        <p:blipFill>
          <a:blip r:embed="rId2"/>
          <a:stretch/>
        </p:blipFill>
        <p:spPr>
          <a:xfrm>
            <a:off x="304920" y="838080"/>
            <a:ext cx="3962160" cy="281952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7"/>
          <p:cNvSpPr/>
          <p:nvPr/>
        </p:nvSpPr>
        <p:spPr>
          <a:xfrm rot="10800000">
            <a:off x="837720" y="3885840"/>
            <a:ext cx="2667240" cy="685800"/>
          </a:xfrm>
          <a:prstGeom prst="wedgeRoundRectCallout">
            <a:avLst>
              <a:gd name="adj1" fmla="val -12620"/>
              <a:gd name="adj2" fmla="val 84023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апитан команы «ПОЧЕМУЧКА» Яна Леонидовна Семенов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AutoShape 8"/>
          <p:cNvSpPr/>
          <p:nvPr/>
        </p:nvSpPr>
        <p:spPr>
          <a:xfrm rot="10800000">
            <a:off x="2286000" y="5943240"/>
            <a:ext cx="2666880" cy="762120"/>
          </a:xfrm>
          <a:prstGeom prst="wedgeRoundRectCallout">
            <a:avLst>
              <a:gd name="adj1" fmla="val -49111"/>
              <a:gd name="adj2" fmla="val 62495"/>
              <a:gd name="adj3" fmla="val 1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апитан команды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«КУЗЕНЬКА» Александр Сергеевич Егор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Фотография на памят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2" name="Picture 7" descr="DSC03777"/>
          <p:cNvPicPr/>
          <p:nvPr/>
        </p:nvPicPr>
        <p:blipFill>
          <a:blip r:embed="rId1"/>
          <a:stretch/>
        </p:blipFill>
        <p:spPr>
          <a:xfrm>
            <a:off x="2514600" y="1676520"/>
            <a:ext cx="6172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23-10-11T23:54:2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