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01C9-0F12-4656-A95B-FA1C84FEBB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71A9-F6CF-418B-A7DA-DA2A4D954E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30EE-2078-4AF2-AD18-26B4CCC434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AF53-C446-408B-AFBE-F71BC471C4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EE2C-7AFD-46B0-8B42-FC9DC0CDE0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023A-A527-4E32-9F0D-3B1B124DF4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0448-91D5-4117-ABFE-0DF01AFB94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5582-B736-4177-BDAF-F04A1C8E50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4166-2462-4AF8-AD4F-15879C3198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4D3C-9BB5-4E9F-AAF4-68A8BC07E3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EA5A-23E9-4BEB-B117-50AAE6932E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6241-F503-4ED2-8F34-6C53D9E37C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B2B-E979-4DC9-AB5F-3542E1713D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EFA-706A-4D16-ABC6-ECDE894C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1B1-AB44-45F1-BC0B-31DB2E9A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E48-ACA7-4FDD-8305-30C19540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D53-81EB-4C43-9261-F213B19A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330-2456-436F-968A-E47919F0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55F-517D-43F3-ADDB-9D400BCD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0DA-0E3F-4192-8C7C-EA867648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6A9-1983-47FF-8AE4-3354B881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907-25DC-4F6D-AD1E-81044A3F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614-57C6-4042-8C23-D272A47F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031-2D5B-4895-A358-5A051541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12B-5AE6-4AB2-B0EE-88EEE5E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19EE-B017-48A1-8EC9-3F9AF81E2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91856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Экологическое воспитание детей через изобразительную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готовила: Кирченко Н.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. Доброе 202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68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уктив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:\Users\окгш1бю 1111 1\Desktop\5LWFA_-yIig.jpg"/>
          <p:cNvPicPr/>
          <p:nvPr/>
        </p:nvPicPr>
        <p:blipFill>
          <a:blip r:embed="rId2"/>
          <a:stretch/>
        </p:blipFill>
        <p:spPr>
          <a:xfrm>
            <a:off x="179280" y="1109520"/>
            <a:ext cx="3262320" cy="226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Users\окгш1бю 1111 1\Desktop\TVs4_Iv-IXA.jpg"/>
          <p:cNvPicPr/>
          <p:nvPr/>
        </p:nvPicPr>
        <p:blipFill>
          <a:blip r:embed="rId3"/>
          <a:stretch/>
        </p:blipFill>
        <p:spPr>
          <a:xfrm>
            <a:off x="5940360" y="1135080"/>
            <a:ext cx="3030480" cy="216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окгш1бю 1111 1\Desktop\Ej1KDpPEDME.jpg"/>
          <p:cNvPicPr/>
          <p:nvPr/>
        </p:nvPicPr>
        <p:blipFill>
          <a:blip r:embed="rId4"/>
          <a:stretch/>
        </p:blipFill>
        <p:spPr>
          <a:xfrm>
            <a:off x="3708360" y="1090440"/>
            <a:ext cx="1992240" cy="228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:\Users\окгш1бю 1111 1\Desktop\tLEmcaKGr0M.jpg"/>
          <p:cNvPicPr/>
          <p:nvPr/>
        </p:nvPicPr>
        <p:blipFill>
          <a:blip r:embed="rId5"/>
          <a:stretch/>
        </p:blipFill>
        <p:spPr>
          <a:xfrm>
            <a:off x="539640" y="3621240"/>
            <a:ext cx="3794400" cy="242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C:\Users\окгш1бю 1111 1\Desktop\dLsveRKJW30.jpg"/>
          <p:cNvPicPr/>
          <p:nvPr/>
        </p:nvPicPr>
        <p:blipFill>
          <a:blip r:embed="rId6"/>
          <a:stretch/>
        </p:blipFill>
        <p:spPr>
          <a:xfrm>
            <a:off x="5003640" y="3621240"/>
            <a:ext cx="3708720" cy="2422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им образом, в соприкосновении с природой у ребенка развивается наблюдательность, любознательность, формируется эстетическое восприятие окружающего мира. А вместе с этим формируются такие нравственные качества как: доброта, милосердие, любовь к природе. Итогом каждой темы моей работы являются выставки детского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:\Users\окгш1бю 1111 1\Desktop\RSpz1uKcbU0.jpg"/>
          <p:cNvPicPr/>
          <p:nvPr/>
        </p:nvPicPr>
        <p:blipFill>
          <a:blip r:embed="rId2"/>
          <a:stretch/>
        </p:blipFill>
        <p:spPr>
          <a:xfrm>
            <a:off x="1187280" y="3755880"/>
            <a:ext cx="3745080" cy="279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окгш1бю 1111 1\Desktop\0mKH7jNYOoA.jpg"/>
          <p:cNvPicPr/>
          <p:nvPr/>
        </p:nvPicPr>
        <p:blipFill>
          <a:blip r:embed="rId3"/>
          <a:stretch/>
        </p:blipFill>
        <p:spPr>
          <a:xfrm>
            <a:off x="6012000" y="3278160"/>
            <a:ext cx="244764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Users\окгш1бю 1111 1\Desktop\bfzlJ9dktqQ.jpg"/>
          <p:cNvPicPr/>
          <p:nvPr/>
        </p:nvPicPr>
        <p:blipFill>
          <a:blip r:embed="rId2"/>
          <a:stretch/>
        </p:blipFill>
        <p:spPr>
          <a:xfrm>
            <a:off x="539640" y="619200"/>
            <a:ext cx="3616560" cy="285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окгш1бю 1111 1\Desktop\uHueAJdHpNE.jpg"/>
          <p:cNvPicPr/>
          <p:nvPr/>
        </p:nvPicPr>
        <p:blipFill>
          <a:blip r:embed="rId3"/>
          <a:stretch/>
        </p:blipFill>
        <p:spPr>
          <a:xfrm>
            <a:off x="4389480" y="692280"/>
            <a:ext cx="412416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Users\окгш1бю 1111 1\Desktop\D0A2OyToJpg.jpg"/>
          <p:cNvPicPr/>
          <p:nvPr/>
        </p:nvPicPr>
        <p:blipFill>
          <a:blip r:embed="rId4"/>
          <a:stretch/>
        </p:blipFill>
        <p:spPr>
          <a:xfrm>
            <a:off x="512640" y="3747960"/>
            <a:ext cx="3699000" cy="246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Users\окгш1бю 1111 1\Desktop\Lmmc7I1cYKM.jpg"/>
          <p:cNvPicPr/>
          <p:nvPr/>
        </p:nvPicPr>
        <p:blipFill>
          <a:blip r:embed="rId5"/>
          <a:stretch/>
        </p:blipFill>
        <p:spPr>
          <a:xfrm>
            <a:off x="4657680" y="3255840"/>
            <a:ext cx="3370320" cy="2928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60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Мир, окружающий ребенка – это, прежде всего мир природы, с безграничным богатством явлений, с неисчерпаемой красотой. Здесь, в природе, вечный источник детского разу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. 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окгш1бю 1111 1\Desktop\JJwkd9lspsI.jpg"/>
          <p:cNvPicPr/>
          <p:nvPr/>
        </p:nvPicPr>
        <p:blipFill>
          <a:blip r:embed="rId2"/>
          <a:stretch/>
        </p:blipFill>
        <p:spPr>
          <a:xfrm>
            <a:off x="4356000" y="2637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00" y="333000"/>
            <a:ext cx="3971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рода, как самый лучший художник, воспитывает у своих зрителей подлинно художественный вкус, бережное отношение к природе. Воспитание творческого восприятия природы особенно ярко выражается в изобразительной деятельности, где ребенок получает возможность творить, создавать красивое в своих раб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Users\окгш1бю 1111 1\Desktop\r3bgjzFhmSU.jpg"/>
          <p:cNvPicPr/>
          <p:nvPr/>
        </p:nvPicPr>
        <p:blipFill>
          <a:blip r:embed="rId2"/>
          <a:stretch/>
        </p:blipFill>
        <p:spPr>
          <a:xfrm>
            <a:off x="468360" y="620640"/>
            <a:ext cx="4079880" cy="544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453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енно в период дошкольного детства происходит становление человеческой личности, формирование начал экологической культуры, которую можно выразить через продуктив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окгш1бю 1111 1\Desktop\ULjHJDjl3_A.jpg"/>
          <p:cNvPicPr/>
          <p:nvPr/>
        </p:nvPicPr>
        <p:blipFill>
          <a:blip r:embed="rId2"/>
          <a:stretch/>
        </p:blipFill>
        <p:spPr>
          <a:xfrm>
            <a:off x="4878360" y="692280"/>
            <a:ext cx="3745080" cy="264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окгш1бю 1111 1\Desktop\K6bRegdSCAk.jpg"/>
          <p:cNvPicPr/>
          <p:nvPr/>
        </p:nvPicPr>
        <p:blipFill>
          <a:blip r:embed="rId3"/>
          <a:stretch/>
        </p:blipFill>
        <p:spPr>
          <a:xfrm>
            <a:off x="4881600" y="3500280"/>
            <a:ext cx="3743280" cy="2799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елью моей работы  является - формирование детей дошкольного возраста осознанно – правильного отношения к природе и окружающим ее объек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Users\окгш1бю 1111 1\Desktop\n3BYbal569I.jpg"/>
          <p:cNvPicPr/>
          <p:nvPr/>
        </p:nvPicPr>
        <p:blipFill>
          <a:blip r:embed="rId2"/>
          <a:stretch/>
        </p:blipFill>
        <p:spPr>
          <a:xfrm>
            <a:off x="1116000" y="263700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окгш1бю 1111 1\Desktop\EZojcYqTl48.jpg"/>
          <p:cNvPicPr/>
          <p:nvPr/>
        </p:nvPicPr>
        <p:blipFill>
          <a:blip r:embed="rId3"/>
          <a:stretch/>
        </p:blipFill>
        <p:spPr>
          <a:xfrm>
            <a:off x="5494320" y="2075040"/>
            <a:ext cx="3025800" cy="4032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075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огащать детей знаниями о природе, её многообраз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звивать умение замечать прекрасное, любоваться и восторгаться объектами природы, оберегать её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ображать природу на листе бумаги , передавать её цвет, красо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звивать связную речь детей, обогащать и активизировать словарный запас, развивать диалогическую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Users\окгш1бю 1111 1\Desktop\lzXm2olSeBk.jpg"/>
          <p:cNvPicPr/>
          <p:nvPr/>
        </p:nvPicPr>
        <p:blipFill>
          <a:blip r:embed="rId2"/>
          <a:stretch/>
        </p:blipFill>
        <p:spPr>
          <a:xfrm>
            <a:off x="4435560" y="320040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окгш1бю 1111 1\Desktop\lKQ6NNjmccc.jpg"/>
          <p:cNvPicPr/>
          <p:nvPr/>
        </p:nvPicPr>
        <p:blipFill>
          <a:blip r:embed="rId3"/>
          <a:stretch/>
        </p:blipFill>
        <p:spPr>
          <a:xfrm>
            <a:off x="1476360" y="3181320"/>
            <a:ext cx="2400480" cy="321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воей работе применяю следующие 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глядны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блюдения за природой, живыми объектами, целевые прогулки, экскурсии, рассматри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ловесны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ение сказок, разбор ситуаций, обсуждение увиденного, бес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грово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идактические игры, сюжетно – ролевые, развле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ктически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сперименты, трудовая деятельность, продуктивная деятельность (рисование, аппликация, леп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Users\окгш1бю 1111 1\Desktop\n3BYbal569I.jpg"/>
          <p:cNvPicPr/>
          <p:nvPr/>
        </p:nvPicPr>
        <p:blipFill>
          <a:blip r:embed="rId2"/>
          <a:stretch/>
        </p:blipFill>
        <p:spPr>
          <a:xfrm>
            <a:off x="1042920" y="429264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окгш1бю 1111 1\Desktop\QJn-RAsKv7U.jpg"/>
          <p:cNvPicPr/>
          <p:nvPr/>
        </p:nvPicPr>
        <p:blipFill>
          <a:blip r:embed="rId3"/>
          <a:stretch/>
        </p:blipFill>
        <p:spPr>
          <a:xfrm>
            <a:off x="5651640" y="4317840"/>
            <a:ext cx="2233440" cy="22734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544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6" descr="C:\Users\окгш1бю 1111 1\Desktop\boincvivStw.jpg"/>
          <p:cNvPicPr/>
          <p:nvPr/>
        </p:nvPicPr>
        <p:blipFill>
          <a:blip r:embed="rId2"/>
          <a:stretch/>
        </p:blipFill>
        <p:spPr>
          <a:xfrm>
            <a:off x="3564000" y="1301760"/>
            <a:ext cx="3014640" cy="250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Users\окгш1бю 1111 1\Desktop\GhnRO9VGzoc.jpg"/>
          <p:cNvPicPr/>
          <p:nvPr/>
        </p:nvPicPr>
        <p:blipFill>
          <a:blip r:embed="rId3"/>
          <a:stretch/>
        </p:blipFill>
        <p:spPr>
          <a:xfrm>
            <a:off x="4809960" y="4002120"/>
            <a:ext cx="4183200" cy="2009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Users\окгш1бю 1111 1\Desktop\27Gc4Kd7WlA.jpg"/>
          <p:cNvPicPr/>
          <p:nvPr/>
        </p:nvPicPr>
        <p:blipFill>
          <a:blip r:embed="rId4"/>
          <a:stretch/>
        </p:blipFill>
        <p:spPr>
          <a:xfrm>
            <a:off x="468360" y="4002120"/>
            <a:ext cx="4182840" cy="200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C:\Users\окгш1бю 1111 1\Desktop\R0383zZwxvM.jpg"/>
          <p:cNvPicPr/>
          <p:nvPr/>
        </p:nvPicPr>
        <p:blipFill>
          <a:blip r:embed="rId5"/>
          <a:stretch/>
        </p:blipFill>
        <p:spPr>
          <a:xfrm>
            <a:off x="6746760" y="660240"/>
            <a:ext cx="2247840" cy="314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C:\Users\окгш1бю 1111 1\Desktop\CBoqe9iuf3U.jpg"/>
          <p:cNvPicPr/>
          <p:nvPr/>
        </p:nvPicPr>
        <p:blipFill>
          <a:blip r:embed="rId6"/>
          <a:stretch/>
        </p:blipFill>
        <p:spPr>
          <a:xfrm>
            <a:off x="82440" y="1301760"/>
            <a:ext cx="3337200" cy="250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спериментальная               деятельность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C:\Users\окгш1бю 1111 1\Desktop\ozP-94JOmXg.jpg"/>
          <p:cNvPicPr/>
          <p:nvPr/>
        </p:nvPicPr>
        <p:blipFill>
          <a:blip r:embed="rId2"/>
          <a:stretch/>
        </p:blipFill>
        <p:spPr>
          <a:xfrm>
            <a:off x="378000" y="1287360"/>
            <a:ext cx="2155680" cy="2886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Users\окгш1бю 1111 1\Desktop\LQN3fMIB4zo (1).jpg"/>
          <p:cNvPicPr/>
          <p:nvPr/>
        </p:nvPicPr>
        <p:blipFill>
          <a:blip r:embed="rId3"/>
          <a:stretch/>
        </p:blipFill>
        <p:spPr>
          <a:xfrm>
            <a:off x="5268960" y="3933720"/>
            <a:ext cx="326376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окгш1бю 1111 1\Desktop\Qz1p2FEJ3X8 (1).jpg"/>
          <p:cNvPicPr/>
          <p:nvPr/>
        </p:nvPicPr>
        <p:blipFill>
          <a:blip r:embed="rId4"/>
          <a:stretch/>
        </p:blipFill>
        <p:spPr>
          <a:xfrm>
            <a:off x="378000" y="4292640"/>
            <a:ext cx="4625640" cy="222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окгш1бю 1111 1\Desktop\KTOepZ4t33A.jpg"/>
          <p:cNvPicPr/>
          <p:nvPr/>
        </p:nvPicPr>
        <p:blipFill>
          <a:blip r:embed="rId5"/>
          <a:stretch/>
        </p:blipFill>
        <p:spPr>
          <a:xfrm>
            <a:off x="3146400" y="1293840"/>
            <a:ext cx="5004000" cy="2405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>Kirchenko</dc:creator>
  <dc:description/>
  <dc:language>en-US</dc:language>
  <cp:lastModifiedBy>окгш1бю 1111 1</cp:lastModifiedBy>
  <dcterms:modified xsi:type="dcterms:W3CDTF">2023-02-12T08:08:38Z</dcterms:modified>
  <cp:revision>99</cp:revision>
  <dc:subject/>
  <dc:title>Слайд 1</dc:title>
</cp:coreProperties>
</file>