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1B1E-0B68-4C59-853B-2DB98E326D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6EC0-58CA-4DC5-8D49-81E07B5973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B9BF-EA32-4749-AF0B-D93D756F84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AAE1-8F68-466F-ADB8-EE25B181BF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CA6-15E2-4B02-A1AB-0BC97BF20B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EBC3-1947-4F19-89C5-6CE0F60B57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7544-C9C9-4329-A450-30378D6925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D164-7211-4771-8DFA-8B5CAEABDE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74E1-5EC0-415E-948A-B536227DC7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CF5A-6DBA-4C81-A61B-E371EC1F82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A2E5-F00D-40E5-A701-BE81D7D171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574E-62F9-4A73-B801-479F2726E4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E80-1194-4F9A-B802-A1E7956457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B2C-2A5A-49DF-B2E3-006F9285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AC6-DFB3-41F5-A0B9-0E50F364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7C7-6C2D-4E12-902C-932B0D92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55B-B575-4193-A288-CBC836E9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EEB-AF61-48FD-A2A9-72B211AB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95B-ECEE-44A4-8461-E31B57C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37B-3E98-43F3-9A25-B2C2292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856-3B1F-4816-9E58-A256D28E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DC0-FFBC-483A-B07A-8E78E4B5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475-4E03-4F2B-A1EF-FB8D6C98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B2D-525F-46A4-A81B-B70D6D5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37A-1C90-4330-AA1D-A55A8E63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0552-3F91-4F91-A1D0-E5E173815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91856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Экологическое воспитание детей через изобразительную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готовила: Кирченко Н.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. Доброе 202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68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уктив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:\Users\окгш1бю 1111 1\Desktop\5LWFA_-yIig.jpg"/>
          <p:cNvPicPr/>
          <p:nvPr/>
        </p:nvPicPr>
        <p:blipFill>
          <a:blip r:embed="rId2"/>
          <a:stretch/>
        </p:blipFill>
        <p:spPr>
          <a:xfrm>
            <a:off x="179280" y="1109520"/>
            <a:ext cx="3262320" cy="226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окгш1бю 1111 1\Desktop\TVs4_Iv-IXA.jpg"/>
          <p:cNvPicPr/>
          <p:nvPr/>
        </p:nvPicPr>
        <p:blipFill>
          <a:blip r:embed="rId3"/>
          <a:stretch/>
        </p:blipFill>
        <p:spPr>
          <a:xfrm>
            <a:off x="5940360" y="1135080"/>
            <a:ext cx="3030480" cy="216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окгш1бю 1111 1\Desktop\Ej1KDpPEDME.jpg"/>
          <p:cNvPicPr/>
          <p:nvPr/>
        </p:nvPicPr>
        <p:blipFill>
          <a:blip r:embed="rId4"/>
          <a:stretch/>
        </p:blipFill>
        <p:spPr>
          <a:xfrm>
            <a:off x="3708360" y="1090440"/>
            <a:ext cx="1992240" cy="228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Users\окгш1бю 1111 1\Desktop\tLEmcaKGr0M.jpg"/>
          <p:cNvPicPr/>
          <p:nvPr/>
        </p:nvPicPr>
        <p:blipFill>
          <a:blip r:embed="rId5"/>
          <a:stretch/>
        </p:blipFill>
        <p:spPr>
          <a:xfrm>
            <a:off x="539640" y="3621240"/>
            <a:ext cx="3794400" cy="242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Users\окгш1бю 1111 1\Desktop\dLsveRKJW30.jpg"/>
          <p:cNvPicPr/>
          <p:nvPr/>
        </p:nvPicPr>
        <p:blipFill>
          <a:blip r:embed="rId6"/>
          <a:stretch/>
        </p:blipFill>
        <p:spPr>
          <a:xfrm>
            <a:off x="5003640" y="3621240"/>
            <a:ext cx="3708720" cy="2422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им образом, в соприкосновении с природой у ребенка развивается наблюдательность, любознательность, формируется эстетическое восприятие окружающего мира. А вместе с этим формируются такие нравственные качества как: доброта, милосердие, любовь к природе. Итогом каждой темы моей работы являются выставки детск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:\Users\окгш1бю 1111 1\Desktop\RSpz1uKcbU0.jpg"/>
          <p:cNvPicPr/>
          <p:nvPr/>
        </p:nvPicPr>
        <p:blipFill>
          <a:blip r:embed="rId2"/>
          <a:stretch/>
        </p:blipFill>
        <p:spPr>
          <a:xfrm>
            <a:off x="1187280" y="3755880"/>
            <a:ext cx="3745080" cy="279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окгш1бю 1111 1\Desktop\0mKH7jNYOoA.jpg"/>
          <p:cNvPicPr/>
          <p:nvPr/>
        </p:nvPicPr>
        <p:blipFill>
          <a:blip r:embed="rId3"/>
          <a:stretch/>
        </p:blipFill>
        <p:spPr>
          <a:xfrm>
            <a:off x="6012000" y="3278160"/>
            <a:ext cx="244764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окгш1бю 1111 1\Desktop\bfzlJ9dktqQ.jpg"/>
          <p:cNvPicPr/>
          <p:nvPr/>
        </p:nvPicPr>
        <p:blipFill>
          <a:blip r:embed="rId2"/>
          <a:stretch/>
        </p:blipFill>
        <p:spPr>
          <a:xfrm>
            <a:off x="539640" y="619200"/>
            <a:ext cx="3616560" cy="285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окгш1бю 1111 1\Desktop\uHueAJdHpNE.jpg"/>
          <p:cNvPicPr/>
          <p:nvPr/>
        </p:nvPicPr>
        <p:blipFill>
          <a:blip r:embed="rId3"/>
          <a:stretch/>
        </p:blipFill>
        <p:spPr>
          <a:xfrm>
            <a:off x="4389480" y="692280"/>
            <a:ext cx="412416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Users\окгш1бю 1111 1\Desktop\D0A2OyToJpg.jpg"/>
          <p:cNvPicPr/>
          <p:nvPr/>
        </p:nvPicPr>
        <p:blipFill>
          <a:blip r:embed="rId4"/>
          <a:stretch/>
        </p:blipFill>
        <p:spPr>
          <a:xfrm>
            <a:off x="512640" y="3747960"/>
            <a:ext cx="3699000" cy="246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Users\окгш1бю 1111 1\Desktop\Lmmc7I1cYKM.jpg"/>
          <p:cNvPicPr/>
          <p:nvPr/>
        </p:nvPicPr>
        <p:blipFill>
          <a:blip r:embed="rId5"/>
          <a:stretch/>
        </p:blipFill>
        <p:spPr>
          <a:xfrm>
            <a:off x="4657680" y="3255840"/>
            <a:ext cx="3370320" cy="2928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60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Мир, окружающий ребенка – это, прежде всего мир природы, с безграничным богатством явлений, с неисчерпаемой красотой. Здесь, в природе, вечный источник детского разу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. 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окгш1бю 1111 1\Desktop\JJwkd9lspsI.jpg"/>
          <p:cNvPicPr/>
          <p:nvPr/>
        </p:nvPicPr>
        <p:blipFill>
          <a:blip r:embed="rId2"/>
          <a:stretch/>
        </p:blipFill>
        <p:spPr>
          <a:xfrm>
            <a:off x="4356000" y="263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00" y="333000"/>
            <a:ext cx="3971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рода, как самый лучший художник, воспитывает у своих зрителей подлинно художественный вкус, бережное отношение к природе. Воспитание творческого восприятия природы особенно ярко выражается в изобразительной деятельности, где ребенок получает возможность творить, создавать красивое в своих раб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Users\окгш1бю 1111 1\Desktop\r3bgjzFhmSU.jpg"/>
          <p:cNvPicPr/>
          <p:nvPr/>
        </p:nvPicPr>
        <p:blipFill>
          <a:blip r:embed="rId2"/>
          <a:stretch/>
        </p:blipFill>
        <p:spPr>
          <a:xfrm>
            <a:off x="468360" y="620640"/>
            <a:ext cx="4079880" cy="544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нно в период дошкольного детства происходит становление человеческой личности, формирование начал экологической культуры, которую можно выразить через продуктив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окгш1бю 1111 1\Desktop\ULjHJDjl3_A.jpg"/>
          <p:cNvPicPr/>
          <p:nvPr/>
        </p:nvPicPr>
        <p:blipFill>
          <a:blip r:embed="rId2"/>
          <a:stretch/>
        </p:blipFill>
        <p:spPr>
          <a:xfrm>
            <a:off x="4878360" y="692280"/>
            <a:ext cx="3745080" cy="264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окгш1бю 1111 1\Desktop\K6bRegdSCAk.jpg"/>
          <p:cNvPicPr/>
          <p:nvPr/>
        </p:nvPicPr>
        <p:blipFill>
          <a:blip r:embed="rId3"/>
          <a:stretch/>
        </p:blipFill>
        <p:spPr>
          <a:xfrm>
            <a:off x="4881600" y="3500280"/>
            <a:ext cx="3743280" cy="2799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ю моей работы  является - формирование детей дошкольного возраста осознанно – правильного отношения к природе и окружающим ее объек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Users\окгш1бю 1111 1\Desktop\n3BYbal569I.jpg"/>
          <p:cNvPicPr/>
          <p:nvPr/>
        </p:nvPicPr>
        <p:blipFill>
          <a:blip r:embed="rId2"/>
          <a:stretch/>
        </p:blipFill>
        <p:spPr>
          <a:xfrm>
            <a:off x="1116000" y="263700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окгш1бю 1111 1\Desktop\EZojcYqTl48.jpg"/>
          <p:cNvPicPr/>
          <p:nvPr/>
        </p:nvPicPr>
        <p:blipFill>
          <a:blip r:embed="rId3"/>
          <a:stretch/>
        </p:blipFill>
        <p:spPr>
          <a:xfrm>
            <a:off x="5494320" y="2075040"/>
            <a:ext cx="3025800" cy="4032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075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огащать детей знаниями о природе, её многообраз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вивать умение замечать прекрасное, любоваться и восторгаться объектами природы, оберегать её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ображать природу на листе бумаги , передавать её цвет, красо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звивать связную речь детей, обогащать и активизировать словарный запас, развивать диалогическую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окгш1бю 1111 1\Desktop\lzXm2olSeBk.jpg"/>
          <p:cNvPicPr/>
          <p:nvPr/>
        </p:nvPicPr>
        <p:blipFill>
          <a:blip r:embed="rId2"/>
          <a:stretch/>
        </p:blipFill>
        <p:spPr>
          <a:xfrm>
            <a:off x="4435560" y="32004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окгш1бю 1111 1\Desktop\lKQ6NNjmccc.jpg"/>
          <p:cNvPicPr/>
          <p:nvPr/>
        </p:nvPicPr>
        <p:blipFill>
          <a:blip r:embed="rId3"/>
          <a:stretch/>
        </p:blipFill>
        <p:spPr>
          <a:xfrm>
            <a:off x="1476360" y="3181320"/>
            <a:ext cx="2400480" cy="321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воей работе применяю следующие 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глядны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блюдения за природой, живыми объектами, целевые прогулки, экскурсии, рассматри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овесны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ение сказок, разбор ситуаций, обсуждение увиденного, 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грово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идактические игры, сюжетно – ролевые, развл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ктический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ы, трудовая деятельность, продуктивная деятельность (рисование, аппликация, леп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окгш1бю 1111 1\Desktop\n3BYbal569I.jpg"/>
          <p:cNvPicPr/>
          <p:nvPr/>
        </p:nvPicPr>
        <p:blipFill>
          <a:blip r:embed="rId2"/>
          <a:stretch/>
        </p:blipFill>
        <p:spPr>
          <a:xfrm>
            <a:off x="1042920" y="4292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окгш1бю 1111 1\Desktop\QJn-RAsKv7U.jpg"/>
          <p:cNvPicPr/>
          <p:nvPr/>
        </p:nvPicPr>
        <p:blipFill>
          <a:blip r:embed="rId3"/>
          <a:stretch/>
        </p:blipFill>
        <p:spPr>
          <a:xfrm>
            <a:off x="5651640" y="4317840"/>
            <a:ext cx="2233440" cy="22734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44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6" descr="C:\Users\окгш1бю 1111 1\Desktop\boincvivStw.jpg"/>
          <p:cNvPicPr/>
          <p:nvPr/>
        </p:nvPicPr>
        <p:blipFill>
          <a:blip r:embed="rId2"/>
          <a:stretch/>
        </p:blipFill>
        <p:spPr>
          <a:xfrm>
            <a:off x="3564000" y="1301760"/>
            <a:ext cx="3014640" cy="250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Users\окгш1бю 1111 1\Desktop\GhnRO9VGzoc.jpg"/>
          <p:cNvPicPr/>
          <p:nvPr/>
        </p:nvPicPr>
        <p:blipFill>
          <a:blip r:embed="rId3"/>
          <a:stretch/>
        </p:blipFill>
        <p:spPr>
          <a:xfrm>
            <a:off x="4809960" y="4002120"/>
            <a:ext cx="4183200" cy="2009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Users\окгш1бю 1111 1\Desktop\27Gc4Kd7WlA.jpg"/>
          <p:cNvPicPr/>
          <p:nvPr/>
        </p:nvPicPr>
        <p:blipFill>
          <a:blip r:embed="rId4"/>
          <a:stretch/>
        </p:blipFill>
        <p:spPr>
          <a:xfrm>
            <a:off x="468360" y="4002120"/>
            <a:ext cx="4182840" cy="20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C:\Users\окгш1бю 1111 1\Desktop\R0383zZwxvM.jpg"/>
          <p:cNvPicPr/>
          <p:nvPr/>
        </p:nvPicPr>
        <p:blipFill>
          <a:blip r:embed="rId5"/>
          <a:stretch/>
        </p:blipFill>
        <p:spPr>
          <a:xfrm>
            <a:off x="6746760" y="660240"/>
            <a:ext cx="2247840" cy="314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C:\Users\окгш1бю 1111 1\Desktop\CBoqe9iuf3U.jpg"/>
          <p:cNvPicPr/>
          <p:nvPr/>
        </p:nvPicPr>
        <p:blipFill>
          <a:blip r:embed="rId6"/>
          <a:stretch/>
        </p:blipFill>
        <p:spPr>
          <a:xfrm>
            <a:off x="82440" y="1301760"/>
            <a:ext cx="3337200" cy="250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спериментальная               деятельность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C:\Users\окгш1бю 1111 1\Desktop\ozP-94JOmXg.jpg"/>
          <p:cNvPicPr/>
          <p:nvPr/>
        </p:nvPicPr>
        <p:blipFill>
          <a:blip r:embed="rId2"/>
          <a:stretch/>
        </p:blipFill>
        <p:spPr>
          <a:xfrm>
            <a:off x="378000" y="1287360"/>
            <a:ext cx="2155680" cy="28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окгш1бю 1111 1\Desktop\LQN3fMIB4zo (1).jpg"/>
          <p:cNvPicPr/>
          <p:nvPr/>
        </p:nvPicPr>
        <p:blipFill>
          <a:blip r:embed="rId3"/>
          <a:stretch/>
        </p:blipFill>
        <p:spPr>
          <a:xfrm>
            <a:off x="5268960" y="3933720"/>
            <a:ext cx="326376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окгш1бю 1111 1\Desktop\Qz1p2FEJ3X8 (1).jpg"/>
          <p:cNvPicPr/>
          <p:nvPr/>
        </p:nvPicPr>
        <p:blipFill>
          <a:blip r:embed="rId4"/>
          <a:stretch/>
        </p:blipFill>
        <p:spPr>
          <a:xfrm>
            <a:off x="378000" y="4292640"/>
            <a:ext cx="4625640" cy="22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окгш1бю 1111 1\Desktop\KTOepZ4t33A.jpg"/>
          <p:cNvPicPr/>
          <p:nvPr/>
        </p:nvPicPr>
        <p:blipFill>
          <a:blip r:embed="rId5"/>
          <a:stretch/>
        </p:blipFill>
        <p:spPr>
          <a:xfrm>
            <a:off x="3146400" y="1293840"/>
            <a:ext cx="5004000" cy="2405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Kirchenko</dc:creator>
  <dc:description/>
  <dc:language>en-US</dc:language>
  <cp:lastModifiedBy>окгш1бю 1111 1</cp:lastModifiedBy>
  <dcterms:modified xsi:type="dcterms:W3CDTF">2023-02-12T08:08:38Z</dcterms:modified>
  <cp:revision>99</cp:revision>
  <dc:subject/>
  <dc:title>Слайд 1</dc:title>
</cp:coreProperties>
</file>