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965-2F2F-42F1-B413-E1414E2094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FA03-8085-4EEA-AE7A-8049C772C0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A45-35CF-41BF-BBC4-DD4064BC66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86C-7557-4451-B944-D5D8947156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005F-9676-4089-966A-F9359F6204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C472-90BD-4019-96BD-6403AD5527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1AE-DFA2-4161-81B6-B2EA8CD43C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CAB1-25E9-42CA-8668-DB13F4CA5C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7A21-7CD7-4974-B59E-C83E58A061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458-47AE-4E9A-8713-AD3E709E3B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1A9C-7B54-4F56-BE22-86C7577056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8E9-4A42-4CD8-B031-B4F4357BAF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017A-178E-40D5-8860-A3454B1A52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A83-3542-4F8F-AA2D-597C7A54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2B1-937D-43BB-97E2-D9543A4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E4D-7CAD-4DE4-855F-FB26FF4F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1D8-7DAD-4437-BB1F-0E677B52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14B-AAC9-4A89-92D6-C86CFD34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1B9-9879-4129-83FE-DBF7F517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23F-177A-490C-9EFD-3C0B793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B95-5976-4B81-97E9-FE2591FA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5E2-C529-418B-9BA1-D7D4DC5A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145-1A55-43FD-BECB-3DC3B9D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64A-250E-4FE8-8426-5BA4C384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58A-2FBB-41C8-ABA7-A96B2B4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EBD9-6587-483C-8C4A-8E3159E1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91856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кологическое воспитание детей через изобразительную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готовила: Кирченко Н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. Доброе 202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68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Users\окгш1бю 1111 1\Desktop\5LWFA_-yIig.jpg"/>
          <p:cNvPicPr/>
          <p:nvPr/>
        </p:nvPicPr>
        <p:blipFill>
          <a:blip r:embed="rId2"/>
          <a:stretch/>
        </p:blipFill>
        <p:spPr>
          <a:xfrm>
            <a:off x="179280" y="1109520"/>
            <a:ext cx="3262320" cy="226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окгш1бю 1111 1\Desktop\TVs4_Iv-IXA.jpg"/>
          <p:cNvPicPr/>
          <p:nvPr/>
        </p:nvPicPr>
        <p:blipFill>
          <a:blip r:embed="rId3"/>
          <a:stretch/>
        </p:blipFill>
        <p:spPr>
          <a:xfrm>
            <a:off x="5940360" y="1135080"/>
            <a:ext cx="3030480" cy="21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окгш1бю 1111 1\Desktop\Ej1KDpPEDME.jpg"/>
          <p:cNvPicPr/>
          <p:nvPr/>
        </p:nvPicPr>
        <p:blipFill>
          <a:blip r:embed="rId4"/>
          <a:stretch/>
        </p:blipFill>
        <p:spPr>
          <a:xfrm>
            <a:off x="3708360" y="1090440"/>
            <a:ext cx="1992240" cy="228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окгш1бю 1111 1\Desktop\tLEmcaKGr0M.jpg"/>
          <p:cNvPicPr/>
          <p:nvPr/>
        </p:nvPicPr>
        <p:blipFill>
          <a:blip r:embed="rId5"/>
          <a:stretch/>
        </p:blipFill>
        <p:spPr>
          <a:xfrm>
            <a:off x="539640" y="3621240"/>
            <a:ext cx="3794400" cy="242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окгш1бю 1111 1\Desktop\dLsveRKJW30.jpg"/>
          <p:cNvPicPr/>
          <p:nvPr/>
        </p:nvPicPr>
        <p:blipFill>
          <a:blip r:embed="rId6"/>
          <a:stretch/>
        </p:blipFill>
        <p:spPr>
          <a:xfrm>
            <a:off x="5003640" y="3621240"/>
            <a:ext cx="3708720" cy="2422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им образом, в соприкосновении с природой у ребенка развивается наблюдательность, любознательность, формируется эстетическое восприятие окружающего мира. А вместе с этим формируются такие нравственные качества как: доброта, милосердие, любовь к природе. Итогом каждой темы моей работы являются выставки детск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Users\окгш1бю 1111 1\Desktop\RSpz1uKcbU0.jpg"/>
          <p:cNvPicPr/>
          <p:nvPr/>
        </p:nvPicPr>
        <p:blipFill>
          <a:blip r:embed="rId2"/>
          <a:stretch/>
        </p:blipFill>
        <p:spPr>
          <a:xfrm>
            <a:off x="1187280" y="3755880"/>
            <a:ext cx="3745080" cy="279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окгш1бю 1111 1\Desktop\0mKH7jNYOoA.jpg"/>
          <p:cNvPicPr/>
          <p:nvPr/>
        </p:nvPicPr>
        <p:blipFill>
          <a:blip r:embed="rId3"/>
          <a:stretch/>
        </p:blipFill>
        <p:spPr>
          <a:xfrm>
            <a:off x="6012000" y="3278160"/>
            <a:ext cx="244764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окгш1бю 1111 1\Desktop\bfzlJ9dktqQ.jpg"/>
          <p:cNvPicPr/>
          <p:nvPr/>
        </p:nvPicPr>
        <p:blipFill>
          <a:blip r:embed="rId2"/>
          <a:stretch/>
        </p:blipFill>
        <p:spPr>
          <a:xfrm>
            <a:off x="539640" y="619200"/>
            <a:ext cx="3616560" cy="28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окгш1бю 1111 1\Desktop\uHueAJdHpNE.jpg"/>
          <p:cNvPicPr/>
          <p:nvPr/>
        </p:nvPicPr>
        <p:blipFill>
          <a:blip r:embed="rId3"/>
          <a:stretch/>
        </p:blipFill>
        <p:spPr>
          <a:xfrm>
            <a:off x="4389480" y="692280"/>
            <a:ext cx="41241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окгш1бю 1111 1\Desktop\D0A2OyToJpg.jpg"/>
          <p:cNvPicPr/>
          <p:nvPr/>
        </p:nvPicPr>
        <p:blipFill>
          <a:blip r:embed="rId4"/>
          <a:stretch/>
        </p:blipFill>
        <p:spPr>
          <a:xfrm>
            <a:off x="512640" y="3747960"/>
            <a:ext cx="3699000" cy="246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Users\окгш1бю 1111 1\Desktop\Lmmc7I1cYKM.jpg"/>
          <p:cNvPicPr/>
          <p:nvPr/>
        </p:nvPicPr>
        <p:blipFill>
          <a:blip r:embed="rId5"/>
          <a:stretch/>
        </p:blipFill>
        <p:spPr>
          <a:xfrm>
            <a:off x="4657680" y="3255840"/>
            <a:ext cx="3370320" cy="2928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ир, окружающий ребенка – это, прежде всего мир природы, с безграничным богатством явлений, с неисчерпаемой красотой. Здесь, в природе, вечный источник детского разу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. 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окгш1бю 1111 1\Desktop\JJwkd9lspsI.jpg"/>
          <p:cNvPicPr/>
          <p:nvPr/>
        </p:nvPicPr>
        <p:blipFill>
          <a:blip r:embed="rId2"/>
          <a:stretch/>
        </p:blipFill>
        <p:spPr>
          <a:xfrm>
            <a:off x="435600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3971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рода, как самый лучший художник, воспитывает у своих зрителей подлинно художественный вкус, бережное отношение к природе. Воспитание творческого восприятия природы особенно ярко выражается в изобразительной деятельности, где ребенок получает возможность творить, создавать красивое в свои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окгш1бю 1111 1\Desktop\r3bgjzFhmSU.jpg"/>
          <p:cNvPicPr/>
          <p:nvPr/>
        </p:nvPicPr>
        <p:blipFill>
          <a:blip r:embed="rId2"/>
          <a:stretch/>
        </p:blipFill>
        <p:spPr>
          <a:xfrm>
            <a:off x="468360" y="620640"/>
            <a:ext cx="4079880" cy="544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нно в период дошкольного детства происходит становление человеческой личности, формирование начал экологической культуры, которую можно выразить через продуктив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окгш1бю 1111 1\Desktop\ULjHJDjl3_A.jpg"/>
          <p:cNvPicPr/>
          <p:nvPr/>
        </p:nvPicPr>
        <p:blipFill>
          <a:blip r:embed="rId2"/>
          <a:stretch/>
        </p:blipFill>
        <p:spPr>
          <a:xfrm>
            <a:off x="4878360" y="692280"/>
            <a:ext cx="3745080" cy="264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окгш1бю 1111 1\Desktop\K6bRegdSCAk.jpg"/>
          <p:cNvPicPr/>
          <p:nvPr/>
        </p:nvPicPr>
        <p:blipFill>
          <a:blip r:embed="rId3"/>
          <a:stretch/>
        </p:blipFill>
        <p:spPr>
          <a:xfrm>
            <a:off x="4881600" y="3500280"/>
            <a:ext cx="3743280" cy="279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ю моей работы  является - формирование детей дошкольного возраста осознанно – правильного отношения к природе и окружающим ее объек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116000" y="2637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окгш1бю 1111 1\Desktop\EZojcYqTl48.jpg"/>
          <p:cNvPicPr/>
          <p:nvPr/>
        </p:nvPicPr>
        <p:blipFill>
          <a:blip r:embed="rId3"/>
          <a:stretch/>
        </p:blipFill>
        <p:spPr>
          <a:xfrm>
            <a:off x="5494320" y="2075040"/>
            <a:ext cx="3025800" cy="403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07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огащать детей знаниями о природе, её многообраз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умение замечать прекрасное, любоваться и восторгаться объектами природы, оберегать её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ображать природу на листе бумаги , передавать её цвет, крас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связную речь детей, обогащать и активизировать словарный запас, развивать диалогическ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окгш1бю 1111 1\Desktop\lzXm2olSeBk.jpg"/>
          <p:cNvPicPr/>
          <p:nvPr/>
        </p:nvPicPr>
        <p:blipFill>
          <a:blip r:embed="rId2"/>
          <a:stretch/>
        </p:blipFill>
        <p:spPr>
          <a:xfrm>
            <a:off x="4435560" y="32004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окгш1бю 1111 1\Desktop\lKQ6NNjmccc.jpg"/>
          <p:cNvPicPr/>
          <p:nvPr/>
        </p:nvPicPr>
        <p:blipFill>
          <a:blip r:embed="rId3"/>
          <a:stretch/>
        </p:blipFill>
        <p:spPr>
          <a:xfrm>
            <a:off x="1476360" y="3181320"/>
            <a:ext cx="2400480" cy="321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воей работе применяю следующи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гляд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блюдения за природой, живыми объектами, целевые прогулки, экскурсии, рассматр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ес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ение сказок, разбор ситуаций, обсуждение увиденного, 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во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дактические игры, сюжетно – ролевые, развл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ктически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ы, трудовая деятельность, продуктивная деятельность (рисование, аппликация, леп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04292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окгш1бю 1111 1\Desktop\QJn-RAsKv7U.jpg"/>
          <p:cNvPicPr/>
          <p:nvPr/>
        </p:nvPicPr>
        <p:blipFill>
          <a:blip r:embed="rId3"/>
          <a:stretch/>
        </p:blipFill>
        <p:spPr>
          <a:xfrm>
            <a:off x="5651640" y="4317840"/>
            <a:ext cx="2233440" cy="2273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44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6" descr="C:\Users\окгш1бю 1111 1\Desktop\boincvivStw.jpg"/>
          <p:cNvPicPr/>
          <p:nvPr/>
        </p:nvPicPr>
        <p:blipFill>
          <a:blip r:embed="rId2"/>
          <a:stretch/>
        </p:blipFill>
        <p:spPr>
          <a:xfrm>
            <a:off x="3564000" y="1301760"/>
            <a:ext cx="3014640" cy="250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Users\окгш1бю 1111 1\Desktop\GhnRO9VGzoc.jpg"/>
          <p:cNvPicPr/>
          <p:nvPr/>
        </p:nvPicPr>
        <p:blipFill>
          <a:blip r:embed="rId3"/>
          <a:stretch/>
        </p:blipFill>
        <p:spPr>
          <a:xfrm>
            <a:off x="4809960" y="4002120"/>
            <a:ext cx="4183200" cy="200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Users\окгш1бю 1111 1\Desktop\27Gc4Kd7WlA.jpg"/>
          <p:cNvPicPr/>
          <p:nvPr/>
        </p:nvPicPr>
        <p:blipFill>
          <a:blip r:embed="rId4"/>
          <a:stretch/>
        </p:blipFill>
        <p:spPr>
          <a:xfrm>
            <a:off x="468360" y="4002120"/>
            <a:ext cx="4182840" cy="20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Users\окгш1бю 1111 1\Desktop\R0383zZwxvM.jpg"/>
          <p:cNvPicPr/>
          <p:nvPr/>
        </p:nvPicPr>
        <p:blipFill>
          <a:blip r:embed="rId5"/>
          <a:stretch/>
        </p:blipFill>
        <p:spPr>
          <a:xfrm>
            <a:off x="6746760" y="660240"/>
            <a:ext cx="2247840" cy="314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C:\Users\окгш1бю 1111 1\Desktop\CBoqe9iuf3U.jpg"/>
          <p:cNvPicPr/>
          <p:nvPr/>
        </p:nvPicPr>
        <p:blipFill>
          <a:blip r:embed="rId6"/>
          <a:stretch/>
        </p:blipFill>
        <p:spPr>
          <a:xfrm>
            <a:off x="82440" y="1301760"/>
            <a:ext cx="333720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спериментальная               деятельность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C:\Users\окгш1бю 1111 1\Desktop\ozP-94JOmXg.jpg"/>
          <p:cNvPicPr/>
          <p:nvPr/>
        </p:nvPicPr>
        <p:blipFill>
          <a:blip r:embed="rId2"/>
          <a:stretch/>
        </p:blipFill>
        <p:spPr>
          <a:xfrm>
            <a:off x="378000" y="1287360"/>
            <a:ext cx="215568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окгш1бю 1111 1\Desktop\LQN3fMIB4zo (1).jpg"/>
          <p:cNvPicPr/>
          <p:nvPr/>
        </p:nvPicPr>
        <p:blipFill>
          <a:blip r:embed="rId3"/>
          <a:stretch/>
        </p:blipFill>
        <p:spPr>
          <a:xfrm>
            <a:off x="5268960" y="3933720"/>
            <a:ext cx="326376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окгш1бю 1111 1\Desktop\Qz1p2FEJ3X8 (1).jpg"/>
          <p:cNvPicPr/>
          <p:nvPr/>
        </p:nvPicPr>
        <p:blipFill>
          <a:blip r:embed="rId4"/>
          <a:stretch/>
        </p:blipFill>
        <p:spPr>
          <a:xfrm>
            <a:off x="378000" y="4292640"/>
            <a:ext cx="4625640" cy="22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окгш1бю 1111 1\Desktop\KTOepZ4t33A.jpg"/>
          <p:cNvPicPr/>
          <p:nvPr/>
        </p:nvPicPr>
        <p:blipFill>
          <a:blip r:embed="rId5"/>
          <a:stretch/>
        </p:blipFill>
        <p:spPr>
          <a:xfrm>
            <a:off x="3146400" y="1293840"/>
            <a:ext cx="5004000" cy="240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Kirchenko</dc:creator>
  <dc:description/>
  <dc:language>en-US</dc:language>
  <cp:lastModifiedBy>окгш1бю 1111 1</cp:lastModifiedBy>
  <dcterms:modified xsi:type="dcterms:W3CDTF">2023-02-12T08:08:38Z</dcterms:modified>
  <cp:revision>99</cp:revision>
  <dc:subject/>
  <dc:title>Слайд 1</dc:title>
</cp:coreProperties>
</file>