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07F-E97E-4CF4-8373-E6FD27B9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F55-8C34-43B0-9E1A-8522FCB4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1A7-AC95-45BA-80EF-CBCDFDC0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219-8AED-41A5-82C3-66D7E5D4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ED1-EE7D-47FD-90C7-86C350A0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925-DDCC-45E1-98BC-7396638B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A88-13B2-4FED-AC16-379F6CD9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C9E-2107-4954-A208-F976895C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852-BF12-4A88-BE8F-5D360BA1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8AA-CC6F-48C9-85C2-F2A9021E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35A-883A-4B65-9C47-E51607E4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032-322B-41AB-82A7-FAFCEA8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D60B-F9AB-4518-80CC-EEADF79E4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94000" y="433080"/>
            <a:ext cx="732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«Хорошие зубы – залог здоровья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ца 4 «А» класса Ермакова 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уководитель Герфорт В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023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5"/>
          <p:cNvPicPr/>
          <p:nvPr/>
        </p:nvPicPr>
        <p:blipFill>
          <a:blip r:embed="rId1"/>
          <a:stretch/>
        </p:blipFill>
        <p:spPr>
          <a:xfrm>
            <a:off x="88920" y="1916280"/>
            <a:ext cx="281160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60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99"/>
                </a:solidFill>
                <a:latin typeface="Bookman Old Style"/>
              </a:rPr>
              <a:t>ГИГИЕНА ЗУБ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002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зубы только зубной щёткой и обязательно чи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их в течение трёх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зубы с внешней и с внутренней стороны круговыми движениями и движениями сверху вн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зубы зубной пастой, зубным порош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сле приёма пищи полощи рот кипяченой в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55640" y="4759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ЛЕЗНЫЕ СОВЕТЫ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от Бабушки Варв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6043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потребляй в пищу больше сырых фруктов и овощей (грызи морковку, реп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убам полезен витамин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, а он есть в рыбе, яйце, молоке. Каждый день выпивай стакан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Для зубов полезен чёрный 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Два раза в год посещай стомат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1 vitamin"/>
          <p:cNvPicPr/>
          <p:nvPr/>
        </p:nvPicPr>
        <p:blipFill>
          <a:blip r:embed="rId1"/>
          <a:stretch/>
        </p:blipFill>
        <p:spPr>
          <a:xfrm>
            <a:off x="6877080" y="5373720"/>
            <a:ext cx="1728720" cy="127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6"/>
          <p:cNvPicPr/>
          <p:nvPr/>
        </p:nvPicPr>
        <p:blipFill>
          <a:blip r:embed="rId2"/>
          <a:stretch/>
        </p:blipFill>
        <p:spPr>
          <a:xfrm>
            <a:off x="468360" y="189000"/>
            <a:ext cx="172728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332000" y="2286000"/>
            <a:ext cx="633564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егите    зубы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3"/>
          <p:cNvPicPr/>
          <p:nvPr/>
        </p:nvPicPr>
        <p:blipFill>
          <a:blip r:embed="rId1"/>
          <a:stretch/>
        </p:blipFill>
        <p:spPr>
          <a:xfrm>
            <a:off x="2484360" y="1197000"/>
            <a:ext cx="4278240" cy="525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Bookman Old Style"/>
              </a:rPr>
              <a:t>СТРОЕНИЕ ЗУ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447920" y="152280"/>
            <a:ext cx="601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вайте посчитае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ши зу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Picture 3" descr="IMG_0018"/>
          <p:cNvPicPr/>
          <p:nvPr/>
        </p:nvPicPr>
        <p:blipFill>
          <a:blip r:embed="rId1"/>
          <a:stretch/>
        </p:blipFill>
        <p:spPr>
          <a:xfrm>
            <a:off x="2198520" y="1219320"/>
            <a:ext cx="4687920" cy="5378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"/>
          <p:cNvPicPr/>
          <p:nvPr/>
        </p:nvPicPr>
        <p:blipFill>
          <a:blip r:embed="rId1"/>
          <a:stretch/>
        </p:blipFill>
        <p:spPr>
          <a:xfrm>
            <a:off x="476280" y="1197000"/>
            <a:ext cx="4640400" cy="5184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Bookman Old Style"/>
              </a:rPr>
              <a:t>НАШИ ЗУ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66920" y="1599840"/>
            <a:ext cx="27370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з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 flipH="1">
            <a:off x="2411280" y="1916280"/>
            <a:ext cx="388944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 flipH="1">
            <a:off x="2339640" y="1989000"/>
            <a:ext cx="388764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H="1" flipV="1">
            <a:off x="2987640" y="2565000"/>
            <a:ext cx="3240000" cy="142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H="1">
            <a:off x="2916360" y="2852640"/>
            <a:ext cx="3311280" cy="1871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 flipV="1">
            <a:off x="3276360" y="2852280"/>
            <a:ext cx="2447640" cy="86364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1692000" y="3789360"/>
            <a:ext cx="3887640" cy="5032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H="1" flipV="1">
            <a:off x="3347640" y="3141720"/>
            <a:ext cx="2808360" cy="1727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H="1" flipV="1">
            <a:off x="1763280" y="4005000"/>
            <a:ext cx="4248360" cy="1152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68360" y="5805360"/>
            <a:ext cx="57636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547640" y="1341360"/>
            <a:ext cx="216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468360" y="2349360"/>
            <a:ext cx="57456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684360" y="1700280"/>
            <a:ext cx="720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755640" y="5300640"/>
            <a:ext cx="720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187280" y="5805360"/>
            <a:ext cx="1297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2627280" y="5805360"/>
            <a:ext cx="1224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851280" y="5013360"/>
            <a:ext cx="719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924360" y="4149720"/>
            <a:ext cx="863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3851280" y="183348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3851280" y="1700280"/>
            <a:ext cx="576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3924360" y="2205000"/>
            <a:ext cx="647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4211640" y="3500280"/>
            <a:ext cx="4316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3924360" y="2637000"/>
            <a:ext cx="718920" cy="3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227640" y="2349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кл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5724360" y="3357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оре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5796000" y="4292640"/>
            <a:ext cx="307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зубы мудр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IMG_0014"/>
          <p:cNvPicPr/>
          <p:nvPr/>
        </p:nvPicPr>
        <p:blipFill>
          <a:blip r:embed="rId1"/>
          <a:stretch/>
        </p:blipFill>
        <p:spPr>
          <a:xfrm>
            <a:off x="304920" y="2362320"/>
            <a:ext cx="2490840" cy="263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IMG_0015"/>
          <p:cNvPicPr/>
          <p:nvPr/>
        </p:nvPicPr>
        <p:blipFill>
          <a:blip r:embed="rId2"/>
          <a:stretch/>
        </p:blipFill>
        <p:spPr>
          <a:xfrm>
            <a:off x="3505320" y="609480"/>
            <a:ext cx="2363760" cy="266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IMG_0016"/>
          <p:cNvPicPr/>
          <p:nvPr/>
        </p:nvPicPr>
        <p:blipFill>
          <a:blip r:embed="rId3"/>
          <a:stretch/>
        </p:blipFill>
        <p:spPr>
          <a:xfrm>
            <a:off x="6477120" y="2438280"/>
            <a:ext cx="2363760" cy="2733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IMG_0017"/>
          <p:cNvPicPr/>
          <p:nvPr/>
        </p:nvPicPr>
        <p:blipFill>
          <a:blip r:embed="rId4"/>
          <a:stretch/>
        </p:blipFill>
        <p:spPr>
          <a:xfrm>
            <a:off x="3809880" y="3398760"/>
            <a:ext cx="1764000" cy="345924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457200" y="609480"/>
            <a:ext cx="14479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3048120" y="0"/>
            <a:ext cx="297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ё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6553080" y="762120"/>
            <a:ext cx="17528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уб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971640" y="404640"/>
            <a:ext cx="741672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чему болят зуб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3" name="Picture 3" descr="IMG"/>
          <p:cNvPicPr/>
          <p:nvPr/>
        </p:nvPicPr>
        <p:blipFill>
          <a:blip r:embed="rId3"/>
          <a:stretch/>
        </p:blipFill>
        <p:spPr>
          <a:xfrm>
            <a:off x="1908000" y="2781360"/>
            <a:ext cx="4854600" cy="29862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G_0001"/>
          <p:cNvPicPr/>
          <p:nvPr/>
        </p:nvPicPr>
        <p:blipFill>
          <a:blip r:embed="rId1"/>
          <a:stretch/>
        </p:blipFill>
        <p:spPr>
          <a:xfrm>
            <a:off x="152280" y="685800"/>
            <a:ext cx="4243680" cy="2424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59840" y="152280"/>
            <a:ext cx="88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стория о том, как образуются «дырки» в зуб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MG_0004"/>
          <p:cNvPicPr/>
          <p:nvPr/>
        </p:nvPicPr>
        <p:blipFill>
          <a:blip r:embed="rId2"/>
          <a:stretch/>
        </p:blipFill>
        <p:spPr>
          <a:xfrm>
            <a:off x="4724280" y="685800"/>
            <a:ext cx="4246560" cy="247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IMG_0002"/>
          <p:cNvPicPr/>
          <p:nvPr/>
        </p:nvPicPr>
        <p:blipFill>
          <a:blip r:embed="rId3"/>
          <a:stretch/>
        </p:blipFill>
        <p:spPr>
          <a:xfrm>
            <a:off x="108000" y="3789360"/>
            <a:ext cx="4263840" cy="243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IMG_0005"/>
          <p:cNvPicPr/>
          <p:nvPr/>
        </p:nvPicPr>
        <p:blipFill>
          <a:blip r:embed="rId4"/>
          <a:stretch/>
        </p:blipFill>
        <p:spPr>
          <a:xfrm>
            <a:off x="4716360" y="3789360"/>
            <a:ext cx="4243320" cy="2394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"/>
          <p:cNvPicPr/>
          <p:nvPr/>
        </p:nvPicPr>
        <p:blipFill>
          <a:blip r:embed="rId1"/>
          <a:stretch/>
        </p:blipFill>
        <p:spPr>
          <a:xfrm>
            <a:off x="324000" y="1989000"/>
            <a:ext cx="8534160" cy="3488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324000" y="1989000"/>
            <a:ext cx="1042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826920" y="333360"/>
            <a:ext cx="7229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дленное разрушение зуба</a:t>
            </a:r>
            <a:endParaRPr b="1" lang="en-US" sz="4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IMG_0013"/>
          <p:cNvPicPr/>
          <p:nvPr/>
        </p:nvPicPr>
        <p:blipFill>
          <a:blip r:embed="rId1"/>
          <a:stretch/>
        </p:blipFill>
        <p:spPr>
          <a:xfrm>
            <a:off x="717480" y="401760"/>
            <a:ext cx="7709040" cy="6053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762120" y="609480"/>
            <a:ext cx="294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55640" y="476280"/>
            <a:ext cx="2895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971640" y="549360"/>
            <a:ext cx="523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язательно посещай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оматолог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6:14:54Z</dcterms:created>
  <dc:creator>User</dc:creator>
  <dc:description/>
  <dc:language>en-US</dc:language>
  <cp:lastModifiedBy>Hello</cp:lastModifiedBy>
  <dcterms:modified xsi:type="dcterms:W3CDTF">2023-10-14T18:49:08Z</dcterms:modified>
  <cp:revision>7</cp:revision>
  <dc:subject/>
  <dc:title>Слайд 1</dc:title>
</cp:coreProperties>
</file>