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D6D-73D9-44E7-A8C4-C5A37D49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FD8-89F4-474B-B8CF-9D2430D2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9F2-D091-47A8-9CD7-E4EE9EC4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DF2-DAF5-4159-B5F3-599DA910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57F-78F2-4339-8DE4-9C1B0A50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8CC-6202-46FC-B238-702B90D1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CEE-8B2F-4D1C-968B-0E7692B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702-996C-4E66-84B5-AF53ADC3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F90-5FB5-42BE-80F2-576DB6CA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CA6-4326-4CDD-A371-38FE345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632-2279-4C0E-99CB-3EBE10AB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314-D0A6-40F1-A78E-9E12A00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647C-8241-4D62-8C6E-407A9DA4D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94000" y="433080"/>
            <a:ext cx="732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«Хорошие зубы – залог здоровья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ца 4 «А» класса Ермакова 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уководитель Герфорт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023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5"/>
          <p:cNvPicPr/>
          <p:nvPr/>
        </p:nvPicPr>
        <p:blipFill>
          <a:blip r:embed="rId1"/>
          <a:stretch/>
        </p:blipFill>
        <p:spPr>
          <a:xfrm>
            <a:off x="88920" y="1916280"/>
            <a:ext cx="281160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60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99"/>
                </a:solidFill>
                <a:latin typeface="Bookman Old Style"/>
              </a:rPr>
              <a:t>ГИГИЕНА ЗУБ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02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зубы только зубной щёткой и обязательно чи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их в течение трёх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зубы с внешней и с внутренней стороны круговыми движениями и движениями сверху вн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исти зубы зубной пастой, зубным порош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сле приёма пищи полощи рот кипяченой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5640" y="4759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ЛЕЗНЫЕ СОВЕТЫ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от Бабушки Варв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6043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потребляй в пищу больше сырых фруктов и овощей (грызи морковку, реп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убам полезен витамин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, а он есть в рыбе, яйце, молоке. Каждый день выпивай стакан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Для зубов полезен чёрный 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Два раза в год посещай стомат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1 vitamin"/>
          <p:cNvPicPr/>
          <p:nvPr/>
        </p:nvPicPr>
        <p:blipFill>
          <a:blip r:embed="rId1"/>
          <a:stretch/>
        </p:blipFill>
        <p:spPr>
          <a:xfrm>
            <a:off x="6877080" y="5373720"/>
            <a:ext cx="1728720" cy="127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6"/>
          <p:cNvPicPr/>
          <p:nvPr/>
        </p:nvPicPr>
        <p:blipFill>
          <a:blip r:embed="rId2"/>
          <a:stretch/>
        </p:blipFill>
        <p:spPr>
          <a:xfrm>
            <a:off x="468360" y="189000"/>
            <a:ext cx="172728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332000" y="2286000"/>
            <a:ext cx="63356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гите    зубы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3"/>
          <p:cNvPicPr/>
          <p:nvPr/>
        </p:nvPicPr>
        <p:blipFill>
          <a:blip r:embed="rId1"/>
          <a:stretch/>
        </p:blipFill>
        <p:spPr>
          <a:xfrm>
            <a:off x="2484360" y="1197000"/>
            <a:ext cx="4278240" cy="525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Bookman Old Style"/>
              </a:rPr>
              <a:t>СТРОЕНИЕ ЗУ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447920" y="152280"/>
            <a:ext cx="601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вайте посчитае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и зу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Picture 3" descr="IMG_0018"/>
          <p:cNvPicPr/>
          <p:nvPr/>
        </p:nvPicPr>
        <p:blipFill>
          <a:blip r:embed="rId1"/>
          <a:stretch/>
        </p:blipFill>
        <p:spPr>
          <a:xfrm>
            <a:off x="2198520" y="1219320"/>
            <a:ext cx="4687920" cy="5378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"/>
          <p:cNvPicPr/>
          <p:nvPr/>
        </p:nvPicPr>
        <p:blipFill>
          <a:blip r:embed="rId1"/>
          <a:stretch/>
        </p:blipFill>
        <p:spPr>
          <a:xfrm>
            <a:off x="476280" y="1197000"/>
            <a:ext cx="4640400" cy="5184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Bookman Old Style"/>
              </a:rPr>
              <a:t>НАШИ ЗУ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66920" y="1599840"/>
            <a:ext cx="27370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з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 flipH="1">
            <a:off x="2411280" y="1916280"/>
            <a:ext cx="388944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2339640" y="1989000"/>
            <a:ext cx="388764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2987640" y="2565000"/>
            <a:ext cx="3240000" cy="142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2916360" y="2852640"/>
            <a:ext cx="3311280" cy="1871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 flipV="1">
            <a:off x="3276360" y="2852280"/>
            <a:ext cx="2447640" cy="8636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1692000" y="3789360"/>
            <a:ext cx="3887640" cy="503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H="1" flipV="1">
            <a:off x="3347640" y="3141720"/>
            <a:ext cx="2808360" cy="1727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H="1" flipV="1">
            <a:off x="1763280" y="4005000"/>
            <a:ext cx="4248360" cy="1152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68360" y="5805360"/>
            <a:ext cx="5763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547640" y="1341360"/>
            <a:ext cx="216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468360" y="2349360"/>
            <a:ext cx="5745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684360" y="1700280"/>
            <a:ext cx="720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755640" y="5300640"/>
            <a:ext cx="720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187280" y="5805360"/>
            <a:ext cx="1297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2627280" y="5805360"/>
            <a:ext cx="122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851280" y="5013360"/>
            <a:ext cx="719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924360" y="4149720"/>
            <a:ext cx="863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3851280" y="183348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3851280" y="1700280"/>
            <a:ext cx="576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3924360" y="2205000"/>
            <a:ext cx="647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4211640" y="3500280"/>
            <a:ext cx="4316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3924360" y="2637000"/>
            <a:ext cx="71892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227640" y="2349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кл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5724360" y="3357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ре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5796000" y="4292640"/>
            <a:ext cx="307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зубы мудр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MG_0014"/>
          <p:cNvPicPr/>
          <p:nvPr/>
        </p:nvPicPr>
        <p:blipFill>
          <a:blip r:embed="rId1"/>
          <a:stretch/>
        </p:blipFill>
        <p:spPr>
          <a:xfrm>
            <a:off x="304920" y="2362320"/>
            <a:ext cx="2490840" cy="263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IMG_0015"/>
          <p:cNvPicPr/>
          <p:nvPr/>
        </p:nvPicPr>
        <p:blipFill>
          <a:blip r:embed="rId2"/>
          <a:stretch/>
        </p:blipFill>
        <p:spPr>
          <a:xfrm>
            <a:off x="3505320" y="609480"/>
            <a:ext cx="2363760" cy="266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IMG_0016"/>
          <p:cNvPicPr/>
          <p:nvPr/>
        </p:nvPicPr>
        <p:blipFill>
          <a:blip r:embed="rId3"/>
          <a:stretch/>
        </p:blipFill>
        <p:spPr>
          <a:xfrm>
            <a:off x="6477120" y="2438280"/>
            <a:ext cx="2363760" cy="2733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IMG_0017"/>
          <p:cNvPicPr/>
          <p:nvPr/>
        </p:nvPicPr>
        <p:blipFill>
          <a:blip r:embed="rId4"/>
          <a:stretch/>
        </p:blipFill>
        <p:spPr>
          <a:xfrm>
            <a:off x="3809880" y="3398760"/>
            <a:ext cx="1764000" cy="345924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457200" y="609480"/>
            <a:ext cx="14479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3048120" y="0"/>
            <a:ext cx="29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ё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6553080" y="762120"/>
            <a:ext cx="17528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уб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971640" y="404640"/>
            <a:ext cx="741672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чему болят зуб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3" name="Picture 3" descr="IMG"/>
          <p:cNvPicPr/>
          <p:nvPr/>
        </p:nvPicPr>
        <p:blipFill>
          <a:blip r:embed="rId3"/>
          <a:stretch/>
        </p:blipFill>
        <p:spPr>
          <a:xfrm>
            <a:off x="1908000" y="2781360"/>
            <a:ext cx="4854600" cy="2986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G_0001"/>
          <p:cNvPicPr/>
          <p:nvPr/>
        </p:nvPicPr>
        <p:blipFill>
          <a:blip r:embed="rId1"/>
          <a:stretch/>
        </p:blipFill>
        <p:spPr>
          <a:xfrm>
            <a:off x="152280" y="685800"/>
            <a:ext cx="4243680" cy="2424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59840" y="152280"/>
            <a:ext cx="88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стория о том, как образуются «дырки» в зуб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G_0004"/>
          <p:cNvPicPr/>
          <p:nvPr/>
        </p:nvPicPr>
        <p:blipFill>
          <a:blip r:embed="rId2"/>
          <a:stretch/>
        </p:blipFill>
        <p:spPr>
          <a:xfrm>
            <a:off x="4724280" y="685800"/>
            <a:ext cx="4246560" cy="247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IMG_0002"/>
          <p:cNvPicPr/>
          <p:nvPr/>
        </p:nvPicPr>
        <p:blipFill>
          <a:blip r:embed="rId3"/>
          <a:stretch/>
        </p:blipFill>
        <p:spPr>
          <a:xfrm>
            <a:off x="108000" y="3789360"/>
            <a:ext cx="4263840" cy="243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IMG_0005"/>
          <p:cNvPicPr/>
          <p:nvPr/>
        </p:nvPicPr>
        <p:blipFill>
          <a:blip r:embed="rId4"/>
          <a:stretch/>
        </p:blipFill>
        <p:spPr>
          <a:xfrm>
            <a:off x="4716360" y="3789360"/>
            <a:ext cx="4243320" cy="2394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"/>
          <p:cNvPicPr/>
          <p:nvPr/>
        </p:nvPicPr>
        <p:blipFill>
          <a:blip r:embed="rId1"/>
          <a:stretch/>
        </p:blipFill>
        <p:spPr>
          <a:xfrm>
            <a:off x="324000" y="1989000"/>
            <a:ext cx="8534160" cy="3488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24000" y="1989000"/>
            <a:ext cx="1042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826920" y="333360"/>
            <a:ext cx="7229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дленное разрушение зуба</a:t>
            </a:r>
            <a:endParaRPr b="1" lang="en-US" sz="4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IMG_0013"/>
          <p:cNvPicPr/>
          <p:nvPr/>
        </p:nvPicPr>
        <p:blipFill>
          <a:blip r:embed="rId1"/>
          <a:stretch/>
        </p:blipFill>
        <p:spPr>
          <a:xfrm>
            <a:off x="717480" y="401760"/>
            <a:ext cx="7709040" cy="6053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762120" y="609480"/>
            <a:ext cx="294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55640" y="476280"/>
            <a:ext cx="2895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971640" y="549360"/>
            <a:ext cx="523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язательно посещай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оматолог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6:14:54Z</dcterms:created>
  <dc:creator>User</dc:creator>
  <dc:description/>
  <dc:language>en-US</dc:language>
  <cp:lastModifiedBy>Hello</cp:lastModifiedBy>
  <dcterms:modified xsi:type="dcterms:W3CDTF">2023-10-14T18:49:08Z</dcterms:modified>
  <cp:revision>7</cp:revision>
  <dc:subject/>
  <dc:title>Слайд 1</dc:title>
</cp:coreProperties>
</file>