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C403-F257-494D-8711-C6E5B51E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1CE-9486-4965-8901-63B8C587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62B-5AC8-4BB7-BBAC-D161187E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6802-DA7E-461D-9EEF-3EB91A9E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5A7-7BCD-4DCB-BD8F-BA398626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C8E-3205-420A-B9B9-3AA03321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C38B-2053-4911-8B92-CDA7487E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E7B-9883-4461-B852-DD42352D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3AB-2393-45EC-97FD-AC30027D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16F6-FA86-49A5-9386-CA5EA9B1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300F-D7E3-42AD-A4CA-2CE0B15A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E10-0515-4373-869B-3C787D79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036F-CFD7-4188-A1A1-9F98E7119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94000" y="433080"/>
            <a:ext cx="732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«Хорошие зубы – залог здоровья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полн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еница 4 «А» класса Ермакова 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уководитель Герфорт В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023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5"/>
          <p:cNvPicPr/>
          <p:nvPr/>
        </p:nvPicPr>
        <p:blipFill>
          <a:blip r:embed="rId1"/>
          <a:stretch/>
        </p:blipFill>
        <p:spPr>
          <a:xfrm>
            <a:off x="88920" y="1916280"/>
            <a:ext cx="281160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6048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99"/>
                </a:solidFill>
                <a:latin typeface="Bookman Old Style"/>
              </a:rPr>
              <a:t>ГИГИЕНА ЗУБ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002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Чисти зубы только зубной щёткой и обязательно чи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Чисти их в течение трёх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Чисти зубы с внешней и с внутренней стороны круговыми движениями и движениями сверху вн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Чисти зубы зубной пастой, зубным порош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осле приёма пищи полощи рот кипяченой во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55640" y="4759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ОЛЕЗНЫЕ СОВЕТЫ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от Бабушки Варва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6043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потребляй в пищу больше сырых фруктов и овощей (грызи морковку, репк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Зубам полезен витамин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, а он есть в рыбе, яйце, молоке. Каждый день выпивай стакан м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Для зубов полезен чёрный хле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Два раза в год посещай стомато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1 vitamin"/>
          <p:cNvPicPr/>
          <p:nvPr/>
        </p:nvPicPr>
        <p:blipFill>
          <a:blip r:embed="rId1"/>
          <a:stretch/>
        </p:blipFill>
        <p:spPr>
          <a:xfrm>
            <a:off x="6877080" y="5373720"/>
            <a:ext cx="1728720" cy="127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6"/>
          <p:cNvPicPr/>
          <p:nvPr/>
        </p:nvPicPr>
        <p:blipFill>
          <a:blip r:embed="rId2"/>
          <a:stretch/>
        </p:blipFill>
        <p:spPr>
          <a:xfrm>
            <a:off x="468360" y="189000"/>
            <a:ext cx="172728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332000" y="2286000"/>
            <a:ext cx="633564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регите    зубы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3"/>
          <p:cNvPicPr/>
          <p:nvPr/>
        </p:nvPicPr>
        <p:blipFill>
          <a:blip r:embed="rId1"/>
          <a:stretch/>
        </p:blipFill>
        <p:spPr>
          <a:xfrm>
            <a:off x="2484360" y="1197000"/>
            <a:ext cx="4278240" cy="525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99"/>
                </a:solidFill>
                <a:latin typeface="Bookman Old Style"/>
              </a:rPr>
              <a:t>СТРОЕНИЕ ЗУ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1447920" y="152280"/>
            <a:ext cx="6019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авайте посчитаем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000000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ши зуб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000000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" name="Picture 3" descr="IMG_0018"/>
          <p:cNvPicPr/>
          <p:nvPr/>
        </p:nvPicPr>
        <p:blipFill>
          <a:blip r:embed="rId1"/>
          <a:stretch/>
        </p:blipFill>
        <p:spPr>
          <a:xfrm>
            <a:off x="2198520" y="1219320"/>
            <a:ext cx="4687920" cy="5378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"/>
          <p:cNvPicPr/>
          <p:nvPr/>
        </p:nvPicPr>
        <p:blipFill>
          <a:blip r:embed="rId1"/>
          <a:stretch/>
        </p:blipFill>
        <p:spPr>
          <a:xfrm>
            <a:off x="476280" y="1197000"/>
            <a:ext cx="4640400" cy="5184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99"/>
                </a:solidFill>
                <a:latin typeface="Bookman Old Style"/>
              </a:rPr>
              <a:t>НАШИ ЗУ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866920" y="1599840"/>
            <a:ext cx="27370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з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 flipH="1">
            <a:off x="2411280" y="1916280"/>
            <a:ext cx="388944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 flipH="1">
            <a:off x="2339640" y="1989000"/>
            <a:ext cx="388764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 flipH="1" flipV="1">
            <a:off x="2987640" y="2565000"/>
            <a:ext cx="3240000" cy="1429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 flipH="1">
            <a:off x="2916360" y="2852640"/>
            <a:ext cx="3311280" cy="1871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H="1" flipV="1">
            <a:off x="3276360" y="2852280"/>
            <a:ext cx="2447640" cy="86364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 flipH="1">
            <a:off x="1692000" y="3789360"/>
            <a:ext cx="3887640" cy="5032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 flipH="1" flipV="1">
            <a:off x="3347640" y="3141720"/>
            <a:ext cx="2808360" cy="17272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H="1" flipV="1">
            <a:off x="1763280" y="4005000"/>
            <a:ext cx="4248360" cy="11523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468360" y="5805360"/>
            <a:ext cx="57636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547640" y="1341360"/>
            <a:ext cx="216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468360" y="2349360"/>
            <a:ext cx="57456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684360" y="1700280"/>
            <a:ext cx="7207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755640" y="5300640"/>
            <a:ext cx="7207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187280" y="5805360"/>
            <a:ext cx="12970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2627280" y="5805360"/>
            <a:ext cx="1224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851280" y="5013360"/>
            <a:ext cx="7192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924360" y="4149720"/>
            <a:ext cx="863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3851280" y="183348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3851280" y="1700280"/>
            <a:ext cx="576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3924360" y="2205000"/>
            <a:ext cx="6476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4211640" y="3500280"/>
            <a:ext cx="43164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3924360" y="2637000"/>
            <a:ext cx="718920" cy="3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6227640" y="234936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клы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5724360" y="33577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коре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5796000" y="4292640"/>
            <a:ext cx="307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зубы мудр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IMG_0014"/>
          <p:cNvPicPr/>
          <p:nvPr/>
        </p:nvPicPr>
        <p:blipFill>
          <a:blip r:embed="rId1"/>
          <a:stretch/>
        </p:blipFill>
        <p:spPr>
          <a:xfrm>
            <a:off x="304920" y="2362320"/>
            <a:ext cx="2490840" cy="2636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IMG_0015"/>
          <p:cNvPicPr/>
          <p:nvPr/>
        </p:nvPicPr>
        <p:blipFill>
          <a:blip r:embed="rId2"/>
          <a:stretch/>
        </p:blipFill>
        <p:spPr>
          <a:xfrm>
            <a:off x="3505320" y="609480"/>
            <a:ext cx="2363760" cy="2668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IMG_0016"/>
          <p:cNvPicPr/>
          <p:nvPr/>
        </p:nvPicPr>
        <p:blipFill>
          <a:blip r:embed="rId3"/>
          <a:stretch/>
        </p:blipFill>
        <p:spPr>
          <a:xfrm>
            <a:off x="6477120" y="2438280"/>
            <a:ext cx="2363760" cy="2733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IMG_0017"/>
          <p:cNvPicPr/>
          <p:nvPr/>
        </p:nvPicPr>
        <p:blipFill>
          <a:blip r:embed="rId4"/>
          <a:stretch/>
        </p:blipFill>
        <p:spPr>
          <a:xfrm>
            <a:off x="3809880" y="3398760"/>
            <a:ext cx="1764000" cy="3459240"/>
          </a:xfrm>
          <a:prstGeom prst="rect">
            <a:avLst/>
          </a:prstGeom>
          <a:ln w="0">
            <a:noFill/>
          </a:ln>
        </p:spPr>
      </p:pic>
      <p:sp>
        <p:nvSpPr>
          <p:cNvPr id="79" name="WordArt 6"/>
          <p:cNvSpPr txBox="1"/>
          <p:nvPr/>
        </p:nvSpPr>
        <p:spPr>
          <a:xfrm>
            <a:off x="457200" y="609480"/>
            <a:ext cx="144792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7"/>
          <p:cNvSpPr txBox="1"/>
          <p:nvPr/>
        </p:nvSpPr>
        <p:spPr>
          <a:xfrm>
            <a:off x="3048120" y="0"/>
            <a:ext cx="2971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ё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8"/>
          <p:cNvSpPr txBox="1"/>
          <p:nvPr/>
        </p:nvSpPr>
        <p:spPr>
          <a:xfrm>
            <a:off x="6553080" y="762120"/>
            <a:ext cx="17528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уб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971640" y="404640"/>
            <a:ext cx="741672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чему болят зубы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83" name="Picture 3" descr="IMG"/>
          <p:cNvPicPr/>
          <p:nvPr/>
        </p:nvPicPr>
        <p:blipFill>
          <a:blip r:embed="rId3"/>
          <a:stretch/>
        </p:blipFill>
        <p:spPr>
          <a:xfrm>
            <a:off x="1908000" y="2781360"/>
            <a:ext cx="4854600" cy="29862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IMG_0001"/>
          <p:cNvPicPr/>
          <p:nvPr/>
        </p:nvPicPr>
        <p:blipFill>
          <a:blip r:embed="rId1"/>
          <a:stretch/>
        </p:blipFill>
        <p:spPr>
          <a:xfrm>
            <a:off x="152280" y="685800"/>
            <a:ext cx="4243680" cy="2424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59840" y="152280"/>
            <a:ext cx="88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История о том, как образуются «дырки» в зуба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IMG_0004"/>
          <p:cNvPicPr/>
          <p:nvPr/>
        </p:nvPicPr>
        <p:blipFill>
          <a:blip r:embed="rId2"/>
          <a:stretch/>
        </p:blipFill>
        <p:spPr>
          <a:xfrm>
            <a:off x="4724280" y="685800"/>
            <a:ext cx="4246560" cy="2479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IMG_0002"/>
          <p:cNvPicPr/>
          <p:nvPr/>
        </p:nvPicPr>
        <p:blipFill>
          <a:blip r:embed="rId3"/>
          <a:stretch/>
        </p:blipFill>
        <p:spPr>
          <a:xfrm>
            <a:off x="108000" y="3789360"/>
            <a:ext cx="4263840" cy="2433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IMG_0005"/>
          <p:cNvPicPr/>
          <p:nvPr/>
        </p:nvPicPr>
        <p:blipFill>
          <a:blip r:embed="rId4"/>
          <a:stretch/>
        </p:blipFill>
        <p:spPr>
          <a:xfrm>
            <a:off x="4716360" y="3789360"/>
            <a:ext cx="4243320" cy="2394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4"/>
          <p:cNvPicPr/>
          <p:nvPr/>
        </p:nvPicPr>
        <p:blipFill>
          <a:blip r:embed="rId1"/>
          <a:stretch/>
        </p:blipFill>
        <p:spPr>
          <a:xfrm>
            <a:off x="324000" y="1989000"/>
            <a:ext cx="8534160" cy="3488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324000" y="1989000"/>
            <a:ext cx="10429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826920" y="333360"/>
            <a:ext cx="72295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дленное разрушение зуба</a:t>
            </a:r>
            <a:endParaRPr b="1" lang="en-US" sz="40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IMG_0013"/>
          <p:cNvPicPr/>
          <p:nvPr/>
        </p:nvPicPr>
        <p:blipFill>
          <a:blip r:embed="rId1"/>
          <a:stretch/>
        </p:blipFill>
        <p:spPr>
          <a:xfrm>
            <a:off x="717480" y="401760"/>
            <a:ext cx="7709040" cy="6053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762120" y="609480"/>
            <a:ext cx="294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55640" y="476280"/>
            <a:ext cx="2895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971640" y="549360"/>
            <a:ext cx="523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язательно посещай 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оматолог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6:14:54Z</dcterms:created>
  <dc:creator>User</dc:creator>
  <dc:description/>
  <dc:language>en-US</dc:language>
  <cp:lastModifiedBy>Hello</cp:lastModifiedBy>
  <dcterms:modified xsi:type="dcterms:W3CDTF">2023-10-14T18:49:08Z</dcterms:modified>
  <cp:revision>7</cp:revision>
  <dc:subject/>
  <dc:title>Слайд 1</dc:title>
</cp:coreProperties>
</file>