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8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44C4-0A62-4162-9276-CC27E0F61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E60-8F7E-4391-AE2F-5F757462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F74E-981A-4BCF-AFF9-58E570AE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3A49-A296-4B46-868B-55241F08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0DE3-DEE7-4350-A3BA-64FA63B3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471D-CFE9-4036-BFE4-104DD16A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2D94-B416-464C-9258-DBFB0A4F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DE00-4BB3-4316-B2B0-C703B41F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C9F1-6989-4A8D-9D52-EC929CB8F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CD5C-EB67-4351-A38F-85843B8D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F87D-A788-4DB0-8EE8-21BC56AB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44D-BCF6-4421-B12A-39A8A0A4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F158-2D6D-400F-903D-2DFE1E40BD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img-fotki.yandex.ru/get/6203/104624815.1d/0_82101_a23246e1_XL"/>
          <p:cNvPicPr/>
          <p:nvPr/>
        </p:nvPicPr>
        <p:blipFill>
          <a:blip r:embed="rId1"/>
          <a:stretch/>
        </p:blipFill>
        <p:spPr>
          <a:xfrm flipH="1" rot="21264600">
            <a:off x="5298840" y="4124160"/>
            <a:ext cx="3287520" cy="25794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69800" y="1755720"/>
            <a:ext cx="8156520" cy="2554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:\Documents and Settings\Admin\Мои документы\Мои рисунки\КАРТИНКИ ДЛЯ ПРЕЗЕНТАЦИЙ\MUSIC.GIF"/>
          <p:cNvPicPr/>
          <p:nvPr/>
        </p:nvPicPr>
        <p:blipFill>
          <a:blip r:embed="rId3"/>
          <a:stretch/>
        </p:blipFill>
        <p:spPr>
          <a:xfrm>
            <a:off x="228600" y="843120"/>
            <a:ext cx="2905200" cy="109368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14" descr=""/>
          <p:cNvPicPr/>
          <p:nvPr/>
        </p:nvPicPr>
        <p:blipFill>
          <a:blip r:embed="rId4"/>
          <a:stretch/>
        </p:blipFill>
        <p:spPr>
          <a:xfrm>
            <a:off x="500040" y="5267160"/>
            <a:ext cx="4572000" cy="8892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6"/>
          <p:cNvSpPr/>
          <p:nvPr/>
        </p:nvSpPr>
        <p:spPr>
          <a:xfrm>
            <a:off x="2286000" y="2286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Tahoma"/>
              </a:rPr>
              <a:t>МБДОУ «Детский сад № 22»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оле 1" descr=""/>
          <p:cNvPicPr/>
          <p:nvPr/>
        </p:nvPicPr>
        <p:blipFill>
          <a:blip r:embed="rId1"/>
          <a:stretch/>
        </p:blipFill>
        <p:spPr>
          <a:xfrm>
            <a:off x="-42840" y="-457200"/>
            <a:ext cx="9077400" cy="6913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www.j100.ru/upload/iblock/b3d/b3d6b5c430f4123be6bd02b1c9ee650a.jpg"/>
          <p:cNvPicPr/>
          <p:nvPr/>
        </p:nvPicPr>
        <p:blipFill>
          <a:blip r:embed="rId2"/>
          <a:stretch/>
        </p:blipFill>
        <p:spPr>
          <a:xfrm>
            <a:off x="4343400" y="3102120"/>
            <a:ext cx="4699080" cy="3530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E:\РАБОТА\ФЛЕШКИ\КАРТИНКИ\Солнышко.gif"/>
          <p:cNvPicPr/>
          <p:nvPr/>
        </p:nvPicPr>
        <p:blipFill>
          <a:blip r:embed="rId3"/>
          <a:stretch/>
        </p:blipFill>
        <p:spPr>
          <a:xfrm rot="20008800">
            <a:off x="558720" y="458280"/>
            <a:ext cx="1825560" cy="1909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/>
          <a:stretch/>
        </p:blipFill>
        <p:spPr>
          <a:xfrm>
            <a:off x="7238880" y="0"/>
            <a:ext cx="1257480" cy="4791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5"/>
          <a:stretch/>
        </p:blipFill>
        <p:spPr>
          <a:xfrm>
            <a:off x="5029200" y="-380880"/>
            <a:ext cx="1247760" cy="4790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"/>
          <p:cNvPicPr/>
          <p:nvPr/>
        </p:nvPicPr>
        <p:blipFill>
          <a:blip r:embed="rId6"/>
          <a:stretch/>
        </p:blipFill>
        <p:spPr>
          <a:xfrm>
            <a:off x="3429000" y="-304920"/>
            <a:ext cx="1195560" cy="44863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2" presetSubtype="4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7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457200" y="30492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Музыкальное занятие - это основная организационная форма по осуществлению задач музыкального воспитания и развития дете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 музыкальных занятиях осуществляется разностороннее воспитание детей :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Овал 6"/>
          <p:cNvSpPr/>
          <p:nvPr/>
        </p:nvSpPr>
        <p:spPr>
          <a:xfrm>
            <a:off x="838080" y="1676520"/>
            <a:ext cx="297180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Умственн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Овал 8"/>
          <p:cNvSpPr/>
          <p:nvPr/>
        </p:nvSpPr>
        <p:spPr>
          <a:xfrm>
            <a:off x="5562720" y="1600200"/>
            <a:ext cx="297180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о-волев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9"/>
          <p:cNvSpPr/>
          <p:nvPr/>
        </p:nvSpPr>
        <p:spPr>
          <a:xfrm>
            <a:off x="457200" y="3809880"/>
            <a:ext cx="297180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Физическ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Овал 10"/>
          <p:cNvSpPr/>
          <p:nvPr/>
        </p:nvSpPr>
        <p:spPr>
          <a:xfrm>
            <a:off x="5791320" y="3886200"/>
            <a:ext cx="297180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Эстетическое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Овал 12"/>
          <p:cNvSpPr/>
          <p:nvPr/>
        </p:nvSpPr>
        <p:spPr>
          <a:xfrm>
            <a:off x="2895480" y="4952880"/>
            <a:ext cx="3353040" cy="16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Times New Roman"/>
                <a:ea typeface="Times New Roman"/>
              </a:rPr>
              <a:t>Певческие навык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Овал 11"/>
          <p:cNvSpPr/>
          <p:nvPr/>
        </p:nvSpPr>
        <p:spPr>
          <a:xfrm>
            <a:off x="2666880" y="2895480"/>
            <a:ext cx="3505320" cy="1219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зыкальные занятия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6"/>
          <p:cNvSpPr/>
          <p:nvPr/>
        </p:nvSpPr>
        <p:spPr>
          <a:xfrm>
            <a:off x="990720" y="3049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едагогу воспитателю необходимо знать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0"/>
          <p:cNvSpPr/>
          <p:nvPr/>
        </p:nvSpPr>
        <p:spPr>
          <a:xfrm>
            <a:off x="609480" y="762120"/>
            <a:ext cx="8305920" cy="56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нать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се программные требования 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о музыкальному воспитанию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66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Знать 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й материал своей группы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быть активным помощником музыкальному руководителю на музыкальных занятиях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3.    Оказывать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омощь музыкальному руководителю в освоении детьми программного музыкального репертуара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показывать образцы точного выполнения движений.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4. Проводить регулярные музыкальные занятия с детьми группы в случае отсутствия музыкального руководителя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5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учивать движения с отстающими детьми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6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Углублять музыкальные впечатления детей 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утем прослушивания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х произведений в группе с помощью технических средст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7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вивать музыкальные умения и навыки детей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(мелодический слух, чувство ритма) в процессе проведения дидактических игр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8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ладеть элементарными навыками игры на детских музыкальных инструментах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(металлофоне, колокольчиках, бубне, ложках и др.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80880" y="708840"/>
            <a:ext cx="830592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8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ладеть элементарными навыками игры на детских музыкальных инструментах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 (металлофоне, колокольчиках, бубне, ложках и др.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9. Учитывать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ндивидуальные возможности и способности каждого ребенк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0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Создавать проблемные ситуации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активизирующие детей для самостоятельных творческих проявлени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1. Использовать, имеющийся у детей, 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е  умения и навыки на занятиях  по другим видам деятельности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2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ключать музыкальное сопровождение в организацию занятий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и режимных моментов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3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Принимать активное участие в проведении праздников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  развлечений, 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ых досугов, кукольных спектакле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14. </a:t>
            </a:r>
            <a:r>
              <a:rPr b="1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Оказывать помощь в изготовлении атрибутов</a:t>
            </a: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, оформлении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музыкального зала для праздников и развлечений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990720" y="-28080"/>
            <a:ext cx="73152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воспитателя на музыкальном занятии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Овал 2"/>
          <p:cNvSpPr/>
          <p:nvPr/>
        </p:nvSpPr>
        <p:spPr>
          <a:xfrm>
            <a:off x="685800" y="914400"/>
            <a:ext cx="7467480" cy="5029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1447920" y="1766880"/>
            <a:ext cx="586728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Слушание музыки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1. Личным примером воспитывает у детей умение </a:t>
            </a: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внимательно слушать музыкальное произведение</a:t>
            </a: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, выражает заинтересованность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. Следит за дисциплиной</a:t>
            </a: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;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3. Оказывает помощь музыкальному руководителю в использовании наглядных пособий и другого методического материала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3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3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3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Овал 2"/>
          <p:cNvSpPr/>
          <p:nvPr/>
        </p:nvSpPr>
        <p:spPr>
          <a:xfrm>
            <a:off x="685800" y="838080"/>
            <a:ext cx="8001000" cy="556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Прямоугольник 1"/>
          <p:cNvSpPr/>
          <p:nvPr/>
        </p:nvSpPr>
        <p:spPr>
          <a:xfrm>
            <a:off x="1523880" y="1600200"/>
            <a:ext cx="6553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Распевание, пение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1. В распевании </a:t>
            </a: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 участвует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ет с детьми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, разучивая новую песню, показывая правильную артикуляцию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3. При совершенствовании разучиваемой песни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подпевает в «трудных местах»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Не поет с детьми при самостоятельном эмоционально-выразительном пении </a:t>
            </a:r>
            <a:r>
              <a:rPr b="0" lang="ru-RU" sz="1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(исключение – пение с детьми раннего и мл.возраста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Овал 2"/>
          <p:cNvSpPr/>
          <p:nvPr/>
        </p:nvSpPr>
        <p:spPr>
          <a:xfrm>
            <a:off x="380880" y="533520"/>
            <a:ext cx="8382240" cy="5943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Прямоугольник 1"/>
          <p:cNvSpPr/>
          <p:nvPr/>
        </p:nvSpPr>
        <p:spPr>
          <a:xfrm>
            <a:off x="1295280" y="1447920"/>
            <a:ext cx="6477120" cy="35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узыкально-ритмические движения и игры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частвует в показе всех видов движений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давая соответствующие рекомендации детям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нимает непосредственное участие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исполнении танцев, плясок, хороводов.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рректирует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исполнение движений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тдельными детьми во время танца, упражнения, игры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4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Разъясняет и контролирует выполнение условий игры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,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. 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ерет одну из ролей в сюжетной игре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при разучивании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6.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блюдает за дисциплиной </a:t>
            </a:r>
            <a:r>
              <a:rPr b="0" lang="ru-RU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а протяжении всего музыкального занятия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1600200" y="2594160"/>
            <a:ext cx="6324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асто допускаемые ошибки воспитателя на занятиях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Овал 2"/>
          <p:cNvSpPr/>
          <p:nvPr/>
        </p:nvSpPr>
        <p:spPr>
          <a:xfrm rot="1461000">
            <a:off x="504720" y="831600"/>
            <a:ext cx="3810240" cy="1360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1. Воспитатель сидит с безучастным видом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Овал 3"/>
          <p:cNvSpPr/>
          <p:nvPr/>
        </p:nvSpPr>
        <p:spPr>
          <a:xfrm rot="20040000">
            <a:off x="5122800" y="558360"/>
            <a:ext cx="3857760" cy="1576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 Воспитатель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еребивает исполнение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Овал 4"/>
          <p:cNvSpPr/>
          <p:nvPr/>
        </p:nvSpPr>
        <p:spPr>
          <a:xfrm rot="19849800">
            <a:off x="213840" y="3984120"/>
            <a:ext cx="4719600" cy="22100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. Даёт словесные указания наравне с муз.руководителем 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(хотя двух центров внимания быть не может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Овал 5"/>
          <p:cNvSpPr/>
          <p:nvPr/>
        </p:nvSpPr>
        <p:spPr>
          <a:xfrm rot="1537800">
            <a:off x="4951440" y="4245120"/>
            <a:ext cx="3990960" cy="1839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. Нарушает ход занятия (входит и выходит из зала).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Овал 4"/>
          <p:cNvSpPr/>
          <p:nvPr/>
        </p:nvSpPr>
        <p:spPr>
          <a:xfrm>
            <a:off x="228600" y="0"/>
            <a:ext cx="320040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епосредственно участвует в разработке сценария, готовят поэтический материал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Овал 5"/>
          <p:cNvSpPr/>
          <p:nvPr/>
        </p:nvSpPr>
        <p:spPr>
          <a:xfrm>
            <a:off x="0" y="1523880"/>
            <a:ext cx="3581280" cy="1447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казывает помощь музыкальному руководителю в изготовлении атрибутов, костюмов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Овал 7"/>
          <p:cNvSpPr/>
          <p:nvPr/>
        </p:nvSpPr>
        <p:spPr>
          <a:xfrm>
            <a:off x="5486400" y="0"/>
            <a:ext cx="3505320" cy="1371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Движения танцев, хороводов выполняет вместе с детьми (младший и средний возраст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Овал 8"/>
          <p:cNvSpPr/>
          <p:nvPr/>
        </p:nvSpPr>
        <p:spPr>
          <a:xfrm>
            <a:off x="5181480" y="1676520"/>
            <a:ext cx="3810240" cy="10666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ет песни вместе с детьми (в младших и речевых группах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Овал 9"/>
          <p:cNvSpPr/>
          <p:nvPr/>
        </p:nvSpPr>
        <p:spPr>
          <a:xfrm>
            <a:off x="228600" y="3124080"/>
            <a:ext cx="3200400" cy="15242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дущий воспитатель произносит текст эмоционально, громко, внятно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Овал 10"/>
          <p:cNvSpPr/>
          <p:nvPr/>
        </p:nvSpPr>
        <p:spPr>
          <a:xfrm>
            <a:off x="5486400" y="2971800"/>
            <a:ext cx="350532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 перестроении детей, руками их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не трогает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Овал 11"/>
          <p:cNvSpPr/>
          <p:nvPr/>
        </p:nvSpPr>
        <p:spPr>
          <a:xfrm>
            <a:off x="2819520" y="3733920"/>
            <a:ext cx="3657600" cy="16002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Встречает детей в приподнятом настроени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Нарядно одет, в подходящей обуви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Овал 12"/>
          <p:cNvSpPr/>
          <p:nvPr/>
        </p:nvSpPr>
        <p:spPr>
          <a:xfrm>
            <a:off x="5257800" y="5029200"/>
            <a:ext cx="3200400" cy="1295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осле утренника помогает убирать на место атрибуты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Овал 13"/>
          <p:cNvSpPr/>
          <p:nvPr/>
        </p:nvSpPr>
        <p:spPr>
          <a:xfrm>
            <a:off x="457200" y="5181480"/>
            <a:ext cx="3505320" cy="12193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самом празднике обязательно присутствовать обоим  воспитателям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Овал 6"/>
          <p:cNvSpPr/>
          <p:nvPr/>
        </p:nvSpPr>
        <p:spPr>
          <a:xfrm>
            <a:off x="2743200" y="533520"/>
            <a:ext cx="3429000" cy="14475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Times New Roman"/>
                <a:ea typeface="Times New Roman"/>
              </a:rPr>
              <a:t>Разучивает с детьми роли, стихи, контролируя правильное произношение, ударение в словах.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971800" y="2209680"/>
            <a:ext cx="327672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воспитателя </a:t>
            </a: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празд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астенька</dc:creator>
  <dc:description/>
  <dc:language>en-US</dc:language>
  <cp:lastModifiedBy>компьютер</cp:lastModifiedBy>
  <dcterms:modified xsi:type="dcterms:W3CDTF">2019-01-27T19:28:27Z</dcterms:modified>
  <cp:revision>18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