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ADA-5D4F-44F9-A6E2-DA1D3C68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B70-B7F0-4389-92E9-38BF475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850-29FB-416A-812E-2080BA14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CDD-E2F3-4BCB-AB0D-C6EBF33A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A65-7E5E-4655-815C-6A1CF70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E27-E6EC-40A7-BF7E-F6A47BF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49D-52D5-46C5-A1DA-9D33ED4F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0CB-DF1B-4AFA-8D3C-0723EC6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830-35B6-4679-A915-4C5A3CA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2A0-9444-4711-B80B-845B4F3A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E2F-245D-411F-B8CA-DE02349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CDE-0635-4F50-BF7E-AC7F910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EC4-8A21-433B-869E-F704B343F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6203/104624815.1d/0_82101_a23246e1_XL"/>
          <p:cNvPicPr/>
          <p:nvPr/>
        </p:nvPicPr>
        <p:blipFill>
          <a:blip r:embed="rId1"/>
          <a:stretch/>
        </p:blipFill>
        <p:spPr>
          <a:xfrm flipH="1" rot="21264600">
            <a:off x="5298840" y="4124160"/>
            <a:ext cx="3287520" cy="2579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1755720"/>
            <a:ext cx="8156520" cy="25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\Мои документы\Мои рисунки\КАРТИНКИ ДЛЯ ПРЕЗЕНТАЦИЙ\MUSIC.GIF"/>
          <p:cNvPicPr/>
          <p:nvPr/>
        </p:nvPicPr>
        <p:blipFill>
          <a:blip r:embed="rId3"/>
          <a:stretch/>
        </p:blipFill>
        <p:spPr>
          <a:xfrm>
            <a:off x="228600" y="843120"/>
            <a:ext cx="2905200" cy="1093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4" descr=""/>
          <p:cNvPicPr/>
          <p:nvPr/>
        </p:nvPicPr>
        <p:blipFill>
          <a:blip r:embed="rId4"/>
          <a:stretch/>
        </p:blipFill>
        <p:spPr>
          <a:xfrm>
            <a:off x="500040" y="5267160"/>
            <a:ext cx="4572000" cy="889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228600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МБДОУ «Детский сад № 22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оле 1" descr=""/>
          <p:cNvPicPr/>
          <p:nvPr/>
        </p:nvPicPr>
        <p:blipFill>
          <a:blip r:embed="rId1"/>
          <a:stretch/>
        </p:blipFill>
        <p:spPr>
          <a:xfrm>
            <a:off x="-42840" y="-457200"/>
            <a:ext cx="9077400" cy="691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j100.ru/upload/iblock/b3d/b3d6b5c430f4123be6bd02b1c9ee650a.jpg"/>
          <p:cNvPicPr/>
          <p:nvPr/>
        </p:nvPicPr>
        <p:blipFill>
          <a:blip r:embed="rId2"/>
          <a:stretch/>
        </p:blipFill>
        <p:spPr>
          <a:xfrm>
            <a:off x="4343400" y="3102120"/>
            <a:ext cx="4699080" cy="353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:\РАБОТА\ФЛЕШКИ\КАРТИНКИ\Солнышко.gif"/>
          <p:cNvPicPr/>
          <p:nvPr/>
        </p:nvPicPr>
        <p:blipFill>
          <a:blip r:embed="rId3"/>
          <a:stretch/>
        </p:blipFill>
        <p:spPr>
          <a:xfrm rot="20008800">
            <a:off x="558720" y="458280"/>
            <a:ext cx="182556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7238880" y="0"/>
            <a:ext cx="1257480" cy="479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5029200" y="-380880"/>
            <a:ext cx="1247760" cy="479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6"/>
          <a:stretch/>
        </p:blipFill>
        <p:spPr>
          <a:xfrm>
            <a:off x="3429000" y="-304920"/>
            <a:ext cx="1195560" cy="448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7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57200" y="3049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узыкальное занятие - это основная организационная форма по осуществлению задач музыкального воспитания и развития дете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 музыкальных занятиях осуществляется разностороннее воспитание детей 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Овал 6"/>
          <p:cNvSpPr/>
          <p:nvPr/>
        </p:nvSpPr>
        <p:spPr>
          <a:xfrm>
            <a:off x="838080" y="1676520"/>
            <a:ext cx="29718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ственн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5562720" y="1600200"/>
            <a:ext cx="29718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волев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457200" y="3809880"/>
            <a:ext cx="29718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ическ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Овал 10"/>
          <p:cNvSpPr/>
          <p:nvPr/>
        </p:nvSpPr>
        <p:spPr>
          <a:xfrm>
            <a:off x="5791320" y="3886200"/>
            <a:ext cx="29718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Эстетическ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2895480" y="4952880"/>
            <a:ext cx="3353040" cy="16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вческие навык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2666880" y="2895480"/>
            <a:ext cx="3505320" cy="1219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занят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6"/>
          <p:cNvSpPr/>
          <p:nvPr/>
        </p:nvSpPr>
        <p:spPr>
          <a:xfrm>
            <a:off x="990720" y="304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дагогу воспитателю необходимо знать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609480" y="762120"/>
            <a:ext cx="83059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н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е программные требования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 музыкальному воспитанию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нать 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й материал своей группы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быть активным помощником музыкальному руководителю на музыкальных занятиях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3.    Оказыв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мощь музыкальному руководителю в освоении детьми программного музыкального репертуара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показывать образцы точного выполнения движений.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4. Проводить регулярные музыкальные занятия с детьми группы в случае отсутствия музыкального руководител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5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учивать движения с отстающими детьми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6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глублять музыкальные впечатления детей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утем прослушивания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х произведений в группе с помощью технических средст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7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ть музыкальные умения и навыки детей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лодический слух, чувство ритма) в процессе проведения дидактических игр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8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ладеть элементарными навыками игры на детских музыкальных инструментах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таллофоне, колокольчиках, бубне, ложках и др.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80880" y="708840"/>
            <a:ext cx="83059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8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ладеть элементарными навыками игры на детских музыкальных инструментах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таллофоне, колокольчиках, бубне, ложках и др.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9. Учитыв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дивидуальные возможности и способности каждого ребенк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0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вать проблемные ситуации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активизирующие детей для самостоятельных творческих проявлени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1. Использовать, имеющийся у детей, 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е  умения и навыки на занятиях  по другим видам деятельност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2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ключать музыкальное сопровождение в организацию занятий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 режимных момент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3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ринимать активное участие в проведении праздников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  развлечений, 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х досугов, кукольных спектакле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4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казывать помощь в изготовлении атрибутов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оформлении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ого зала для праздников и развлечени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90720" y="-2808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воспитателя на музыкальном заняти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685800" y="914400"/>
            <a:ext cx="7467480" cy="5029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47920" y="1766880"/>
            <a:ext cx="586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Слушание музыки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1. Личным примером воспитывает у детей умение </a:t>
            </a: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нимательно слушать музыкальное произведение</a:t>
            </a: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, выражает заинтересованность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. Следит за дисциплиной</a:t>
            </a: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3. Оказывает помощь музыкальному руководителю в использовании наглядных пособий и другого методического материал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вал 2"/>
          <p:cNvSpPr/>
          <p:nvPr/>
        </p:nvSpPr>
        <p:spPr>
          <a:xfrm>
            <a:off x="685800" y="838080"/>
            <a:ext cx="8001000" cy="556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523880" y="1600200"/>
            <a:ext cx="65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спевание, пение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. В распевании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 участвует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ет с детьми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, разучивая новую песню, показывая правильную артикуляцию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При совершенствовании разучиваемой песн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дпевает в «трудных местах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 поет с детьми при самостоятельном эмоционально-выразительном пении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исключение – пение с детьми раннего и мл.возраст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2"/>
          <p:cNvSpPr/>
          <p:nvPr/>
        </p:nvSpPr>
        <p:spPr>
          <a:xfrm>
            <a:off x="380880" y="533520"/>
            <a:ext cx="8382240" cy="5943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295280" y="1447920"/>
            <a:ext cx="647712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ально-ритмические движения и игры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вует в показе всех видов движений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давая соответствующие рекомендации детям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имает непосредственное участие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исполнении танцев, плясок, хороводов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ректирует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нение движений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дельными детьми во время танца, упражнения, игры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ъясняет и контролирует выполнение условий игры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т одну из ролей в сюжетной игре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 разучивани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блюдает за дисциплиной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протяжении всего музыкального заняти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600200" y="25941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о допускаемые ошибки воспитателя на занятиях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Овал 2"/>
          <p:cNvSpPr/>
          <p:nvPr/>
        </p:nvSpPr>
        <p:spPr>
          <a:xfrm rot="1461000">
            <a:off x="504720" y="831600"/>
            <a:ext cx="3810240" cy="1360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 Воспитатель сидит с безучастным вид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Овал 3"/>
          <p:cNvSpPr/>
          <p:nvPr/>
        </p:nvSpPr>
        <p:spPr>
          <a:xfrm rot="20040000">
            <a:off x="5122800" y="558360"/>
            <a:ext cx="3857760" cy="1576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 Воспитател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бивает исполнение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Овал 4"/>
          <p:cNvSpPr/>
          <p:nvPr/>
        </p:nvSpPr>
        <p:spPr>
          <a:xfrm rot="19849800">
            <a:off x="213840" y="3984120"/>
            <a:ext cx="4719600" cy="221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Даёт словесные указания наравне с муз.руководителем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хотя двух центров внимания быть не может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Овал 5"/>
          <p:cNvSpPr/>
          <p:nvPr/>
        </p:nvSpPr>
        <p:spPr>
          <a:xfrm rot="1537800">
            <a:off x="4951440" y="4245120"/>
            <a:ext cx="3990960" cy="1839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. Нарушает ход занятия (входит и выходит из зала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Овал 4"/>
          <p:cNvSpPr/>
          <p:nvPr/>
        </p:nvSpPr>
        <p:spPr>
          <a:xfrm>
            <a:off x="228600" y="0"/>
            <a:ext cx="32004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осредственно участвует в разработке сценария, готовят поэтический матери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0" y="1523880"/>
            <a:ext cx="358128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азывает помощь музыкальному руководителю в изготовлении атрибутов, костюмов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5486400" y="0"/>
            <a:ext cx="3505320" cy="1371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Движения танцев, хороводов выполняет вместе с детьми (младший и средний возраст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5181480" y="1676520"/>
            <a:ext cx="3810240" cy="1066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т песни вместе с детьми (в младших и речевых группах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228600" y="3124080"/>
            <a:ext cx="3200400" cy="152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дущий воспитатель произносит текст эмоционально, громко, внятно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486400" y="2971800"/>
            <a:ext cx="350532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 перестроении детей, руками их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е трогает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2819520" y="3733920"/>
            <a:ext cx="3657600" cy="16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тречает детей в приподнятом настроен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Нарядно одет, в подходящей обув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5257800" y="5029200"/>
            <a:ext cx="32004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ле утренника помогает убирать на место атрибут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457200" y="5181480"/>
            <a:ext cx="3505320" cy="1219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самом празднике обязательно присутствовать обоим  воспитателям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Овал 6"/>
          <p:cNvSpPr/>
          <p:nvPr/>
        </p:nvSpPr>
        <p:spPr>
          <a:xfrm>
            <a:off x="2743200" y="533520"/>
            <a:ext cx="34290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учивает с детьми роли, стихи, контролируя правильное произношение, ударение в словах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09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воспитател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разд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стенька</dc:creator>
  <dc:description/>
  <dc:language>en-US</dc:language>
  <cp:lastModifiedBy>компьютер</cp:lastModifiedBy>
  <dcterms:modified xsi:type="dcterms:W3CDTF">2019-01-27T19:28:27Z</dcterms:modified>
  <cp:revision>1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