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A46-93DF-48C9-BC08-CAD2B15A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DB9-1034-495B-9619-8DF6C9E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6F0-4387-4AAC-988A-79327A74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91D-A157-4DDE-8646-92D70E3B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224-E8EE-4A51-9538-43A3ED0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229-EEE1-433D-9649-39E88847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543-F1C7-414B-B82D-3028C0C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EDC-FA56-4697-A113-1C282CE5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562-70BA-4412-B544-61CE878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CA5-9C44-4A40-8DFF-653194B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C3A-7FA0-4E80-8824-D2F68ED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DED-FBE6-4E0E-B590-C30CD24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79A8-E5C6-47C7-BF2C-B1A800BCC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ощадь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ямоугольного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494172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атематика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51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479520" y="1177920"/>
            <a:ext cx="822960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79520" y="4508640"/>
          <a:ext cx="8229600" cy="146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чувствует себя уверенно и хочет проверить свои силы и возможности, выбирает зада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чувствует, что освоил материал по теме прочно, выбирает зада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хочет закрепить свои знания, твёрже знать материал, выбирает зада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03760" cy="2381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5479920" y="2962440"/>
            <a:ext cx="3541680" cy="23572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4506840" y="237960"/>
            <a:ext cx="4524480" cy="261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4"/>
          <a:stretch/>
        </p:blipFill>
        <p:spPr>
          <a:xfrm>
            <a:off x="2436840" y="4387680"/>
            <a:ext cx="4140000" cy="2329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583920" y="23493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837120" y="2919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 flipH="1">
            <a:off x="3536280" y="4365720"/>
            <a:ext cx="33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Декабр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315120" y="2997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Ко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1" descr=""/>
          <p:cNvPicPr/>
          <p:nvPr/>
        </p:nvPicPr>
        <p:blipFill>
          <a:blip r:embed="rId5"/>
          <a:stretch/>
        </p:blipFill>
        <p:spPr>
          <a:xfrm>
            <a:off x="235080" y="3463920"/>
            <a:ext cx="361944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59640" y="351468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графа Спера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застроенное большое и ровное место в городе, селе, от которого обычно расходятся в разные стороны ул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остранство, по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еличина. Измеряется 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прямо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320120" y="213372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стры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291920" y="4521240"/>
            <a:ext cx="26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93680" y="5353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ямой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www\Desktop\острый угол.png"/>
          <p:cNvPicPr/>
          <p:nvPr/>
        </p:nvPicPr>
        <p:blipFill>
          <a:blip r:embed="rId1"/>
          <a:stretch/>
        </p:blipFill>
        <p:spPr>
          <a:xfrm>
            <a:off x="1528920" y="1071720"/>
            <a:ext cx="2573280" cy="116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www\Desktop\тупой.png"/>
          <p:cNvPicPr/>
          <p:nvPr/>
        </p:nvPicPr>
        <p:blipFill>
          <a:blip r:embed="rId2"/>
          <a:srcRect l="15961" t="18029" r="5229" b="26882"/>
          <a:stretch/>
        </p:blipFill>
        <p:spPr>
          <a:xfrm>
            <a:off x="4102200" y="3046320"/>
            <a:ext cx="322740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www\Desktop\прямой.png"/>
          <p:cNvPicPr/>
          <p:nvPr/>
        </p:nvPicPr>
        <p:blipFill>
          <a:blip r:embed="rId3"/>
          <a:srcRect l="30243" t="7809" r="18738" b="28118"/>
          <a:stretch/>
        </p:blipFill>
        <p:spPr>
          <a:xfrm>
            <a:off x="690480" y="3660840"/>
            <a:ext cx="2090880" cy="1568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664800" y="18576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уг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344680" y="11592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тре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96240" y="7714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По размерам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4382640" y="7542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 размерам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ый треугольник 7"/>
          <p:cNvSpPr/>
          <p:nvPr/>
        </p:nvSpPr>
        <p:spPr>
          <a:xfrm>
            <a:off x="5715000" y="1986120"/>
            <a:ext cx="1143000" cy="1249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13"/>
          <p:cNvSpPr/>
          <p:nvPr/>
        </p:nvSpPr>
        <p:spPr>
          <a:xfrm>
            <a:off x="5564160" y="3562200"/>
            <a:ext cx="1368360" cy="1571760"/>
          </a:xfrm>
          <a:prstGeom prst="triangle">
            <a:avLst>
              <a:gd name="adj" fmla="val 73671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14"/>
          <p:cNvSpPr/>
          <p:nvPr/>
        </p:nvSpPr>
        <p:spPr>
          <a:xfrm>
            <a:off x="353880" y="1251000"/>
            <a:ext cx="1368720" cy="1571400"/>
          </a:xfrm>
          <a:prstGeom prst="triangle">
            <a:avLst>
              <a:gd name="adj" fmla="val 27088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21"/>
          <p:cNvSpPr/>
          <p:nvPr/>
        </p:nvSpPr>
        <p:spPr>
          <a:xfrm>
            <a:off x="374760" y="3235320"/>
            <a:ext cx="1060200" cy="1177920"/>
          </a:xfrm>
          <a:prstGeom prst="triangle">
            <a:avLst>
              <a:gd name="adj" fmla="val 51051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"/>
          <p:cNvSpPr/>
          <p:nvPr/>
        </p:nvSpPr>
        <p:spPr>
          <a:xfrm>
            <a:off x="3960720" y="3025800"/>
            <a:ext cx="1754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www\Desktop\дебилизм.png"/>
          <p:cNvPicPr/>
          <p:nvPr/>
        </p:nvPicPr>
        <p:blipFill>
          <a:blip r:embed="rId1"/>
          <a:stretch/>
        </p:blipFill>
        <p:spPr>
          <a:xfrm>
            <a:off x="4232160" y="5006880"/>
            <a:ext cx="2625840" cy="126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www\Desktop\Безымянный.png"/>
          <p:cNvPicPr/>
          <p:nvPr/>
        </p:nvPicPr>
        <p:blipFill>
          <a:blip r:embed="rId2"/>
          <a:stretch/>
        </p:blipFill>
        <p:spPr>
          <a:xfrm>
            <a:off x="243000" y="4919760"/>
            <a:ext cx="1803240" cy="151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537560" y="1604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467360" y="316224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444680" y="47750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863960" y="153504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866480" y="3178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647960" y="614376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51130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ый треугольник 4"/>
          <p:cNvSpPr/>
          <p:nvPr/>
        </p:nvSpPr>
        <p:spPr>
          <a:xfrm>
            <a:off x="755640" y="2205000"/>
            <a:ext cx="6934320" cy="3809880"/>
          </a:xfrm>
          <a:prstGeom prst="rtTriangle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2533680" y="5877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16200000">
            <a:off x="-407160" y="378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 rot="1794600">
            <a:off x="2505960" y="3228840"/>
            <a:ext cx="28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потен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762120" y="5465880"/>
            <a:ext cx="685800" cy="533160"/>
          </a:xfrm>
          <a:prstGeom prst="rect">
            <a:avLst/>
          </a:pr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=ab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536400" y="1481040"/>
            <a:ext cx="7699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4"/>
          <p:cNvSpPr/>
          <p:nvPr/>
        </p:nvSpPr>
        <p:spPr>
          <a:xfrm>
            <a:off x="485640" y="2529000"/>
            <a:ext cx="2799000" cy="19368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ый треугольник 5"/>
          <p:cNvSpPr/>
          <p:nvPr/>
        </p:nvSpPr>
        <p:spPr>
          <a:xfrm rot="10800000">
            <a:off x="495360" y="2528640"/>
            <a:ext cx="2797200" cy="193680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40760" y="270000"/>
            <a:ext cx="90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нахождения площади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505680" y="2697120"/>
            <a:ext cx="34862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острой  до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500280" y="3633840"/>
            <a:ext cx="3911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57080" y="4759200"/>
            <a:ext cx="46443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дели площадь прямоугольника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2846520" y="5649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  = (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×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ый треугольник 11"/>
          <p:cNvSpPr/>
          <p:nvPr/>
        </p:nvSpPr>
        <p:spPr>
          <a:xfrm>
            <a:off x="3473280" y="6094440"/>
            <a:ext cx="262080" cy="27468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5508720" y="981000"/>
            <a:ext cx="2270160" cy="60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треуго?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435640" y="9079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голь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5"/>
          <p:cNvSpPr/>
          <p:nvPr/>
        </p:nvSpPr>
        <p:spPr>
          <a:xfrm flipH="1">
            <a:off x="4716360" y="132552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20"/>
          <p:cNvCxnSpPr/>
          <p:nvPr/>
        </p:nvCxnSpPr>
        <p:spPr>
          <a:xfrm>
            <a:off x="4710240" y="1332000"/>
            <a:ext cx="16560" cy="136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ая соединительная линия 22"/>
          <p:cNvSpPr/>
          <p:nvPr/>
        </p:nvSpPr>
        <p:spPr>
          <a:xfrm flipH="1">
            <a:off x="7732800" y="132552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23"/>
          <p:cNvCxnSpPr/>
          <p:nvPr/>
        </p:nvCxnSpPr>
        <p:spPr>
          <a:xfrm>
            <a:off x="8480160" y="1332000"/>
            <a:ext cx="5400" cy="136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4"/>
          <p:cNvSpPr/>
          <p:nvPr/>
        </p:nvSpPr>
        <p:spPr>
          <a:xfrm>
            <a:off x="4947120" y="9111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7789680" y="96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29"/>
          <p:cNvCxnSpPr/>
          <p:nvPr/>
        </p:nvCxnSpPr>
        <p:spPr>
          <a:xfrm flipH="1">
            <a:off x="4728960" y="3065040"/>
            <a:ext cx="10080" cy="54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30"/>
          <p:cNvCxnSpPr/>
          <p:nvPr/>
        </p:nvCxnSpPr>
        <p:spPr>
          <a:xfrm flipH="1">
            <a:off x="4725360" y="4003560"/>
            <a:ext cx="13320" cy="75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31"/>
          <p:cNvSpPr/>
          <p:nvPr/>
        </p:nvSpPr>
        <p:spPr>
          <a:xfrm>
            <a:off x="85680" y="3179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1787400" y="4465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1"/>
          <a:stretch/>
        </p:blipFill>
        <p:spPr>
          <a:xfrm>
            <a:off x="604800" y="1628640"/>
            <a:ext cx="66373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Пользователь Windows</cp:lastModifiedBy>
  <dcterms:modified xsi:type="dcterms:W3CDTF">2023-10-15T02:47:09Z</dcterms:modified>
  <cp:revision>28</cp:revision>
  <dc:subject/>
  <dc:title>Слайд 1</dc:title>
</cp:coreProperties>
</file>