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4A4B-62F7-4E2C-9C92-4C920318C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B646-023F-462A-BBCD-0EDF89DE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35D3-495B-47B4-A804-83ECD905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D79F-2C8E-4C0A-8F94-ADDE8C94B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7326-5971-4FDB-BBC9-AD1A037B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2C29-5339-468D-BFDD-D20B9BFE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4315-204E-4046-B166-21D8DC5E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3505-ABAE-441E-94E2-07FB6A06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B823-29AB-4A71-9881-DF39EB93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472F-A255-4C61-B358-BE50B84A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4315-270E-4EB1-AD8E-9F65D040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F1E4-C004-4006-83BF-01C3F13A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292F-7FED-47AB-8B2E-89E8EB33CD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Площадь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прямоугольного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76720" y="4941720"/>
            <a:ext cx="4968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Математика в 4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5120" y="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бери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Объект 3" descr=""/>
          <p:cNvPicPr/>
          <p:nvPr/>
        </p:nvPicPr>
        <p:blipFill>
          <a:blip r:embed="rId1"/>
          <a:stretch/>
        </p:blipFill>
        <p:spPr>
          <a:xfrm>
            <a:off x="479520" y="1177920"/>
            <a:ext cx="8229600" cy="284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479520" y="4508640"/>
          <a:ext cx="8229600" cy="1463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 чувствует себя уверенно и хочет проверить свои силы и возможности, выбирает задание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 чувствует, что освоил материал по теме прочно, выбирает задание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 хочет закрепить свои знания, твёрже знать материал, выбирает задание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755640" y="620640"/>
            <a:ext cx="5904000" cy="511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ЛОЩА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3803760" cy="23814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"/>
          <p:cNvPicPr/>
          <p:nvPr/>
        </p:nvPicPr>
        <p:blipFill>
          <a:blip r:embed="rId2"/>
          <a:stretch/>
        </p:blipFill>
        <p:spPr>
          <a:xfrm>
            <a:off x="5479920" y="2962440"/>
            <a:ext cx="3541680" cy="23572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"/>
          <p:cNvPicPr/>
          <p:nvPr/>
        </p:nvPicPr>
        <p:blipFill>
          <a:blip r:embed="rId3"/>
          <a:stretch/>
        </p:blipFill>
        <p:spPr>
          <a:xfrm>
            <a:off x="4506840" y="237960"/>
            <a:ext cx="4524480" cy="26197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6" descr=""/>
          <p:cNvPicPr/>
          <p:nvPr/>
        </p:nvPicPr>
        <p:blipFill>
          <a:blip r:embed="rId4"/>
          <a:stretch/>
        </p:blipFill>
        <p:spPr>
          <a:xfrm>
            <a:off x="2436840" y="4387680"/>
            <a:ext cx="4140000" cy="2329200"/>
          </a:xfrm>
          <a:prstGeom prst="rect">
            <a:avLst/>
          </a:prstGeom>
          <a:ln w="0">
            <a:noFill/>
          </a:ln>
        </p:spPr>
      </p:pic>
      <p:sp>
        <p:nvSpPr>
          <p:cNvPr id="48" name="TextBox 7"/>
          <p:cNvSpPr/>
          <p:nvPr/>
        </p:nvSpPr>
        <p:spPr>
          <a:xfrm>
            <a:off x="583920" y="234936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асная площ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6837120" y="2919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щадь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 flipH="1">
            <a:off x="3536280" y="4365720"/>
            <a:ext cx="33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щадь Декабрис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6315120" y="2997360"/>
            <a:ext cx="25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щадь Конститу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1" descr=""/>
          <p:cNvPicPr/>
          <p:nvPr/>
        </p:nvPicPr>
        <p:blipFill>
          <a:blip r:embed="rId5"/>
          <a:stretch/>
        </p:blipFill>
        <p:spPr>
          <a:xfrm>
            <a:off x="235080" y="3463920"/>
            <a:ext cx="3619440" cy="2414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12"/>
          <p:cNvSpPr/>
          <p:nvPr/>
        </p:nvSpPr>
        <p:spPr>
          <a:xfrm>
            <a:off x="359640" y="3514680"/>
            <a:ext cx="32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щадь графа Сперан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Незастроенное большое и ровное место в городе, селе, от которого обычно расходятся в разные стороны улиц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ространство, поме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Величина. Измеряется в квадратных едини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щадь прямоуголь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ОЩА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2509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туализация 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1320120" y="2133720"/>
            <a:ext cx="303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стрый уг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4291920" y="4521240"/>
            <a:ext cx="266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тупой уг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193680" y="5353200"/>
            <a:ext cx="308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ямой уг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Users\www\Desktop\острый угол.png"/>
          <p:cNvPicPr/>
          <p:nvPr/>
        </p:nvPicPr>
        <p:blipFill>
          <a:blip r:embed="rId1"/>
          <a:stretch/>
        </p:blipFill>
        <p:spPr>
          <a:xfrm>
            <a:off x="1528920" y="1071720"/>
            <a:ext cx="2573280" cy="1161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www\Desktop\тупой.png"/>
          <p:cNvPicPr/>
          <p:nvPr/>
        </p:nvPicPr>
        <p:blipFill>
          <a:blip r:embed="rId2"/>
          <a:srcRect l="15961" t="18029" r="5229" b="26882"/>
          <a:stretch/>
        </p:blipFill>
        <p:spPr>
          <a:xfrm>
            <a:off x="4102200" y="3046320"/>
            <a:ext cx="3227400" cy="1398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Users\www\Desktop\прямой.png"/>
          <p:cNvPicPr/>
          <p:nvPr/>
        </p:nvPicPr>
        <p:blipFill>
          <a:blip r:embed="rId3"/>
          <a:srcRect l="30243" t="7809" r="18738" b="28118"/>
          <a:stretch/>
        </p:blipFill>
        <p:spPr>
          <a:xfrm>
            <a:off x="690480" y="3660840"/>
            <a:ext cx="2090880" cy="156852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3664800" y="185760"/>
            <a:ext cx="259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ы уг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2344680" y="115920"/>
            <a:ext cx="45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ы треуголь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696240" y="77148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b050"/>
                </a:solidFill>
                <a:uFillTx/>
                <a:latin typeface="Arial"/>
              </a:rPr>
              <a:t>По размерам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4382640" y="75420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По размерам уг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ый треугольник 7"/>
          <p:cNvSpPr/>
          <p:nvPr/>
        </p:nvSpPr>
        <p:spPr>
          <a:xfrm>
            <a:off x="5715000" y="1986120"/>
            <a:ext cx="1143000" cy="124920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Равнобедренный треугольник 13"/>
          <p:cNvSpPr/>
          <p:nvPr/>
        </p:nvSpPr>
        <p:spPr>
          <a:xfrm>
            <a:off x="5564160" y="3562200"/>
            <a:ext cx="1368360" cy="1571760"/>
          </a:xfrm>
          <a:prstGeom prst="triangle">
            <a:avLst>
              <a:gd name="adj" fmla="val 73671"/>
            </a:avLst>
          </a:pr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Равнобедренный треугольник 14"/>
          <p:cNvSpPr/>
          <p:nvPr/>
        </p:nvSpPr>
        <p:spPr>
          <a:xfrm>
            <a:off x="353880" y="1251000"/>
            <a:ext cx="1368720" cy="1571400"/>
          </a:xfrm>
          <a:prstGeom prst="triangle">
            <a:avLst>
              <a:gd name="adj" fmla="val 27088"/>
            </a:avLst>
          </a:pr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Равнобедренный треугольник 21"/>
          <p:cNvSpPr/>
          <p:nvPr/>
        </p:nvSpPr>
        <p:spPr>
          <a:xfrm>
            <a:off x="374760" y="3235320"/>
            <a:ext cx="1060200" cy="1177920"/>
          </a:xfrm>
          <a:prstGeom prst="triangle">
            <a:avLst>
              <a:gd name="adj" fmla="val 51051"/>
            </a:avLst>
          </a:pr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6"/>
          <p:cNvSpPr/>
          <p:nvPr/>
        </p:nvSpPr>
        <p:spPr>
          <a:xfrm>
            <a:off x="3960720" y="3025800"/>
            <a:ext cx="1754280" cy="16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www\Desktop\дебилизм.png"/>
          <p:cNvPicPr/>
          <p:nvPr/>
        </p:nvPicPr>
        <p:blipFill>
          <a:blip r:embed="rId1"/>
          <a:stretch/>
        </p:blipFill>
        <p:spPr>
          <a:xfrm>
            <a:off x="4232160" y="5006880"/>
            <a:ext cx="2625840" cy="1265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www\Desktop\Безымянный.png"/>
          <p:cNvPicPr/>
          <p:nvPr/>
        </p:nvPicPr>
        <p:blipFill>
          <a:blip r:embed="rId2"/>
          <a:stretch/>
        </p:blipFill>
        <p:spPr>
          <a:xfrm>
            <a:off x="243000" y="4919760"/>
            <a:ext cx="1803240" cy="1517400"/>
          </a:xfrm>
          <a:prstGeom prst="rect">
            <a:avLst/>
          </a:prstGeom>
          <a:ln w="0">
            <a:noFill/>
          </a:ln>
        </p:spPr>
      </p:pic>
      <p:sp>
        <p:nvSpPr>
          <p:cNvPr id="74" name="TextBox 1"/>
          <p:cNvSpPr/>
          <p:nvPr/>
        </p:nvSpPr>
        <p:spPr>
          <a:xfrm>
            <a:off x="1537560" y="160488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носторон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1467360" y="316224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внобедр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1444680" y="47750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вносторон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4863960" y="1535040"/>
            <a:ext cx="26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моуг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4866480" y="317808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троуг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4647960" y="6143760"/>
            <a:ext cx="23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упоуг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511308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ЯМОУГОЛЬНЫЙ ТРЕУГОЛЬ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ый треугольник 4"/>
          <p:cNvSpPr/>
          <p:nvPr/>
        </p:nvSpPr>
        <p:spPr>
          <a:xfrm>
            <a:off x="755640" y="2205000"/>
            <a:ext cx="6934320" cy="3809880"/>
          </a:xfrm>
          <a:prstGeom prst="rtTriangle">
            <a:avLst/>
          </a:pr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2533680" y="58770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т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 rot="16200000">
            <a:off x="-407160" y="37882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т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 rot="1794600">
            <a:off x="2505960" y="3228840"/>
            <a:ext cx="283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ипотену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8"/>
          <p:cNvSpPr/>
          <p:nvPr/>
        </p:nvSpPr>
        <p:spPr>
          <a:xfrm>
            <a:off x="762120" y="5465880"/>
            <a:ext cx="685800" cy="533160"/>
          </a:xfrm>
          <a:prstGeom prst="rect">
            <a:avLst/>
          </a:pr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14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S=ab</a:t>
            </a: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:2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Прямоугольник 4" descr=""/>
          <p:cNvPicPr/>
          <p:nvPr/>
        </p:nvPicPr>
        <p:blipFill>
          <a:blip r:embed="rId1"/>
          <a:stretch/>
        </p:blipFill>
        <p:spPr>
          <a:xfrm>
            <a:off x="536400" y="1481040"/>
            <a:ext cx="769968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ый треугольник 4"/>
          <p:cNvSpPr/>
          <p:nvPr/>
        </p:nvSpPr>
        <p:spPr>
          <a:xfrm>
            <a:off x="485640" y="2529000"/>
            <a:ext cx="2799000" cy="193680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ый треугольник 5"/>
          <p:cNvSpPr/>
          <p:nvPr/>
        </p:nvSpPr>
        <p:spPr>
          <a:xfrm rot="10800000">
            <a:off x="495360" y="2528640"/>
            <a:ext cx="2797200" cy="1936800"/>
          </a:xfrm>
          <a:prstGeom prst="rtTriangl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0760" y="270000"/>
            <a:ext cx="90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 нахождения площади прямоугольного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3505680" y="2697120"/>
            <a:ext cx="34862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Дострой  до прямо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3500280" y="3633840"/>
            <a:ext cx="3911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Найди площадь прямо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3457080" y="4759200"/>
            <a:ext cx="46443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Раздели площадь прямоугольника н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2846520" y="564984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  = (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×в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: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ый треугольник 11"/>
          <p:cNvSpPr/>
          <p:nvPr/>
        </p:nvSpPr>
        <p:spPr>
          <a:xfrm>
            <a:off x="3473280" y="6094440"/>
            <a:ext cx="262080" cy="274680"/>
          </a:xfrm>
          <a:prstGeom prst="rtTriangl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2"/>
          <p:cNvSpPr/>
          <p:nvPr/>
        </p:nvSpPr>
        <p:spPr>
          <a:xfrm>
            <a:off x="5508720" y="981000"/>
            <a:ext cx="2270160" cy="601560"/>
          </a:xfrm>
          <a:prstGeom prst="rect">
            <a:avLst/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?треуго?77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5435640" y="90792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оугольны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15"/>
          <p:cNvSpPr/>
          <p:nvPr/>
        </p:nvSpPr>
        <p:spPr>
          <a:xfrm flipH="1">
            <a:off x="4716360" y="1325520"/>
            <a:ext cx="75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Прямая со стрелкой 20"/>
          <p:cNvCxnSpPr/>
          <p:nvPr/>
        </p:nvCxnSpPr>
        <p:spPr>
          <a:xfrm>
            <a:off x="4710240" y="1332000"/>
            <a:ext cx="16560" cy="1365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" name="Прямая соединительная линия 22"/>
          <p:cNvSpPr/>
          <p:nvPr/>
        </p:nvSpPr>
        <p:spPr>
          <a:xfrm flipH="1">
            <a:off x="7732800" y="1325520"/>
            <a:ext cx="75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Прямая со стрелкой 23"/>
          <p:cNvCxnSpPr/>
          <p:nvPr/>
        </p:nvCxnSpPr>
        <p:spPr>
          <a:xfrm>
            <a:off x="8480160" y="1332000"/>
            <a:ext cx="5400" cy="1365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2" name="TextBox 24"/>
          <p:cNvSpPr/>
          <p:nvPr/>
        </p:nvSpPr>
        <p:spPr>
          <a:xfrm>
            <a:off x="4947120" y="91116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5"/>
          <p:cNvSpPr/>
          <p:nvPr/>
        </p:nvSpPr>
        <p:spPr>
          <a:xfrm>
            <a:off x="7789680" y="963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Прямая со стрелкой 29"/>
          <p:cNvCxnSpPr/>
          <p:nvPr/>
        </p:nvCxnSpPr>
        <p:spPr>
          <a:xfrm flipH="1">
            <a:off x="4728960" y="3065040"/>
            <a:ext cx="10080" cy="54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" name="Прямая со стрелкой 30"/>
          <p:cNvCxnSpPr/>
          <p:nvPr/>
        </p:nvCxnSpPr>
        <p:spPr>
          <a:xfrm flipH="1">
            <a:off x="4725360" y="4003560"/>
            <a:ext cx="13320" cy="750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6" name="TextBox 31"/>
          <p:cNvSpPr/>
          <p:nvPr/>
        </p:nvSpPr>
        <p:spPr>
          <a:xfrm>
            <a:off x="85680" y="31798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2"/>
          <p:cNvSpPr/>
          <p:nvPr/>
        </p:nvSpPr>
        <p:spPr>
          <a:xfrm>
            <a:off x="1787400" y="446580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Объект 7" descr=""/>
          <p:cNvPicPr/>
          <p:nvPr/>
        </p:nvPicPr>
        <p:blipFill>
          <a:blip r:embed="rId1"/>
          <a:stretch/>
        </p:blipFill>
        <p:spPr>
          <a:xfrm>
            <a:off x="604800" y="1628640"/>
            <a:ext cx="66373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3T18:23:50Z</dcterms:created>
  <dc:creator>home</dc:creator>
  <dc:description/>
  <dc:language>en-US</dc:language>
  <cp:lastModifiedBy>Пользователь Windows</cp:lastModifiedBy>
  <dcterms:modified xsi:type="dcterms:W3CDTF">2023-10-15T02:47:09Z</dcterms:modified>
  <cp:revision>28</cp:revision>
  <dc:subject/>
  <dc:title>Слайд 1</dc:title>
</cp:coreProperties>
</file>