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542-7DD5-49F9-990C-7B2A9934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2F9-7EB4-4E65-9589-9FD68DBF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E10-F8AA-4189-A6C4-D481091B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FE1-730A-41D7-B16C-EBFFBF43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F90-F738-4B24-A54E-8F8C20D0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4B7-28D6-4276-B352-F68C2CF3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012-91FC-482E-B47C-A3FA41D8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E5E-CA82-43F3-826B-9E9933DC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6F9-845A-498F-9F5B-627F5F16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693-F9B9-4EBA-B7C2-04CFB201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2F3-FC30-4897-9F41-8B0DBF62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566-5001-4CE7-927E-7CC810FC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D149-3735-4F8E-B3BA-EC0DEE4C0F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VISIT TO LOND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а работ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еченко Кс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 СОШ №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ца  10 А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Ипато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22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</a:rPr>
              <a:t>АННОТАЦ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ая презентация разработана для учащихся 9-х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авлена на расширение их кругозора, с целью улучшения страноведческих знаний по стране изучаемого языка и не требует специальных навыков работы и знания компьютер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поможет учащимся проявить свои способности и показать полученные раннее знания, навыки и умения, так как данная работа соответствует по содержанию утвержденному минимуму знаний по предмету и стандартам обуч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современных технологий поможет учащимся осваивать учебный материал быстрее, качественнее, на более глубоком уровне и учитывать индивидуально-личностные качества учащих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03"/>
          <p:cNvPicPr/>
          <p:nvPr/>
        </p:nvPicPr>
        <p:blipFill>
          <a:blip r:embed="rId1"/>
          <a:stretch/>
        </p:blipFill>
        <p:spPr>
          <a:xfrm>
            <a:off x="2916360" y="1413000"/>
            <a:ext cx="5649840" cy="4908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63480" y="16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50920" y="620640"/>
            <a:ext cx="2520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London is the capital of Great Brit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It is one of the oldest and largest city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housands of tourists come to London every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916360" y="476280"/>
            <a:ext cx="55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WELCOME TO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pview"/>
          <p:cNvPicPr/>
          <p:nvPr/>
        </p:nvPicPr>
        <p:blipFill>
          <a:blip r:embed="rId1"/>
          <a:stretch/>
        </p:blipFill>
        <p:spPr>
          <a:xfrm>
            <a:off x="395280" y="333360"/>
            <a:ext cx="7913520" cy="424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50920" y="5157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 flipV="1">
            <a:off x="611280" y="5229720"/>
            <a:ext cx="820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50920" y="4724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he Tower of London is the famous museum. It is very old. It stands on the Thames. English kings and queens lived there. Then it was a fortress, a castle, a prison and a zoo. There are a lot  of ravens live the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view"/>
          <p:cNvPicPr/>
          <p:nvPr/>
        </p:nvPicPr>
        <p:blipFill>
          <a:blip r:embed="rId1"/>
          <a:stretch/>
        </p:blipFill>
        <p:spPr>
          <a:xfrm>
            <a:off x="826920" y="2349360"/>
            <a:ext cx="6537600" cy="39592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9280" y="404640"/>
            <a:ext cx="856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The House of Parliament stands on the Thames too. The British government is there. The British Parliament consists of two Houses: the House of Lords and the House of Comm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что"/>
          <p:cNvPicPr/>
          <p:nvPr/>
        </p:nvPicPr>
        <p:blipFill>
          <a:blip r:embed="rId1"/>
          <a:stretch/>
        </p:blipFill>
        <p:spPr>
          <a:xfrm>
            <a:off x="1619280" y="1689120"/>
            <a:ext cx="7273800" cy="4919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79280" y="189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s is Trafalgar Square. In the centre of the square there is a big column. At the top of the column there is a statue of Admiral Nelson who had to fight the French at the Battle of Trafalgar in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1805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23"/>
          <p:cNvPicPr/>
          <p:nvPr/>
        </p:nvPicPr>
        <p:blipFill>
          <a:blip r:embed="rId1"/>
          <a:stretch/>
        </p:blipFill>
        <p:spPr>
          <a:xfrm>
            <a:off x="395280" y="87480"/>
            <a:ext cx="6769080" cy="5414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50920" y="5516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ondon Eye is the largest observation wheel in the world and it is very popular with tour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50920" y="5300640"/>
            <a:ext cx="889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{90860778-8BDB-40FD-B2A6-A8245E99497B}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4573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187280" y="1197000"/>
            <a:ext cx="698508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RE YOU READY FOR A TRIP TO LONDON </a:t>
            </a: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MEET THE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</dc:creator>
  <dc:description/>
  <dc:language>en-US</dc:language>
  <cp:lastModifiedBy>Оксана</cp:lastModifiedBy>
  <dcterms:modified xsi:type="dcterms:W3CDTF">2023-10-15T12:36:51Z</dcterms:modified>
  <cp:revision>58</cp:revision>
  <dc:subject/>
  <dc:title>PowerPoint Presentation</dc:title>
</cp:coreProperties>
</file>