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E99-AACF-4BA7-8751-1E20B0C7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AD4-31BD-41A1-88B0-DE1EB97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1B6-7190-41DA-A8B3-7B3FE05A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8AE-8F0C-47C5-BB7A-928DCF2C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D0E-84DB-4FC9-B682-91FEE149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29E-CB9E-4D8C-AAE4-A3E367BB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C14-506D-4258-89DA-52E7F531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8FF-91CD-4DE6-A0BE-0848969C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F27-388A-4181-AE16-646916E3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7E9-552A-435A-9DC1-F628EF3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0A5-17DD-4FE7-B8E6-3B78EAE5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9F7-DB32-4CB3-A610-B1CD3587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78C7-75B1-42FD-9AC1-0D25D81D33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VISIT TO LOND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а рабо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еченко Кс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 СОШ №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ца  10 А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Ипато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22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</a:rPr>
              <a:t>АННОТАЦ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ая презентация разработана для учащихся 9-х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авлена на расширение их кругозора, с целью улучшения страноведческих знаний по стране изучаемого языка и не требует специальных навыков работы и знания компьюте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поможет учащимся проявить свои способности и показать полученные раннее знания, навыки и умения, так как данная работа соответствует по содержанию утвержденному минимуму знаний по предмету и стандартам обу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современных технологий поможет учащимся осваивать учебный материал быстрее, качественнее, на более глубоком уровне и учитывать индивидуально-личностные качества уча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03"/>
          <p:cNvPicPr/>
          <p:nvPr/>
        </p:nvPicPr>
        <p:blipFill>
          <a:blip r:embed="rId1"/>
          <a:stretch/>
        </p:blipFill>
        <p:spPr>
          <a:xfrm>
            <a:off x="2916360" y="1413000"/>
            <a:ext cx="5649840" cy="4908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63480" y="16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50920" y="620640"/>
            <a:ext cx="2520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London is the capital of Great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t is one of the oldest and largest city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housands of tourists come to London every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916360" y="47628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WELCOME TO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pview"/>
          <p:cNvPicPr/>
          <p:nvPr/>
        </p:nvPicPr>
        <p:blipFill>
          <a:blip r:embed="rId1"/>
          <a:stretch/>
        </p:blipFill>
        <p:spPr>
          <a:xfrm>
            <a:off x="395280" y="333360"/>
            <a:ext cx="7913520" cy="424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50920" y="515772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 flipV="1">
            <a:off x="611280" y="5229720"/>
            <a:ext cx="820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50920" y="472428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he Tower of London is the famous museum. It is very old. It stands on the Thames. English kings and queens lived there. Then it was a fortress, a castle, a prison and a zoo. There are a lot  of ravens live the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view"/>
          <p:cNvPicPr/>
          <p:nvPr/>
        </p:nvPicPr>
        <p:blipFill>
          <a:blip r:embed="rId1"/>
          <a:stretch/>
        </p:blipFill>
        <p:spPr>
          <a:xfrm>
            <a:off x="826920" y="2349360"/>
            <a:ext cx="6537600" cy="3959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9280" y="40464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The House of Parliament stands on the Thames too. The British government is there. The British Parliament consists of two Houses: the House of Lords and the House of Comm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что"/>
          <p:cNvPicPr/>
          <p:nvPr/>
        </p:nvPicPr>
        <p:blipFill>
          <a:blip r:embed="rId1"/>
          <a:stretch/>
        </p:blipFill>
        <p:spPr>
          <a:xfrm>
            <a:off x="1619280" y="1689120"/>
            <a:ext cx="7273800" cy="4919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179280" y="189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s is Trafalgar Square. In the centre of the square there is a big column. At the top of the column there is a statue of Admiral Nelson who had to fight the French at the Battle of Trafalgar in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1805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23"/>
          <p:cNvPicPr/>
          <p:nvPr/>
        </p:nvPicPr>
        <p:blipFill>
          <a:blip r:embed="rId1"/>
          <a:stretch/>
        </p:blipFill>
        <p:spPr>
          <a:xfrm>
            <a:off x="395280" y="87480"/>
            <a:ext cx="6769080" cy="5414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250920" y="5516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ondon Eye is the largest observation wheel in the world and it is very popular with tour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50920" y="5300640"/>
            <a:ext cx="889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{90860778-8BDB-40FD-B2A6-A8245E99497B}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4573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187280" y="1197000"/>
            <a:ext cx="698508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RE YOU READY FOR A TRIP TO LONDON </a:t>
            </a: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MEET THE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</dc:creator>
  <dc:description/>
  <dc:language>en-US</dc:language>
  <cp:lastModifiedBy>Оксана</cp:lastModifiedBy>
  <dcterms:modified xsi:type="dcterms:W3CDTF">2023-10-15T12:36:51Z</dcterms:modified>
  <cp:revision>58</cp:revision>
  <dc:subject/>
  <dc:title>PowerPoint Presentation</dc:title>
</cp:coreProperties>
</file>