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8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28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52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3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8.gif" ContentType="image/gif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BD0A-4247-4B41-A9A1-A4842CC03E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яя группа «Знай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B562-2F1E-4B53-858A-B7F96515BF1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20B-6CC9-4663-9F6F-4F2A4DB9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2D1-7C83-41FC-938F-5B3F708F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3E3-3BC0-414B-9AFD-2B2BA299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57B-CD34-4D1D-8609-6BD9B918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3083-3B71-4FC7-B901-665A0E3C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E0DE-94F9-42C1-833E-539CBDC0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F838-57A3-4E56-ACFA-3CE1F111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E62D-D909-4AC2-9468-57D61BBB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21E7-3F41-4660-A761-EF494BEB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489F-1E25-4E47-B847-F7E3B0AB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844E-1A28-4252-A055-CB46289C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766-A98D-46B9-A60A-9B57C5D7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1B56-7CC4-4636-B070-5EA02F07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5700-7E50-4795-A3AB-19DE85F0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1D9D-AC41-44AF-97F6-0DFA3DAB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6516-DCDD-4A30-9C12-7C3B075B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D6F3-BF6B-4042-BABC-F084B9EF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BB760-6D6F-4E84-AB48-15996EAB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DA776-57F7-4371-B161-8A0DA960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741A7-2EEF-45C0-8549-CC718AD9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5614-279E-4882-B252-1CDF78C9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6067E-EA0F-4131-9C33-29FB7BEA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479-A0B1-498C-A6BA-8011E669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2AB2E-372B-4153-AE0C-8D9802F3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48F0-22E1-48A7-9342-472D50E8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76F2E-DAAC-4ECD-947C-85E4EC8B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78E7-A577-4109-8E11-BE5FDC77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C0FA2-AE62-45C1-B320-C3AF19DE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14B95-26D3-4898-B69D-53573D42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25B3-2894-42EA-9336-471CB333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E44BD-B2F0-4654-8446-FADFA148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80AA-7F79-4ADD-A526-29AAC007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D1F07-1DD5-4149-A9AC-347B003D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9C9-A9E1-4283-A74A-EA7AC2F9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E37DA-B4D1-414B-9118-C18E7C6D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9DCB4-9DD4-4420-95B4-A4CD131F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41E7C-C2A2-4B93-B00F-E84B8451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F1B63-B9AA-44FC-AE65-4F48878A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B737C-CC92-42CC-AD9C-E45A4E59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7DB15-6EA0-445A-BC58-493702A2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7648-94EE-483A-B383-02F47F9E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888B4-4B4C-4A82-812F-090307E0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A3F5A-73F4-42F5-A501-300D6512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39E21-E873-40EE-9729-4F0F78C5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EE10-D68E-41C0-A600-7219C520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08AFB-72F7-45E8-8845-051403E1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269A0-2F66-4892-A8CB-F5A30536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79941-5AE1-4517-9A36-EB6A297C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51B99-04C3-4198-9BD7-87844DB0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7F730-D1D4-459A-B05B-7DC39F7C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AAC0E-3238-4CE2-90AF-1041708B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9633D-CC6E-4C51-8CDA-C84FA6ED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AC7E1-637E-43B8-964D-43BA925D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09D35-F418-4145-B5E3-568BEC61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7A976-6D54-427C-9D2B-2154FB37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4B4-9EC7-463B-BA2C-0781FE86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46C42-4E18-4A25-98D7-9EC43928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20996-0434-4124-8D02-7FE2A8AF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9A521-46EB-40AD-A827-B71D82F3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07376-2BB0-43C6-ACAD-24907D41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97AE1-080C-49FD-9FC3-2EDBDD62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48913-A174-41AD-A2E2-09CB7B41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1FB93-F91F-4892-86C1-AC299624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DD6C6-E784-4DA1-A440-EFF601C5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88246-A0AB-4AF8-A369-0392AFCF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88B70-3A61-4B8F-B696-EE472396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7B8-9957-4F40-96B0-77D54A49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7EB9B-B284-47AA-B045-E6EFA4C2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F407D-7298-459A-B7CB-A3681A4D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BBAF3-E3E8-4451-B408-9993F279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64E-5458-46B4-9FE3-E7F9FDDE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901-4A97-4B96-9321-F84450C9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8F00-ABF3-4A1A-847E-D332ACB79D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Слайд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5C4A-789A-4E9D-B2E1-ED91715626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Слайд5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8D65-98F1-4334-B908-EFC9A0FE56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7" descr="Слай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BAE1-1C08-40F0-88A0-6F248E3FBD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7" descr="Слайд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2A1B-D57B-482B-889F-59978A77AA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6" descr="Слайд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7" descr="Слайд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B712-6BE6-41DF-9F5C-959CE0BEB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1" descr=""/>
          <p:cNvPicPr/>
          <p:nvPr/>
        </p:nvPicPr>
        <p:blipFill>
          <a:blip r:embed="rId1"/>
          <a:stretch/>
        </p:blipFill>
        <p:spPr>
          <a:xfrm>
            <a:off x="3346560" y="3571920"/>
            <a:ext cx="4608360" cy="1023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http://img0.liveinternet.ru/images/attach/c/5/89/133/89133460_large_Animashki_na_voennuyu_tematiku_na_prozrachnom_fone__498_.gif"/>
          <p:cNvPicPr/>
          <p:nvPr/>
        </p:nvPicPr>
        <p:blipFill>
          <a:blip r:embed="rId2"/>
          <a:stretch/>
        </p:blipFill>
        <p:spPr>
          <a:xfrm flipH="1">
            <a:off x="7093080" y="189000"/>
            <a:ext cx="185256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2195640" y="476280"/>
            <a:ext cx="38923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узакова Мила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" descr="C:\Users\miron\Desktop\IMG-1b360514fbaf79e3c64455af563f2c8d-V.jpg"/>
          <p:cNvPicPr/>
          <p:nvPr/>
        </p:nvPicPr>
        <p:blipFill>
          <a:blip r:embed="rId1"/>
          <a:stretch/>
        </p:blipFill>
        <p:spPr>
          <a:xfrm>
            <a:off x="385920" y="1503360"/>
            <a:ext cx="2309760" cy="307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C:\Users\miron\Desktop\IMG-fa1662854ac096f2f492d01d878bf0b6-V.jpg"/>
          <p:cNvPicPr/>
          <p:nvPr/>
        </p:nvPicPr>
        <p:blipFill>
          <a:blip r:embed="rId2"/>
          <a:stretch/>
        </p:blipFill>
        <p:spPr>
          <a:xfrm>
            <a:off x="6087960" y="1268280"/>
            <a:ext cx="2486160" cy="3313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C:\Users\miron\Desktop\IMG-7354486c639d745d6395d61d8010de9a-V.jpg"/>
          <p:cNvPicPr/>
          <p:nvPr/>
        </p:nvPicPr>
        <p:blipFill>
          <a:blip r:embed="rId3"/>
          <a:stretch/>
        </p:blipFill>
        <p:spPr>
          <a:xfrm>
            <a:off x="3071880" y="2347920"/>
            <a:ext cx="262404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92000" y="414000"/>
            <a:ext cx="35276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гурцов Михаи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2" descr="C:\Users\miron\Desktop\IMG-5e6c57a528e09464d54013173d49e715-V.jpg"/>
          <p:cNvPicPr/>
          <p:nvPr/>
        </p:nvPicPr>
        <p:blipFill>
          <a:blip r:embed="rId1"/>
          <a:stretch/>
        </p:blipFill>
        <p:spPr>
          <a:xfrm>
            <a:off x="409680" y="33336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C:\Users\miron\Desktop\IMG-d02b9b58e02721d2982168b57a3465e7-V.jpg"/>
          <p:cNvPicPr/>
          <p:nvPr/>
        </p:nvPicPr>
        <p:blipFill>
          <a:blip r:embed="rId2"/>
          <a:stretch/>
        </p:blipFill>
        <p:spPr>
          <a:xfrm>
            <a:off x="6012000" y="3882960"/>
            <a:ext cx="2835000" cy="2125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C:\Users\miron\Desktop\IMG-e9de418382473c58509b42853d735ea0-V.jpg"/>
          <p:cNvPicPr/>
          <p:nvPr/>
        </p:nvPicPr>
        <p:blipFill>
          <a:blip r:embed="rId3"/>
          <a:stretch/>
        </p:blipFill>
        <p:spPr>
          <a:xfrm>
            <a:off x="3564000" y="1628640"/>
            <a:ext cx="28033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388944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брагимов Сами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3" descr="C:\Users\miron\Desktop\IMG-a16aa8d03bba51148f52921628f7fd64-V.jpg"/>
          <p:cNvPicPr/>
          <p:nvPr/>
        </p:nvPicPr>
        <p:blipFill>
          <a:blip r:embed="rId1"/>
          <a:stretch/>
        </p:blipFill>
        <p:spPr>
          <a:xfrm>
            <a:off x="684360" y="1660680"/>
            <a:ext cx="2987640" cy="3983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Users\miron\Desktop\IMG-c7b79250cb4f4dcec661f3d0bc1c74d5-V.jpg"/>
          <p:cNvPicPr/>
          <p:nvPr/>
        </p:nvPicPr>
        <p:blipFill>
          <a:blip r:embed="rId2"/>
          <a:stretch/>
        </p:blipFill>
        <p:spPr>
          <a:xfrm>
            <a:off x="4067280" y="1409760"/>
            <a:ext cx="41050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619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аравков Макс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3" descr="C:\Users\miron\Desktop\IMG-30cda57a9956f04962d97209d5f20caa-V.jpg"/>
          <p:cNvPicPr/>
          <p:nvPr/>
        </p:nvPicPr>
        <p:blipFill>
          <a:blip r:embed="rId1"/>
          <a:stretch/>
        </p:blipFill>
        <p:spPr>
          <a:xfrm>
            <a:off x="3095640" y="981000"/>
            <a:ext cx="3348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38876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емеринская 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4" descr="C:\Users\miron\Desktop\IMG-8c6ec2719dd752c9d58116419bb6a070-V.jpg"/>
          <p:cNvPicPr/>
          <p:nvPr/>
        </p:nvPicPr>
        <p:blipFill>
          <a:blip r:embed="rId1"/>
          <a:stretch/>
        </p:blipFill>
        <p:spPr>
          <a:xfrm>
            <a:off x="2843280" y="1052640"/>
            <a:ext cx="1684440" cy="2244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C:\Users\miron\Desktop\IMG-df72505afdf23e16a97ae0d155ef5df0-V.jpg"/>
          <p:cNvPicPr/>
          <p:nvPr/>
        </p:nvPicPr>
        <p:blipFill>
          <a:blip r:embed="rId2"/>
          <a:stretch/>
        </p:blipFill>
        <p:spPr>
          <a:xfrm>
            <a:off x="4859280" y="885960"/>
            <a:ext cx="1709640" cy="2279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C:\Users\miron\Desktop\IMG-c7f8a21da09764aa49aa58a913c7049f-V.jpg"/>
          <p:cNvPicPr/>
          <p:nvPr/>
        </p:nvPicPr>
        <p:blipFill>
          <a:blip r:embed="rId3"/>
          <a:stretch/>
        </p:blipFill>
        <p:spPr>
          <a:xfrm>
            <a:off x="7020000" y="1943280"/>
            <a:ext cx="1709640" cy="2277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C:\Users\miron\Desktop\IMG-8ea41099a0f570fb045d5929019bf04a-V.jpg"/>
          <p:cNvPicPr/>
          <p:nvPr/>
        </p:nvPicPr>
        <p:blipFill>
          <a:blip r:embed="rId4"/>
          <a:stretch/>
        </p:blipFill>
        <p:spPr>
          <a:xfrm>
            <a:off x="971640" y="3697200"/>
            <a:ext cx="1666800" cy="2222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C:\Users\miron\Desktop\IMG-64ffeb13b11a28bfd40a13e2f35953c0-V.jpg"/>
          <p:cNvPicPr/>
          <p:nvPr/>
        </p:nvPicPr>
        <p:blipFill>
          <a:blip r:embed="rId5"/>
          <a:stretch/>
        </p:blipFill>
        <p:spPr>
          <a:xfrm>
            <a:off x="3564000" y="3500280"/>
            <a:ext cx="2265480" cy="16988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C:\Users\miron\Desktop\IMG-eb67cb62fadf23aeae7adcfd528998c9-V.jpg"/>
          <p:cNvPicPr/>
          <p:nvPr/>
        </p:nvPicPr>
        <p:blipFill>
          <a:blip r:embed="rId6"/>
          <a:stretch/>
        </p:blipFill>
        <p:spPr>
          <a:xfrm>
            <a:off x="611280" y="1052640"/>
            <a:ext cx="170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36003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тоян Дмитр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3" descr="C:\Users\miron\Desktop\IMG-6d87f20a5c8f1a5cb77383bcbcfa742f-V.jpg"/>
          <p:cNvPicPr/>
          <p:nvPr/>
        </p:nvPicPr>
        <p:blipFill>
          <a:blip r:embed="rId1"/>
          <a:stretch/>
        </p:blipFill>
        <p:spPr>
          <a:xfrm>
            <a:off x="2987640" y="1268280"/>
            <a:ext cx="2592360" cy="345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:\Users\miron\Desktop\IMG-26ce347cc41a5aaa3348e90d0df81fef-V.jpg"/>
          <p:cNvPicPr/>
          <p:nvPr/>
        </p:nvPicPr>
        <p:blipFill>
          <a:blip r:embed="rId2"/>
          <a:stretch/>
        </p:blipFill>
        <p:spPr>
          <a:xfrm>
            <a:off x="5867280" y="2127240"/>
            <a:ext cx="266544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3600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ромова Любов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3" descr="C:\Users\miron\Desktop\IMG-a27c196b033c625e01ada736130300ae-V.jpg"/>
          <p:cNvPicPr/>
          <p:nvPr/>
        </p:nvPicPr>
        <p:blipFill>
          <a:blip r:embed="rId1"/>
          <a:stretch/>
        </p:blipFill>
        <p:spPr>
          <a:xfrm>
            <a:off x="3995640" y="1052640"/>
            <a:ext cx="2783160" cy="371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miron\Desktop\IMG-847c96c89416092025d1747d078090fd-V.jpg"/>
          <p:cNvPicPr/>
          <p:nvPr/>
        </p:nvPicPr>
        <p:blipFill>
          <a:blip r:embed="rId2"/>
          <a:stretch/>
        </p:blipFill>
        <p:spPr>
          <a:xfrm>
            <a:off x="826920" y="1916280"/>
            <a:ext cx="27831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99640" y="333000"/>
            <a:ext cx="4248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Бугаева Антон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5" descr="C:\Users\miron\Desktop\1.jpg"/>
          <p:cNvPicPr/>
          <p:nvPr/>
        </p:nvPicPr>
        <p:blipFill>
          <a:blip r:embed="rId1"/>
          <a:stretch/>
        </p:blipFill>
        <p:spPr>
          <a:xfrm>
            <a:off x="3203640" y="3703680"/>
            <a:ext cx="2228760" cy="2254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C:\Users\miron\Desktop\2.jpg"/>
          <p:cNvPicPr/>
          <p:nvPr/>
        </p:nvPicPr>
        <p:blipFill>
          <a:blip r:embed="rId2"/>
          <a:stretch/>
        </p:blipFill>
        <p:spPr>
          <a:xfrm>
            <a:off x="539640" y="981000"/>
            <a:ext cx="1793880" cy="1805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C:\Users\miron\Desktop\3.jpg"/>
          <p:cNvPicPr/>
          <p:nvPr/>
        </p:nvPicPr>
        <p:blipFill>
          <a:blip r:embed="rId3"/>
          <a:stretch/>
        </p:blipFill>
        <p:spPr>
          <a:xfrm>
            <a:off x="2627280" y="1230480"/>
            <a:ext cx="1649520" cy="20937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C:\Users\miron\Desktop\4.jpg"/>
          <p:cNvPicPr/>
          <p:nvPr/>
        </p:nvPicPr>
        <p:blipFill>
          <a:blip r:embed="rId4"/>
          <a:stretch/>
        </p:blipFill>
        <p:spPr>
          <a:xfrm>
            <a:off x="4500720" y="1700280"/>
            <a:ext cx="2220840" cy="1743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C:\Users\miron\Desktop\5.jpg"/>
          <p:cNvPicPr/>
          <p:nvPr/>
        </p:nvPicPr>
        <p:blipFill>
          <a:blip r:embed="rId5"/>
          <a:stretch/>
        </p:blipFill>
        <p:spPr>
          <a:xfrm>
            <a:off x="7020000" y="2276640"/>
            <a:ext cx="18270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4248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оздрачева Оли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3" descr="C:\Users\miron\Desktop\А1.jpg"/>
          <p:cNvPicPr/>
          <p:nvPr/>
        </p:nvPicPr>
        <p:blipFill>
          <a:blip r:embed="rId1"/>
          <a:stretch/>
        </p:blipFill>
        <p:spPr>
          <a:xfrm>
            <a:off x="1944720" y="1106640"/>
            <a:ext cx="1900080" cy="2092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C:\Users\miron\Desktop\А2.jpg"/>
          <p:cNvPicPr/>
          <p:nvPr/>
        </p:nvPicPr>
        <p:blipFill>
          <a:blip r:embed="rId2"/>
          <a:stretch/>
        </p:blipFill>
        <p:spPr>
          <a:xfrm>
            <a:off x="5940360" y="3198960"/>
            <a:ext cx="2203560" cy="2592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C:\Users\miron\Desktop\А3.jpg"/>
          <p:cNvPicPr/>
          <p:nvPr/>
        </p:nvPicPr>
        <p:blipFill>
          <a:blip r:embed="rId3"/>
          <a:stretch/>
        </p:blipFill>
        <p:spPr>
          <a:xfrm>
            <a:off x="2895480" y="3525840"/>
            <a:ext cx="2489400" cy="2049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C:\Users\miron\Desktop\А4.jpg"/>
          <p:cNvPicPr/>
          <p:nvPr/>
        </p:nvPicPr>
        <p:blipFill>
          <a:blip r:embed="rId4"/>
          <a:stretch/>
        </p:blipFill>
        <p:spPr>
          <a:xfrm>
            <a:off x="4162320" y="1036800"/>
            <a:ext cx="26845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http://img-fotki.yandex.ru/get/9761/16969765.1fe/0_8ca45_94dc90cd_orig.png"/>
          <p:cNvPicPr/>
          <p:nvPr/>
        </p:nvPicPr>
        <p:blipFill>
          <a:blip r:embed="rId1"/>
          <a:stretch/>
        </p:blipFill>
        <p:spPr>
          <a:xfrm>
            <a:off x="3240000" y="704880"/>
            <a:ext cx="5400720" cy="831960"/>
          </a:xfrm>
          <a:prstGeom prst="rect">
            <a:avLst/>
          </a:prstGeom>
          <a:ln w="0">
            <a:noFill/>
          </a:ln>
        </p:spPr>
      </p:pic>
      <p:sp>
        <p:nvSpPr>
          <p:cNvPr id="267" name="Подзаголовок 2"/>
          <p:cNvSpPr/>
          <p:nvPr/>
        </p:nvSpPr>
        <p:spPr>
          <a:xfrm>
            <a:off x="2916360" y="1844640"/>
            <a:ext cx="6048360" cy="4176720"/>
          </a:xfrm>
          <a:prstGeom prst="flowChartPunchedTape">
            <a:avLst/>
          </a:prstGeom>
          <a:solidFill>
            <a:srgbClr val="ffff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ет о проведении конк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Лучшая модель (макет) образ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енной техники пери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КОЙ ОТЕЧЕСТВЕНН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ОЙНЫ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уроченный ко Дню защитника Отечества в МАДОУ д/с №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3240000" y="704880"/>
            <a:ext cx="5400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няя группа «Знай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81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Булдакова Кс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8" descr="C:\Users\miron\Desktop\4.jpg"/>
          <p:cNvPicPr/>
          <p:nvPr/>
        </p:nvPicPr>
        <p:blipFill>
          <a:blip r:embed="rId1"/>
          <a:stretch/>
        </p:blipFill>
        <p:spPr>
          <a:xfrm>
            <a:off x="3059280" y="3611520"/>
            <a:ext cx="2376360" cy="2365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C:\Users\miron\Desktop\1.jpg"/>
          <p:cNvPicPr/>
          <p:nvPr/>
        </p:nvPicPr>
        <p:blipFill>
          <a:blip r:embed="rId2"/>
          <a:stretch/>
        </p:blipFill>
        <p:spPr>
          <a:xfrm>
            <a:off x="1619280" y="1052640"/>
            <a:ext cx="1839960" cy="1755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C:\Users\miron\Desktop\2.jpg"/>
          <p:cNvPicPr/>
          <p:nvPr/>
        </p:nvPicPr>
        <p:blipFill>
          <a:blip r:embed="rId3"/>
          <a:stretch/>
        </p:blipFill>
        <p:spPr>
          <a:xfrm>
            <a:off x="4067280" y="1052640"/>
            <a:ext cx="1936800" cy="2255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C:\Users\miron\Desktop\3.jpg"/>
          <p:cNvPicPr/>
          <p:nvPr/>
        </p:nvPicPr>
        <p:blipFill>
          <a:blip r:embed="rId4"/>
          <a:stretch/>
        </p:blipFill>
        <p:spPr>
          <a:xfrm>
            <a:off x="6516720" y="1341360"/>
            <a:ext cx="185256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842920" y="692280"/>
            <a:ext cx="3097080" cy="12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елышев Ад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C:\Users\miron\Desktop\IMG-35a38b70b2fa54265a67da22b9a04d3f-V.jpg"/>
          <p:cNvPicPr/>
          <p:nvPr/>
        </p:nvPicPr>
        <p:blipFill>
          <a:blip r:embed="rId1"/>
          <a:stretch/>
        </p:blipFill>
        <p:spPr>
          <a:xfrm>
            <a:off x="536400" y="119700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C:\Users\miron\Desktop\IMG-cf717718567f54a68661fb603c5d71d8-V.jpg"/>
          <p:cNvPicPr/>
          <p:nvPr/>
        </p:nvPicPr>
        <p:blipFill>
          <a:blip r:embed="rId2"/>
          <a:stretch/>
        </p:blipFill>
        <p:spPr>
          <a:xfrm>
            <a:off x="6084720" y="1428840"/>
            <a:ext cx="2448000" cy="3265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C:\Users\miron\Desktop\IMG-96e799691c6b05f7c8fb6a63e71ed24b-V.jpg"/>
          <p:cNvPicPr/>
          <p:nvPr/>
        </p:nvPicPr>
        <p:blipFill>
          <a:blip r:embed="rId3"/>
          <a:stretch/>
        </p:blipFill>
        <p:spPr>
          <a:xfrm>
            <a:off x="3132000" y="2637000"/>
            <a:ext cx="24512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38275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авлецова Ар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2" descr="C:\Users\miron\Desktop\IMG-850ab48a2ecfb32eee20eb5eb342aa70-V.jpg"/>
          <p:cNvPicPr/>
          <p:nvPr/>
        </p:nvPicPr>
        <p:blipFill>
          <a:blip r:embed="rId1"/>
          <a:stretch/>
        </p:blipFill>
        <p:spPr>
          <a:xfrm>
            <a:off x="3003480" y="3213000"/>
            <a:ext cx="2216160" cy="2880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C:\Users\miron\Desktop\IMG-0450603dd0a81c7e8de04b1a810c68dc-V.jpg"/>
          <p:cNvPicPr/>
          <p:nvPr/>
        </p:nvPicPr>
        <p:blipFill>
          <a:blip r:embed="rId2"/>
          <a:stretch/>
        </p:blipFill>
        <p:spPr>
          <a:xfrm>
            <a:off x="4846680" y="333360"/>
            <a:ext cx="2089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22160" y="620640"/>
            <a:ext cx="30578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лищук Ле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C:\Users\miron\Desktop\IMG-e24bfacb0ca38989515984c33f7c3e0a-V.jpg"/>
          <p:cNvPicPr/>
          <p:nvPr/>
        </p:nvPicPr>
        <p:blipFill>
          <a:blip r:embed="rId1"/>
          <a:stretch/>
        </p:blipFill>
        <p:spPr>
          <a:xfrm>
            <a:off x="611280" y="1628640"/>
            <a:ext cx="2016000" cy="2695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Users\miron\Desktop\IMG-d891c3f5a6c3628409c5ad00e72ecb71-V.jpg"/>
          <p:cNvPicPr/>
          <p:nvPr/>
        </p:nvPicPr>
        <p:blipFill>
          <a:blip r:embed="rId2"/>
          <a:stretch/>
        </p:blipFill>
        <p:spPr>
          <a:xfrm>
            <a:off x="2754360" y="3789360"/>
            <a:ext cx="2886120" cy="2160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Users\miron\Desktop\IMG-17f06f81871160b0928590c3e7b51113-V.jpg"/>
          <p:cNvPicPr/>
          <p:nvPr/>
        </p:nvPicPr>
        <p:blipFill>
          <a:blip r:embed="rId3"/>
          <a:stretch/>
        </p:blipFill>
        <p:spPr>
          <a:xfrm>
            <a:off x="6443640" y="1450800"/>
            <a:ext cx="1911240" cy="2554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:\Users\miron\Desktop\IMG-0b2e467eff169f665456c7fa85e42a6c-V.jpg"/>
          <p:cNvPicPr/>
          <p:nvPr/>
        </p:nvPicPr>
        <p:blipFill>
          <a:blip r:embed="rId4"/>
          <a:stretch/>
        </p:blipFill>
        <p:spPr>
          <a:xfrm>
            <a:off x="3780000" y="531720"/>
            <a:ext cx="20253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4392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лощук Ром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C:\Users\miron\Desktop\IMG-b8b2948124e7c5d1e9d6698dd5059914-V.jpg"/>
          <p:cNvPicPr/>
          <p:nvPr/>
        </p:nvPicPr>
        <p:blipFill>
          <a:blip r:embed="rId1"/>
          <a:stretch/>
        </p:blipFill>
        <p:spPr>
          <a:xfrm>
            <a:off x="6084720" y="333360"/>
            <a:ext cx="2660760" cy="3548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Users\miron\Desktop\IMG-57b0d8a75ca227970f1f5e8e46675827-V.jpg"/>
          <p:cNvPicPr/>
          <p:nvPr/>
        </p:nvPicPr>
        <p:blipFill>
          <a:blip r:embed="rId2"/>
          <a:stretch/>
        </p:blipFill>
        <p:spPr>
          <a:xfrm>
            <a:off x="2987640" y="2492280"/>
            <a:ext cx="2662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721800" y="259920"/>
            <a:ext cx="34182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орячук Арт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C:\Users\miron\Desktop\IMG-b49a0d52d5911a45f63f7fc2313fc05c-V.jpg"/>
          <p:cNvPicPr/>
          <p:nvPr/>
        </p:nvPicPr>
        <p:blipFill>
          <a:blip r:embed="rId1"/>
          <a:stretch/>
        </p:blipFill>
        <p:spPr>
          <a:xfrm>
            <a:off x="4211640" y="474840"/>
            <a:ext cx="2244600" cy="2993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C:\Users\miron\Desktop\IMG-2e51a91cc98f2631292b3a1d089692cd-V.jpg"/>
          <p:cNvPicPr/>
          <p:nvPr/>
        </p:nvPicPr>
        <p:blipFill>
          <a:blip r:embed="rId2"/>
          <a:stretch/>
        </p:blipFill>
        <p:spPr>
          <a:xfrm>
            <a:off x="755640" y="1052640"/>
            <a:ext cx="230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C:\Users\miron\Desktop\1.jpg"/>
          <p:cNvPicPr/>
          <p:nvPr/>
        </p:nvPicPr>
        <p:blipFill>
          <a:blip r:embed="rId3"/>
          <a:stretch/>
        </p:blipFill>
        <p:spPr>
          <a:xfrm>
            <a:off x="353880" y="4268880"/>
            <a:ext cx="3197520" cy="1620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:\Users\miron\Desktop\2.jpg"/>
          <p:cNvPicPr/>
          <p:nvPr/>
        </p:nvPicPr>
        <p:blipFill>
          <a:blip r:embed="rId4"/>
          <a:stretch/>
        </p:blipFill>
        <p:spPr>
          <a:xfrm>
            <a:off x="3792600" y="3716280"/>
            <a:ext cx="3084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C:\Users\miron\Desktop\IMG-65313cd28c6143d33e23e560d77b186c-V.jpg"/>
          <p:cNvPicPr/>
          <p:nvPr/>
        </p:nvPicPr>
        <p:blipFill>
          <a:blip r:embed="rId1"/>
          <a:stretch/>
        </p:blipFill>
        <p:spPr>
          <a:xfrm>
            <a:off x="1042920" y="873000"/>
            <a:ext cx="2575080" cy="1930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C:\Users\miron\Desktop\IMG-7c67d8e97de028ce8caebd51b00b394a-V.jpg"/>
          <p:cNvPicPr/>
          <p:nvPr/>
        </p:nvPicPr>
        <p:blipFill>
          <a:blip r:embed="rId2"/>
          <a:stretch/>
        </p:blipFill>
        <p:spPr>
          <a:xfrm>
            <a:off x="468360" y="3141720"/>
            <a:ext cx="2104920" cy="2808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276720" y="259920"/>
            <a:ext cx="3311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олодин Зах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" descr="C:\Users\miron\Desktop\IMG-7911c1267e3724fdf525c1912bb477f3-V.jpg"/>
          <p:cNvPicPr/>
          <p:nvPr/>
        </p:nvPicPr>
        <p:blipFill>
          <a:blip r:embed="rId3"/>
          <a:stretch/>
        </p:blipFill>
        <p:spPr>
          <a:xfrm>
            <a:off x="4211640" y="1143000"/>
            <a:ext cx="1836720" cy="2449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C:\Users\miron\Desktop\IMG-f40e262550b1a4da53afe279f840eaad-V.jpg"/>
          <p:cNvPicPr/>
          <p:nvPr/>
        </p:nvPicPr>
        <p:blipFill>
          <a:blip r:embed="rId4"/>
          <a:stretch/>
        </p:blipFill>
        <p:spPr>
          <a:xfrm>
            <a:off x="6597720" y="1611360"/>
            <a:ext cx="1955880" cy="2609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C:\Users\miron\Desktop\IMG-e537cc1d982029ce3eeb7e10438db3d0-V.jpg"/>
          <p:cNvPicPr/>
          <p:nvPr/>
        </p:nvPicPr>
        <p:blipFill>
          <a:blip r:embed="rId5"/>
          <a:stretch/>
        </p:blipFill>
        <p:spPr>
          <a:xfrm>
            <a:off x="3036960" y="4005360"/>
            <a:ext cx="26416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3T15:08:56Z</dcterms:created>
  <dc:creator>DAY</dc:creator>
  <dc:description/>
  <dc:language>en-US</dc:language>
  <cp:lastModifiedBy>mironovalida2014@gmail.com</cp:lastModifiedBy>
  <dcterms:modified xsi:type="dcterms:W3CDTF">2023-10-15T20:12:38Z</dcterms:modified>
  <cp:revision>27</cp:revision>
  <dc:subject/>
  <dc:title>Слайд 1</dc:title>
</cp:coreProperties>
</file>