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8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52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3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8.gif" ContentType="image/gif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A892-7188-4DB8-8BD5-636C95B936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группа «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D79A-ADD7-48D0-8EBC-784223FCF4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DD5-9F20-4376-8FF6-BF8861A4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577-E419-4684-ADBB-4B9A4AD3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040-366C-45C9-A7F1-34C1FADA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642-8F94-45EC-97DF-146B3F4F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E1BE-9E94-4E6D-AE87-C8091689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6D98-7E7C-4300-95A3-AE96F7C5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A9D-C2F6-4078-9F7C-6B37B8A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505-8549-47E3-8167-42DCBAC1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740C-AF52-427F-8A4F-70B55FFC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97A7-3654-4832-A9A5-C9BA31DE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7C16-25EA-4D06-9F56-F73366A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D2E-7E6D-4873-B004-18306BFB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0FB2-80DC-4789-91ED-D92FFA5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D9D3-2CF8-4C0B-B83F-CC8145B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281B-A172-4697-B396-43F8C64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588F-F059-4CB8-96B2-E099678C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5ECF-6D30-439E-AAE3-890D400C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A878-D124-4BA2-B78B-D787E446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C62F-6049-48D0-8167-9A6C435A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BAD3-FE48-4DAD-9DFF-E54EE4F4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3072-B2A3-423F-A057-F98BD1A6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9EC6-DABA-49C2-A173-22FA56EA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7FB-1E50-4BEC-A4CC-BDBE7D86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55F9-D152-4381-9425-8497E480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4F65-1194-4BD3-9598-C24D950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D23C-7B7D-4404-A8E1-214A0308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019A-C6B2-485E-812B-B5B17A45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4A72-C3ED-4523-9FBD-1DB7EEE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FD8B-C908-4A6E-ABBF-537EBC51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A9E6-7D8C-48B0-A3F2-37D10D53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94D3B-FBFF-41F4-ABC5-E3677458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88C49-DF49-4CBB-9C9C-121A36DD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8142-4642-45C7-8B81-BFA1AF0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9B9-D343-49A6-9513-2DB1ABEE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BEAC-CD1A-4452-B5C1-9FC73AF6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1B33-FD4E-49D9-B250-C2CF5F58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15CA2-1DBA-4D13-BAD8-3559A62E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C936-647A-4D36-A622-4FBFCAF5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E6F91-D217-4FEE-A8B6-8B075A4F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E98F-758C-4E3D-81E6-0C6A57B7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0C747-84BE-4452-88B0-00024E5A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8BCB9-E990-43AE-8141-489FBADE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722B6-0285-4E22-9061-D8BDB71E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9F452-200A-4367-AC83-55FDD61E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526-5CBF-4D94-A2BC-9346547C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E9C4-1307-4FB0-93EF-D75A930D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E7930-4B84-4C5E-A696-4E2C9433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F89FB-0FE0-4462-97D6-491EAE8E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3FBC-A6D6-493C-8FB1-12EE8402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EE539-7D0E-42A1-8B99-40B970D3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FA8BC-1871-45A7-8016-10C206BE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AD2C-8AF8-4FF1-B615-03F6D096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37EBD-B9FA-4C65-88A2-370068A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157E-435D-463C-864C-DA5CA588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F0F6-7091-4087-8716-844DC801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F8B-BFAE-437B-A9F2-CC8BD69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BC38A-7661-4802-A2BA-EE0C31E1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0690D-5FBC-4085-940B-1E04EF3E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1FFB-E366-477E-8706-60F2AE4D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7C557-D2D6-4257-8CBB-34FCCFF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5FD8-FDD6-4813-B819-C7C7FD8C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05EA8-B23C-4019-9754-8335023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70B1-1D72-4BB1-9B27-4B720AFE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8128-04C4-490E-92DA-0403564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8808C-D054-43CE-912B-299A94F2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33DE3-9EBF-450A-A034-30181FD4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650-00ED-493B-8B22-F04EA4E3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54E5E-E85B-456D-9832-1892F189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7AF9A-0A59-4625-9D73-F47ED945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A67C9-83C1-4232-98BA-DD34FB55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EDD-3EAC-49D6-92FD-85B3846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FE4-A8FF-42F4-A554-BBBCC2EA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E3B4-9528-4060-9D84-1BC6A675B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Слайд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133B-2864-43A2-9D96-FA1D898B9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Слайд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767F-4B01-4B8B-97B9-7678AC32E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Слай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B38C-D601-4374-AFCD-ED7FCD058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Слайд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BEF-08E4-4202-9898-F63C7BEF1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Слайд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D27B-88E3-4113-BF40-A436925C6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3346560" y="3571920"/>
            <a:ext cx="4608360" cy="1023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://img0.liveinternet.ru/images/attach/c/5/89/133/89133460_large_Animashki_na_voennuyu_tematiku_na_prozrachnom_fone__498_.gif"/>
          <p:cNvPicPr/>
          <p:nvPr/>
        </p:nvPicPr>
        <p:blipFill>
          <a:blip r:embed="rId2"/>
          <a:stretch/>
        </p:blipFill>
        <p:spPr>
          <a:xfrm flipH="1">
            <a:off x="7093080" y="189000"/>
            <a:ext cx="18525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195640" y="476280"/>
            <a:ext cx="38923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узакова Мила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C:\Users\miron\Desktop\IMG-1b360514fbaf79e3c64455af563f2c8d-V.jpg"/>
          <p:cNvPicPr/>
          <p:nvPr/>
        </p:nvPicPr>
        <p:blipFill>
          <a:blip r:embed="rId1"/>
          <a:stretch/>
        </p:blipFill>
        <p:spPr>
          <a:xfrm>
            <a:off x="385920" y="1503360"/>
            <a:ext cx="2309760" cy="307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Users\miron\Desktop\IMG-fa1662854ac096f2f492d01d878bf0b6-V.jpg"/>
          <p:cNvPicPr/>
          <p:nvPr/>
        </p:nvPicPr>
        <p:blipFill>
          <a:blip r:embed="rId2"/>
          <a:stretch/>
        </p:blipFill>
        <p:spPr>
          <a:xfrm>
            <a:off x="6087960" y="1268280"/>
            <a:ext cx="2486160" cy="3313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Users\miron\Desktop\IMG-7354486c639d745d6395d61d8010de9a-V.jpg"/>
          <p:cNvPicPr/>
          <p:nvPr/>
        </p:nvPicPr>
        <p:blipFill>
          <a:blip r:embed="rId3"/>
          <a:stretch/>
        </p:blipFill>
        <p:spPr>
          <a:xfrm>
            <a:off x="3071880" y="2347920"/>
            <a:ext cx="26240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92000" y="414000"/>
            <a:ext cx="35276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гурцов Миха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2" descr="C:\Users\miron\Desktop\IMG-5e6c57a528e09464d54013173d49e715-V.jpg"/>
          <p:cNvPicPr/>
          <p:nvPr/>
        </p:nvPicPr>
        <p:blipFill>
          <a:blip r:embed="rId1"/>
          <a:stretch/>
        </p:blipFill>
        <p:spPr>
          <a:xfrm>
            <a:off x="409680" y="33336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Users\miron\Desktop\IMG-d02b9b58e02721d2982168b57a3465e7-V.jpg"/>
          <p:cNvPicPr/>
          <p:nvPr/>
        </p:nvPicPr>
        <p:blipFill>
          <a:blip r:embed="rId2"/>
          <a:stretch/>
        </p:blipFill>
        <p:spPr>
          <a:xfrm>
            <a:off x="6012000" y="3882960"/>
            <a:ext cx="2835000" cy="2125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C:\Users\miron\Desktop\IMG-e9de418382473c58509b42853d735ea0-V.jpg"/>
          <p:cNvPicPr/>
          <p:nvPr/>
        </p:nvPicPr>
        <p:blipFill>
          <a:blip r:embed="rId3"/>
          <a:stretch/>
        </p:blipFill>
        <p:spPr>
          <a:xfrm>
            <a:off x="3564000" y="1628640"/>
            <a:ext cx="28033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388944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брагимов Сами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3" descr="C:\Users\miron\Desktop\IMG-a16aa8d03bba51148f52921628f7fd64-V.jpg"/>
          <p:cNvPicPr/>
          <p:nvPr/>
        </p:nvPicPr>
        <p:blipFill>
          <a:blip r:embed="rId1"/>
          <a:stretch/>
        </p:blipFill>
        <p:spPr>
          <a:xfrm>
            <a:off x="684360" y="1660680"/>
            <a:ext cx="2987640" cy="3983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Users\miron\Desktop\IMG-c7b79250cb4f4dcec661f3d0bc1c74d5-V.jpg"/>
          <p:cNvPicPr/>
          <p:nvPr/>
        </p:nvPicPr>
        <p:blipFill>
          <a:blip r:embed="rId2"/>
          <a:stretch/>
        </p:blipFill>
        <p:spPr>
          <a:xfrm>
            <a:off x="4067280" y="1409760"/>
            <a:ext cx="4105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61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аравков Макс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3" descr="C:\Users\miron\Desktop\IMG-30cda57a9956f04962d97209d5f20caa-V.jpg"/>
          <p:cNvPicPr/>
          <p:nvPr/>
        </p:nvPicPr>
        <p:blipFill>
          <a:blip r:embed="rId1"/>
          <a:stretch/>
        </p:blipFill>
        <p:spPr>
          <a:xfrm>
            <a:off x="3095640" y="98100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38876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емеринская 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4" descr="C:\Users\miron\Desktop\IMG-8c6ec2719dd752c9d58116419bb6a070-V.jpg"/>
          <p:cNvPicPr/>
          <p:nvPr/>
        </p:nvPicPr>
        <p:blipFill>
          <a:blip r:embed="rId1"/>
          <a:stretch/>
        </p:blipFill>
        <p:spPr>
          <a:xfrm>
            <a:off x="2843280" y="1052640"/>
            <a:ext cx="1684440" cy="2244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C:\Users\miron\Desktop\IMG-df72505afdf23e16a97ae0d155ef5df0-V.jpg"/>
          <p:cNvPicPr/>
          <p:nvPr/>
        </p:nvPicPr>
        <p:blipFill>
          <a:blip r:embed="rId2"/>
          <a:stretch/>
        </p:blipFill>
        <p:spPr>
          <a:xfrm>
            <a:off x="4859280" y="885960"/>
            <a:ext cx="1709640" cy="2279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C:\Users\miron\Desktop\IMG-c7f8a21da09764aa49aa58a913c7049f-V.jpg"/>
          <p:cNvPicPr/>
          <p:nvPr/>
        </p:nvPicPr>
        <p:blipFill>
          <a:blip r:embed="rId3"/>
          <a:stretch/>
        </p:blipFill>
        <p:spPr>
          <a:xfrm>
            <a:off x="7020000" y="1943280"/>
            <a:ext cx="1709640" cy="227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C:\Users\miron\Desktop\IMG-8ea41099a0f570fb045d5929019bf04a-V.jpg"/>
          <p:cNvPicPr/>
          <p:nvPr/>
        </p:nvPicPr>
        <p:blipFill>
          <a:blip r:embed="rId4"/>
          <a:stretch/>
        </p:blipFill>
        <p:spPr>
          <a:xfrm>
            <a:off x="971640" y="3697200"/>
            <a:ext cx="1666800" cy="2222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C:\Users\miron\Desktop\IMG-64ffeb13b11a28bfd40a13e2f35953c0-V.jpg"/>
          <p:cNvPicPr/>
          <p:nvPr/>
        </p:nvPicPr>
        <p:blipFill>
          <a:blip r:embed="rId5"/>
          <a:stretch/>
        </p:blipFill>
        <p:spPr>
          <a:xfrm>
            <a:off x="3564000" y="3500280"/>
            <a:ext cx="2265480" cy="1698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C:\Users\miron\Desktop\IMG-eb67cb62fadf23aeae7adcfd528998c9-V.jpg"/>
          <p:cNvPicPr/>
          <p:nvPr/>
        </p:nvPicPr>
        <p:blipFill>
          <a:blip r:embed="rId6"/>
          <a:stretch/>
        </p:blipFill>
        <p:spPr>
          <a:xfrm>
            <a:off x="611280" y="1052640"/>
            <a:ext cx="170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тоян Дмитр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3" descr="C:\Users\miron\Desktop\IMG-6d87f20a5c8f1a5cb77383bcbcfa742f-V.jpg"/>
          <p:cNvPicPr/>
          <p:nvPr/>
        </p:nvPicPr>
        <p:blipFill>
          <a:blip r:embed="rId1"/>
          <a:stretch/>
        </p:blipFill>
        <p:spPr>
          <a:xfrm>
            <a:off x="2987640" y="126828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Users\miron\Desktop\IMG-26ce347cc41a5aaa3348e90d0df81fef-V.jpg"/>
          <p:cNvPicPr/>
          <p:nvPr/>
        </p:nvPicPr>
        <p:blipFill>
          <a:blip r:embed="rId2"/>
          <a:stretch/>
        </p:blipFill>
        <p:spPr>
          <a:xfrm>
            <a:off x="5867280" y="2127240"/>
            <a:ext cx="26654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3600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ромова Любов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3" descr="C:\Users\miron\Desktop\IMG-a27c196b033c625e01ada736130300ae-V.jpg"/>
          <p:cNvPicPr/>
          <p:nvPr/>
        </p:nvPicPr>
        <p:blipFill>
          <a:blip r:embed="rId1"/>
          <a:stretch/>
        </p:blipFill>
        <p:spPr>
          <a:xfrm>
            <a:off x="3995640" y="1052640"/>
            <a:ext cx="2783160" cy="371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miron\Desktop\IMG-847c96c89416092025d1747d078090fd-V.jpg"/>
          <p:cNvPicPr/>
          <p:nvPr/>
        </p:nvPicPr>
        <p:blipFill>
          <a:blip r:embed="rId2"/>
          <a:stretch/>
        </p:blipFill>
        <p:spPr>
          <a:xfrm>
            <a:off x="826920" y="1916280"/>
            <a:ext cx="27831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99640" y="33300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угаева Антон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5" descr="C:\Users\miron\Desktop\1.jpg"/>
          <p:cNvPicPr/>
          <p:nvPr/>
        </p:nvPicPr>
        <p:blipFill>
          <a:blip r:embed="rId1"/>
          <a:stretch/>
        </p:blipFill>
        <p:spPr>
          <a:xfrm>
            <a:off x="3203640" y="3703680"/>
            <a:ext cx="2228760" cy="2254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C:\Users\miron\Desktop\2.jpg"/>
          <p:cNvPicPr/>
          <p:nvPr/>
        </p:nvPicPr>
        <p:blipFill>
          <a:blip r:embed="rId2"/>
          <a:stretch/>
        </p:blipFill>
        <p:spPr>
          <a:xfrm>
            <a:off x="539640" y="981000"/>
            <a:ext cx="1793880" cy="1805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Users\miron\Desktop\3.jpg"/>
          <p:cNvPicPr/>
          <p:nvPr/>
        </p:nvPicPr>
        <p:blipFill>
          <a:blip r:embed="rId3"/>
          <a:stretch/>
        </p:blipFill>
        <p:spPr>
          <a:xfrm>
            <a:off x="2627280" y="1230480"/>
            <a:ext cx="1649520" cy="2093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C:\Users\miron\Desktop\4.jpg"/>
          <p:cNvPicPr/>
          <p:nvPr/>
        </p:nvPicPr>
        <p:blipFill>
          <a:blip r:embed="rId4"/>
          <a:stretch/>
        </p:blipFill>
        <p:spPr>
          <a:xfrm>
            <a:off x="4500720" y="1700280"/>
            <a:ext cx="2220840" cy="1743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C:\Users\miron\Desktop\5.jpg"/>
          <p:cNvPicPr/>
          <p:nvPr/>
        </p:nvPicPr>
        <p:blipFill>
          <a:blip r:embed="rId5"/>
          <a:stretch/>
        </p:blipFill>
        <p:spPr>
          <a:xfrm>
            <a:off x="7020000" y="2276640"/>
            <a:ext cx="1827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424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оздрачева Оли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3" descr="C:\Users\miron\Desktop\А1.jpg"/>
          <p:cNvPicPr/>
          <p:nvPr/>
        </p:nvPicPr>
        <p:blipFill>
          <a:blip r:embed="rId1"/>
          <a:stretch/>
        </p:blipFill>
        <p:spPr>
          <a:xfrm>
            <a:off x="1944720" y="1106640"/>
            <a:ext cx="1900080" cy="2092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C:\Users\miron\Desktop\А2.jpg"/>
          <p:cNvPicPr/>
          <p:nvPr/>
        </p:nvPicPr>
        <p:blipFill>
          <a:blip r:embed="rId2"/>
          <a:stretch/>
        </p:blipFill>
        <p:spPr>
          <a:xfrm>
            <a:off x="5940360" y="3198960"/>
            <a:ext cx="2203560" cy="2592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C:\Users\miron\Desktop\А3.jpg"/>
          <p:cNvPicPr/>
          <p:nvPr/>
        </p:nvPicPr>
        <p:blipFill>
          <a:blip r:embed="rId3"/>
          <a:stretch/>
        </p:blipFill>
        <p:spPr>
          <a:xfrm>
            <a:off x="2895480" y="3525840"/>
            <a:ext cx="2489400" cy="2049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C:\Users\miron\Desktop\А4.jpg"/>
          <p:cNvPicPr/>
          <p:nvPr/>
        </p:nvPicPr>
        <p:blipFill>
          <a:blip r:embed="rId4"/>
          <a:stretch/>
        </p:blipFill>
        <p:spPr>
          <a:xfrm>
            <a:off x="4162320" y="1036800"/>
            <a:ext cx="26845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http://img-fotki.yandex.ru/get/9761/16969765.1fe/0_8ca45_94dc90cd_orig.png"/>
          <p:cNvPicPr/>
          <p:nvPr/>
        </p:nvPicPr>
        <p:blipFill>
          <a:blip r:embed="rId1"/>
          <a:stretch/>
        </p:blipFill>
        <p:spPr>
          <a:xfrm>
            <a:off x="3240000" y="704880"/>
            <a:ext cx="5400720" cy="831960"/>
          </a:xfrm>
          <a:prstGeom prst="rect">
            <a:avLst/>
          </a:prstGeom>
          <a:ln w="0">
            <a:noFill/>
          </a:ln>
        </p:spPr>
      </p:pic>
      <p:sp>
        <p:nvSpPr>
          <p:cNvPr id="267" name="Подзаголовок 2"/>
          <p:cNvSpPr/>
          <p:nvPr/>
        </p:nvSpPr>
        <p:spPr>
          <a:xfrm>
            <a:off x="2916360" y="1844640"/>
            <a:ext cx="6048360" cy="4176720"/>
          </a:xfrm>
          <a:prstGeom prst="flowChartPunchedTape">
            <a:avLst/>
          </a:prstGeom>
          <a:solidFill>
            <a:srgbClr val="ffff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 о проведении кон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учшая модель (макет) образ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енной техники пери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ОЙ ОТЕЧЕСТВЕНН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ОЙНЫ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уроченный ко Дню защитника Отечества в МАДОУ д/с №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3240000" y="704880"/>
            <a:ext cx="5400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яя группа «Знай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81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улдакова Кс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8" descr="C:\Users\miron\Desktop\4.jpg"/>
          <p:cNvPicPr/>
          <p:nvPr/>
        </p:nvPicPr>
        <p:blipFill>
          <a:blip r:embed="rId1"/>
          <a:stretch/>
        </p:blipFill>
        <p:spPr>
          <a:xfrm>
            <a:off x="3059280" y="3611520"/>
            <a:ext cx="2376360" cy="2365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C:\Users\miron\Desktop\1.jpg"/>
          <p:cNvPicPr/>
          <p:nvPr/>
        </p:nvPicPr>
        <p:blipFill>
          <a:blip r:embed="rId2"/>
          <a:stretch/>
        </p:blipFill>
        <p:spPr>
          <a:xfrm>
            <a:off x="1619280" y="1052640"/>
            <a:ext cx="1839960" cy="1755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C:\Users\miron\Desktop\2.jpg"/>
          <p:cNvPicPr/>
          <p:nvPr/>
        </p:nvPicPr>
        <p:blipFill>
          <a:blip r:embed="rId3"/>
          <a:stretch/>
        </p:blipFill>
        <p:spPr>
          <a:xfrm>
            <a:off x="4067280" y="1052640"/>
            <a:ext cx="1936800" cy="2255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C:\Users\miron\Desktop\3.jpg"/>
          <p:cNvPicPr/>
          <p:nvPr/>
        </p:nvPicPr>
        <p:blipFill>
          <a:blip r:embed="rId4"/>
          <a:stretch/>
        </p:blipFill>
        <p:spPr>
          <a:xfrm>
            <a:off x="6516720" y="1341360"/>
            <a:ext cx="18525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842920" y="692280"/>
            <a:ext cx="30970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елышев Ад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C:\Users\miron\Desktop\IMG-35a38b70b2fa54265a67da22b9a04d3f-V.jpg"/>
          <p:cNvPicPr/>
          <p:nvPr/>
        </p:nvPicPr>
        <p:blipFill>
          <a:blip r:embed="rId1"/>
          <a:stretch/>
        </p:blipFill>
        <p:spPr>
          <a:xfrm>
            <a:off x="536400" y="119700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C:\Users\miron\Desktop\IMG-cf717718567f54a68661fb603c5d71d8-V.jpg"/>
          <p:cNvPicPr/>
          <p:nvPr/>
        </p:nvPicPr>
        <p:blipFill>
          <a:blip r:embed="rId2"/>
          <a:stretch/>
        </p:blipFill>
        <p:spPr>
          <a:xfrm>
            <a:off x="6084720" y="1428840"/>
            <a:ext cx="2448000" cy="3265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C:\Users\miron\Desktop\IMG-96e799691c6b05f7c8fb6a63e71ed24b-V.jpg"/>
          <p:cNvPicPr/>
          <p:nvPr/>
        </p:nvPicPr>
        <p:blipFill>
          <a:blip r:embed="rId3"/>
          <a:stretch/>
        </p:blipFill>
        <p:spPr>
          <a:xfrm>
            <a:off x="3132000" y="2637000"/>
            <a:ext cx="24512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3827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авлецова А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C:\Users\miron\Desktop\IMG-850ab48a2ecfb32eee20eb5eb342aa70-V.jpg"/>
          <p:cNvPicPr/>
          <p:nvPr/>
        </p:nvPicPr>
        <p:blipFill>
          <a:blip r:embed="rId1"/>
          <a:stretch/>
        </p:blipFill>
        <p:spPr>
          <a:xfrm>
            <a:off x="3003480" y="3213000"/>
            <a:ext cx="2216160" cy="2880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Users\miron\Desktop\IMG-0450603dd0a81c7e8de04b1a810c68dc-V.jpg"/>
          <p:cNvPicPr/>
          <p:nvPr/>
        </p:nvPicPr>
        <p:blipFill>
          <a:blip r:embed="rId2"/>
          <a:stretch/>
        </p:blipFill>
        <p:spPr>
          <a:xfrm>
            <a:off x="4846680" y="333360"/>
            <a:ext cx="2089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22160" y="620640"/>
            <a:ext cx="30578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лищук Л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C:\Users\miron\Desktop\IMG-e24bfacb0ca38989515984c33f7c3e0a-V.jpg"/>
          <p:cNvPicPr/>
          <p:nvPr/>
        </p:nvPicPr>
        <p:blipFill>
          <a:blip r:embed="rId1"/>
          <a:stretch/>
        </p:blipFill>
        <p:spPr>
          <a:xfrm>
            <a:off x="611280" y="1628640"/>
            <a:ext cx="2016000" cy="2695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miron\Desktop\IMG-d891c3f5a6c3628409c5ad00e72ecb71-V.jpg"/>
          <p:cNvPicPr/>
          <p:nvPr/>
        </p:nvPicPr>
        <p:blipFill>
          <a:blip r:embed="rId2"/>
          <a:stretch/>
        </p:blipFill>
        <p:spPr>
          <a:xfrm>
            <a:off x="2754360" y="3789360"/>
            <a:ext cx="2886120" cy="216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miron\Desktop\IMG-17f06f81871160b0928590c3e7b51113-V.jpg"/>
          <p:cNvPicPr/>
          <p:nvPr/>
        </p:nvPicPr>
        <p:blipFill>
          <a:blip r:embed="rId3"/>
          <a:stretch/>
        </p:blipFill>
        <p:spPr>
          <a:xfrm>
            <a:off x="6443640" y="1450800"/>
            <a:ext cx="1911240" cy="2554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miron\Desktop\IMG-0b2e467eff169f665456c7fa85e42a6c-V.jpg"/>
          <p:cNvPicPr/>
          <p:nvPr/>
        </p:nvPicPr>
        <p:blipFill>
          <a:blip r:embed="rId4"/>
          <a:stretch/>
        </p:blipFill>
        <p:spPr>
          <a:xfrm>
            <a:off x="3780000" y="531720"/>
            <a:ext cx="2025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4392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ощук Ром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C:\Users\miron\Desktop\IMG-b8b2948124e7c5d1e9d6698dd5059914-V.jpg"/>
          <p:cNvPicPr/>
          <p:nvPr/>
        </p:nvPicPr>
        <p:blipFill>
          <a:blip r:embed="rId1"/>
          <a:stretch/>
        </p:blipFill>
        <p:spPr>
          <a:xfrm>
            <a:off x="6084720" y="333360"/>
            <a:ext cx="2660760" cy="3548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miron\Desktop\IMG-57b0d8a75ca227970f1f5e8e46675827-V.jpg"/>
          <p:cNvPicPr/>
          <p:nvPr/>
        </p:nvPicPr>
        <p:blipFill>
          <a:blip r:embed="rId2"/>
          <a:stretch/>
        </p:blipFill>
        <p:spPr>
          <a:xfrm>
            <a:off x="2987640" y="2492280"/>
            <a:ext cx="2662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721800" y="259920"/>
            <a:ext cx="3418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рячук Ар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C:\Users\miron\Desktop\IMG-b49a0d52d5911a45f63f7fc2313fc05c-V.jpg"/>
          <p:cNvPicPr/>
          <p:nvPr/>
        </p:nvPicPr>
        <p:blipFill>
          <a:blip r:embed="rId1"/>
          <a:stretch/>
        </p:blipFill>
        <p:spPr>
          <a:xfrm>
            <a:off x="4211640" y="474840"/>
            <a:ext cx="2244600" cy="2993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C:\Users\miron\Desktop\IMG-2e51a91cc98f2631292b3a1d089692cd-V.jpg"/>
          <p:cNvPicPr/>
          <p:nvPr/>
        </p:nvPicPr>
        <p:blipFill>
          <a:blip r:embed="rId2"/>
          <a:stretch/>
        </p:blipFill>
        <p:spPr>
          <a:xfrm>
            <a:off x="755640" y="105264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C:\Users\miron\Desktop\1.jpg"/>
          <p:cNvPicPr/>
          <p:nvPr/>
        </p:nvPicPr>
        <p:blipFill>
          <a:blip r:embed="rId3"/>
          <a:stretch/>
        </p:blipFill>
        <p:spPr>
          <a:xfrm>
            <a:off x="353880" y="4268880"/>
            <a:ext cx="3197520" cy="1620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:\Users\miron\Desktop\2.jpg"/>
          <p:cNvPicPr/>
          <p:nvPr/>
        </p:nvPicPr>
        <p:blipFill>
          <a:blip r:embed="rId4"/>
          <a:stretch/>
        </p:blipFill>
        <p:spPr>
          <a:xfrm>
            <a:off x="3792600" y="3716280"/>
            <a:ext cx="3084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C:\Users\miron\Desktop\IMG-65313cd28c6143d33e23e560d77b186c-V.jpg"/>
          <p:cNvPicPr/>
          <p:nvPr/>
        </p:nvPicPr>
        <p:blipFill>
          <a:blip r:embed="rId1"/>
          <a:stretch/>
        </p:blipFill>
        <p:spPr>
          <a:xfrm>
            <a:off x="1042920" y="873000"/>
            <a:ext cx="2575080" cy="1930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C:\Users\miron\Desktop\IMG-7c67d8e97de028ce8caebd51b00b394a-V.jpg"/>
          <p:cNvPicPr/>
          <p:nvPr/>
        </p:nvPicPr>
        <p:blipFill>
          <a:blip r:embed="rId2"/>
          <a:stretch/>
        </p:blipFill>
        <p:spPr>
          <a:xfrm>
            <a:off x="468360" y="3141720"/>
            <a:ext cx="2104920" cy="2808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276720" y="259920"/>
            <a:ext cx="3311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олодин З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C:\Users\miron\Desktop\IMG-7911c1267e3724fdf525c1912bb477f3-V.jpg"/>
          <p:cNvPicPr/>
          <p:nvPr/>
        </p:nvPicPr>
        <p:blipFill>
          <a:blip r:embed="rId3"/>
          <a:stretch/>
        </p:blipFill>
        <p:spPr>
          <a:xfrm>
            <a:off x="4211640" y="1143000"/>
            <a:ext cx="1836720" cy="2449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Users\miron\Desktop\IMG-f40e262550b1a4da53afe279f840eaad-V.jpg"/>
          <p:cNvPicPr/>
          <p:nvPr/>
        </p:nvPicPr>
        <p:blipFill>
          <a:blip r:embed="rId4"/>
          <a:stretch/>
        </p:blipFill>
        <p:spPr>
          <a:xfrm>
            <a:off x="6597720" y="1611360"/>
            <a:ext cx="1955880" cy="2609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C:\Users\miron\Desktop\IMG-e537cc1d982029ce3eeb7e10438db3d0-V.jpg"/>
          <p:cNvPicPr/>
          <p:nvPr/>
        </p:nvPicPr>
        <p:blipFill>
          <a:blip r:embed="rId5"/>
          <a:stretch/>
        </p:blipFill>
        <p:spPr>
          <a:xfrm>
            <a:off x="3036960" y="4005360"/>
            <a:ext cx="2641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15:08:56Z</dcterms:created>
  <dc:creator>DAY</dc:creator>
  <dc:description/>
  <dc:language>en-US</dc:language>
  <cp:lastModifiedBy>mironovalida2014@gmail.com</cp:lastModifiedBy>
  <dcterms:modified xsi:type="dcterms:W3CDTF">2023-10-15T20:12:38Z</dcterms:modified>
  <cp:revision>27</cp:revision>
  <dc:subject/>
  <dc:title>Слайд 1</dc:title>
</cp:coreProperties>
</file>