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8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52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62B2-0362-40EE-818D-92654C966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5F3-5FE2-4564-972E-6D3CE58762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BD7-E40E-453E-8A38-890F7005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086-26CC-4DA0-BA87-2D38257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DE2-3E05-464A-A994-7FDE3A6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72C-B202-4BED-B0DE-5AEE11E7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04FE-73C7-4A80-8026-BD77F539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C93-B622-4DBF-B453-8E0A21F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1E3B-88EF-4FF0-954E-33C72918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94E6-2413-44F4-8C90-54260465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141-ACCB-456E-8343-05CDA05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AF7-151F-4F9E-9C91-80445D3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581B-5FBA-458C-B200-61CBC14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9D2-401A-4EB8-A214-657D9A9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731-D6F5-4970-9B7F-2B755FB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ED96-96FE-4148-A380-9DCD2D8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4F39-E472-4FAF-B99C-70AD941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C71F-5F5F-4B07-8D25-DCFAFD7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5979-7EF8-4AB7-B5F4-6960E2EE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B977-6EFF-4E20-8795-AE3CA4A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669D-411F-4F18-8C07-9351197D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E3E6-5CC2-4172-8932-2601FD6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1012-FE56-41BA-B7BF-80C8D33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3E3D-53FB-4318-8BB9-F8EE1853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3A7-5F2E-487E-8CEC-E4E1156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FD91-8186-4CB9-8773-DE02D825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7398-4730-4780-85DE-3D9A511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6AA8-F050-4E67-A906-0F0EB75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DC09-8B8D-4B34-B312-06850D1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C24C-4F2C-488D-858E-9E51B7D2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6E96-C38D-4F99-9464-BEBA5270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33B2-468B-4859-841B-ADCDB4AD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0F52-8D81-46DA-A00B-F87C5E77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9100-1C42-485D-AE95-0F49457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E5EC-2742-4C0F-9236-AA5B1F2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FC4-1508-4353-B242-7242236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0AC0-E16F-4AA3-8879-41C98B8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7961-F449-4AAC-B73B-151EC31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11D4-08A7-4AFE-91D0-9DEDEB0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732C-A896-4F3C-994D-04712F3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C4D5-1B74-41E4-8D4E-0CFDA57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D458-AAB8-42F1-807A-6D2F0A5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E0F1-0C1F-4588-8D10-EC980A4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0355-1542-46F7-B0A3-0D540460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966D-5419-4F3C-8AC5-5D1B7301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B41E-6AEC-40B6-B1F2-C6544C3E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DA4-6A40-4F37-BFC5-CA52640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CCDB-DBB9-462C-A3F0-8312FD2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6A5E-17F4-4EE3-83E3-555E81C1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345E-A743-4C79-837C-8D4C52D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8F14B-E21E-4317-AE6C-F018A48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911B-D69B-4A45-88FC-5C8F1EE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38E4-B015-49E7-8177-8E7DE43B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CA05-DF2C-4D83-B593-C70A528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767A-ABF3-4A3B-95D1-F20374A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C41D-8B5F-4D6E-B17A-4C8B9BC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32D5-282C-4D10-8654-6582B5F1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CB7-9A77-4B15-BB0B-C80A97C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260F-869F-43A1-9204-9428B572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6387-EBEB-4044-9679-8CAE7188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43E2-7BFD-4A9B-BB88-A341815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D4088-C3A0-4977-8557-2F55459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4645-E11B-43B0-8531-5CC711BA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A7FF-2F89-4504-91EF-4940CBC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A0DD-E629-4199-A834-99878874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778A-B050-4A3E-A3B1-A18EB63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DEDC-B541-4D87-98D0-A17590B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BBAD-946A-4CD4-875C-C8C4BCB6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244-AA8A-4368-916F-261E77F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A4DD6-6FA2-4B8A-A3F0-E864E971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A111-B260-4181-9760-D953C0F5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F603-755D-49EC-8FC3-2749880A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977-9CC9-4EA7-8C36-5A0E614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F1D-998D-49D1-9B3B-AD8C288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B16-89B2-430A-AFD2-AF5D1A74B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Слайд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016-7A59-4B25-9258-523242D95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лайд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1DD-C9F4-487A-91EF-2661BDF14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Слай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51E-0769-4E67-A200-65897644A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лайд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D9F-558B-478B-9D65-7FD8F7BB7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лайд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F66B-6161-4080-B733-A85861269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3346560" y="3571920"/>
            <a:ext cx="4608360" cy="1023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img0.liveinternet.ru/images/attach/c/5/89/133/89133460_large_Animashki_na_voennuyu_tematiku_na_prozrachnom_fone__498_.gif"/>
          <p:cNvPicPr/>
          <p:nvPr/>
        </p:nvPicPr>
        <p:blipFill>
          <a:blip r:embed="rId2"/>
          <a:stretch/>
        </p:blipFill>
        <p:spPr>
          <a:xfrm flipH="1">
            <a:off x="7093080" y="189000"/>
            <a:ext cx="18525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195640" y="476280"/>
            <a:ext cx="38923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узакова Мил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Users\miron\Desktop\IMG-1b360514fbaf79e3c64455af563f2c8d-V.jpg"/>
          <p:cNvPicPr/>
          <p:nvPr/>
        </p:nvPicPr>
        <p:blipFill>
          <a:blip r:embed="rId1"/>
          <a:stretch/>
        </p:blipFill>
        <p:spPr>
          <a:xfrm>
            <a:off x="385920" y="1503360"/>
            <a:ext cx="2309760" cy="307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Users\miron\Desktop\IMG-fa1662854ac096f2f492d01d878bf0b6-V.jpg"/>
          <p:cNvPicPr/>
          <p:nvPr/>
        </p:nvPicPr>
        <p:blipFill>
          <a:blip r:embed="rId2"/>
          <a:stretch/>
        </p:blipFill>
        <p:spPr>
          <a:xfrm>
            <a:off x="6087960" y="126828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miron\Desktop\IMG-7354486c639d745d6395d61d8010de9a-V.jpg"/>
          <p:cNvPicPr/>
          <p:nvPr/>
        </p:nvPicPr>
        <p:blipFill>
          <a:blip r:embed="rId3"/>
          <a:stretch/>
        </p:blipFill>
        <p:spPr>
          <a:xfrm>
            <a:off x="3071880" y="2347920"/>
            <a:ext cx="26240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92000" y="414000"/>
            <a:ext cx="352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гурцов Миха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Users\miron\Desktop\IMG-5e6c57a528e09464d54013173d49e715-V.jpg"/>
          <p:cNvPicPr/>
          <p:nvPr/>
        </p:nvPicPr>
        <p:blipFill>
          <a:blip r:embed="rId1"/>
          <a:stretch/>
        </p:blipFill>
        <p:spPr>
          <a:xfrm>
            <a:off x="409680" y="3333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miron\Desktop\IMG-d02b9b58e02721d2982168b57a3465e7-V.jpg"/>
          <p:cNvPicPr/>
          <p:nvPr/>
        </p:nvPicPr>
        <p:blipFill>
          <a:blip r:embed="rId2"/>
          <a:stretch/>
        </p:blipFill>
        <p:spPr>
          <a:xfrm>
            <a:off x="6012000" y="3882960"/>
            <a:ext cx="2835000" cy="212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miron\Desktop\IMG-e9de418382473c58509b42853d735ea0-V.jpg"/>
          <p:cNvPicPr/>
          <p:nvPr/>
        </p:nvPicPr>
        <p:blipFill>
          <a:blip r:embed="rId3"/>
          <a:stretch/>
        </p:blipFill>
        <p:spPr>
          <a:xfrm>
            <a:off x="3564000" y="1628640"/>
            <a:ext cx="2803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8894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брагимов Сам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3" descr="C:\Users\miron\Desktop\IMG-a16aa8d03bba51148f52921628f7fd64-V.jpg"/>
          <p:cNvPicPr/>
          <p:nvPr/>
        </p:nvPicPr>
        <p:blipFill>
          <a:blip r:embed="rId1"/>
          <a:stretch/>
        </p:blipFill>
        <p:spPr>
          <a:xfrm>
            <a:off x="684360" y="1660680"/>
            <a:ext cx="2987640" cy="3983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Users\miron\Desktop\IMG-c7b79250cb4f4dcec661f3d0bc1c74d5-V.jpg"/>
          <p:cNvPicPr/>
          <p:nvPr/>
        </p:nvPicPr>
        <p:blipFill>
          <a:blip r:embed="rId2"/>
          <a:stretch/>
        </p:blipFill>
        <p:spPr>
          <a:xfrm>
            <a:off x="4067280" y="1409760"/>
            <a:ext cx="4105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1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аравков Макс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C:\Users\miron\Desktop\IMG-30cda57a9956f04962d97209d5f20caa-V.jpg"/>
          <p:cNvPicPr/>
          <p:nvPr/>
        </p:nvPicPr>
        <p:blipFill>
          <a:blip r:embed="rId1"/>
          <a:stretch/>
        </p:blipFill>
        <p:spPr>
          <a:xfrm>
            <a:off x="3095640" y="98100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38876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емеринская 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C:\Users\miron\Desktop\IMG-8c6ec2719dd752c9d58116419bb6a070-V.jpg"/>
          <p:cNvPicPr/>
          <p:nvPr/>
        </p:nvPicPr>
        <p:blipFill>
          <a:blip r:embed="rId1"/>
          <a:stretch/>
        </p:blipFill>
        <p:spPr>
          <a:xfrm>
            <a:off x="2843280" y="1052640"/>
            <a:ext cx="1684440" cy="2244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Users\miron\Desktop\IMG-df72505afdf23e16a97ae0d155ef5df0-V.jpg"/>
          <p:cNvPicPr/>
          <p:nvPr/>
        </p:nvPicPr>
        <p:blipFill>
          <a:blip r:embed="rId2"/>
          <a:stretch/>
        </p:blipFill>
        <p:spPr>
          <a:xfrm>
            <a:off x="4859280" y="885960"/>
            <a:ext cx="1709640" cy="2279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C:\Users\miron\Desktop\IMG-c7f8a21da09764aa49aa58a913c7049f-V.jpg"/>
          <p:cNvPicPr/>
          <p:nvPr/>
        </p:nvPicPr>
        <p:blipFill>
          <a:blip r:embed="rId3"/>
          <a:stretch/>
        </p:blipFill>
        <p:spPr>
          <a:xfrm>
            <a:off x="7020000" y="1943280"/>
            <a:ext cx="1709640" cy="227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:\Users\miron\Desktop\IMG-8ea41099a0f570fb045d5929019bf04a-V.jpg"/>
          <p:cNvPicPr/>
          <p:nvPr/>
        </p:nvPicPr>
        <p:blipFill>
          <a:blip r:embed="rId4"/>
          <a:stretch/>
        </p:blipFill>
        <p:spPr>
          <a:xfrm>
            <a:off x="971640" y="3697200"/>
            <a:ext cx="1666800" cy="2222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:\Users\miron\Desktop\IMG-64ffeb13b11a28bfd40a13e2f35953c0-V.jpg"/>
          <p:cNvPicPr/>
          <p:nvPr/>
        </p:nvPicPr>
        <p:blipFill>
          <a:blip r:embed="rId5"/>
          <a:stretch/>
        </p:blipFill>
        <p:spPr>
          <a:xfrm>
            <a:off x="3564000" y="3500280"/>
            <a:ext cx="2265480" cy="1698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C:\Users\miron\Desktop\IMG-eb67cb62fadf23aeae7adcfd528998c9-V.jpg"/>
          <p:cNvPicPr/>
          <p:nvPr/>
        </p:nvPicPr>
        <p:blipFill>
          <a:blip r:embed="rId6"/>
          <a:stretch/>
        </p:blipFill>
        <p:spPr>
          <a:xfrm>
            <a:off x="611280" y="1052640"/>
            <a:ext cx="170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оян Дмитр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C:\Users\miron\Desktop\IMG-6d87f20a5c8f1a5cb77383bcbcfa742f-V.jpg"/>
          <p:cNvPicPr/>
          <p:nvPr/>
        </p:nvPicPr>
        <p:blipFill>
          <a:blip r:embed="rId1"/>
          <a:stretch/>
        </p:blipFill>
        <p:spPr>
          <a:xfrm>
            <a:off x="2987640" y="1268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Users\miron\Desktop\IMG-26ce347cc41a5aaa3348e90d0df81fef-V.jpg"/>
          <p:cNvPicPr/>
          <p:nvPr/>
        </p:nvPicPr>
        <p:blipFill>
          <a:blip r:embed="rId2"/>
          <a:stretch/>
        </p:blipFill>
        <p:spPr>
          <a:xfrm>
            <a:off x="5867280" y="2127240"/>
            <a:ext cx="2665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3600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ромова Любов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C:\Users\miron\Desktop\IMG-a27c196b033c625e01ada736130300ae-V.jpg"/>
          <p:cNvPicPr/>
          <p:nvPr/>
        </p:nvPicPr>
        <p:blipFill>
          <a:blip r:embed="rId1"/>
          <a:stretch/>
        </p:blipFill>
        <p:spPr>
          <a:xfrm>
            <a:off x="3995640" y="1052640"/>
            <a:ext cx="2783160" cy="371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miron\Desktop\IMG-847c96c89416092025d1747d078090fd-V.jpg"/>
          <p:cNvPicPr/>
          <p:nvPr/>
        </p:nvPicPr>
        <p:blipFill>
          <a:blip r:embed="rId2"/>
          <a:stretch/>
        </p:blipFill>
        <p:spPr>
          <a:xfrm>
            <a:off x="826920" y="1916280"/>
            <a:ext cx="2783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99640" y="33300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гаева Антон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5" descr="C:\Users\miron\Desktop\1.jpg"/>
          <p:cNvPicPr/>
          <p:nvPr/>
        </p:nvPicPr>
        <p:blipFill>
          <a:blip r:embed="rId1"/>
          <a:stretch/>
        </p:blipFill>
        <p:spPr>
          <a:xfrm>
            <a:off x="3203640" y="3703680"/>
            <a:ext cx="2228760" cy="2254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Users\miron\Desktop\2.jpg"/>
          <p:cNvPicPr/>
          <p:nvPr/>
        </p:nvPicPr>
        <p:blipFill>
          <a:blip r:embed="rId2"/>
          <a:stretch/>
        </p:blipFill>
        <p:spPr>
          <a:xfrm>
            <a:off x="539640" y="981000"/>
            <a:ext cx="1793880" cy="1805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miron\Desktop\3.jpg"/>
          <p:cNvPicPr/>
          <p:nvPr/>
        </p:nvPicPr>
        <p:blipFill>
          <a:blip r:embed="rId3"/>
          <a:stretch/>
        </p:blipFill>
        <p:spPr>
          <a:xfrm>
            <a:off x="2627280" y="1230480"/>
            <a:ext cx="1649520" cy="2093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Users\miron\Desktop\4.jpg"/>
          <p:cNvPicPr/>
          <p:nvPr/>
        </p:nvPicPr>
        <p:blipFill>
          <a:blip r:embed="rId4"/>
          <a:stretch/>
        </p:blipFill>
        <p:spPr>
          <a:xfrm>
            <a:off x="4500720" y="1700280"/>
            <a:ext cx="2220840" cy="1743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C:\Users\miron\Desktop\5.jpg"/>
          <p:cNvPicPr/>
          <p:nvPr/>
        </p:nvPicPr>
        <p:blipFill>
          <a:blip r:embed="rId5"/>
          <a:stretch/>
        </p:blipFill>
        <p:spPr>
          <a:xfrm>
            <a:off x="7020000" y="2276640"/>
            <a:ext cx="1827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оздрачева Оли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3" descr="C:\Users\miron\Desktop\А1.jpg"/>
          <p:cNvPicPr/>
          <p:nvPr/>
        </p:nvPicPr>
        <p:blipFill>
          <a:blip r:embed="rId1"/>
          <a:stretch/>
        </p:blipFill>
        <p:spPr>
          <a:xfrm>
            <a:off x="1944720" y="1106640"/>
            <a:ext cx="1900080" cy="2092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C:\Users\miron\Desktop\А2.jpg"/>
          <p:cNvPicPr/>
          <p:nvPr/>
        </p:nvPicPr>
        <p:blipFill>
          <a:blip r:embed="rId2"/>
          <a:stretch/>
        </p:blipFill>
        <p:spPr>
          <a:xfrm>
            <a:off x="5940360" y="3198960"/>
            <a:ext cx="2203560" cy="25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C:\Users\miron\Desktop\А3.jpg"/>
          <p:cNvPicPr/>
          <p:nvPr/>
        </p:nvPicPr>
        <p:blipFill>
          <a:blip r:embed="rId3"/>
          <a:stretch/>
        </p:blipFill>
        <p:spPr>
          <a:xfrm>
            <a:off x="2895480" y="3525840"/>
            <a:ext cx="2489400" cy="204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C:\Users\miron\Desktop\А4.jpg"/>
          <p:cNvPicPr/>
          <p:nvPr/>
        </p:nvPicPr>
        <p:blipFill>
          <a:blip r:embed="rId4"/>
          <a:stretch/>
        </p:blipFill>
        <p:spPr>
          <a:xfrm>
            <a:off x="4162320" y="1036800"/>
            <a:ext cx="2684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http://img-fotki.yandex.ru/get/9761/16969765.1fe/0_8ca45_94dc90cd_orig.png"/>
          <p:cNvPicPr/>
          <p:nvPr/>
        </p:nvPicPr>
        <p:blipFill>
          <a:blip r:embed="rId1"/>
          <a:stretch/>
        </p:blipFill>
        <p:spPr>
          <a:xfrm>
            <a:off x="3240000" y="704880"/>
            <a:ext cx="5400720" cy="831960"/>
          </a:xfrm>
          <a:prstGeom prst="rect">
            <a:avLst/>
          </a:prstGeom>
          <a:ln w="0">
            <a:noFill/>
          </a:ln>
        </p:spPr>
      </p:pic>
      <p:sp>
        <p:nvSpPr>
          <p:cNvPr id="267" name="Подзаголовок 2"/>
          <p:cNvSpPr/>
          <p:nvPr/>
        </p:nvSpPr>
        <p:spPr>
          <a:xfrm>
            <a:off x="2916360" y="1844640"/>
            <a:ext cx="6048360" cy="4176720"/>
          </a:xfrm>
          <a:prstGeom prst="flowChartPunchedTape">
            <a:avLst/>
          </a:prstGeom>
          <a:solidFill>
            <a:srgbClr val="ffff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о проведении кон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учшая модель (макет) образ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й техники пери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ОЙ ОТЕЧЕСТВЕН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ЙН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роченный ко Дню защитника Отечества в МАДОУ д/с №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3240000" y="704880"/>
            <a:ext cx="5400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лдакова Кс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8" descr="C:\Users\miron\Desktop\4.jpg"/>
          <p:cNvPicPr/>
          <p:nvPr/>
        </p:nvPicPr>
        <p:blipFill>
          <a:blip r:embed="rId1"/>
          <a:stretch/>
        </p:blipFill>
        <p:spPr>
          <a:xfrm>
            <a:off x="3059280" y="3611520"/>
            <a:ext cx="2376360" cy="2365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C:\Users\miron\Desktop\1.jpg"/>
          <p:cNvPicPr/>
          <p:nvPr/>
        </p:nvPicPr>
        <p:blipFill>
          <a:blip r:embed="rId2"/>
          <a:stretch/>
        </p:blipFill>
        <p:spPr>
          <a:xfrm>
            <a:off x="1619280" y="1052640"/>
            <a:ext cx="1839960" cy="17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C:\Users\miron\Desktop\2.jpg"/>
          <p:cNvPicPr/>
          <p:nvPr/>
        </p:nvPicPr>
        <p:blipFill>
          <a:blip r:embed="rId3"/>
          <a:stretch/>
        </p:blipFill>
        <p:spPr>
          <a:xfrm>
            <a:off x="4067280" y="1052640"/>
            <a:ext cx="1936800" cy="2255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C:\Users\miron\Desktop\3.jpg"/>
          <p:cNvPicPr/>
          <p:nvPr/>
        </p:nvPicPr>
        <p:blipFill>
          <a:blip r:embed="rId4"/>
          <a:stretch/>
        </p:blipFill>
        <p:spPr>
          <a:xfrm>
            <a:off x="6516720" y="1341360"/>
            <a:ext cx="18525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842920" y="692280"/>
            <a:ext cx="30970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елышев Ад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C:\Users\miron\Desktop\IMG-35a38b70b2fa54265a67da22b9a04d3f-V.jpg"/>
          <p:cNvPicPr/>
          <p:nvPr/>
        </p:nvPicPr>
        <p:blipFill>
          <a:blip r:embed="rId1"/>
          <a:stretch/>
        </p:blipFill>
        <p:spPr>
          <a:xfrm>
            <a:off x="536400" y="1197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miron\Desktop\IMG-cf717718567f54a68661fb603c5d71d8-V.jpg"/>
          <p:cNvPicPr/>
          <p:nvPr/>
        </p:nvPicPr>
        <p:blipFill>
          <a:blip r:embed="rId2"/>
          <a:stretch/>
        </p:blipFill>
        <p:spPr>
          <a:xfrm>
            <a:off x="6084720" y="142884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C:\Users\miron\Desktop\IMG-96e799691c6b05f7c8fb6a63e71ed24b-V.jpg"/>
          <p:cNvPicPr/>
          <p:nvPr/>
        </p:nvPicPr>
        <p:blipFill>
          <a:blip r:embed="rId3"/>
          <a:stretch/>
        </p:blipFill>
        <p:spPr>
          <a:xfrm>
            <a:off x="3132000" y="2637000"/>
            <a:ext cx="24512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382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влецова А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C:\Users\miron\Desktop\IMG-850ab48a2ecfb32eee20eb5eb342aa70-V.jpg"/>
          <p:cNvPicPr/>
          <p:nvPr/>
        </p:nvPicPr>
        <p:blipFill>
          <a:blip r:embed="rId1"/>
          <a:stretch/>
        </p:blipFill>
        <p:spPr>
          <a:xfrm>
            <a:off x="3003480" y="3213000"/>
            <a:ext cx="2216160" cy="288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miron\Desktop\IMG-0450603dd0a81c7e8de04b1a810c68dc-V.jpg"/>
          <p:cNvPicPr/>
          <p:nvPr/>
        </p:nvPicPr>
        <p:blipFill>
          <a:blip r:embed="rId2"/>
          <a:stretch/>
        </p:blipFill>
        <p:spPr>
          <a:xfrm>
            <a:off x="4846680" y="333360"/>
            <a:ext cx="2089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3057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ищук Л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miron\Desktop\IMG-e24bfacb0ca38989515984c33f7c3e0a-V.jpg"/>
          <p:cNvPicPr/>
          <p:nvPr/>
        </p:nvPicPr>
        <p:blipFill>
          <a:blip r:embed="rId1"/>
          <a:stretch/>
        </p:blipFill>
        <p:spPr>
          <a:xfrm>
            <a:off x="611280" y="1628640"/>
            <a:ext cx="2016000" cy="2695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miron\Desktop\IMG-d891c3f5a6c3628409c5ad00e72ecb71-V.jpg"/>
          <p:cNvPicPr/>
          <p:nvPr/>
        </p:nvPicPr>
        <p:blipFill>
          <a:blip r:embed="rId2"/>
          <a:stretch/>
        </p:blipFill>
        <p:spPr>
          <a:xfrm>
            <a:off x="2754360" y="3789360"/>
            <a:ext cx="2886120" cy="216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miron\Desktop\IMG-17f06f81871160b0928590c3e7b51113-V.jpg"/>
          <p:cNvPicPr/>
          <p:nvPr/>
        </p:nvPicPr>
        <p:blipFill>
          <a:blip r:embed="rId3"/>
          <a:stretch/>
        </p:blipFill>
        <p:spPr>
          <a:xfrm>
            <a:off x="6443640" y="1450800"/>
            <a:ext cx="1911240" cy="255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miron\Desktop\IMG-0b2e467eff169f665456c7fa85e42a6c-V.jpg"/>
          <p:cNvPicPr/>
          <p:nvPr/>
        </p:nvPicPr>
        <p:blipFill>
          <a:blip r:embed="rId4"/>
          <a:stretch/>
        </p:blipFill>
        <p:spPr>
          <a:xfrm>
            <a:off x="3780000" y="531720"/>
            <a:ext cx="2025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439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ощук Ром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C:\Users\miron\Desktop\IMG-b8b2948124e7c5d1e9d6698dd5059914-V.jpg"/>
          <p:cNvPicPr/>
          <p:nvPr/>
        </p:nvPicPr>
        <p:blipFill>
          <a:blip r:embed="rId1"/>
          <a:stretch/>
        </p:blipFill>
        <p:spPr>
          <a:xfrm>
            <a:off x="6084720" y="333360"/>
            <a:ext cx="2660760" cy="3548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miron\Desktop\IMG-57b0d8a75ca227970f1f5e8e46675827-V.jpg"/>
          <p:cNvPicPr/>
          <p:nvPr/>
        </p:nvPicPr>
        <p:blipFill>
          <a:blip r:embed="rId2"/>
          <a:stretch/>
        </p:blipFill>
        <p:spPr>
          <a:xfrm>
            <a:off x="2987640" y="2492280"/>
            <a:ext cx="2662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21800" y="259920"/>
            <a:ext cx="3418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ячук Ар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C:\Users\miron\Desktop\IMG-b49a0d52d5911a45f63f7fc2313fc05c-V.jpg"/>
          <p:cNvPicPr/>
          <p:nvPr/>
        </p:nvPicPr>
        <p:blipFill>
          <a:blip r:embed="rId1"/>
          <a:stretch/>
        </p:blipFill>
        <p:spPr>
          <a:xfrm>
            <a:off x="4211640" y="474840"/>
            <a:ext cx="2244600" cy="2993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Users\miron\Desktop\IMG-2e51a91cc98f2631292b3a1d089692cd-V.jpg"/>
          <p:cNvPicPr/>
          <p:nvPr/>
        </p:nvPicPr>
        <p:blipFill>
          <a:blip r:embed="rId2"/>
          <a:stretch/>
        </p:blipFill>
        <p:spPr>
          <a:xfrm>
            <a:off x="755640" y="105264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miron\Desktop\1.jpg"/>
          <p:cNvPicPr/>
          <p:nvPr/>
        </p:nvPicPr>
        <p:blipFill>
          <a:blip r:embed="rId3"/>
          <a:stretch/>
        </p:blipFill>
        <p:spPr>
          <a:xfrm>
            <a:off x="353880" y="4268880"/>
            <a:ext cx="3197520" cy="1620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miron\Desktop\2.jpg"/>
          <p:cNvPicPr/>
          <p:nvPr/>
        </p:nvPicPr>
        <p:blipFill>
          <a:blip r:embed="rId4"/>
          <a:stretch/>
        </p:blipFill>
        <p:spPr>
          <a:xfrm>
            <a:off x="3792600" y="3716280"/>
            <a:ext cx="3084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Users\miron\Desktop\IMG-65313cd28c6143d33e23e560d77b186c-V.jpg"/>
          <p:cNvPicPr/>
          <p:nvPr/>
        </p:nvPicPr>
        <p:blipFill>
          <a:blip r:embed="rId1"/>
          <a:stretch/>
        </p:blipFill>
        <p:spPr>
          <a:xfrm>
            <a:off x="1042920" y="873000"/>
            <a:ext cx="2575080" cy="1930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C:\Users\miron\Desktop\IMG-7c67d8e97de028ce8caebd51b00b394a-V.jpg"/>
          <p:cNvPicPr/>
          <p:nvPr/>
        </p:nvPicPr>
        <p:blipFill>
          <a:blip r:embed="rId2"/>
          <a:stretch/>
        </p:blipFill>
        <p:spPr>
          <a:xfrm>
            <a:off x="468360" y="3141720"/>
            <a:ext cx="2104920" cy="2808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76720" y="259920"/>
            <a:ext cx="3311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олодин З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C:\Users\miron\Desktop\IMG-7911c1267e3724fdf525c1912bb477f3-V.jpg"/>
          <p:cNvPicPr/>
          <p:nvPr/>
        </p:nvPicPr>
        <p:blipFill>
          <a:blip r:embed="rId3"/>
          <a:stretch/>
        </p:blipFill>
        <p:spPr>
          <a:xfrm>
            <a:off x="4211640" y="114300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miron\Desktop\IMG-f40e262550b1a4da53afe279f840eaad-V.jpg"/>
          <p:cNvPicPr/>
          <p:nvPr/>
        </p:nvPicPr>
        <p:blipFill>
          <a:blip r:embed="rId4"/>
          <a:stretch/>
        </p:blipFill>
        <p:spPr>
          <a:xfrm>
            <a:off x="6597720" y="1611360"/>
            <a:ext cx="1955880" cy="2609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C:\Users\miron\Desktop\IMG-e537cc1d982029ce3eeb7e10438db3d0-V.jpg"/>
          <p:cNvPicPr/>
          <p:nvPr/>
        </p:nvPicPr>
        <p:blipFill>
          <a:blip r:embed="rId5"/>
          <a:stretch/>
        </p:blipFill>
        <p:spPr>
          <a:xfrm>
            <a:off x="3036960" y="4005360"/>
            <a:ext cx="2641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15:08:56Z</dcterms:created>
  <dc:creator>DAY</dc:creator>
  <dc:description/>
  <dc:language>en-US</dc:language>
  <cp:lastModifiedBy>mironovalida2014@gmail.com</cp:lastModifiedBy>
  <dcterms:modified xsi:type="dcterms:W3CDTF">2023-10-15T20:12:38Z</dcterms:modified>
  <cp:revision>27</cp:revision>
  <dc:subject/>
  <dc:title>Слайд 1</dc:title>
</cp:coreProperties>
</file>