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613A8-6D26-4CF8-A599-378D7CA51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07D57-4346-49B9-821A-5A5334BD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EA8F1-BF05-457B-8157-0F5EF6994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2086D-2DCB-492E-9012-4C8158DE1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1EFC-9C3F-46EB-99C7-E97D08661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1FE7-06B5-45DA-A42A-7ED29B15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2D6A-3450-413C-A0E8-C5BCEB5E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6EB4-9DE1-4890-B25F-47A0865C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F8FC-9070-459B-9315-D02B616D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89D0-2EFB-4B4F-992D-59E54F99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9EB7-ACB4-452C-A846-48E8E744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5F20F-2683-44BA-963B-7D9E68B9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9D459-793E-4F5B-81A6-6781FF06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DC2C5-BDB5-4F8B-AA45-83468002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BA48-881F-424B-BC83-9507BF91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A707-EFDF-4F31-9178-15CDAFC7D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B1323-A9BF-44AE-BA4B-AE85BD1EF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35FE9-E7F5-4FDC-A855-80E55983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27D38-0DE3-42A3-A7AC-C29D2F05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73494-5419-4914-B79F-B9DEFA94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69F3D-A1D8-4A97-8166-1F55BCD1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F9C99-0038-48CE-8247-F862D4D1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91254-621D-4839-ACA8-9B1E5916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8C986-5E34-4C09-B90E-4A036321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4178-01CD-4317-9DA2-3517374C22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5FC3-53D1-472D-9513-A7F725DC0B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Times New Roman"/>
              </a:rPr>
              <a:t>А. С. Пушкин – гордость русской литературы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94920" y="2708280"/>
            <a:ext cx="3887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н входит в нашу жизнь в самом начале ее и уже не покидает нас до конц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. Т. Твардовск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"/>
          <p:cNvSpPr/>
          <p:nvPr/>
        </p:nvSpPr>
        <p:spPr>
          <a:xfrm>
            <a:off x="6084720" y="566100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799 – 1837 г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43280" y="2492280"/>
            <a:ext cx="410544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27280" y="3284640"/>
            <a:ext cx="2916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e5ff"/>
                </a:solidFill>
                <a:latin typeface="Garamond"/>
              </a:rPr>
              <a:t>Сергей Львович Пушкин – отец поэта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3141360"/>
            <a:ext cx="2736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Надежда Осиповна Пушкина – мать поэт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2100240" cy="2519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516720" y="692280"/>
            <a:ext cx="2222640" cy="2520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348000" y="1484280"/>
            <a:ext cx="2232000" cy="2763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203640" y="98100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Бабушка Пушкина, Мария Алексеевна Ганниба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Родословная А. С. Пушк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547640" y="3833640"/>
            <a:ext cx="2035440" cy="3024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5508720" y="3860640"/>
            <a:ext cx="2239920" cy="2997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5300640"/>
            <a:ext cx="17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Ма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Александровн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старшая сестра поэ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885080" y="5300640"/>
            <a:ext cx="1258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Брат поэта, Лев Сергеевич Пушкин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68360" y="602136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ушкин и Арина Родион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«Подруга дней моих суровых…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"/>
          <p:cNvSpPr/>
          <p:nvPr/>
        </p:nvSpPr>
        <p:spPr>
          <a:xfrm>
            <a:off x="3851280" y="2119320"/>
            <a:ext cx="496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Россия еще не поставила памятника Арине Родионовне, Великой Няне поэта. Затерялась ее могила… А ведь часть ее души -  в поэте, в его «заветной лире», вся поэзия А. С. Пушкина освящена ею, крестьянской женщиной… Она – его Роди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0" t="3706" r="3326" b="3216"/>
          <a:stretch/>
        </p:blipFill>
        <p:spPr>
          <a:xfrm>
            <a:off x="395280" y="1628640"/>
            <a:ext cx="315756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292720" y="5013000"/>
            <a:ext cx="2674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e5ff"/>
                </a:solidFill>
                <a:latin typeface="Garamond"/>
              </a:rPr>
              <a:t>А.С. Пушкин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99640" y="5157360"/>
            <a:ext cx="2746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Наталья Николаевна Гончарова – жена поэт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2706840" cy="3671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rcRect l="0" t="0" r="-8410" b="-4819"/>
          <a:stretch/>
        </p:blipFill>
        <p:spPr>
          <a:xfrm>
            <a:off x="5003640" y="1413000"/>
            <a:ext cx="3384720" cy="3601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24000" y="18900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Наталья Гончарова – «чистейшей прелести, чистейшей образец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093000"/>
            <a:ext cx="85327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ffff"/>
                </a:solidFill>
                <a:latin typeface="Garamond"/>
              </a:rPr>
              <a:t>«…А душу твою люблю я ещё более твоего лица!»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-151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Дети А. С. Пушкин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164360" y="1076400"/>
            <a:ext cx="1762200" cy="28573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093080" y="4149720"/>
            <a:ext cx="237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ладший сын, Григорий Александрович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700360" y="1052640"/>
            <a:ext cx="1847880" cy="280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411280" y="4076640"/>
            <a:ext cx="223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тарший сын, Александр Александрович Пушкин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788000" y="1052640"/>
            <a:ext cx="2232000" cy="28479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788000" y="4149720"/>
            <a:ext cx="251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Дочь Наталья Александровна Пушки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79280" y="1125360"/>
            <a:ext cx="2227320" cy="2737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50920" y="4087800"/>
            <a:ext cx="201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таршая дочь Мария Александровна Пушки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5516640"/>
            <a:ext cx="8893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ffff"/>
                </a:solidFill>
                <a:latin typeface="Garamond"/>
              </a:rPr>
              <a:t>«Сашка, Машка, Гришка и Наташка – это вся моя жизнь…»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«На время улети в лицейский уголок…»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2360" y="1484280"/>
            <a:ext cx="5832360" cy="3600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95280" y="537372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А. С. Пушкин на экзамене читает стихотворение «Воспоминание в Царском сел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56360" y="1844640"/>
            <a:ext cx="2592360" cy="36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осле экзамена министр просвещения сказал отцу Пушкина: «Я бы желал образовать вашего сына также и в прозе», но Державин живо воскликнул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«Нет! Оставьте его поэтом!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«И чувства добрые я лирой пробуждал…»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508720" y="1268280"/>
            <a:ext cx="3106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«О Пушкин, Пушкин, кто тебя учил пленять в стихах чудесных?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Глинк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2349360"/>
            <a:ext cx="756108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Друзья! Прекрасен наш союз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Люблю я пышное природы увяданье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Я помню чудное мгновенье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Что в мой жестокий век восславил я свободу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«Дар напрасный, дар случайны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Жизнь, зачем ты мне дана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) «И долго буду тем любезен я народу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243480" y="2565360"/>
            <a:ext cx="26956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«Онегин» есть самое задушевное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произведение Пушкина, 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самое любимое дитя его фантазии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                                </a:t>
            </a:r>
            <a:r>
              <a:rPr b="1" lang="en-US" sz="2000" spc="-1" strike="noStrike">
                <a:solidFill>
                  <a:srgbClr val="e5e5ff"/>
                </a:solidFill>
                <a:latin typeface="Garamond"/>
              </a:rPr>
              <a:t>В.Г. Белинский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920" y="6021360"/>
            <a:ext cx="28908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Евгений Онегин и Татьяна Ларин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1989000"/>
            <a:ext cx="388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95640" y="2637000"/>
            <a:ext cx="482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Проходит долгое молчанье, и тихо наконец она: «Довольно; встаньте. Я должна вам объясниться откровенно. Онегин, помните ль тот час, когда в саду, в аллее нас судьба свела, и так смиренно урок ваш выслушала я? Сегодня очередь моя…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34560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«Я памятник себе воздвиг нерукотворный…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5850000"/>
            <a:ext cx="3059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амятник А. С. Пушкину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Москва. Пушкинская площадь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А. М. Опекушин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2887920" cy="43927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346560" y="1844640"/>
            <a:ext cx="58338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На постаменте памятника выбиты строки из стихотворения А. С. Пушкина «Памятник»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И долго буду тем любезен я народу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Что чувства добрые я лирой пробуждал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Что в мой жестокий век восславил я свобо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И милость к падшим призывал.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06:02:57Z</dcterms:created>
  <dc:creator>Пользователь</dc:creator>
  <dc:description/>
  <dc:language>en-US</dc:language>
  <cp:lastModifiedBy>Пользователь</cp:lastModifiedBy>
  <dcterms:modified xsi:type="dcterms:W3CDTF">2009-04-16T06:36:57Z</dcterms:modified>
  <cp:revision>15</cp:revision>
  <dc:subject/>
  <dc:title>А. С. Пушкин – гордость русской литературы.</dc:title>
</cp:coreProperties>
</file>