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F7888-5396-406B-9D33-671BB8B5A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34528-7DF9-47BE-8740-0CF7501C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617CA-4BF1-4410-87FF-A0D3EAF3F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E299F-9078-4CC8-9F38-691A5E3F1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CE8D-3A17-47B5-96B0-027EB0FC1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5CD5C-7310-4256-A33B-71EC8F86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F5D1-93F7-425E-B0FB-9A9D46D2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BBD5E-ED22-4778-A9BC-A42FF9B2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5B7B-15FD-4D6C-8900-66B0B298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5BC1-C932-40CF-8108-0E4739A9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7B6D-9762-45B4-A37E-6AC59832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E3781-E72C-44D3-AB73-67441E16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97DC1-BD47-4033-9483-43E06757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007CC-7AD7-41E8-BE69-06F86028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80A4B-7E07-4F5A-A697-AABF228F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FC1F-0190-4764-89DD-905C49432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A45B-06A4-4DB6-9072-D3F22619B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FAA17-3078-4D0D-AE32-9549F35C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D9D4A-E9B6-471F-97C3-7F77A013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640A0-FC5B-414B-8042-BF8D2936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DA716-95E6-4FFF-AD3B-73F00A5F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4D02A-FF91-476E-8D15-F8C39632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A480E-49F5-4616-864C-F13A360B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57BB4-D3C3-4C82-B840-FE21CD06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5F97-68D0-4B6B-A184-55B10C3105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5CAA-218C-4821-8BBD-2C4380D6C1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Times New Roman"/>
              </a:rPr>
              <a:t>А. С. Пушкин – гордость русской литературы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94920" y="2708280"/>
            <a:ext cx="3887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н входит в нашу жизнь в самом начале ее и уже не покидает нас до конц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. Т. Твардовск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"/>
          <p:cNvSpPr/>
          <p:nvPr/>
        </p:nvSpPr>
        <p:spPr>
          <a:xfrm>
            <a:off x="6084720" y="566100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799 – 1837 г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43280" y="2492280"/>
            <a:ext cx="410544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27280" y="3284640"/>
            <a:ext cx="2916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e5ff"/>
                </a:solidFill>
                <a:latin typeface="Garamond"/>
              </a:rPr>
              <a:t>Сергей Львович Пушкин – отец поэта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3141360"/>
            <a:ext cx="2736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Надежда Осиповна Пушкина – мать поэт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2100240" cy="2519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516720" y="692280"/>
            <a:ext cx="2222640" cy="2520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348000" y="1484280"/>
            <a:ext cx="2232000" cy="2763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203640" y="98100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Бабушка Пушкина, Мария Алексеевна Ганниба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Родословная А. С. Пушк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547640" y="3833640"/>
            <a:ext cx="2035440" cy="3024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5508720" y="3860640"/>
            <a:ext cx="2239920" cy="2997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5300640"/>
            <a:ext cx="17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Ма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Александровн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старшая сестра поэ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885080" y="5300640"/>
            <a:ext cx="1258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Брат поэта, Лев Сергеевич Пушкин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68360" y="602136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ушкин и Арина Родион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«Подруга дней моих суровых…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"/>
          <p:cNvSpPr/>
          <p:nvPr/>
        </p:nvSpPr>
        <p:spPr>
          <a:xfrm>
            <a:off x="3851280" y="2119320"/>
            <a:ext cx="496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Россия еще не поставила памятника Арине Родионовне, Великой Няне поэта. Затерялась ее могила… А ведь часть ее души -  в поэте, в его «заветной лире», вся поэзия А. С. Пушкина освящена ею, крестьянской женщиной… Она – его Роди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0" t="3706" r="3326" b="3216"/>
          <a:stretch/>
        </p:blipFill>
        <p:spPr>
          <a:xfrm>
            <a:off x="395280" y="1628640"/>
            <a:ext cx="315756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292720" y="5013000"/>
            <a:ext cx="2674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e5ff"/>
                </a:solidFill>
                <a:latin typeface="Garamond"/>
              </a:rPr>
              <a:t>А.С. Пушкин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99640" y="5157360"/>
            <a:ext cx="2746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Наталья Николаевна Гончарова – жена поэт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2706840" cy="3671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rcRect l="0" t="0" r="-8410" b="-4819"/>
          <a:stretch/>
        </p:blipFill>
        <p:spPr>
          <a:xfrm>
            <a:off x="5003640" y="1413000"/>
            <a:ext cx="3384720" cy="3601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24000" y="18900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Наталья Гончарова – «чистейшей прелести, чистейшей образец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093000"/>
            <a:ext cx="85327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ffff"/>
                </a:solidFill>
                <a:latin typeface="Garamond"/>
              </a:rPr>
              <a:t>«…А душу твою люблю я ещё более твоего лица!»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-151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Дети А. С. Пушкин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164360" y="1076400"/>
            <a:ext cx="1762200" cy="28573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093080" y="4149720"/>
            <a:ext cx="237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ладший сын, Григорий Александрович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700360" y="1052640"/>
            <a:ext cx="1847880" cy="280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411280" y="4076640"/>
            <a:ext cx="223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тарший сын, Александр Александрович Пушкин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788000" y="1052640"/>
            <a:ext cx="2232000" cy="28479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788000" y="4149720"/>
            <a:ext cx="251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Дочь Наталья Александровна Пушки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79280" y="1125360"/>
            <a:ext cx="2227320" cy="2737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50920" y="4087800"/>
            <a:ext cx="201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таршая дочь Мария Александровна Пушки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5516640"/>
            <a:ext cx="8893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ffff"/>
                </a:solidFill>
                <a:latin typeface="Garamond"/>
              </a:rPr>
              <a:t>«Сашка, Машка, Гришка и Наташка – это вся моя жизнь…»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«На время улети в лицейский уголок…»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2360" y="1484280"/>
            <a:ext cx="5832360" cy="3600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95280" y="537372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А. С. Пушкин на экзамене читает стихотворение «Воспоминание в Царском сел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56360" y="1844640"/>
            <a:ext cx="2592360" cy="36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осле экзамена министр просвещения сказал отцу Пушкина: «Я бы желал образовать вашего сына также и в прозе», но Державин живо воскликнул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«Нет! Оставьте его поэтом!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«И чувства добрые я лирой пробуждал…»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508720" y="1268280"/>
            <a:ext cx="3106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«О Пушкин, Пушкин, кто тебя учил пленять в стихах чудесных?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Глинк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2349360"/>
            <a:ext cx="756108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Друзья! Прекрасен наш союз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Люблю я пышное природы увяданье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Я помню чудное мгновенье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Что в мой жестокий век восславил я свободу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Дар напрасный, дар случайны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Жизнь, зачем ты мне дана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) «И долго буду тем любезен я народу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243480" y="2565360"/>
            <a:ext cx="26956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«Онегин» есть самое задушевное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произведение Пушкина, 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самое любимое дитя его фантазии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                                </a:t>
            </a:r>
            <a:r>
              <a:rPr b="1" lang="en-US" sz="2000" spc="-1" strike="noStrike">
                <a:solidFill>
                  <a:srgbClr val="e5e5ff"/>
                </a:solidFill>
                <a:latin typeface="Garamond"/>
              </a:rPr>
              <a:t>В.Г. Белинский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920" y="6021360"/>
            <a:ext cx="28908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Евгений Онегин и Татьяна Ларин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1989000"/>
            <a:ext cx="388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95640" y="2637000"/>
            <a:ext cx="482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Проходит долгое молчанье, и тихо наконец она: «Довольно; встаньте. Я должна вам объясниться откровенно. Онегин, помните ль тот час, когда в саду, в аллее нас судьба свела, и так смиренно урок ваш выслушала я? Сегодня очередь моя…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34560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«Я памятник себе воздвиг нерукотворный…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5850000"/>
            <a:ext cx="3059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амятник А. С. Пушкину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Москва. Пушкинская площадь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А. М. Опекушин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2887920" cy="43927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346560" y="1844640"/>
            <a:ext cx="58338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На постаменте памятника выбиты строки из стихотворения А. С. Пушкина «Памятник»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И долго буду тем любезен я народу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Что чувства добрые я лирой пробуждал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Что в мой жестокий век восславил я свобо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И милость к падшим призывал.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06:02:57Z</dcterms:created>
  <dc:creator>Пользователь</dc:creator>
  <dc:description/>
  <dc:language>en-US</dc:language>
  <cp:lastModifiedBy>Пользователь</cp:lastModifiedBy>
  <dcterms:modified xsi:type="dcterms:W3CDTF">2009-04-16T06:36:57Z</dcterms:modified>
  <cp:revision>15</cp:revision>
  <dc:subject/>
  <dc:title>А. С. Пушкин – гордость русской литературы.</dc:title>
</cp:coreProperties>
</file>