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2DE-6608-4CAB-9A38-056A2F65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0F8-7482-4827-BAD7-A9B40AE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83F-6F02-4AF9-850B-0A47E72E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619-C344-4E0B-A430-97F1F05D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D2F-A50F-4616-BF7B-AD36069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6E8-E13B-4CF2-937E-DDDE9EC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3A5-8034-4BE6-A27A-AAF1D8D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650-F698-4D98-8EFE-D1FE5992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A78-F5AF-49C4-ADDF-8F7BC8C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C79-DA3E-49C2-A8F6-EECE95A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F62-F127-4FDD-B098-16EA9D0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740-AC3C-47A4-9055-5E566EE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B45F-BF19-48F1-B944-C2CE67600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image" Target="../media/image17.gif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342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Calibri"/>
              </a:rPr>
              <a:t>«Угадай –к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1" descr="foto_1.png"/>
          <p:cNvPicPr/>
          <p:nvPr/>
        </p:nvPicPr>
        <p:blipFill>
          <a:blip r:embed="rId1"/>
          <a:stretch/>
        </p:blipFill>
        <p:spPr>
          <a:xfrm>
            <a:off x="108000" y="573264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11954329291743204660panier-shopping_basket_a_01.svg.hi.png"/>
          <p:cNvPicPr/>
          <p:nvPr/>
        </p:nvPicPr>
        <p:blipFill>
          <a:blip r:embed="rId2"/>
          <a:stretch/>
        </p:blipFill>
        <p:spPr>
          <a:xfrm>
            <a:off x="2050920" y="5589720"/>
            <a:ext cx="960480" cy="1046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белка.png"/>
          <p:cNvPicPr/>
          <p:nvPr/>
        </p:nvPicPr>
        <p:blipFill>
          <a:blip r:embed="rId3"/>
          <a:stretch/>
        </p:blipFill>
        <p:spPr>
          <a:xfrm>
            <a:off x="358920" y="4149720"/>
            <a:ext cx="1763640" cy="2347920"/>
          </a:xfrm>
          <a:prstGeom prst="rect">
            <a:avLst/>
          </a:prstGeom>
          <a:ln w="0">
            <a:noFill/>
          </a:ln>
        </p:spPr>
      </p:pic>
      <p:sp>
        <p:nvSpPr>
          <p:cNvPr id="46" name="Овал 14"/>
          <p:cNvSpPr/>
          <p:nvPr/>
        </p:nvSpPr>
        <p:spPr>
          <a:xfrm>
            <a:off x="3419640" y="4653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16"/>
          <p:cNvSpPr/>
          <p:nvPr/>
        </p:nvSpPr>
        <p:spPr>
          <a:xfrm>
            <a:off x="6443640" y="4653000"/>
            <a:ext cx="914400" cy="9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7"/>
          <p:cNvSpPr/>
          <p:nvPr/>
        </p:nvSpPr>
        <p:spPr>
          <a:xfrm>
            <a:off x="2411280" y="4653000"/>
            <a:ext cx="914400" cy="9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8"/>
          <p:cNvSpPr/>
          <p:nvPr/>
        </p:nvSpPr>
        <p:spPr>
          <a:xfrm>
            <a:off x="5435640" y="465300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9"/>
          <p:cNvSpPr/>
          <p:nvPr/>
        </p:nvSpPr>
        <p:spPr>
          <a:xfrm>
            <a:off x="4356000" y="465300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7451640" y="465300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6" descr="foto_1.png"/>
          <p:cNvPicPr/>
          <p:nvPr/>
        </p:nvPicPr>
        <p:blipFill>
          <a:blip r:embed="rId1"/>
          <a:stretch/>
        </p:blipFill>
        <p:spPr>
          <a:xfrm>
            <a:off x="53964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8" descr="foto_1.png"/>
          <p:cNvPicPr/>
          <p:nvPr/>
        </p:nvPicPr>
        <p:blipFill>
          <a:blip r:embed="rId2"/>
          <a:stretch/>
        </p:blipFill>
        <p:spPr>
          <a:xfrm>
            <a:off x="241128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9" descr="foto_1.png"/>
          <p:cNvPicPr/>
          <p:nvPr/>
        </p:nvPicPr>
        <p:blipFill>
          <a:blip r:embed="rId3"/>
          <a:stretch/>
        </p:blipFill>
        <p:spPr>
          <a:xfrm>
            <a:off x="4140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0" descr="foto_1.png"/>
          <p:cNvPicPr/>
          <p:nvPr/>
        </p:nvPicPr>
        <p:blipFill>
          <a:blip r:embed="rId4"/>
          <a:stretch/>
        </p:blipFill>
        <p:spPr>
          <a:xfrm>
            <a:off x="6156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белка.png"/>
          <p:cNvPicPr/>
          <p:nvPr/>
        </p:nvPicPr>
        <p:blipFill>
          <a:blip r:embed="rId5"/>
          <a:stretch/>
        </p:blipFill>
        <p:spPr>
          <a:xfrm>
            <a:off x="1547640" y="1413000"/>
            <a:ext cx="3149640" cy="4197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3357720"/>
            <a:ext cx="1919520" cy="2090520"/>
          </a:xfrm>
          <a:prstGeom prst="rect">
            <a:avLst/>
          </a:prstGeom>
          <a:ln w="0">
            <a:noFill/>
          </a:ln>
        </p:spPr>
      </p:pic>
      <p:sp>
        <p:nvSpPr>
          <p:cNvPr id="60" name="Овальная выноска 21"/>
          <p:cNvSpPr/>
          <p:nvPr/>
        </p:nvSpPr>
        <p:spPr>
          <a:xfrm>
            <a:off x="4788000" y="620640"/>
            <a:ext cx="403200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Предлагаю  поиграть в игру «Угадай – 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Отгадайте, какое число я задум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ответ верный цифра отправиться в корз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к этому числу прибавить 1, то получитьс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>
            <a:off x="406728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>
            <a:off x="262728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5602 C -0.00885 -0.05811 -0.00798 -0.05857 -0.0066 -0.0625 C -0.00625 -0.0757 -0.0066 -0.09607 -0.00382 -0.10834 C -0.00278 -0.11667 -0.00121 -0.12199 0.00035 -0.12894 C 0.00139 -0.14399 0.00625 -0.1551 0.00816 -0.16945 C 0.00903 -0.1757 0.00972 -0.18241 0.01094 -0.18774 C 0.01163 -0.19352 0.01302 -0.19931 0.01424 -0.20463 C 0.01511 -0.21204 0.01441 -0.20741 0.01702 -0.2176 C 0.01771 -0.2213 0.01979 -0.22801 0.01979 -0.22778 C 0.02049 -0.23542 0.02188 -0.24074 0.02344 -0.24746 C 0.02587 -0.25903 0.02813 -0.2713 0.03073 -0.28287 C 0.03195 -0.28843 0.03403 -0.29306 0.03542 -0.29838 C 0.03663 -0.30926 0.04132 -0.32037 0.04497 -0.32454 C 0.04774 -0.33218 0.0507 -0.33774 0.05417 -0.34121 C 0.05677 -0.34815 0.05955 -0.35139 0.06302 -0.35301 C 0.06632 -0.35649 0.06945 -0.3588 0.07309 -0.36088 C 0.07448 -0.36181 0.07726 -0.36343 0.07726 -0.3632 C 0.08247 -0.37014 0.08924 -0.37037 0.09479 -0.37107 C 0.10851 -0.37061 0.1224 -0.37061 0.13611 -0.36991 C 0.1408 -0.36968 0.14549 -0.36111 0.15 -0.35834 C 0.15156 -0.35602 0.15295 -0.35463 0.15452 -0.35301 C 0.1559 -0.34908 0.15695 -0.34699 0.15868 -0.34514 C 0.15955 -0.34121 0.16007 -0.33797 0.16059 -0.33357 C 0.16094 -0.33079 0.16198 -0.3257 0.16198 -0.32547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9" descr="foto_1.png"/>
          <p:cNvPicPr/>
          <p:nvPr/>
        </p:nvPicPr>
        <p:blipFill>
          <a:blip r:embed="rId3"/>
          <a:stretch/>
        </p:blipFill>
        <p:spPr>
          <a:xfrm>
            <a:off x="435600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4211640" y="335772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больше числа 6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9"/>
          <p:cNvSpPr/>
          <p:nvPr/>
        </p:nvSpPr>
        <p:spPr>
          <a:xfrm>
            <a:off x="6012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1"/>
          <p:cNvSpPr/>
          <p:nvPr/>
        </p:nvSpPr>
        <p:spPr>
          <a:xfrm>
            <a:off x="226836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-0.08079 C 0.00277 -0.08334 0.0052 -0.08426 0.00833 -0.08843 C 0.01059 -0.10162 0.01232 -0.11227 0.01302 -0.12616 C 0.0125 -0.16852 0.01493 -0.24121 0.00746 -0.28473 C 0.00694 -0.29723 0.00746 -0.31783 0.00364 -0.33125 C 0.00173 -0.3382 -0.00452 -0.34653 -0.00869 -0.35139 C -0.01007 -0.35301 -0.01459 -0.3551 -0.01615 -0.35625 C -0.02882 -0.36667 -0.04184 -0.37778 -0.05678 -0.38149 C -0.07778 -0.38079 -0.0974 -0.37917 -0.11806 -0.37778 C -0.12952 -0.37014 -0.13351 -0.35811 -0.13889 -0.34375 C -0.1408 -0.32732 -0.14028 -0.31065 -0.14358 -0.29468 C -0.14393 -0.28496 -0.14445 -0.27547 -0.14445 -0.26574 C -0.14445 -0.25949 -0.1441 -0.25324 -0.14358 -0.24699 C -0.14341 -0.24422 -0.13976 -0.24074 -0.13976 -0.24051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93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меньше числа 10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находится между числом 4 и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2484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2454 C -0.01667 -0.02662 -0.0158 -0.02709 -0.01441 -0.03125 C -0.01406 -0.04445 -0.01441 -0.06459 -0.01146 -0.07686 C -0.01059 -0.08542 -0.00886 -0.09074 -0.00712 -0.09769 C -0.00608 -0.11274 -0.00104 -0.12385 0.00104 -0.13797 C 0.00191 -0.14445 0.0026 -0.15093 0.00399 -0.15625 C 0.00469 -0.16204 0.00607 -0.16806 0.00729 -0.17338 C 0.00816 -0.18079 0.00746 -0.17593 0.01007 -0.18635 C 0.01094 -0.18982 0.01302 -0.19653 0.01302 -0.1963 C 0.01389 -0.20394 0.01528 -0.20949 0.01684 -0.21621 C 0.01944 -0.22778 0.02187 -0.24005 0.02465 -0.25139 C 0.02587 -0.25718 0.02795 -0.26158 0.02934 -0.2669 C 0.03073 -0.27801 0.03576 -0.28912 0.03958 -0.29306 C 0.04236 -0.3007 0.04531 -0.30625 0.04913 -0.30996 C 0.05191 -0.3169 0.05469 -0.31991 0.05833 -0.32153 C 0.0618 -0.32524 0.0651 -0.32755 0.06875 -0.3294 C 0.07031 -0.33056 0.07309 -0.33218 0.07309 -0.33195 C 0.07864 -0.33889 0.08576 -0.33912 0.09149 -0.33959 C 0.1059 -0.33936 0.12031 -0.33936 0.13472 -0.33866 C 0.13958 -0.3382 0.14444 -0.32963 0.14913 -0.32686 C 0.15087 -0.32477 0.15225 -0.32338 0.15399 -0.32153 C 0.15538 -0.31783 0.15642 -0.31551 0.15833 -0.31366 C 0.15937 -0.30996 0.15972 -0.30672 0.16024 -0.30209 C 0.16059 -0.29931 0.1618 -0.29445 0.1618 -0.29422 E">
                                      <p:cBhvr>
                                        <p:cTn id="6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 от этого числа вычесть 1, то получиться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больше числа 5 и меньше числ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9"/>
          <p:cNvSpPr/>
          <p:nvPr/>
        </p:nvSpPr>
        <p:spPr>
          <a:xfrm>
            <a:off x="59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1"/>
          <p:cNvSpPr/>
          <p:nvPr/>
        </p:nvSpPr>
        <p:spPr>
          <a:xfrm>
            <a:off x="219564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579 C 0.00174 -0.05625 0.00365 -0.05602 0.00504 -0.05718 C 0.00591 -0.05787 0.00573 -0.05973 0.00591 -0.06111 C 0.00712 -0.06922 0.00868 -0.07732 0.0099 -0.08542 C 0.01459 -0.11621 0.02066 -0.14653 0.02327 -0.17778 C 0.02309 -0.20047 0.02778 -0.24908 0.01754 -0.27778 C 0.01493 -0.29306 0.00938 -0.31204 -0.00069 -0.3213 C -0.00347 -0.32686 -0.0085 -0.32755 -0.01319 -0.32894 C -0.02031 -0.32848 -0.02725 -0.32848 -0.03437 -0.32778 C -0.04323 -0.32686 -0.05173 -0.32084 -0.06041 -0.31875 C -0.0658 -0.31598 -0.06458 -0.31806 -0.06232 -0.30463 C -0.06163 -0.30047 -0.05955 -0.30047 -0.05746 -0.29815 C -0.05208 -0.2919 -0.05312 -0.29283 -0.04791 -0.28912 E">
                                      <p:cBhvr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8" descr="foto_1.png"/>
          <p:cNvPicPr/>
          <p:nvPr/>
        </p:nvPicPr>
        <p:blipFill>
          <a:blip r:embed="rId1"/>
          <a:stretch/>
        </p:blipFill>
        <p:spPr>
          <a:xfrm>
            <a:off x="226836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9" descr="foto_1.png"/>
          <p:cNvPicPr/>
          <p:nvPr/>
        </p:nvPicPr>
        <p:blipFill>
          <a:blip r:embed="rId2"/>
          <a:stretch/>
        </p:blipFill>
        <p:spPr>
          <a:xfrm>
            <a:off x="414036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4" descr="11954329291743204660panier-shopping_basket_a_01.svg.hi.png"/>
          <p:cNvPicPr/>
          <p:nvPr/>
        </p:nvPicPr>
        <p:blipFill>
          <a:blip r:embed="rId3"/>
          <a:stretch/>
        </p:blipFill>
        <p:spPr>
          <a:xfrm>
            <a:off x="3203640" y="342900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12"/>
          <p:cNvSpPr/>
          <p:nvPr/>
        </p:nvSpPr>
        <p:spPr>
          <a:xfrm>
            <a:off x="4284720" y="3645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3924360" y="4149720"/>
            <a:ext cx="98568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6" descr="foto_1.png"/>
          <p:cNvPicPr/>
          <p:nvPr/>
        </p:nvPicPr>
        <p:blipFill>
          <a:blip r:embed="rId6"/>
          <a:stretch/>
        </p:blipFill>
        <p:spPr>
          <a:xfrm>
            <a:off x="25092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0" descr="foto_1.png"/>
          <p:cNvPicPr/>
          <p:nvPr/>
        </p:nvPicPr>
        <p:blipFill>
          <a:blip r:embed="rId7"/>
          <a:stretch/>
        </p:blipFill>
        <p:spPr>
          <a:xfrm>
            <a:off x="608472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2" descr="белка.png"/>
          <p:cNvPicPr/>
          <p:nvPr/>
        </p:nvPicPr>
        <p:blipFill>
          <a:blip r:embed="rId8"/>
          <a:stretch/>
        </p:blipFill>
        <p:spPr>
          <a:xfrm>
            <a:off x="395280" y="134136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3" descr="d6cc6057d5ed6e441e6602aed03ec9a4.gif"/>
          <p:cNvPicPr/>
          <p:nvPr/>
        </p:nvPicPr>
        <p:blipFill>
          <a:blip r:embed="rId9"/>
          <a:stretch/>
        </p:blipFill>
        <p:spPr>
          <a:xfrm>
            <a:off x="3276720" y="907920"/>
            <a:ext cx="1805040" cy="169236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15"/>
          <p:cNvSpPr/>
          <p:nvPr/>
        </p:nvSpPr>
        <p:spPr>
          <a:xfrm>
            <a:off x="6659640" y="260280"/>
            <a:ext cx="865080" cy="4969080"/>
          </a:xfrm>
          <a:prstGeom prst="wedgeEllipseCallout">
            <a:avLst>
              <a:gd name="adj1" fmla="val -283962"/>
              <a:gd name="adj2" fmla="val -2305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множение 23">
            <a:hlinkClick r:id="" action="ppaction://hlinkshowjump?jump=endshow"/>
          </p:cNvPr>
          <p:cNvSpPr/>
          <p:nvPr/>
        </p:nvSpPr>
        <p:spPr>
          <a:xfrm>
            <a:off x="7956720" y="5877000"/>
            <a:ext cx="842760" cy="770040"/>
          </a:xfrm>
          <a:custGeom>
            <a:avLst/>
            <a:gdLst/>
            <a:ahLst/>
            <a:rect l="l" t="t" r="r" b="b"/>
            <a:pathLst>
              <a:path w="842963" h="769938">
                <a:moveTo>
                  <a:pt x="141395" y="251775"/>
                </a:moveTo>
                <a:lnTo>
                  <a:pt x="263522" y="118065"/>
                </a:lnTo>
                <a:lnTo>
                  <a:pt x="421482" y="262340"/>
                </a:lnTo>
                <a:lnTo>
                  <a:pt x="579441" y="118065"/>
                </a:lnTo>
                <a:lnTo>
                  <a:pt x="701568" y="251775"/>
                </a:lnTo>
                <a:lnTo>
                  <a:pt x="555741" y="384969"/>
                </a:lnTo>
                <a:lnTo>
                  <a:pt x="701568" y="518163"/>
                </a:lnTo>
                <a:lnTo>
                  <a:pt x="579441" y="651873"/>
                </a:lnTo>
                <a:lnTo>
                  <a:pt x="421482" y="507598"/>
                </a:lnTo>
                <a:lnTo>
                  <a:pt x="263522" y="651873"/>
                </a:lnTo>
                <a:lnTo>
                  <a:pt x="141395" y="518163"/>
                </a:lnTo>
                <a:lnTo>
                  <a:pt x="287222" y="384969"/>
                </a:lnTo>
                <a:lnTo>
                  <a:pt x="141395" y="2517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plodismenti.mp3" descr=""/>
          <p:cNvPicPr/>
          <p:nvPr/>
        </p:nvPicPr>
        <p:blipFill>
          <a:blip r:embed="rId10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14"/>
          <p:cNvSpPr/>
          <p:nvPr/>
        </p:nvSpPr>
        <p:spPr>
          <a:xfrm>
            <a:off x="3419640" y="3860640"/>
            <a:ext cx="914400" cy="9144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90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2T11:54:36Z</dcterms:created>
  <dc:creator>DNA7 X86</dc:creator>
  <dc:description/>
  <dc:language>en-US</dc:language>
  <cp:lastModifiedBy>Воспитатель</cp:lastModifiedBy>
  <dcterms:modified xsi:type="dcterms:W3CDTF">2015-11-25T06:50:28Z</dcterms:modified>
  <cp:revision>25</cp:revision>
  <dc:subject/>
  <dc:title>Слайд 1</dc:title>
</cp:coreProperties>
</file>