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7D0-110D-4CDC-8C0F-D8A2258A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265-0556-4F1B-9F89-09B59161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2D2-5F7E-4CD1-948B-362032A7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78F-3E97-44D5-899B-563EC53A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3B8-6455-4E35-8350-5513AA84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8CE-6CB5-41BC-AC4C-5B917C82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334-62F6-42EC-A514-D7009458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C5A-B196-4DAE-8F68-DFC9C3BD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E7D-205F-4905-B8AA-115AE91B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C64-2B9B-44D3-A41E-72075A77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F0A-7855-4535-9DC5-203BBC71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0F0-ADA4-494A-8CBD-6A7947E1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6378-9F63-4481-8FD8-88D04AAC3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0.png"/><Relationship Id="rId9" Type="http://schemas.openxmlformats.org/officeDocument/2006/relationships/image" Target="../media/image17.gif"/><Relationship Id="rId10" Type="http://schemas.openxmlformats.org/officeDocument/2006/relationships/image" Target="../media/image18.png"/><Relationship Id="rId11" Type="http://schemas.openxmlformats.org/officeDocument/2006/relationships/image" Target="../media/image9.png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773000"/>
            <a:ext cx="7342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Calibri"/>
              </a:rPr>
              <a:t>«Угадай –ка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1" descr="foto_1.png"/>
          <p:cNvPicPr/>
          <p:nvPr/>
        </p:nvPicPr>
        <p:blipFill>
          <a:blip r:embed="rId1"/>
          <a:stretch/>
        </p:blipFill>
        <p:spPr>
          <a:xfrm>
            <a:off x="108000" y="573264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0" descr="11954329291743204660panier-shopping_basket_a_01.svg.hi.png"/>
          <p:cNvPicPr/>
          <p:nvPr/>
        </p:nvPicPr>
        <p:blipFill>
          <a:blip r:embed="rId2"/>
          <a:stretch/>
        </p:blipFill>
        <p:spPr>
          <a:xfrm>
            <a:off x="2050920" y="5589720"/>
            <a:ext cx="960480" cy="10461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белка.png"/>
          <p:cNvPicPr/>
          <p:nvPr/>
        </p:nvPicPr>
        <p:blipFill>
          <a:blip r:embed="rId3"/>
          <a:stretch/>
        </p:blipFill>
        <p:spPr>
          <a:xfrm>
            <a:off x="358920" y="4149720"/>
            <a:ext cx="1763640" cy="2347920"/>
          </a:xfrm>
          <a:prstGeom prst="rect">
            <a:avLst/>
          </a:prstGeom>
          <a:ln w="0">
            <a:noFill/>
          </a:ln>
        </p:spPr>
      </p:pic>
      <p:sp>
        <p:nvSpPr>
          <p:cNvPr id="46" name="Овал 14"/>
          <p:cNvSpPr/>
          <p:nvPr/>
        </p:nvSpPr>
        <p:spPr>
          <a:xfrm>
            <a:off x="3419640" y="465300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16"/>
          <p:cNvSpPr/>
          <p:nvPr/>
        </p:nvSpPr>
        <p:spPr>
          <a:xfrm>
            <a:off x="6443640" y="4653000"/>
            <a:ext cx="914400" cy="9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7"/>
          <p:cNvSpPr/>
          <p:nvPr/>
        </p:nvSpPr>
        <p:spPr>
          <a:xfrm>
            <a:off x="2411280" y="4653000"/>
            <a:ext cx="914400" cy="9144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8"/>
          <p:cNvSpPr/>
          <p:nvPr/>
        </p:nvSpPr>
        <p:spPr>
          <a:xfrm>
            <a:off x="5435640" y="465300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9"/>
          <p:cNvSpPr/>
          <p:nvPr/>
        </p:nvSpPr>
        <p:spPr>
          <a:xfrm>
            <a:off x="4356000" y="465300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20"/>
          <p:cNvSpPr/>
          <p:nvPr/>
        </p:nvSpPr>
        <p:spPr>
          <a:xfrm>
            <a:off x="7451640" y="465300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6" descr="foto_1.png"/>
          <p:cNvPicPr/>
          <p:nvPr/>
        </p:nvPicPr>
        <p:blipFill>
          <a:blip r:embed="rId1"/>
          <a:stretch/>
        </p:blipFill>
        <p:spPr>
          <a:xfrm>
            <a:off x="539640" y="4941720"/>
            <a:ext cx="2438640" cy="925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8" descr="foto_1.png"/>
          <p:cNvPicPr/>
          <p:nvPr/>
        </p:nvPicPr>
        <p:blipFill>
          <a:blip r:embed="rId2"/>
          <a:stretch/>
        </p:blipFill>
        <p:spPr>
          <a:xfrm>
            <a:off x="2411280" y="4941720"/>
            <a:ext cx="2438640" cy="925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9" descr="foto_1.png"/>
          <p:cNvPicPr/>
          <p:nvPr/>
        </p:nvPicPr>
        <p:blipFill>
          <a:blip r:embed="rId3"/>
          <a:stretch/>
        </p:blipFill>
        <p:spPr>
          <a:xfrm>
            <a:off x="4140360" y="4941720"/>
            <a:ext cx="2438280" cy="925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0" descr="foto_1.png"/>
          <p:cNvPicPr/>
          <p:nvPr/>
        </p:nvPicPr>
        <p:blipFill>
          <a:blip r:embed="rId4"/>
          <a:stretch/>
        </p:blipFill>
        <p:spPr>
          <a:xfrm>
            <a:off x="6156360" y="4941720"/>
            <a:ext cx="2438280" cy="9255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белка.png"/>
          <p:cNvPicPr/>
          <p:nvPr/>
        </p:nvPicPr>
        <p:blipFill>
          <a:blip r:embed="rId5"/>
          <a:stretch/>
        </p:blipFill>
        <p:spPr>
          <a:xfrm>
            <a:off x="1547640" y="1413000"/>
            <a:ext cx="3149640" cy="4197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3357720"/>
            <a:ext cx="1919520" cy="2090520"/>
          </a:xfrm>
          <a:prstGeom prst="rect">
            <a:avLst/>
          </a:prstGeom>
          <a:ln w="0">
            <a:noFill/>
          </a:ln>
        </p:spPr>
      </p:pic>
      <p:sp>
        <p:nvSpPr>
          <p:cNvPr id="60" name="Овальная выноска 21"/>
          <p:cNvSpPr/>
          <p:nvPr/>
        </p:nvSpPr>
        <p:spPr>
          <a:xfrm>
            <a:off x="4788000" y="620640"/>
            <a:ext cx="403200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Ребя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Предлагаю  поиграть в игру «Угадай – 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Отгадайте, какое число я задум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Если ответ верный цифра отправиться в корзи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69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Если к этому числу прибавить 1, то получиться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9"/>
          <p:cNvSpPr/>
          <p:nvPr/>
        </p:nvSpPr>
        <p:spPr>
          <a:xfrm>
            <a:off x="406728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0"/>
          <p:cNvSpPr/>
          <p:nvPr/>
        </p:nvSpPr>
        <p:spPr>
          <a:xfrm>
            <a:off x="262728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5602 C -0.00885 -0.05811 -0.00798 -0.05857 -0.0066 -0.0625 C -0.00625 -0.0757 -0.0066 -0.09607 -0.00382 -0.10834 C -0.00278 -0.11667 -0.00121 -0.12199 0.00035 -0.12894 C 0.00139 -0.14399 0.00625 -0.1551 0.00816 -0.16945 C 0.00903 -0.1757 0.00972 -0.18241 0.01094 -0.18774 C 0.01163 -0.19352 0.01302 -0.19931 0.01424 -0.20463 C 0.01511 -0.21204 0.01441 -0.20741 0.01702 -0.2176 C 0.01771 -0.2213 0.01979 -0.22801 0.01979 -0.22778 C 0.02049 -0.23542 0.02188 -0.24074 0.02344 -0.24746 C 0.02587 -0.25903 0.02813 -0.2713 0.03073 -0.28287 C 0.03195 -0.28843 0.03403 -0.29306 0.03542 -0.29838 C 0.03663 -0.30926 0.04132 -0.32037 0.04497 -0.32454 C 0.04774 -0.33218 0.0507 -0.33774 0.05417 -0.34121 C 0.05677 -0.34815 0.05955 -0.35139 0.06302 -0.35301 C 0.06632 -0.35649 0.06945 -0.3588 0.07309 -0.36088 C 0.07448 -0.36181 0.07726 -0.36343 0.07726 -0.3632 C 0.08247 -0.37014 0.08924 -0.37037 0.09479 -0.37107 C 0.10851 -0.37061 0.1224 -0.37061 0.13611 -0.36991 C 0.1408 -0.36968 0.14549 -0.36111 0.15 -0.35834 C 0.15156 -0.35602 0.15295 -0.35463 0.15452 -0.35301 C 0.1559 -0.34908 0.15695 -0.34699 0.15868 -0.34514 C 0.15955 -0.34121 0.16007 -0.33797 0.16059 -0.33357 C 0.16094 -0.33079 0.16198 -0.3257 0.16198 -0.32547 E">
                                      <p:cBhvr>
                                        <p:cTn id="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9" descr="foto_1.png"/>
          <p:cNvPicPr/>
          <p:nvPr/>
        </p:nvPicPr>
        <p:blipFill>
          <a:blip r:embed="rId3"/>
          <a:stretch/>
        </p:blipFill>
        <p:spPr>
          <a:xfrm>
            <a:off x="435600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4211640" y="3357720"/>
            <a:ext cx="1919160" cy="2092320"/>
          </a:xfrm>
          <a:prstGeom prst="rect">
            <a:avLst/>
          </a:prstGeom>
          <a:ln w="0">
            <a:noFill/>
          </a:ln>
        </p:spPr>
      </p:pic>
      <p:sp>
        <p:nvSpPr>
          <p:cNvPr id="81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больше числа 6 н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9"/>
          <p:cNvSpPr/>
          <p:nvPr/>
        </p:nvSpPr>
        <p:spPr>
          <a:xfrm>
            <a:off x="601200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1"/>
          <p:cNvSpPr/>
          <p:nvPr/>
        </p:nvSpPr>
        <p:spPr>
          <a:xfrm>
            <a:off x="226836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-0.08079 C 0.00277 -0.08334 0.0052 -0.08426 0.00833 -0.08843 C 0.01059 -0.10162 0.01232 -0.11227 0.01302 -0.12616 C 0.0125 -0.16852 0.01493 -0.24121 0.00746 -0.28473 C 0.00694 -0.29723 0.00746 -0.31783 0.00364 -0.33125 C 0.00173 -0.3382 -0.00452 -0.34653 -0.00869 -0.35139 C -0.01007 -0.35301 -0.01459 -0.3551 -0.01615 -0.35625 C -0.02882 -0.36667 -0.04184 -0.37778 -0.05678 -0.38149 C -0.07778 -0.38079 -0.0974 -0.37917 -0.11806 -0.37778 C -0.12952 -0.37014 -0.13351 -0.35811 -0.13889 -0.34375 C -0.1408 -0.32732 -0.14028 -0.31065 -0.14358 -0.29468 C -0.14393 -0.28496 -0.14445 -0.27547 -0.14445 -0.26574 C -0.14445 -0.25949 -0.1441 -0.25324 -0.14358 -0.24699 C -0.14341 -0.24422 -0.13976 -0.24074 -0.13976 -0.24051 E">
                                      <p:cBhvr>
                                        <p:cTn id="2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93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меньше числа 10 н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9"/>
          <p:cNvSpPr/>
          <p:nvPr/>
        </p:nvSpPr>
        <p:spPr>
          <a:xfrm>
            <a:off x="234000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7107 C 0.0007 -0.07292 0.00243 -0.07338 0.00538 -0.07732 C 0.00591 -0.09005 0.00538 -0.10973 0.01111 -0.12153 C 0.01302 -0.12963 0.01615 -0.13473 0.01962 -0.14144 C 0.02153 -0.15602 0.0316 -0.16667 0.03559 -0.18056 C 0.03733 -0.18658 0.03872 -0.19306 0.04132 -0.19815 C 0.04271 -0.20371 0.04549 -0.20949 0.04792 -0.21459 C 0.04966 -0.22176 0.04827 -0.21713 0.05348 -0.22709 C 0.05521 -0.23056 0.0592 -0.23704 0.0592 -0.23704 C 0.06077 -0.24422 0.06372 -0.24954 0.06667 -0.25602 C 0.0717 -0.26713 0.07657 -0.27894 0.08177 -0.29005 C 0.08438 -0.29561 0.08837 -0.3 0.09132 -0.3051 C 0.09375 -0.31574 0.10365 -0.32639 0.11111 -0.33033 C 0.11667 -0.33774 0.12257 -0.34306 0.12986 -0.34653 C 0.13525 -0.35324 0.14098 -0.35625 0.14792 -0.35787 C 0.15486 -0.36135 0.16129 -0.36343 0.16858 -0.36551 C 0.17136 -0.36644 0.17709 -0.36806 0.17709 -0.36806 C 0.18785 -0.37454 0.20174 -0.37477 0.21302 -0.37547 C 0.24132 -0.375 0.26962 -0.375 0.29792 -0.37431 C 0.30747 -0.37408 0.31702 -0.36574 0.32622 -0.36297 C 0.32934 -0.36088 0.33229 -0.35949 0.33559 -0.35787 C 0.33837 -0.35417 0.34045 -0.35209 0.3441 -0.35024 C 0.34601 -0.34653 0.34688 -0.34329 0.34792 -0.33912 C 0.34861 -0.33635 0.3507 -0.33149 0.3507 -0.33149 E">
                                      <p:cBhvr>
                                        <p:cTn id="4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105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находится между числом 4 и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9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0"/>
          <p:cNvSpPr/>
          <p:nvPr/>
        </p:nvSpPr>
        <p:spPr>
          <a:xfrm>
            <a:off x="2484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8 -0.02454 C -0.01667 -0.02662 -0.0158 -0.02709 -0.01441 -0.03125 C -0.01406 -0.04445 -0.01441 -0.06459 -0.01146 -0.07686 C -0.01059 -0.08542 -0.00886 -0.09074 -0.00712 -0.09769 C -0.00608 -0.11274 -0.00104 -0.12385 0.00104 -0.13797 C 0.00191 -0.14445 0.0026 -0.15093 0.00399 -0.15625 C 0.00469 -0.16204 0.00607 -0.16806 0.00729 -0.17338 C 0.00816 -0.18079 0.00746 -0.17593 0.01007 -0.18635 C 0.01094 -0.18982 0.01302 -0.19653 0.01302 -0.1963 C 0.01389 -0.20394 0.01528 -0.20949 0.01684 -0.21621 C 0.01944 -0.22778 0.02187 -0.24005 0.02465 -0.25139 C 0.02587 -0.25718 0.02795 -0.26158 0.02934 -0.2669 C 0.03073 -0.27801 0.03576 -0.28912 0.03958 -0.29306 C 0.04236 -0.3007 0.04531 -0.30625 0.04913 -0.30996 C 0.05191 -0.3169 0.05469 -0.31991 0.05833 -0.32153 C 0.0618 -0.32524 0.0651 -0.32755 0.06875 -0.3294 C 0.07031 -0.33056 0.07309 -0.33218 0.07309 -0.33195 C 0.07864 -0.33889 0.08576 -0.33912 0.09149 -0.33959 C 0.1059 -0.33936 0.12031 -0.33936 0.13472 -0.33866 C 0.13958 -0.3382 0.14444 -0.32963 0.14913 -0.32686 C 0.15087 -0.32477 0.15225 -0.32338 0.15399 -0.32153 C 0.15538 -0.31783 0.15642 -0.31551 0.15833 -0.31366 C 0.15937 -0.30996 0.15972 -0.30672 0.16024 -0.30209 C 0.16059 -0.29931 0.1618 -0.29445 0.1618 -0.29422 E">
                                      <p:cBhvr>
                                        <p:cTn id="6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117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Если  от этого числа вычесть 1, то получиться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9"/>
          <p:cNvSpPr/>
          <p:nvPr/>
        </p:nvSpPr>
        <p:spPr>
          <a:xfrm>
            <a:off x="234000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7107 C 0.0007 -0.07292 0.00243 -0.07338 0.00538 -0.07732 C 0.00591 -0.09005 0.00538 -0.10973 0.01111 -0.12153 C 0.01302 -0.12963 0.01615 -0.13473 0.01962 -0.14144 C 0.02153 -0.15602 0.0316 -0.16667 0.03559 -0.18056 C 0.03733 -0.18658 0.03872 -0.19306 0.04132 -0.19815 C 0.04271 -0.20371 0.04549 -0.20949 0.04792 -0.21459 C 0.04966 -0.22176 0.04827 -0.21713 0.05348 -0.22709 C 0.05521 -0.23056 0.0592 -0.23704 0.0592 -0.23704 C 0.06077 -0.24422 0.06372 -0.24954 0.06667 -0.25602 C 0.0717 -0.26713 0.07657 -0.27894 0.08177 -0.29005 C 0.08438 -0.29561 0.08837 -0.3 0.09132 -0.3051 C 0.09375 -0.31574 0.10365 -0.32639 0.11111 -0.33033 C 0.11667 -0.33774 0.12257 -0.34306 0.12986 -0.34653 C 0.13525 -0.35324 0.14098 -0.35625 0.14792 -0.35787 C 0.15486 -0.36135 0.16129 -0.36343 0.16858 -0.36551 C 0.17136 -0.36644 0.17709 -0.36806 0.17709 -0.36806 C 0.18785 -0.37454 0.20174 -0.37477 0.21302 -0.37547 C 0.24132 -0.375 0.26962 -0.375 0.29792 -0.37431 C 0.30747 -0.37408 0.31702 -0.36574 0.32622 -0.36297 C 0.32934 -0.36088 0.33229 -0.35949 0.33559 -0.35787 C 0.33837 -0.35417 0.34045 -0.35209 0.3441 -0.35024 C 0.34601 -0.34653 0.34688 -0.34329 0.34792 -0.33912 C 0.34861 -0.33635 0.3507 -0.33149 0.3507 -0.33149 E">
                                      <p:cBhvr>
                                        <p:cTn id="7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129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больше числа 5 и меньше числа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9"/>
          <p:cNvSpPr/>
          <p:nvPr/>
        </p:nvSpPr>
        <p:spPr>
          <a:xfrm>
            <a:off x="594036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1"/>
          <p:cNvSpPr/>
          <p:nvPr/>
        </p:nvSpPr>
        <p:spPr>
          <a:xfrm>
            <a:off x="219564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5579 C 0.00174 -0.05625 0.00365 -0.05602 0.00504 -0.05718 C 0.00591 -0.05787 0.00573 -0.05973 0.00591 -0.06111 C 0.00712 -0.06922 0.00868 -0.07732 0.0099 -0.08542 C 0.01459 -0.11621 0.02066 -0.14653 0.02327 -0.17778 C 0.02309 -0.20047 0.02778 -0.24908 0.01754 -0.27778 C 0.01493 -0.29306 0.00938 -0.31204 -0.00069 -0.3213 C -0.00347 -0.32686 -0.0085 -0.32755 -0.01319 -0.32894 C -0.02031 -0.32848 -0.02725 -0.32848 -0.03437 -0.32778 C -0.04323 -0.32686 -0.05173 -0.32084 -0.06041 -0.31875 C -0.0658 -0.31598 -0.06458 -0.31806 -0.06232 -0.30463 C -0.06163 -0.30047 -0.05955 -0.30047 -0.05746 -0.29815 C -0.05208 -0.2919 -0.05312 -0.29283 -0.04791 -0.28912 E">
                                      <p:cBhvr>
                                        <p:cTn id="9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8" descr="foto_1.png"/>
          <p:cNvPicPr/>
          <p:nvPr/>
        </p:nvPicPr>
        <p:blipFill>
          <a:blip r:embed="rId1"/>
          <a:stretch/>
        </p:blipFill>
        <p:spPr>
          <a:xfrm>
            <a:off x="2268360" y="5013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9" descr="foto_1.png"/>
          <p:cNvPicPr/>
          <p:nvPr/>
        </p:nvPicPr>
        <p:blipFill>
          <a:blip r:embed="rId2"/>
          <a:stretch/>
        </p:blipFill>
        <p:spPr>
          <a:xfrm>
            <a:off x="4140360" y="5013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4" descr="11954329291743204660panier-shopping_basket_a_01.svg.hi.png"/>
          <p:cNvPicPr/>
          <p:nvPr/>
        </p:nvPicPr>
        <p:blipFill>
          <a:blip r:embed="rId3"/>
          <a:stretch/>
        </p:blipFill>
        <p:spPr>
          <a:xfrm>
            <a:off x="3203640" y="3429000"/>
            <a:ext cx="1919160" cy="209232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12"/>
          <p:cNvSpPr/>
          <p:nvPr/>
        </p:nvSpPr>
        <p:spPr>
          <a:xfrm>
            <a:off x="4284720" y="364500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3"/>
          <p:cNvSpPr/>
          <p:nvPr/>
        </p:nvSpPr>
        <p:spPr>
          <a:xfrm>
            <a:off x="3924360" y="4149720"/>
            <a:ext cx="985680" cy="863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6" descr="foto_1.png"/>
          <p:cNvPicPr/>
          <p:nvPr/>
        </p:nvPicPr>
        <p:blipFill>
          <a:blip r:embed="rId6"/>
          <a:stretch/>
        </p:blipFill>
        <p:spPr>
          <a:xfrm>
            <a:off x="250920" y="5013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0" descr="foto_1.png"/>
          <p:cNvPicPr/>
          <p:nvPr/>
        </p:nvPicPr>
        <p:blipFill>
          <a:blip r:embed="rId7"/>
          <a:stretch/>
        </p:blipFill>
        <p:spPr>
          <a:xfrm>
            <a:off x="6084720" y="5013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2" descr="белка.png"/>
          <p:cNvPicPr/>
          <p:nvPr/>
        </p:nvPicPr>
        <p:blipFill>
          <a:blip r:embed="rId8"/>
          <a:stretch/>
        </p:blipFill>
        <p:spPr>
          <a:xfrm>
            <a:off x="395280" y="134136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3" descr="d6cc6057d5ed6e441e6602aed03ec9a4.gif"/>
          <p:cNvPicPr/>
          <p:nvPr/>
        </p:nvPicPr>
        <p:blipFill>
          <a:blip r:embed="rId9"/>
          <a:stretch/>
        </p:blipFill>
        <p:spPr>
          <a:xfrm>
            <a:off x="3276720" y="907920"/>
            <a:ext cx="1805040" cy="1692360"/>
          </a:xfrm>
          <a:prstGeom prst="rect">
            <a:avLst/>
          </a:prstGeom>
          <a:ln w="0">
            <a:noFill/>
          </a:ln>
        </p:spPr>
      </p:pic>
      <p:sp>
        <p:nvSpPr>
          <p:cNvPr id="144" name="Овальная выноска 15"/>
          <p:cNvSpPr/>
          <p:nvPr/>
        </p:nvSpPr>
        <p:spPr>
          <a:xfrm>
            <a:off x="6659640" y="260280"/>
            <a:ext cx="865080" cy="4969080"/>
          </a:xfrm>
          <a:prstGeom prst="wedgeEllipseCallout">
            <a:avLst>
              <a:gd name="adj1" fmla="val -283962"/>
              <a:gd name="adj2" fmla="val -2305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множение 23">
            <a:hlinkClick r:id="" action="ppaction://hlinkshowjump?jump=endshow"/>
          </p:cNvPr>
          <p:cNvSpPr/>
          <p:nvPr/>
        </p:nvSpPr>
        <p:spPr>
          <a:xfrm>
            <a:off x="7956720" y="5877000"/>
            <a:ext cx="842760" cy="770040"/>
          </a:xfrm>
          <a:custGeom>
            <a:avLst/>
            <a:gdLst/>
            <a:ahLst/>
            <a:rect l="l" t="t" r="r" b="b"/>
            <a:pathLst>
              <a:path w="842963" h="769938">
                <a:moveTo>
                  <a:pt x="141395" y="251775"/>
                </a:moveTo>
                <a:lnTo>
                  <a:pt x="263522" y="118065"/>
                </a:lnTo>
                <a:lnTo>
                  <a:pt x="421482" y="262340"/>
                </a:lnTo>
                <a:lnTo>
                  <a:pt x="579441" y="118065"/>
                </a:lnTo>
                <a:lnTo>
                  <a:pt x="701568" y="251775"/>
                </a:lnTo>
                <a:lnTo>
                  <a:pt x="555741" y="384969"/>
                </a:lnTo>
                <a:lnTo>
                  <a:pt x="701568" y="518163"/>
                </a:lnTo>
                <a:lnTo>
                  <a:pt x="579441" y="651873"/>
                </a:lnTo>
                <a:lnTo>
                  <a:pt x="421482" y="507598"/>
                </a:lnTo>
                <a:lnTo>
                  <a:pt x="263522" y="651873"/>
                </a:lnTo>
                <a:lnTo>
                  <a:pt x="141395" y="518163"/>
                </a:lnTo>
                <a:lnTo>
                  <a:pt x="287222" y="384969"/>
                </a:lnTo>
                <a:lnTo>
                  <a:pt x="141395" y="2517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Aplodismenti.mp3" descr=""/>
          <p:cNvPicPr/>
          <p:nvPr/>
        </p:nvPicPr>
        <p:blipFill>
          <a:blip r:embed="rId10"/>
          <a:stretch/>
        </p:blipFill>
        <p:spPr>
          <a:xfrm>
            <a:off x="53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Овал 14"/>
          <p:cNvSpPr/>
          <p:nvPr/>
        </p:nvSpPr>
        <p:spPr>
          <a:xfrm>
            <a:off x="3419640" y="3860640"/>
            <a:ext cx="914400" cy="9144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90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2T11:54:36Z</dcterms:created>
  <dc:creator>DNA7 X86</dc:creator>
  <dc:description/>
  <dc:language>en-US</dc:language>
  <cp:lastModifiedBy>Воспитатель</cp:lastModifiedBy>
  <dcterms:modified xsi:type="dcterms:W3CDTF">2015-11-25T06:50:28Z</dcterms:modified>
  <cp:revision>25</cp:revision>
  <dc:subject/>
  <dc:title>Слайд 1</dc:title>
</cp:coreProperties>
</file>