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4EF-1279-4AE5-BB50-479843E0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850-915C-4855-A97E-4D84E5EC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8E4-F764-4A9D-8FD5-0016BD1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AB06-7863-439D-A94F-B6C54FE0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CD6-A280-45F4-9960-39717C7E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022-6D44-49E6-89F8-D7197EA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CA0-4D28-4725-AD2D-80592A75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CF5-5AAA-46E0-88C0-3738896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CE3-DDD1-49B3-8BDF-231D801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0E3-899D-40DA-86C0-D0FC77FE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325-55D4-4CF0-A198-515F543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47D-B592-4D82-93A1-990EABF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839E-5260-4EC1-8528-B4A75D0D07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1603440"/>
            <a:ext cx="7723440" cy="277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осоче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том, вы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под щели, наход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остановивш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я маятником (как-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V="1">
            <a:off x="1214280" y="1571400"/>
            <a:ext cx="285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8"/>
          <p:cNvSpPr/>
          <p:nvPr/>
        </p:nvSpPr>
        <p:spPr>
          <a:xfrm>
            <a:off x="1214280" y="1571760"/>
            <a:ext cx="2145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2"/>
          <p:cNvSpPr/>
          <p:nvPr/>
        </p:nvSpPr>
        <p:spPr>
          <a:xfrm flipV="1">
            <a:off x="1641600" y="1571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>
            <a:off x="1643040" y="157176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6"/>
          <p:cNvCxnSpPr/>
          <p:nvPr/>
        </p:nvCxnSpPr>
        <p:spPr>
          <a:xfrm flipH="1">
            <a:off x="2927160" y="1571400"/>
            <a:ext cx="216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Прямая соединительная линия 18"/>
          <p:cNvSpPr/>
          <p:nvPr/>
        </p:nvSpPr>
        <p:spPr>
          <a:xfrm>
            <a:off x="1428840" y="278604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 flipH="1">
            <a:off x="1428480" y="2785320"/>
            <a:ext cx="21420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2"/>
          <p:cNvSpPr/>
          <p:nvPr/>
        </p:nvSpPr>
        <p:spPr>
          <a:xfrm flipV="1">
            <a:off x="2141640" y="27144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4"/>
          <p:cNvSpPr/>
          <p:nvPr/>
        </p:nvSpPr>
        <p:spPr>
          <a:xfrm>
            <a:off x="2143080" y="2714760"/>
            <a:ext cx="1714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26"/>
          <p:cNvCxnSpPr/>
          <p:nvPr/>
        </p:nvCxnSpPr>
        <p:spPr>
          <a:xfrm flipH="1">
            <a:off x="3855240" y="271440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рямая соединительная линия 28"/>
          <p:cNvSpPr/>
          <p:nvPr/>
        </p:nvSpPr>
        <p:spPr>
          <a:xfrm>
            <a:off x="428544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0"/>
          <p:cNvSpPr/>
          <p:nvPr/>
        </p:nvSpPr>
        <p:spPr>
          <a:xfrm flipH="1">
            <a:off x="4285800" y="4000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2"/>
          <p:cNvSpPr/>
          <p:nvPr/>
        </p:nvSpPr>
        <p:spPr>
          <a:xfrm flipV="1">
            <a:off x="3927600" y="385920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4"/>
          <p:cNvSpPr/>
          <p:nvPr/>
        </p:nvSpPr>
        <p:spPr>
          <a:xfrm flipH="1" flipV="1">
            <a:off x="2286000" y="38577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6"/>
          <p:cNvCxnSpPr/>
          <p:nvPr/>
        </p:nvCxnSpPr>
        <p:spPr>
          <a:xfrm flipH="1">
            <a:off x="2284200" y="38592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Прямая соединительная линия 38"/>
          <p:cNvSpPr/>
          <p:nvPr/>
        </p:nvSpPr>
        <p:spPr>
          <a:xfrm>
            <a:off x="4785480" y="5143680"/>
            <a:ext cx="14292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40"/>
          <p:cNvSpPr/>
          <p:nvPr/>
        </p:nvSpPr>
        <p:spPr>
          <a:xfrm flipH="1">
            <a:off x="4786200" y="5143680"/>
            <a:ext cx="21456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H="1">
            <a:off x="4427640" y="514512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H="1" flipV="1">
            <a:off x="2928600" y="51436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47"/>
          <p:cNvCxnSpPr/>
          <p:nvPr/>
        </p:nvCxnSpPr>
        <p:spPr>
          <a:xfrm flipH="1">
            <a:off x="2927160" y="5144760"/>
            <a:ext cx="21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 spd="med"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з сеней он попал в комнату, тоже темную, чуть-чуть озаренную светом, выходившим из-под широкой щели, находившейся внизу двер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50"/>
                            </p:stCondLst>
                            <p:childTnLst>
                              <p:par>
                                <p:cTn id="2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450"/>
                            </p:stCondLst>
                            <p:childTnLst>
                              <p:par>
                                <p:cTn id="2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lus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0"/>
                            </p:stCondLst>
                            <p:childTnLst>
                              <p:par>
                                <p:cTn id="2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800"/>
                            </p:stCondLst>
                            <p:childTnLst>
                              <p:par>
                                <p:cTn id="2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Из сене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он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попал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 комнату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тоже темную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чуть-чуть озаренную свето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выходившим из-под широкой щел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находившейся внизу двер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 бюр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ложенном перламутною мозаик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котор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естами уж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ыпа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ставил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после себ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одн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теньки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желобк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наполненные клее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лежал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ножество всякой всячи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средства выразительности в данном текст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56545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4000" spc="-1" strike="noStrike">
                <a:solidFill>
                  <a:srgbClr val="403152"/>
                </a:solidFill>
                <a:latin typeface="Calibri"/>
              </a:rPr>
              <a:t>Средства выразительности</a:t>
            </a:r>
            <a:r>
              <a:rPr b="1" lang="en-US" sz="3600" spc="-1" strike="noStrike">
                <a:solidFill>
                  <a:srgbClr val="403152"/>
                </a:solidFill>
                <a:latin typeface="Calibri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как из погреб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темные сени; темная комната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интаксический параллелиз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7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яды однородных член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5, 6 предложения)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ллитерац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-2, 7 предложе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001000" cy="150012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ворческо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320" y="2060280"/>
            <a:ext cx="8001000" cy="42260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звуковой образ создает Н.В. Гоголь в этих предложения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Вариант 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Какой образ дома Плюшкина создает данная аллитерация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оль средств выразительности в данном текс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9526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Цель урока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ершенствование умений и навыков по лексике, морфемике, морфологии, словообразованию, фонетике, синтаксису;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207280" cy="4032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alibri"/>
              </a:rPr>
              <a:t>Задачи: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крепление лексического и грамматического материала по пройденным те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вершенствование орфографических и пунктуационных навы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работка навыков работы с текстом с целью подготовки к итоговой аттестации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навыков написания сочинения-миниатю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витие читательского интереса к классической литературе</a:t>
            </a: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4240" y="1571400"/>
            <a:ext cx="7715520" cy="4857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…дом, как из погреба. 2. Из сеней он попал в комнату, тоже темную, чуть-чуть оз…ренную светом, выходившим из(под) широкой щели, находившейся внизу двери. 3. Отворивши эту дверь он наконец очутился в свету и был пор…жен представшим бе…порядком. 4. Казалось, как будто в доме происходило мытье полов и сюда на время нагромоздили всю мебель. 5. На одном столе стоял даже слома…ый стул и рядом с ним часы с остановившимся маятником, к которому паук уже пр…ладил паутину. 6. Тут же стоял пр…слоненный боком к стене шкаф с старинным серебром графинчиками и китайским ф…рфором. 7. На бюре выложе…ом перламутною мозаикой которая местами уже выпала и оставила после себя одни желтенькие желобки наполненные клеем лежало множество всякой всячины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н вступил в темные широкие сени, от которых подуло холодом, как из погреба. 2. Из сеней он попал в комнату, тоже темную, чуть-чуть озаренную светом, выходившим из-под широкой щели, находившейся внизу двери. 3. Отворивши эту дверь, он наконец очутился в свету и был поражен представшим беспорядком. 4. Казалось, как будто в доме происходило мытье полов и сюда на время нагромоздили всю мебель. 5. На одном столе стоял даже сломанный стул и рядом с ним часы с остановившимся маятником, к которому паук уже приладил паутину. 6. Тут же стоял прислоненный боком к стене шкаф с старинным серебром, графинчиками и китайским фарфором. 7. На бюре, выложенном перламутною мозаикой, которая местами уже выпала и оставила после себя одни желтенькие желобки, наполненные клеем, лежало множество всякой всячины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старевши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) отворивш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отвори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очутился) в свету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(очутился) на свет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бюр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на бюр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(выложенном) перламутною (мозаикой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 – совр.: перламутровой (мозаикой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ексически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помещение ниже уровня земли для хранения припа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т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книжн., устар.) – = хорон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ени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– = похор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гребальный обря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устар.) - = похоронный обря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Фонетический разб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-во-рив-ш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– 4 слога, 3-й удар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 – [т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в] – согласный, звонки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 – [а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 – [р’] – согласный, звонкий, мягки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и] – гласный, 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– [ф] – согласный, глухой, тверд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ш – [ш] – согласный, глухой, твердый.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– [ы] – гласный, безударный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9 букв, 9 звук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6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6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76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w="25560">
            <a:solidFill>
              <a:srgbClr val="8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Морфемный и словообразовательный раз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слома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отворивш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рфемный и словообразовательный раз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-лом-а-нн-ый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ма-нн-ый ← сломать (суффиксаль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о-твор-и-вш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ори-вши ← отворить (суффиксальны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04:39:26Z</dcterms:created>
  <dc:creator>Наталья</dc:creator>
  <dc:description/>
  <dc:language>en-US</dc:language>
  <cp:lastModifiedBy>Света</cp:lastModifiedBy>
  <dcterms:modified xsi:type="dcterms:W3CDTF">2010-02-02T16:08:07Z</dcterms:modified>
  <cp:revision>30</cp:revision>
  <dc:subject/>
  <dc:title>Слайд 1</dc:title>
</cp:coreProperties>
</file>