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B2B-D69F-42AA-9B14-8EFE6279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B04-AA74-465B-97A5-E4BDCF5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822-2FB6-4B5D-A303-52735458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120-7AB3-4FA4-965E-F63D28AB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70B-1144-4301-B521-C574FFA7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874-8373-4D21-B8DB-327E043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1A2-1402-4774-B34E-71290DC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BA3-88E1-4472-984F-5599547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684-D614-4CB8-B90B-E057393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AD3-78EF-40C7-B307-A8FFCB7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E19-FADE-40B9-ADA9-5C74DF7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40E-35F1-4267-9CD6-4AA4B4F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7C16-6C67-496A-948F-30F4CD7BA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603440"/>
            <a:ext cx="7723440" cy="27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том, вы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под щели, на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станов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маятни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V="1">
            <a:off x="1214280" y="1571400"/>
            <a:ext cx="285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>
            <a:off x="1214280" y="1571760"/>
            <a:ext cx="214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 flipV="1">
            <a:off x="1641600" y="1571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>
            <a:off x="1643040" y="157176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927160" y="1571400"/>
            <a:ext cx="21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18"/>
          <p:cNvSpPr/>
          <p:nvPr/>
        </p:nvSpPr>
        <p:spPr>
          <a:xfrm>
            <a:off x="1428840" y="278604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2"/>
          <p:cNvSpPr/>
          <p:nvPr/>
        </p:nvSpPr>
        <p:spPr>
          <a:xfrm flipV="1">
            <a:off x="2141640" y="2714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4"/>
          <p:cNvSpPr/>
          <p:nvPr/>
        </p:nvSpPr>
        <p:spPr>
          <a:xfrm>
            <a:off x="2143080" y="2714760"/>
            <a:ext cx="1714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/>
          <p:nvPr/>
        </p:nvCxnSpPr>
        <p:spPr>
          <a:xfrm flipH="1">
            <a:off x="3855240" y="271440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28"/>
          <p:cNvSpPr/>
          <p:nvPr/>
        </p:nvSpPr>
        <p:spPr>
          <a:xfrm>
            <a:off x="428544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428580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3927600" y="385920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4"/>
          <p:cNvSpPr/>
          <p:nvPr/>
        </p:nvSpPr>
        <p:spPr>
          <a:xfrm flipH="1" flipV="1">
            <a:off x="2286000" y="38577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6"/>
          <p:cNvCxnSpPr/>
          <p:nvPr/>
        </p:nvCxnSpPr>
        <p:spPr>
          <a:xfrm flipH="1">
            <a:off x="2284200" y="3859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38"/>
          <p:cNvSpPr/>
          <p:nvPr/>
        </p:nvSpPr>
        <p:spPr>
          <a:xfrm>
            <a:off x="4785480" y="5143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 flipH="1">
            <a:off x="4786200" y="5143680"/>
            <a:ext cx="21456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H="1">
            <a:off x="4427640" y="51451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H="1" flipV="1">
            <a:off x="2928600" y="51436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7"/>
          <p:cNvCxnSpPr/>
          <p:nvPr/>
        </p:nvCxnSpPr>
        <p:spPr>
          <a:xfrm flipH="1">
            <a:off x="2927160" y="5144760"/>
            <a:ext cx="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 сеней он попал в комнату, тоже темную, чуть-чуть озаренную светом, выходившим из-под широкой щели, находившейся внизу две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50"/>
                            </p:stCondLst>
                            <p:childTnLst>
                              <p:par>
                                <p:cTn id="2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45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8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Из сене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о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опал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 комнату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тоже темну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чуть-чуть озаренную свето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ыходившим из-под широкой щел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находившейся внизу две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 бюр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ложенном перламутною мозаи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тор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естами уж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а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стави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сле себ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дн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теньк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об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олненные клее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лежал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ножество всякой всячи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средства выразительности в данном тек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6545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4000" spc="-1" strike="noStrike">
                <a:solidFill>
                  <a:srgbClr val="403152"/>
                </a:solidFill>
                <a:latin typeface="Calibri"/>
              </a:rPr>
              <a:t>Средства выразительности</a:t>
            </a:r>
            <a:r>
              <a:rPr b="1" lang="en-US" sz="3600" spc="-1" strike="noStrike">
                <a:solidFill>
                  <a:srgbClr val="403152"/>
                </a:solidFill>
                <a:latin typeface="Calibri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как из погреб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темные сени; темная комнат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7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яды однородных член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6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ллитерац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-2, 7 предло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15001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320" y="2060280"/>
            <a:ext cx="8001000" cy="4226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звуковой образ создает Н.В. Гоголь в этих предложе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образ дома Плюшкина создает данная аллитерация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средств выразительности в данн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9526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ершенствование умений и навыков по лексике, морфемике, морфологии, словообразованию, фонетике, синтаксису;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207280" cy="4032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Задачи: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крепление лексического и грамматического материала по пройденным те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вершенствование орфографических и пунктуационных навы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работка навыков работы с текстом с целью подготовки к итоговой аттестаци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навыков написания сочинения-миниатю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к классической литературе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4240" y="1571400"/>
            <a:ext cx="7715520" cy="4857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…дом, как из погреба. 2. Из сеней он попал в комнату, тоже темную, чуть-чуть оз…ренную светом, выходившим из(под) широкой щели, находившейся внизу двери. 3. Отворивши эту дверь он наконец очутился в свету и был пор…жен представшим бе…порядком. 4. Казалось, как будто в доме происходило мытье полов и сюда на время нагромоздили всю мебель. 5. На одном столе стоял даже слома…ый стул и рядом с ним часы с остановившимся маятником, к которому паук уже пр…ладил паутину. 6. Тут же стоял пр…слоненный боком к стене шкаф с старинным серебром графинчиками и китайским ф…рфором. 7. На бюре выложе…ом перламутною мозаикой которая местами уже выпала и оставила после себя одни желтенькие желобки наполненные клеем лежало множество всякой всячи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одом, как из погреба. 2. Из сеней он попал в комнату, тоже темную, чуть-чуть озаренную светом, выходившим из-под широкой щели, находившейся внизу двери. 3. Отворивши эту дверь, он наконец очутился в свету и был поражен представшим беспорядком. 4. Казалось, как будто в доме происходило мытье полов и сюда на время нагромоздили всю мебель. 5. На одном столе стоял даже сломанный стул и рядом с ним часы с остановившимся маятником, к которому паук уже приладил паутину. 6. Тут же стоял прислоненный боком к стене шкаф с старинным серебром, графинчиками и китайским фарфором. 7. 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старевши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) отворивш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отвор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очутился) в свету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(очутился) на свет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бюр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на бюр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выложенном) перламутною (мозаико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 – совр.: перламутровой (мозаик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е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помещение ниже уровня земли для хранения прип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т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книжн., устар.) – = хорон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ени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– = похор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льный обря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- = похоронный об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онетический разб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-во-рив-ш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4 слога, 3-й удар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 – [т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в] – согласный, звонки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 – [р’] – согласный, звонкий, мягк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и] – гласный, 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ф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ш – [ш] – согласный, глухой, тверды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ы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9 букв, 9 зву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6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6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й раз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лома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отворивш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рфемный и словообразовательны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-лом-а-нн-ы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ма-нн-ый ← сломать (суффиксаль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-твор-и-вш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ори-вши ← отворить (суффикс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4:39:26Z</dcterms:created>
  <dc:creator>Наталья</dc:creator>
  <dc:description/>
  <dc:language>en-US</dc:language>
  <cp:lastModifiedBy>Света</cp:lastModifiedBy>
  <dcterms:modified xsi:type="dcterms:W3CDTF">2010-02-02T16:08:07Z</dcterms:modified>
  <cp:revision>30</cp:revision>
  <dc:subject/>
  <dc:title>Слайд 1</dc:title>
</cp:coreProperties>
</file>