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A3C-7A2D-4BFA-92EE-3978F9B7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1CD-1E75-4F73-AD95-261D8FDD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B5165-EA87-4D25-84B1-A8DC341C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7B5BC-F662-4EC6-8AC7-F997990E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D0CB5-E387-4592-85BA-AE0C0342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5DFB0-4454-43A1-A939-B3F7DE59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0A7D7-695B-4DF2-AA30-8BBE0269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7251F-5EDD-4AD4-879C-9DF31199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DC01F-8110-41A4-A2E4-68D278CB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8A4A1-EED7-4F6C-A76B-C3970633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F5C43-585D-457D-9AC7-9CAA0DE8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EA3CB-70CC-4BE1-8960-7C4BEF09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B1D-6F93-4583-B60E-23E3FA1C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BE719-98E1-445B-8E47-C40AAB72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CE539-9595-4332-89A4-FA444CA1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24B46-3295-491E-BB1D-16C2379A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6CF51-E96B-4960-93D6-617D5D09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9B911-5228-43B3-8773-415716B0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07993-F762-4DCB-A3A6-2487D667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9E5F9-8E36-447B-86B0-210B1333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3F3B2-A85D-4966-BF09-07336F45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8D307-2DA2-4FBB-BA69-4F8B1A6E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2592F-8AFB-4FCA-89D3-0D3CA095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E3D-D906-4963-8602-483FF970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F2E22-95AE-457D-93B1-0AC3879D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314D8-7273-4B69-BB50-1438E9E6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4B62F-9F0F-4D27-B44F-2B047691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96A34-8D0F-4989-8BAD-5E17C3A7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8F3D0-0C4A-4F03-8DAC-D78201EB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2ECBC-FE0B-42F6-B2DE-EE7E7917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461AA-9BCD-4A0C-90DA-CAE1E943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41ED4-E487-498D-9E4A-FB77C746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B8033-1E12-4C59-86C3-D07783CC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19DE3-0E82-43C5-B490-5B8358AF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30EC-8C15-4E33-AF20-6AB6AE49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531AC-0FFD-4542-A3B6-6E68C890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1A369-C52D-44CB-B620-FCC7003A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E68B6-89C3-4655-A835-E4222759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27161-F322-421E-A40B-DB06BAE6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3CEBE-40C6-474C-9803-E7831EE6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44C03-2DF1-4025-83DE-155EFB9F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2F498-EB00-46B2-A462-7B17587E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E4B73-CC0C-43B4-98F5-687A4B04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66B2D-6E13-4696-BBD2-5B340F18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EF775-24D9-4737-B1D4-490A2F97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6C35-C66B-43E2-9963-85E5F604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D7B53-F693-4353-BC6B-9DA456A5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2DD5D-939D-405B-AD82-8A77F3F0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9358C-5F29-47FA-A2E3-E0CE63B0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49E67-7E4B-48ED-80B4-44A72C24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C966F-DC21-4C90-B0E2-178BD825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BE800-3488-4D3F-A51A-D20CDA20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D1A9F-54BA-4A8C-B601-173054A8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65FA6-6368-4EFF-9A35-B2EAFC3E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8BCD0-FA35-43DF-ADBF-3010B178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11ACA-A481-4086-8C82-B08C5BCD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C5D8-50A6-4192-B433-F08EA965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7EF1B-4C2B-4E7D-AE40-C9EC9431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02AC7-8999-4505-BEE2-FEDD6642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D54A7-7444-4001-8AE0-AEFC87C9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6B17A-938E-418D-9152-2E15F6E0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29F92-A6B5-4E18-A0FB-F849A8F3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CBB41-A1DE-46CE-942E-0B2A7A3E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A6B0B-9DAE-45B5-8D6E-602C5E8A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9477D-4165-4297-9CB9-9B20713E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48A12C-9280-40C9-BEB7-D0FCE0B7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084BC-EC86-4549-83FE-F72E7C34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8104-F0EC-4EAE-9423-F8351BB4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0FD4E-548F-4620-B3CA-6B6EBEB2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F8C92-9BD4-4CF0-AF58-AE4F5590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20BDC7-BA8D-4B45-9364-0A1F88C9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D9955-77A3-471D-83AA-3B3F21D1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D61557-A05F-47FC-929B-4C31DCA9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3E2B6-9F7C-4FA2-9F0D-06629B1E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E4C2F-15FC-4D87-972E-A0463755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025FA-DDBE-429C-982E-9C52B50C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4CC4D-0661-49CF-8231-4EC26C4A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CD310-1542-406D-9668-2E234AF1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A7D3-9AC8-4B19-A473-E6DF69E3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D7817-A340-45B3-9057-2D445625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1BB13-9F0E-4D65-821D-719C7E68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E537E-B51E-42DB-9EF4-2A48F2E4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D5A80-2E61-435E-A803-5172CDEB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7C93B-37C2-4640-A4BB-1A0B3F9E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F3E30-94A2-4E6D-9AEB-3A25C605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41575-B5FB-4F08-828B-A57B15E1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5C3DCB-7FA6-4790-9447-2CD0B452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62E95E-1AEE-4021-A771-28C226C0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B4C5F7-423E-48CA-8AB3-4C80BC6B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C2AC-1B56-4A1D-8D56-586D7281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32B770-4CCF-4C22-A986-9D279154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1E01C-7A98-4AEF-81EB-F520766D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BAB929-FA06-42A3-8B94-EBE8404C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26D935-2F80-4DEC-93F8-48EBA831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62B9D6-D6A8-4F43-967A-8A1CF83B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5A13B4-BA1E-4489-8656-5771CCD1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D60CAA-89EB-439F-8441-212EF611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8CE8C1-34B1-4ECA-AF6C-BE59AAF8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0414B8-E545-4F48-897F-4F12F1D2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99C966-BBF0-4D82-A29A-0265F83E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F5E2-B81A-45A1-ADAC-64DB1CD5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437B2-7584-43A9-8CEF-EA301AC0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08A236-B8A6-4BD8-98E7-0DD93357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317AA9-CD3E-4E76-8679-894B7717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2AFA16-1E2D-495D-B068-539F503B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9406A2-FDCA-486A-A4F1-2575D311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830C70-4B39-4A91-BD02-8C946646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54E05B-351F-4183-A856-08F48AE4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C1DD7C-ABE3-4355-AAD7-DC67896E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961FDC-B7E6-4157-9D64-8427993B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B11C3E-3F62-4F82-929F-E5A1A9EF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47D-0D29-461A-BE1E-C2E0D891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5C1C-4916-4DCB-94DC-D91F2B70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442821-53A4-4077-BED9-7021F4AE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CBA95D-E873-4381-BE8B-A7450061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628C9F-9150-4AE4-9D61-3C020F4C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D7BD8-7A09-497A-B281-98A071CB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7BE332-03B0-4035-85C6-2660467A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C476F0-0D8D-44DD-91EE-394E47D1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B05A1F-81CE-4CCF-A40C-53665F70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E8BFDA-D142-4931-840F-D3C09E8D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F40F34-4384-4B99-BE65-9690A635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0BC547-088A-419B-BA28-A0BA4FE1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6EBA-5F47-454D-B848-A069E109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4BCC4F-6FD9-4A0A-8A38-0594F15C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403115-87F8-4F3D-9BD2-2CFB25B8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F2E731-85D3-427A-B320-5B773E97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472721-906F-4226-875D-4EEF400E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CD4D43-F44C-4832-BF04-11CFF741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A8DECF-4044-4211-89AC-79369D80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583A9F-9AAC-429F-86B8-5EE8FFED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7DCF-D450-4026-B02B-A432298B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07EE-AED8-495A-BEC5-A2C99C0E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066F-BCC5-47F3-82CD-BE12BF39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4EE1E-6194-4B46-912A-E369AF6F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9C92-574B-4DE9-9519-79405E23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62627-0464-44DA-B395-F73C1F77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BAFAE-4B04-484B-866D-79769A53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11F48-9161-40DE-829D-BF72D301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F4B-6732-4FB4-AD2C-B43A6E2C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071F8-2D9C-4110-B49D-6C23CE1D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B01E3-D060-44D8-9F4F-8684A7D9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43EC2-98A7-4E6E-9727-C962DA54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35290-29D1-4AFE-90FB-6E7C946B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C7E5-0F22-4B77-879E-09A39108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47792-87CC-4BB2-9EB8-96857BB9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65E8B-FF80-4B0B-95E5-8C128B51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91722-2DE9-4D21-84E0-2BD929DB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73ABC-0C7F-46FF-81F8-E61D52AC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2AC47-0FE3-4499-87F9-852FFD10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7B6-F307-430F-830D-8BD89D09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E357B-A288-4A90-A812-E48BB221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05B2E-93FE-404C-B2BC-9A688735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92EE-3C7E-4243-A335-D5793EA5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2BB89-F229-46AB-9918-B7F49ECC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B3ECF-0E2D-47B5-B8CB-842A5EF1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5AF10-DC28-4473-BEB6-F7F75AE3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CF9DA-88B5-4608-B3E6-D50F73D4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CE3AE-9E4B-441A-865F-223C9EF5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3B00-B1F1-49DA-8C11-7FB7E785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1F4CD-484E-4964-9E07-C5DC593F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235-CE00-4885-A61A-C73AC95D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90631-D330-4975-8EEA-C726E0EC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92154-521D-4544-816F-77ABCC22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CF733-D5B8-4577-B1DB-593FA583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C39B4-577A-4C2F-9345-6BD5DBB4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31F7F-E64F-478E-9684-C838DBC4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44627-515C-46E9-9449-C9EFE827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2E150-C0C5-42D5-97FA-D241F4D6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BA3E9-7E95-49A5-80C5-F84189E7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521ED-8B73-42A5-B532-53E80E1C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CC42D-10D8-4F3E-8563-B13D4325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DEC9-B28D-419B-8779-8398D2A0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40786-6E91-4CA9-94D1-7598C1B2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36C87-AC4D-4800-8CCF-E91CFC04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B8D49-03DE-4530-B9F5-FBAE70A6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EB2DA-3D84-4064-AEA1-0C2C51A0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714E6-5033-4120-B5F1-6072A9A4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E665F-FFA2-49D2-A1EF-C67CEC98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8EBDF-9ED4-4B32-B3B0-CE873CE3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70011-5408-43BE-9C7A-7940D637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85395-5518-4CB0-B0E8-E06FBBFD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7DEA6-4F74-4FD1-B3AD-75E7E965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1B4-6ED6-4455-8A32-84D9EA29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A835C-6776-48D9-96D5-8C54DBC8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4C398-E4AA-40FA-9FB4-945D16C3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F0824-32E1-43E7-BFE1-0BC47951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7F93B-E10A-4CA3-850E-4695816E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7900B-B05B-4FB7-9CBF-9B20859B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C8AA0-F92F-4317-84B8-2F7C7817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108F7-38D9-47DA-9FAB-C97BCA3B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2639F-982B-417C-8A50-EA99807C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D1E64-A36F-4E83-BDD0-2C85FA23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DE395-D24B-4442-95EE-EA873560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326-B568-4FE3-BC52-21D455E6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B72AB-E769-4301-A96A-10DD75ED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9DB79-4451-4147-9010-7FF119DA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C419F-37C4-4080-8C6A-8CE555DB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636ED-5881-4B42-B783-EB6BE48F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72F72-6B5D-4CDB-9191-7FC5EFDE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0AF64-1A05-4D6F-85C7-D89E9C1F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DDD37-D5F0-494A-97D0-C71E0FDF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D67E4-5258-44B5-BD06-81C2FCE5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64610-DD24-46EB-B995-367D9E91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9E937-6D9F-4F12-AEB6-C03BEB41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EE5-6015-4B99-B38A-297E9F3B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B82E4-C78D-4C48-BD54-3EBFA099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A848B-791C-4295-8AAD-401A31ED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E00AA-CF8B-4060-8F4C-6B43DA27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8C224-CE3C-4730-A081-FF0F32E1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61027-5334-469F-807A-78AAC952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4D4A9-E719-4179-8D62-C9F9E225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527C0-D99B-4C06-8605-1AC9905B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B853C-A321-4B05-A42A-B70639CB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91EE1-697B-42BE-81A6-FFC93308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A16A1-6B32-435D-B7A6-B4BF22A6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750960"/>
            <a:ext cx="77788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68AEFF-C28E-446A-A1BC-D52AF5B6E2D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496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8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595DEB-0000-4690-B475-38FDCF6BA24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543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dt" idx="3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ftr" idx="3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6ECA34-CED2-4D56-B838-C640D9DFEBD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590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dt" idx="3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ftr" idx="3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E6D2EB-6C27-4B37-8EDF-8172BE0255A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637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dt" idx="3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ftr" idx="3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62CDCF-CC06-4697-8C10-5EFFC60A487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686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dt" idx="4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195FC8-572C-49F1-903E-6A5E55FBCCE8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4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064899-829C-4ADE-987B-48C8CB48F04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#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734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dt" idx="4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C5DC3D-C745-41CA-839D-41504F67158F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ftr" idx="4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78A574-839F-4172-BA5C-0B99614A4C1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#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781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8" name="PlaceHolder 1"/>
          <p:cNvSpPr>
            <a:spLocks noGrp="1"/>
          </p:cNvSpPr>
          <p:nvPr>
            <p:ph type="dt" idx="4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3CA843-DB42-4964-9590-26C82B80ED7C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ftr" idx="4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95EBDF-B6AA-4C48-A3E5-665D32F5F74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#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828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PlaceHolder 1"/>
          <p:cNvSpPr>
            <a:spLocks noGrp="1"/>
          </p:cNvSpPr>
          <p:nvPr>
            <p:ph type="dt" idx="49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93FD05-8680-48DC-9EF1-07131960B3D7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ftr" idx="5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5D0FDC-0158-4964-8B58-D2786447776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#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4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875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096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dt" idx="52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ftr" idx="5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E33BAD-97C2-4679-A89F-2B5CA443586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AutoShape 5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6720"/>
            <a:ext cx="585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59E475-3F6C-4552-B8BA-66EA38F4CDD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70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96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E3EFEA-1A54-4821-A94F-A4478CBAEA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156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7E1764-4375-46CE-8D6C-A2590D3590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214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471CF5-FDD7-4985-93F0-DB72D3BDE0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272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dt" idx="1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00E0D6-6654-4E00-90BC-7F6A5DED75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330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dt" idx="19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ftr" idx="2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2BDA28-33BD-4D3C-BBFB-081C219CBC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388" name="Freeform 2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3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5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6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7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8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9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10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14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5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6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7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18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19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22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2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79B6B7-8CA0-481A-A4A8-F3604A16DE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2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447" name="Freeform 2"/>
            <p:cNvSpPr/>
            <p:nvPr/>
          </p:nvSpPr>
          <p:spPr>
            <a:xfrm>
              <a:off x="0" y="3981600"/>
              <a:ext cx="3398760" cy="28620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4"/>
            <p:cNvSpPr/>
            <p:nvPr/>
          </p:nvSpPr>
          <p:spPr>
            <a:xfrm>
              <a:off x="0" y="4341960"/>
              <a:ext cx="2768760" cy="25016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5"/>
            <p:cNvSpPr/>
            <p:nvPr/>
          </p:nvSpPr>
          <p:spPr>
            <a:xfrm>
              <a:off x="0" y="4038480"/>
              <a:ext cx="2768760" cy="28051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6"/>
            <p:cNvSpPr/>
            <p:nvPr/>
          </p:nvSpPr>
          <p:spPr>
            <a:xfrm>
              <a:off x="331920" y="4419720"/>
              <a:ext cx="134640" cy="1346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7"/>
            <p:cNvSpPr/>
            <p:nvPr/>
          </p:nvSpPr>
          <p:spPr>
            <a:xfrm>
              <a:off x="2438280" y="6165720"/>
              <a:ext cx="144720" cy="14472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8"/>
            <p:cNvSpPr/>
            <p:nvPr/>
          </p:nvSpPr>
          <p:spPr>
            <a:xfrm>
              <a:off x="1255680" y="4322880"/>
              <a:ext cx="190440" cy="190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5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D76B08-1800-40A6-B8FE-37474D2BEB0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ЗАНЯТИЕ</a:t>
            </a:r>
            <a:br>
              <a:rPr sz="4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"Я - внимательный!"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643280" y="2852640"/>
            <a:ext cx="401328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на развитие вним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во 2 – 4 клас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826920" y="333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БОУ Ильин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6291360" y="6040440"/>
            <a:ext cx="26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02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Text Box 5"/>
          <p:cNvSpPr/>
          <p:nvPr/>
        </p:nvSpPr>
        <p:spPr>
          <a:xfrm>
            <a:off x="4500720" y="4292640"/>
            <a:ext cx="431928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остав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учитель начальных классов Олейник И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7" name="Изображение 11270" descr=""/>
          <p:cNvPicPr/>
          <p:nvPr/>
        </p:nvPicPr>
        <p:blipFill>
          <a:blip r:embed="rId1"/>
          <a:stretch/>
        </p:blipFill>
        <p:spPr>
          <a:xfrm>
            <a:off x="0" y="3311640"/>
            <a:ext cx="4013280" cy="354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3348000" y="5660640"/>
            <a:ext cx="17287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Text Box 2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364000" cy="6597720"/>
          </a:xfrm>
          <a:prstGeom prst="rect">
            <a:avLst/>
          </a:prstGeom>
          <a:ln w="0">
            <a:noFill/>
          </a:ln>
        </p:spPr>
      </p:pic>
      <p:sp>
        <p:nvSpPr>
          <p:cNvPr id="947" name="Text Box 4"/>
          <p:cNvSpPr/>
          <p:nvPr/>
        </p:nvSpPr>
        <p:spPr>
          <a:xfrm>
            <a:off x="5614920" y="1479600"/>
            <a:ext cx="3233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роверь себ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 Box 1"/>
          <p:cNvSpPr/>
          <p:nvPr/>
        </p:nvSpPr>
        <p:spPr>
          <a:xfrm>
            <a:off x="803160" y="803160"/>
            <a:ext cx="78422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3.Упражнение «Запомн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4" descr=""/>
          <p:cNvPicPr/>
          <p:nvPr/>
        </p:nvPicPr>
        <p:blipFill>
          <a:blip r:embed="rId1"/>
          <a:stretch/>
        </p:blipFill>
        <p:spPr>
          <a:xfrm>
            <a:off x="1835280" y="144360"/>
            <a:ext cx="550836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1"/>
          <p:cNvSpPr/>
          <p:nvPr/>
        </p:nvSpPr>
        <p:spPr>
          <a:xfrm>
            <a:off x="803160" y="803160"/>
            <a:ext cx="78422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4.Упражнение «Какого цвета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Picture 3" descr=""/>
          <p:cNvPicPr/>
          <p:nvPr/>
        </p:nvPicPr>
        <p:blipFill>
          <a:blip r:embed="rId1"/>
          <a:stretch/>
        </p:blipFill>
        <p:spPr>
          <a:xfrm>
            <a:off x="1224000" y="142920"/>
            <a:ext cx="6732720" cy="65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Text Box 1"/>
          <p:cNvSpPr/>
          <p:nvPr/>
        </p:nvSpPr>
        <p:spPr>
          <a:xfrm>
            <a:off x="803160" y="803160"/>
            <a:ext cx="78422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5.Упражнение «Найди 10 отлич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Picture 3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82036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осчитайте зеленые квадра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6. Упражнение «Сколько фигур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1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160720" y="720720"/>
            <a:ext cx="5327640" cy="54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Arial"/>
              </a:rPr>
              <a:t>Квадратов зеленых – 35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верьте себ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9" name="Picture 3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916360" y="3141720"/>
            <a:ext cx="3409920" cy="345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"/>
              </a:rPr>
              <a:t>Цель занятия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: развитие внимания, наблюдательности, помехоустойчивости, зрительной памяти, наглядно-образного мыш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1"/>
          <p:cNvSpPr/>
          <p:nvPr/>
        </p:nvSpPr>
        <p:spPr>
          <a:xfrm>
            <a:off x="898560" y="547560"/>
            <a:ext cx="84247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Тема: «Я - внимательный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/>
          </p:nvPr>
        </p:nvSpPr>
        <p:spPr>
          <a:xfrm>
            <a:off x="1258560" y="836280"/>
            <a:ext cx="5102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Найдите силуэт (тень) бел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1"/>
          <p:cNvSpPr/>
          <p:nvPr/>
        </p:nvSpPr>
        <p:spPr>
          <a:xfrm>
            <a:off x="2797200" y="50760"/>
            <a:ext cx="7140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7.Упражнение «Силуэт бел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2" name="Picture 3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977080" cy="4464360"/>
          </a:xfrm>
          <a:prstGeom prst="rect">
            <a:avLst/>
          </a:prstGeom>
          <a:ln w="0">
            <a:noFill/>
          </a:ln>
        </p:spPr>
      </p:pic>
      <p:sp>
        <p:nvSpPr>
          <p:cNvPr id="963" name="Text Box 4"/>
          <p:cNvSpPr/>
          <p:nvPr/>
        </p:nvSpPr>
        <p:spPr>
          <a:xfrm>
            <a:off x="471636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5"/>
          <p:cNvSpPr/>
          <p:nvPr/>
        </p:nvSpPr>
        <p:spPr>
          <a:xfrm>
            <a:off x="6443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6"/>
          <p:cNvSpPr/>
          <p:nvPr/>
        </p:nvSpPr>
        <p:spPr>
          <a:xfrm>
            <a:off x="630072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7"/>
          <p:cNvSpPr/>
          <p:nvPr/>
        </p:nvSpPr>
        <p:spPr>
          <a:xfrm>
            <a:off x="46432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8"/>
          <p:cNvSpPr/>
          <p:nvPr/>
        </p:nvSpPr>
        <p:spPr>
          <a:xfrm>
            <a:off x="277164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/>
          </p:nvPr>
        </p:nvSpPr>
        <p:spPr>
          <a:xfrm>
            <a:off x="5076720" y="764640"/>
            <a:ext cx="216072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луэт  №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9" name="Picture 1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977080" cy="502272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2"/>
          <p:cNvSpPr/>
          <p:nvPr/>
        </p:nvSpPr>
        <p:spPr>
          <a:xfrm>
            <a:off x="3963960" y="228600"/>
            <a:ext cx="43052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авильный от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 Box 4"/>
          <p:cNvSpPr/>
          <p:nvPr/>
        </p:nvSpPr>
        <p:spPr>
          <a:xfrm>
            <a:off x="4932360" y="450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/>
          </p:nvPr>
        </p:nvSpPr>
        <p:spPr>
          <a:xfrm>
            <a:off x="2340000" y="1125360"/>
            <a:ext cx="6470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Найдите 2 одинаковые баб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 Box 2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 Box 3"/>
          <p:cNvSpPr/>
          <p:nvPr/>
        </p:nvSpPr>
        <p:spPr>
          <a:xfrm>
            <a:off x="3840120" y="95400"/>
            <a:ext cx="48499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8.Упражнение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          «Пара бабочек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6" name="Picture 5" descr=""/>
          <p:cNvPicPr/>
          <p:nvPr/>
        </p:nvPicPr>
        <p:blipFill>
          <a:blip r:embed="rId1"/>
          <a:stretch/>
        </p:blipFill>
        <p:spPr>
          <a:xfrm>
            <a:off x="1774800" y="1817640"/>
            <a:ext cx="6915240" cy="504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ВЫ ХОРОШО ПОРАБОТАЛИ, ПОТОМУ ЧТО БЫЛИ ВНИМАТЕЛЬН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Какое у Вас настроени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1"/>
          <p:cNvSpPr/>
          <p:nvPr/>
        </p:nvSpPr>
        <p:spPr>
          <a:xfrm>
            <a:off x="2050920" y="907920"/>
            <a:ext cx="590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МОЛОДЦЫ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Проверьт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наблюдательны ли Вы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Найдите ошибки в рисунках художника</a:t>
            </a: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ОД ЗАНЯТИ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.Упражнение «Ошибка художник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1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24000" y="27000"/>
            <a:ext cx="476244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Picture 1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834080" cy="6669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РАВИЛЬНЫЕ ОТВ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У осьминога 8 ног-щупале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Мальчик идет по снегу, но его следов не вид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верьте себ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/>
          </p:nvPr>
        </p:nvSpPr>
        <p:spPr>
          <a:xfrm>
            <a:off x="833040" y="2361960"/>
            <a:ext cx="7697880" cy="342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эт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тное, дикое, сильное, травоядное, хорошо поддается дрессировке, может легко переносить тяже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него большие уши и хоб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2.Упражнение «Пойми мен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1"/>
          <p:cNvSpPr/>
          <p:nvPr/>
        </p:nvSpPr>
        <p:spPr>
          <a:xfrm>
            <a:off x="3670200" y="192240"/>
            <a:ext cx="4176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оверьте себ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2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912000" cy="5112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6376680" y="5437080"/>
            <a:ext cx="1834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ЛО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тное, домашнее, крупное, сильное,травоядное; быстрое, как вет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возит тяжести,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ь копыта, грива, длинный хво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ТО ЭТ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8:27:35Z</dcterms:created>
  <dc:creator>Олейник Ирина</dc:creator>
  <dc:description/>
  <dc:language>en-US</dc:language>
  <cp:lastModifiedBy>Дмитрий</cp:lastModifiedBy>
  <dcterms:modified xsi:type="dcterms:W3CDTF">2023-10-16T19:15:56Z</dcterms:modified>
  <cp:revision>11</cp:revision>
  <dc:subject/>
  <dc:title>КОРРЕКЦИОННОЕ ЗАНЯТИЕ</dc:title>
</cp:coreProperties>
</file>