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0B0-9E80-4693-A58F-4492DC68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F71-2C23-410E-9240-F027CA62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55029-AB12-4820-B0BA-3FE2094F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767BD-ABDC-451B-A9FF-A47BC18E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4CD52-E900-440B-8616-DD1F2BBD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B92A5-533E-4125-8493-01097E25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0ADD3-267D-4A09-832B-DB860F5A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C2030-F74D-4CDD-8554-C0CE2DD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7CAF5-FD59-44F8-B17D-E17FD50B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7F7F-B00B-4A3B-907D-4301F228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BE6AA-5805-4A58-B523-837B2A84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E7FB3-32A6-4F31-A616-AEDE7D51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4B5-EAAA-4A66-82B3-D59437B7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1B420-BCB7-4EDB-A211-B5F7A187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EACD0-196B-4274-B665-EC552B74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58134-57DE-4B0B-8BBB-C95084D7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D7C3B-C1FC-4BD5-A946-3028611B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FC802-31FC-4BC6-A4AE-F4A936A5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4F829-8980-47DA-AD26-0F35D7CD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216B3-0F71-420A-B896-15D0AFE1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2D7F6-1EAB-4B4A-A799-0BE5457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4B186-9725-43FC-AED3-3894B745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8F03C-1F8B-4538-8A3F-71E8ABF5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6CD-DFE2-4A5B-8329-6B0D49CC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E3CF8-195B-4735-BB1B-40264C42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B745C-BA6D-4F96-A073-78FF59F1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8919F-8629-4858-A306-0F78CC31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DEA8A-1A59-4DE3-B79C-B133656B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C7EB5-B1FB-4788-A2AF-5CB3DEA2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A3608-6DF0-4911-8255-6EF2C81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97263-B92C-4470-9C49-47F82AA7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80DEE-403E-4583-A211-2B3E2449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04DAE-3A61-488E-9124-D840F581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EFADA-11C9-4B9E-B278-86F47EA8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FC21-F5D0-4D97-B1CC-87D9F565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C9BFA-B702-4E0E-9AAD-1F1314D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39F41-701E-4313-83AF-286E1848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D6619-775B-4593-91BD-5C9A1001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0D876-1AE1-4CB8-B36E-0F868B79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E09CC-5B5C-47F9-A10F-1E5FC240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0735B-0ECB-4F71-A6E4-E1F0BDBE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A012B-0C31-4369-810B-2391B8EE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91225-970A-4F29-911B-EF8F7BB0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08A70-231B-45F8-B6C0-6F3E7915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FEB71-4CD6-4C38-8046-87717A6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18C7-DEA5-42F4-A46F-FC4EAE37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A044B-1DAF-40F7-9373-8FD6C8BC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4E040-0FD7-4E39-B3BC-EC1F488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DDCE2-3A19-4D3D-BB70-A1E30114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6ED15-E8E0-41EF-88C8-83709519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FD732-633F-4FAA-B720-A612AB3E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9A476-D3C9-454B-BA50-60C4CA76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646FA-D241-40EB-824A-8A2645C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808F0-6443-454D-91E8-25BEE36E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F12D8-0CF4-41C3-8476-861FDEA7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40521-4FB6-4A49-B539-DCEFFF55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ABF7-F7B0-45C6-8743-390E002B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A289C-1B46-4BC1-8AC2-4C22BC6F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3E361-8CDB-46B1-A5BA-AAD9E622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9AEC3-5894-4266-883A-AE87B09B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10743-A41E-4230-9A1B-7540FF64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521E8-8553-4BCE-8E05-266D36C6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5331B-898B-43FB-A021-DA0B8883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D9C4D-C8A3-4321-9647-0AE91F1B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47C9A-C516-4448-8764-3EC8E487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84DF4-B379-4C62-AA94-1E2DF97D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F28F4-9C85-4E9C-B3EF-82B1B5F6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1F07-258E-47CA-8EB8-325C7383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24EC5-C446-4B2A-B6A9-85456687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FA460-04B0-4988-86F5-C9E3D5B9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E9031-E618-4EF8-855B-AE73C474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D19CF-C379-4DE1-9AA6-83B438E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89816-05C5-4ADC-B6DA-4B2BB817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F9972-6E70-4C1D-B55F-A7519DB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DB83C-FDC1-4B1B-944D-6040EC2A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D9EF0-978D-4BFA-98D0-045D78C2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9BEA1-5ABE-40D0-97C6-94402F00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7F327-AA4C-40C0-8205-AA0A0160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46F-8AE7-45E6-9CE7-6448BF33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62843-7902-4EEB-901E-3FACB8C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00A26-0A64-4501-87EB-1F74C132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FD6A5-8521-418A-911A-DE45E39F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68E90-EF47-43E2-AE3A-7C0D4D3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752BE-06D9-490E-B8E9-38770685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2D6FA-D45A-470B-8D48-823729F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9E1B1-F42F-4984-90F1-0411BE43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3CE10-39F3-4D0B-BDB0-65A2DBA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23A04-E8E2-4872-A5D7-AD7E0BE9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90553-7505-4684-9E13-3919C1F9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7A3E-D55E-4B61-953F-296BEF46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98F54-D131-49AC-A061-CDE7A3D1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D6D86-1D69-402E-AE3E-C85BD91D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9CF2A-F8E1-4012-B6A3-0745DE09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41D52-670E-46AA-856D-490665A9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E6D82-011F-404D-8F8B-A1DD44C2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EF271-2972-466B-90C8-B07AF7A7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6F29F-C2FA-4D24-8BD1-FBD8CDAE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C9AC0-051E-4A12-8167-56A2E4FC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B3F51-32A8-4B44-9A05-4D90E7C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F6CC9-AAEB-4E1C-B05A-5D86633A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B522-CF94-4EA2-8003-4F75A0D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EDED6-488B-46A5-A4C0-5006219E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546C5-90BC-43B1-85EB-0E0D6CD9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4327E-1C55-4864-97AE-8163D761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DDD25-6D3B-4D50-A4E1-2327602C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5911B-8A00-427D-88F6-0EED5989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9667C-0917-439C-92BA-ACEFFB86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B7272-7A1E-490B-9BFD-FA3851C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7F6F4F-3599-4354-A626-5D58676B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7A991-088A-4730-A532-B7A7A1E9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C3A4E-DCDB-4E29-A272-8F2B1E7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CFD-BC93-4871-9C24-95D4C3AA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CF27-BE4F-4C33-B3D1-EBEC640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9C791-A197-4938-B3E6-1C74B4F0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E9480-3E5F-43ED-BAF0-1B04B6C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5F8F9-EEB1-4C84-A317-898B08CC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D6332-A420-4CBC-803F-99BEAF98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67FB0-D34E-495C-B485-08D7D179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9B234-4551-4C97-A41D-C7624581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C5C11-68D6-48FD-8CAC-B3890D59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F5EA2-39C0-47DD-943C-7B11A81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9A20E-3F3D-4D14-BBED-78E97E16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2F5EB-191C-4BC6-9044-262BFBD8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7628-AB38-4749-A9A7-626D9D18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EA3E7F-D206-4A95-820A-1401A404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C4F272-E0BC-417F-B012-2BD49A16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F0F4B-285B-466B-857F-259622C7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B8F7B-DD61-41A8-93F5-826DF9D4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2A978C-CFBD-459B-8FA2-1CC6ADB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6C6C1-CAE0-49B4-BF1B-39E58A8F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526ED-9E7A-4C61-8549-2BC71140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9322-4437-469A-8092-1C05DFF1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9A1B-E6C5-4C1B-A875-2772C5FD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8070-8AF7-4109-AA7E-3DDD48CD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CBAC-57ED-4E5D-943D-53A1BBD5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8521-D692-4896-9B93-9B6AB7D3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138F-A501-4B6D-AC5A-61389128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017E-DB28-4BE1-B48F-C5B4448E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C8E5-F816-4289-AE29-DD5C74AF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E7A-7935-413C-8BEE-8A6C371D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4988-0364-40D3-852D-28CC9AB3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DEA6-D187-4FD7-A5DA-A616A330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1ECE-6CC6-4EA7-AE17-90C53E5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A521-1B9B-4433-B705-90B51588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6538-56BA-46E7-B543-FEA52309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F023-FA88-4D9E-9FAD-C361A7EC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CB73-06EB-47B4-B189-E8202845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B25D-21D7-4358-AD4D-C3FF89C0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D7DB0-8742-4211-AC7E-8035DA2C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56633-45AE-4349-A889-DC9BEABB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524-35F0-44DC-8905-E7D67BAB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8EA73-5404-4480-89AD-A8BCE182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C414-4ACB-4D25-ADF6-1826323E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273F4-6ED1-47DD-AF91-B749D599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0ED8-1828-44A4-9B67-9CB29681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BD9A-8328-4634-AA23-D2901AE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8780-DDC6-4B9F-9D15-D48C9E8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78B2-9E04-4CDD-A705-1741F5F4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8664-925B-4F4E-B4A0-2AC6E59C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4D28-9402-4CBB-B9F2-7C924CF4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0E2D7-EBBA-459A-BA8C-6A726D45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FB2-2749-4E50-909F-048A0371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0B203-F890-47B4-B4DF-9233606F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EE2C0-B07E-44EB-8B00-83D008C2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60593-A902-4F76-9DBA-BBDBE534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8809F-4E6F-4816-BB22-928F2108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8D393-805E-4B45-8C5B-09FFF84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4DE8-CCD5-4E67-9048-9BAEA45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A5B6-B081-4233-A790-07C6B92B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A100A-99FE-4554-BA3C-D39F8B6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A641F-5E6A-4626-9410-DD476FD4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90433-4627-417B-83C8-8F51B324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507-A75B-44EB-BBC9-2AC50E3B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39B6-53A5-4504-8651-816D189C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CF43-32EF-42BD-8D68-59DEDC67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E5BF-AE3B-408B-93C7-A24B944F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2819D-AEE1-4656-AF67-A6B3D915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D5EA8-0264-4558-8377-63B9E2D9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91480-0512-4011-93B2-37BC1BEE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9E94-BE31-47E3-AB40-B243EBF9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5CE4E-72A6-4110-8279-0494231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345E5-C18E-4B62-A8C6-1805C7EA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530F0-1098-49DD-8E56-8D0984AB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226-9B8E-491C-9432-20C3250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D82D5-155D-449B-90E8-767B2C25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06B46-8B73-448E-AFB4-8A5C0AD6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5F3CB-B891-4AB1-BEED-9435EFB3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572BA-4C46-4FCF-AB28-39871639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9617C-DCBA-4F56-82A4-5C10E0BF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EB8DD-D889-4572-9E06-BB49833C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5FD14-8DFD-44BC-8281-0269D0B2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C8FA3-6B91-40EA-83CE-28D035BA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34705-7D40-4A67-ABA2-74687037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50DA-FAC2-419F-9701-1C3994B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9E2-6544-491C-B35E-2B045723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D70FD-9CEA-4BED-8117-753787A1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8D64-6567-4A4A-BB11-9180AAD3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61E0F-6355-437B-9DD6-3EACBAE5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3BEDF-3D35-4978-9236-0971A69D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7A2C6-56CE-436E-9EF5-03FD6F3D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A3C28-07CE-4D20-B96C-A33166E1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70617-DB34-440C-933D-75F73065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27287-DC61-4177-BB94-A87C6086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C2DD1-B66A-4918-80B4-D02F2DAD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7E9F2-24D2-4E78-BA7A-ED667243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F77-90A2-4F16-AC9E-D8C258C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0E10C-9611-42F4-82E7-61871056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55FBE-1FFD-437F-A823-297D71D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D87A6-A5A7-4356-8775-BC3FCF40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EB01E-5FD3-4CB2-A460-92FD9083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44116-4854-4697-9A21-0501CFA8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74DD9-EF2D-4F03-A5A4-613C2272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0A62E-C900-4652-AD4A-21AC2F62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C3959-BC19-400A-8DE3-EB287924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0CD93-D0F2-4339-AE80-BB533C4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18918-CC98-48DB-A6EE-9CAA91AF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ACFE20-0AAF-4EA9-B32D-D2C382DC5B5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496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1FA98D-97ED-44B7-8453-8302E42DBD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43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dt" idx="3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3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D8E098-8C5A-4C89-8230-7F57ED7714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90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dt" idx="3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3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B2F6C0-DBE1-424B-80F5-4E074BFBC4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637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03B8A1-507F-49AE-9CE9-7050ABA59B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686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4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68B540-B2CA-480A-8203-51F36C4D2277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4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804E3D-A443-4543-AF62-3F9F11A8597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#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734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dt" idx="4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DBC334-C7B2-4718-9220-0ED27C71BA68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ftr" idx="4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33040D-C008-4DE7-B3D1-3A4871D55EB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#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781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dt" idx="4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C2A255-2D1F-4BE9-BB03-BE54C91681F2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ftr" idx="4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986CDA-915C-4AE4-A46B-211638B0ED8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#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828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94243A-9106-46CA-8AB0-43BCC120A1AA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35E218-F4D5-4953-806A-96F5BD0B32D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#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875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09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2D6800-23E9-4EA2-BEC2-970CFC5A6D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A557F9-FCD5-4789-B46F-7D5F89F125C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96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89FC79-3EA0-4851-A0B6-BCE97542A3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156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5F0E49-DDD2-43E4-8763-5BFEB6C4B8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214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A84B3C-9C0E-424E-84FA-ACD97D62FE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272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E28E36-8E2C-40D3-8750-5846A09E2D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330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2CDF3A-2355-499A-801B-2347E3EB5E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388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2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695588-8960-4C52-B3F3-3C3F81F3B9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447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9F21C5-E121-4F49-9913-793D2E0DB2D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ЗАНЯТИЕ</a:t>
            </a:r>
            <a:br>
              <a:rPr sz="4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"Я - внимательный!"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643280" y="2852640"/>
            <a:ext cx="401328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 развитие вним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о 2 – 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826920" y="333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БОУ Ильи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291360" y="6040440"/>
            <a:ext cx="26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02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5"/>
          <p:cNvSpPr/>
          <p:nvPr/>
        </p:nvSpPr>
        <p:spPr>
          <a:xfrm>
            <a:off x="4500720" y="4292640"/>
            <a:ext cx="431928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ста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читель начальных классов Олейник И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Изображение 11270" descr=""/>
          <p:cNvPicPr/>
          <p:nvPr/>
        </p:nvPicPr>
        <p:blipFill>
          <a:blip r:embed="rId1"/>
          <a:stretch/>
        </p:blipFill>
        <p:spPr>
          <a:xfrm>
            <a:off x="0" y="3311640"/>
            <a:ext cx="4013280" cy="354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3348000" y="5660640"/>
            <a:ext cx="17287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59772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4"/>
          <p:cNvSpPr/>
          <p:nvPr/>
        </p:nvSpPr>
        <p:spPr>
          <a:xfrm>
            <a:off x="5614920" y="1479600"/>
            <a:ext cx="3233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оверь себ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1"/>
          <p:cNvSpPr/>
          <p:nvPr/>
        </p:nvSpPr>
        <p:spPr>
          <a:xfrm>
            <a:off x="803160" y="803160"/>
            <a:ext cx="7842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Упражнение «Запомн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4" descr=""/>
          <p:cNvPicPr/>
          <p:nvPr/>
        </p:nvPicPr>
        <p:blipFill>
          <a:blip r:embed="rId1"/>
          <a:stretch/>
        </p:blipFill>
        <p:spPr>
          <a:xfrm>
            <a:off x="1835280" y="144360"/>
            <a:ext cx="550836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1"/>
          <p:cNvSpPr/>
          <p:nvPr/>
        </p:nvSpPr>
        <p:spPr>
          <a:xfrm>
            <a:off x="803160" y="803160"/>
            <a:ext cx="7842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4.Упражнение «Какого цвета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3" descr=""/>
          <p:cNvPicPr/>
          <p:nvPr/>
        </p:nvPicPr>
        <p:blipFill>
          <a:blip r:embed="rId1"/>
          <a:stretch/>
        </p:blipFill>
        <p:spPr>
          <a:xfrm>
            <a:off x="1224000" y="142920"/>
            <a:ext cx="673272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1"/>
          <p:cNvSpPr/>
          <p:nvPr/>
        </p:nvSpPr>
        <p:spPr>
          <a:xfrm>
            <a:off x="803160" y="803160"/>
            <a:ext cx="7842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5.Упражнение «Найди 10 отлич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82036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осчитайте зеленые квадра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6. Упражнение «Сколько фигур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1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60720" y="720720"/>
            <a:ext cx="5327640" cy="54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Квадратов зеленых – 35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верьте себ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Picture 3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916360" y="3141720"/>
            <a:ext cx="3409920" cy="345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Цель занятия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: развитие внимания, наблюдательности, помехоустойчивости, зрительной памяти, наглядно-образного мыш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1"/>
          <p:cNvSpPr/>
          <p:nvPr/>
        </p:nvSpPr>
        <p:spPr>
          <a:xfrm>
            <a:off x="898560" y="547560"/>
            <a:ext cx="8424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Тема: «Я - внимательны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1258560" y="836280"/>
            <a:ext cx="5102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Найдите силуэт (тень) бел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1"/>
          <p:cNvSpPr/>
          <p:nvPr/>
        </p:nvSpPr>
        <p:spPr>
          <a:xfrm>
            <a:off x="2797200" y="50760"/>
            <a:ext cx="7140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Упражнение «Силуэт бел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2" name="Picture 3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977080" cy="446436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4"/>
          <p:cNvSpPr/>
          <p:nvPr/>
        </p:nvSpPr>
        <p:spPr>
          <a:xfrm>
            <a:off x="4716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5"/>
          <p:cNvSpPr/>
          <p:nvPr/>
        </p:nvSpPr>
        <p:spPr>
          <a:xfrm>
            <a:off x="6443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6300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7"/>
          <p:cNvSpPr/>
          <p:nvPr/>
        </p:nvSpPr>
        <p:spPr>
          <a:xfrm>
            <a:off x="4643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8"/>
          <p:cNvSpPr/>
          <p:nvPr/>
        </p:nvSpPr>
        <p:spPr>
          <a:xfrm>
            <a:off x="277164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5076720" y="764640"/>
            <a:ext cx="216072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уэт  №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1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977080" cy="50227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2"/>
          <p:cNvSpPr/>
          <p:nvPr/>
        </p:nvSpPr>
        <p:spPr>
          <a:xfrm>
            <a:off x="3963960" y="228600"/>
            <a:ext cx="43052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493236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/>
          </p:nvPr>
        </p:nvSpPr>
        <p:spPr>
          <a:xfrm>
            <a:off x="2340000" y="1125360"/>
            <a:ext cx="6470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Найдите 2 одинаковые баб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3"/>
          <p:cNvSpPr/>
          <p:nvPr/>
        </p:nvSpPr>
        <p:spPr>
          <a:xfrm>
            <a:off x="3840120" y="95400"/>
            <a:ext cx="48499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8.Упражнени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         «Пара бабочек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6" name="Picture 5" descr=""/>
          <p:cNvPicPr/>
          <p:nvPr/>
        </p:nvPicPr>
        <p:blipFill>
          <a:blip r:embed="rId1"/>
          <a:stretch/>
        </p:blipFill>
        <p:spPr>
          <a:xfrm>
            <a:off x="1774800" y="1817640"/>
            <a:ext cx="6915240" cy="504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ВЫ ХОРОШО ПОРАБОТАЛИ, ПОТОМУ ЧТО БЫЛИ ВНИМАТЕЛЬН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Какое у Вас настроени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1"/>
          <p:cNvSpPr/>
          <p:nvPr/>
        </p:nvSpPr>
        <p:spPr>
          <a:xfrm>
            <a:off x="2050920" y="907920"/>
            <a:ext cx="590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Проверьт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наблюдательны ли 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Найдите ошибки в рисунках художника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ОД ЗАНЯТИ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Упражнение «Ошибка художни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1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24000" y="2700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1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834080" cy="666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АВИЛЬНЫЕ ОТВ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 осьминога 8 ног-щупал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альчик идет по снегу, но его следов не ви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верьте себ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833040" y="2361960"/>
            <a:ext cx="7697880" cy="342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ое, дикое, сильное, травоядное, хорошо поддается дрессировке, может легко переносить тяже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него большие уши и хоб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.Упражнение «Пойми мен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1"/>
          <p:cNvSpPr/>
          <p:nvPr/>
        </p:nvSpPr>
        <p:spPr>
          <a:xfrm>
            <a:off x="3670200" y="192240"/>
            <a:ext cx="417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верьте себ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2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2000" cy="5112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6376680" y="5437080"/>
            <a:ext cx="1834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Л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ое, домашнее, крупное, сильное,травоядное; быстрое, как ве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возит тяжести,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копыта, грива, длинный хво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ТО ЭТ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8:27:35Z</dcterms:created>
  <dc:creator>Олейник Ирина</dc:creator>
  <dc:description/>
  <dc:language>en-US</dc:language>
  <cp:lastModifiedBy>Дмитрий</cp:lastModifiedBy>
  <dcterms:modified xsi:type="dcterms:W3CDTF">2023-10-16T19:15:56Z</dcterms:modified>
  <cp:revision>11</cp:revision>
  <dc:subject/>
  <dc:title>КОРРЕКЦИОННОЕ ЗАНЯТИЕ</dc:title>
</cp:coreProperties>
</file>