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A81-0762-4BDB-85D2-AF3D4B5C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769-1CE6-459F-A12D-8E07CC41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4415-1060-4065-ACBC-9F7B9761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0663-79C9-47FA-A42E-D342EC77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C4F-6977-453A-9944-B6923384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8A6-6EFA-4ECE-A201-176F3D87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DDB-1317-4D8C-8189-D82D9AB4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2CF-A625-4139-8E4D-409F32CC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05C0-610A-4788-8D48-FEDBD3BC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4FA2-F1D3-40C1-8CB4-686CE750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8B14-A71F-4A9D-8BF8-B1C88B9E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21CA-AE13-4B00-8E04-5E1F646D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059B-A0CC-49DC-9683-48C05EAAD166}" type="slidenum"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ие впечатления и эмоции, пережитые при восприятии и исполнении песен, надолго останутся в памяти дошкольника и будут способствовать формированию таких черт характера, которые помогут ему стать патриотом и гражданином своей страны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2576160"/>
            <a:ext cx="10515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5680" y="1947960"/>
            <a:ext cx="9418680" cy="26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АТРИОТИЧЕСКИХ ЧУВСТВ ВОСПИТАННИКОВ ДОУ ПОСРЕДСТВОМ ПЕСЕН ГРАЖДАНСКО-ПАТРИОТИЧЕСКО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99896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ла: музыкальный руководитель МБДОУ детского сада №5 Юркова Алла Ивановна г.Ярце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077920"/>
            <a:ext cx="10515600" cy="465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Музыка является самым чудодейственным, самым тонким средством привлечения к добру, красоте, человечности… Как гимнастика выпрямляет тело, так музыка выпрямляет душу человека», — писал о музыке                                </a:t>
            </a:r>
            <a:br>
              <a:rPr sz="4000"/>
            </a:br>
            <a:r>
              <a:rPr b="1" i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асилий Александрович Сухомлинский</a:t>
            </a:r>
            <a:r>
              <a:rPr b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1960" y="1353960"/>
            <a:ext cx="10866600" cy="528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настоящее время перед дошкольными образовательными учреждениями остро встала проблема гражданско-патриотического воспитания подрастающего поколения, так как наследование нравственных, патриотических ценностей семьи, родного края в самом нежном возрасте – есть самый естественный, а потому верный способ гражданско-патриотического воспитания, формирования чувства любви к своему краю, Родине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а государственная программа «Патриотическое    воспитание граждан Российской Федерации», направленная на все         социальные и возрастные группы граждан России.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5280" y="1507680"/>
            <a:ext cx="10842480" cy="517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ивить любовь к своей Родине, достойно служить ей, сформировать бережное отношение к истории Отечества, культурному наследию, обычаям и традициям своего народа, города, семь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200" y="582480"/>
            <a:ext cx="10961640" cy="555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     Формировать духовно-нравственное отношение и чувство сопричастности к родному краю, дому, семье, детскому сад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Развивать познавательные, художественные и творческие способности детей через ознакомление с музыкальными произведения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 Побуждать детей выражать свои чувства, эмоциональные впечатления через пение, творческое движ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  Воспитать патриотические чувства у детей, используя поэтические образы родной природ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    Закрепить знания детей о Великой Отечественной войне и героизме русского народа посредством музык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    Воспитать любовь и уважение к ветеранам войны, вызвать желание быть похожими на ни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    Воспитать чувство гордости за своих предков, признательность за их подвиг, верность и преданность Родине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4920" y="168120"/>
            <a:ext cx="11982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отическое воспитание дошкольника – это, прежде всего, воспитание любви и уважения к матери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Рисунок 1" descr=""/>
          <p:cNvPicPr/>
          <p:nvPr/>
        </p:nvPicPr>
        <p:blipFill>
          <a:blip r:embed="rId2"/>
          <a:stretch/>
        </p:blipFill>
        <p:spPr>
          <a:xfrm>
            <a:off x="125280" y="1071720"/>
            <a:ext cx="5529240" cy="33811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"/>
          <p:cNvPicPr/>
          <p:nvPr/>
        </p:nvPicPr>
        <p:blipFill>
          <a:blip r:embed="rId3"/>
          <a:stretch/>
        </p:blipFill>
        <p:spPr>
          <a:xfrm>
            <a:off x="6483240" y="1071720"/>
            <a:ext cx="5529240" cy="3381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"/>
          <p:cNvPicPr/>
          <p:nvPr/>
        </p:nvPicPr>
        <p:blipFill>
          <a:blip r:embed="rId4"/>
          <a:stretch/>
        </p:blipFill>
        <p:spPr>
          <a:xfrm>
            <a:off x="6116760" y="3543480"/>
            <a:ext cx="5540400" cy="31795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8" descr=""/>
          <p:cNvPicPr/>
          <p:nvPr/>
        </p:nvPicPr>
        <p:blipFill>
          <a:blip r:embed="rId5"/>
          <a:stretch/>
        </p:blipFill>
        <p:spPr>
          <a:xfrm>
            <a:off x="480960" y="3543480"/>
            <a:ext cx="5540400" cy="3179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80" y="95400"/>
            <a:ext cx="1210788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тском саду мы знакомим  детей с народными праздниками и обрядами – Святки, Масленица,  Жаворонки, Пасха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3552840" y="2901960"/>
            <a:ext cx="5110200" cy="38336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3"/>
          <a:stretch/>
        </p:blipFill>
        <p:spPr>
          <a:xfrm>
            <a:off x="7354800" y="914400"/>
            <a:ext cx="4678560" cy="32637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"/>
          <p:cNvPicPr/>
          <p:nvPr/>
        </p:nvPicPr>
        <p:blipFill>
          <a:blip r:embed="rId4"/>
          <a:stretch/>
        </p:blipFill>
        <p:spPr>
          <a:xfrm>
            <a:off x="182520" y="914400"/>
            <a:ext cx="4678560" cy="3263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400" y="95400"/>
            <a:ext cx="1209672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значение в рамках нравственно - патриотического воспитания имеет тема «Защитников Отечества».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2"/>
          <a:stretch/>
        </p:blipFill>
        <p:spPr>
          <a:xfrm>
            <a:off x="5783400" y="1812960"/>
            <a:ext cx="5114880" cy="38354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"/>
          <p:cNvPicPr/>
          <p:nvPr/>
        </p:nvPicPr>
        <p:blipFill>
          <a:blip r:embed="rId3"/>
          <a:stretch/>
        </p:blipFill>
        <p:spPr>
          <a:xfrm>
            <a:off x="666720" y="1276200"/>
            <a:ext cx="3703680" cy="5077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5-01T10:40:54Z</dcterms:created>
  <dc:creator>hp</dc:creator>
  <dc:description/>
  <dc:language>en-US</dc:language>
  <cp:lastModifiedBy>hp</cp:lastModifiedBy>
  <dcterms:modified xsi:type="dcterms:W3CDTF">2023-10-16T19:28:28Z</dcterms:modified>
  <cp:revision>31</cp:revision>
  <dc:subject/>
  <dc:title>Презентация PowerPoint</dc:title>
</cp:coreProperties>
</file>