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31C-A579-4B7C-B76F-905D3A5F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7F2-F882-4EDB-A8DE-C8FAAA91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A16-CCA8-4A3B-B2EC-4639278C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4D4-C335-4D0D-83FF-D2D9A0B1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41C-D942-4391-B5FB-758D591D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3F8-C25E-42E6-AFC6-73EF5179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B3B-091F-46DD-83F6-087BEA1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F1D-A26A-4AEA-B5B0-2901461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824-FEEA-4566-8792-B1803F45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5B5-E965-43DD-9E24-8B36F5D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329-D7B6-442B-B028-B3A6DA3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B1E-E631-4DE8-8057-2E98C0E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14C8-C1C3-4BBB-8070-97F6F075658C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впечатления и эмоции, пережитые при восприятии и исполнении песен, надолго останутся в памяти дошкольника и будут способствовать формированию таких черт характера, которые помогут ему стать патриотом и гражданином своей страны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576160"/>
            <a:ext cx="10515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5680" y="1947960"/>
            <a:ext cx="9418680" cy="26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АТРИОТИЧЕСКИХ ЧУВСТВ ВОСПИТАННИКОВ ДОУ ПОСРЕДСТВОМ ПЕСЕН ГРАЖДАНСКО-ПАТРИОТИЧЕСК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9989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музыкальный руководитель МБДОУ детского сада №5 Юркова Алла Ивановна г.Ярц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077920"/>
            <a:ext cx="10515600" cy="46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Музыка является самым чудодейственным, самым тонким средством привлечения к добру, красоте, человечности… Как гимнастика выпрямляет тело, так музыка выпрямляет душу человека», — писал о музыке                                </a:t>
            </a:r>
            <a:br>
              <a:rPr sz="4000"/>
            </a:br>
            <a:r>
              <a:rPr b="1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асилий Александрович Сухомлинский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1960" y="1353960"/>
            <a:ext cx="10866600" cy="52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стоящее время перед дошкольными образовательными учреждениями остро встала проблема гражданско-патриотического воспитания подрастающего поколения, так как наследование нравственных, патриотических ценностей семьи, родного края в самом нежном возрасте – есть самый естественный, а потому верный способ гражданско-патриотического воспитания, формирования чувства любви к своему краю, Родине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а государственная программа «Патриотическое    воспитание граждан Российской Федерации», направленная на все         социальные и возрастные группы граждан России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5280" y="1507680"/>
            <a:ext cx="10842480" cy="517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вить любовь к своей Родине, достойно служить ей, сформировать бережное отношение к истории Отечества, культурному наследию, обычаям и традициям своего народа, города, семь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582480"/>
            <a:ext cx="1096164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     Формировать духовно-нравственное отношение и чувство сопричастности к родному краю, дому, семье, детскому са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Развивать познавательные, художественные и творческие способности детей через ознакомление с музыкальными произведения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Побуждать детей выражать свои чувства, эмоциональные впечатления через пение, творческое движ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 Воспитать патриотические чувства у детей, используя поэтические образы родной прир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Закрепить знания детей о Великой Отечественной войне и героизме русского народа посредством музы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Воспитать любовь и уважение к ветеранам войны, вызвать желание быть похожими на н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   Воспитать чувство гордости за своих предков, признательность за их подвиг, верность и преданность Родине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920" y="168120"/>
            <a:ext cx="11982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дошкольника – это, прежде всего, воспитание любви и уважения к матери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125280" y="1071720"/>
            <a:ext cx="5529240" cy="3381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3"/>
          <a:stretch/>
        </p:blipFill>
        <p:spPr>
          <a:xfrm>
            <a:off x="6483240" y="1071720"/>
            <a:ext cx="5529240" cy="3381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6116760" y="3543480"/>
            <a:ext cx="5540400" cy="317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5"/>
          <a:stretch/>
        </p:blipFill>
        <p:spPr>
          <a:xfrm>
            <a:off x="480960" y="3543480"/>
            <a:ext cx="5540400" cy="317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80" y="95400"/>
            <a:ext cx="12107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мы знакомим  детей с народными праздниками и обрядами – Святки, Масленица,  Жаворонки, Пасха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3552840" y="2901960"/>
            <a:ext cx="5110200" cy="3833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7354800" y="914400"/>
            <a:ext cx="4678560" cy="3263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4"/>
          <a:stretch/>
        </p:blipFill>
        <p:spPr>
          <a:xfrm>
            <a:off x="182520" y="914400"/>
            <a:ext cx="4678560" cy="32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400" y="95400"/>
            <a:ext cx="120967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в рамках нравственно - патриотического воспитания имеет тема «Защитников Отечества»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2"/>
          <a:stretch/>
        </p:blipFill>
        <p:spPr>
          <a:xfrm>
            <a:off x="5783400" y="1812960"/>
            <a:ext cx="5114880" cy="3835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3"/>
          <a:stretch/>
        </p:blipFill>
        <p:spPr>
          <a:xfrm>
            <a:off x="666720" y="1276200"/>
            <a:ext cx="370368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1T10:40:54Z</dcterms:created>
  <dc:creator>hp</dc:creator>
  <dc:description/>
  <dc:language>en-US</dc:language>
  <cp:lastModifiedBy>hp</cp:lastModifiedBy>
  <dcterms:modified xsi:type="dcterms:W3CDTF">2023-10-16T19:28:28Z</dcterms:modified>
  <cp:revision>31</cp:revision>
  <dc:subject/>
  <dc:title>Презентация PowerPoint</dc:title>
</cp:coreProperties>
</file>