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FCF-D4BD-4C2E-B43D-90046529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CF3-84D6-4EB7-BFEF-FD7D51E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80B-AB95-4A6D-86A6-9884A783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48-E2A4-4DBB-8653-96D0935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E91-1A97-4B49-A95D-7F2F4020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90-B041-4642-86D7-A7E0DA04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6D0-8C9A-4AA7-8A53-87E35DE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2A2-4387-409F-A61E-74F1CDC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342-D32A-4950-93EC-ABB054CD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4EC-EE3E-4D5C-926F-795B58E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92A-E45F-4074-BC0D-2291954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841-DC09-45BE-B8F5-14CBDBF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B68F-1767-40EA-AAA4-8B9A1D36E105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впечатления и эмоции, пережитые при восприятии и исполнении песен, надолго останутся в памяти дошкольника и будут способствовать формированию таких черт характера, которые помогут ему стать патриотом и гражданином своей страны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576160"/>
            <a:ext cx="10515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5680" y="1947960"/>
            <a:ext cx="9418680" cy="26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АТРИОТИЧЕСКИХ ЧУВСТВ ВОСПИТАННИКОВ ДОУ ПОСРЕДСТВОМ ПЕСЕН ГРАЖДАНСКО-ПАТРИОТИЧЕСКО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9989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музыкальный руководитель МБДОУ детского сада №5 Юркова Алла Ивановна г.Ярц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077920"/>
            <a:ext cx="10515600" cy="46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Музыка является самым чудодейственным, самым тонким средством привлечения к добру, красоте, человечности… Как гимнастика выпрямляет тело, так музыка выпрямляет душу человека», — писал о музыке                                </a:t>
            </a:r>
            <a:br>
              <a:rPr sz="4000"/>
            </a:br>
            <a:r>
              <a:rPr b="1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асилий Александрович Сухомлинский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1353960"/>
            <a:ext cx="10866600" cy="52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стоящее время перед дошкольными образовательными учреждениями остро встала проблема гражданско-патриотического воспитания подрастающего поколения, так как наследование нравственных, патриотических ценностей семьи, родного края в самом нежном возрасте – есть самый естественный, а потому верный способ гражданско-патриотического воспитания, формирования чувства любви к своему краю, Родине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а государственная программа «Патриотическое    воспитание граждан Российской Федерации», направленная на все         социальные и возрастные группы граждан России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5280" y="1507680"/>
            <a:ext cx="10842480" cy="517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вить любовь к своей Родине, достойно служить ей, сформировать бережное отношение к истории Отечества, культурному наследию, обычаям и традициям своего народа, города, семь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582480"/>
            <a:ext cx="1096164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     Формировать духовно-нравственное отношение и чувство сопричастности к родному краю, дому, семье, детскому са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Развивать познавательные, художественные и творческие способности детей через ознакомление с музыкальными произведения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Побуждать детей выражать свои чувства, эмоциональные впечатления через пение, творческое движ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 Воспитать патриотические чувства у детей, используя поэтические образы родной прир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Закрепить знания детей о Великой Отечественной войне и героизме русского народа посредством музы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Воспитать любовь и уважение к ветеранам войны, вызвать желание быть похожими на н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Воспитать чувство гордости за своих предков, признательность за их подвиг, верность и преданность Родине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920" y="168120"/>
            <a:ext cx="11982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дошкольника – это, прежде всего, воспитание любви и уважения к матери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528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3"/>
          <a:stretch/>
        </p:blipFill>
        <p:spPr>
          <a:xfrm>
            <a:off x="6483240" y="1071720"/>
            <a:ext cx="5529240" cy="3381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6116760" y="3543480"/>
            <a:ext cx="5540400" cy="317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5"/>
          <a:stretch/>
        </p:blipFill>
        <p:spPr>
          <a:xfrm>
            <a:off x="480960" y="3543480"/>
            <a:ext cx="5540400" cy="317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80" y="95400"/>
            <a:ext cx="1210788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мы знакомим  детей с народными праздниками и обрядами – Святки, Масленица,  Жаворонки, Пасха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3552840" y="2901960"/>
            <a:ext cx="5110200" cy="3833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7354800" y="914400"/>
            <a:ext cx="4678560" cy="3263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4"/>
          <a:stretch/>
        </p:blipFill>
        <p:spPr>
          <a:xfrm>
            <a:off x="182520" y="914400"/>
            <a:ext cx="4678560" cy="32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400" y="95400"/>
            <a:ext cx="12096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в рамках нравственно - патриотического воспитания имеет тема «Защитников Отечества»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2"/>
          <a:stretch/>
        </p:blipFill>
        <p:spPr>
          <a:xfrm>
            <a:off x="5783400" y="1812960"/>
            <a:ext cx="5114880" cy="383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3"/>
          <a:stretch/>
        </p:blipFill>
        <p:spPr>
          <a:xfrm>
            <a:off x="666720" y="1276200"/>
            <a:ext cx="370368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1T10:40:54Z</dcterms:created>
  <dc:creator>hp</dc:creator>
  <dc:description/>
  <dc:language>en-US</dc:language>
  <cp:lastModifiedBy>hp</cp:lastModifiedBy>
  <dcterms:modified xsi:type="dcterms:W3CDTF">2023-10-16T19:28:28Z</dcterms:modified>
  <cp:revision>31</cp:revision>
  <dc:subject/>
  <dc:title>Презентация PowerPoint</dc:title>
</cp:coreProperties>
</file>