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4E1-05C9-4D7C-BF60-0B15574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029-7E1F-497E-898C-C5DFCE9D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947-6234-4BB5-B3B2-0ECE66EE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A86-3FFC-42AC-AEE4-68FD4CF0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FB8-7E06-4DA8-A013-B58EFD6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114-642E-494A-8B92-AF76E6D3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FAA-2453-441C-B582-76345214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095-3598-4275-9E5E-0A2B14F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682-F078-4589-936A-CCA27711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E09-C336-41E9-880F-970F1321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33E-A637-4859-A5C1-1D04E26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CDC-7517-4037-9BCC-92C8BF3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385-432B-4BFF-A443-163A81D51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549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вадцать  девятое январ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341360"/>
            <a:ext cx="82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3213000"/>
            <a:ext cx="8497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жатое излож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 элементами соч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Прист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ыграла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ык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132000" y="476280"/>
            <a:ext cx="3095640" cy="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6227640" y="475920"/>
            <a:ext cx="0" cy="649080"/>
          </a:xfrm>
          <a:prstGeom prst="line">
            <a:avLst/>
          </a:prstGeom>
          <a:ln w="4752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Суффик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- уви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 - поч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H="1">
            <a:off x="3132000" y="260280"/>
            <a:ext cx="1440000" cy="36036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 flipV="1">
            <a:off x="4572000" y="260280"/>
            <a:ext cx="1440000" cy="432000"/>
          </a:xfrm>
          <a:prstGeom prst="line">
            <a:avLst/>
          </a:prstGeom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2556000" y="1773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2411280" y="1773000"/>
            <a:ext cx="14472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2484360" y="3357720"/>
            <a:ext cx="14472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2340000" y="3357360"/>
            <a:ext cx="144360" cy="2156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литное и раздельное напис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-3286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метил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92480" y="1628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неж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а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двоенные 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емикла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гн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влечё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л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азделительные Ь и 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ел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сходящее солнце пробуждает спящую прир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ящая она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6"/>
          <p:cNvSpPr/>
          <p:nvPr/>
        </p:nvSpPr>
        <p:spPr>
          <a:xfrm>
            <a:off x="826920" y="407664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мля обласканная солнцем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кто каждый день добывает себе пропитание. Но подлинная лесная драма розыгралась с оленями. В мало снежные зимы олени легко находили прошлогоднюю траву, поедали молодые побеги кустов, легко пробе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ник Коля пошел на лыжах в лес подсыпать зерен в кормушки для птиц. Увлеченый прогулкой  мальчишка незаметил, как очутился в глухом квартале. Он повернул было назад, но задержался  увидив следы. «Что за соседство,— подумал Коля,— Почему это рядом с оленьим следом вьется ровной цепочкой лись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4"/>
          <p:cNvSpPr/>
          <p:nvPr/>
        </p:nvSpPr>
        <p:spPr>
          <a:xfrm>
            <a:off x="1357200" y="928800"/>
            <a:ext cx="6072480" cy="144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ласканная солнцем земля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826920" y="2133720"/>
            <a:ext cx="2953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971640" y="2781360"/>
            <a:ext cx="180000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826920" y="3429000"/>
            <a:ext cx="1800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2627280" y="414972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971640" y="5229360"/>
            <a:ext cx="432108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горячённые спором ребята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9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3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Восходяще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олнц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пробуждает </a:t>
            </a:r>
            <a:r>
              <a:rPr b="1" i="1" lang="en-US" sz="3600" spc="-1" strike="noStrike">
                <a:solidFill>
                  <a:srgbClr val="00cc00"/>
                </a:solidFill>
                <a:latin typeface="Arial"/>
              </a:rPr>
              <a:t>спящую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природу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пящая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н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была прек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Обласканная солнце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земля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омлела от его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Разгорячённые спором 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бят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громко шум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900000" y="2060640"/>
            <a:ext cx="288000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71640" y="256536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971640" y="3213000"/>
            <a:ext cx="1584360" cy="1429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2627280" y="3860640"/>
            <a:ext cx="4392720" cy="14472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042920" y="4869000"/>
            <a:ext cx="439272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1116000" y="6021360"/>
            <a:ext cx="453564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численная стая лебедей, возвращающихся с далёкого юга на север кружа над заливом стала постепенно опускаться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пуска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новившись на опушке мы слушали затаив дыхание весеннюю песню пробуждающегося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6659640" y="335772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6659640" y="342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564000" y="3933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564000" y="400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292428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ыделение причастных и деепричастных обор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численная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лебедей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возвращающихся с далёкого юга на север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кружа над заливом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остепенно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адить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на зеркальную водную гл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Остановившись на опушке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мы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луш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таив дыхани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есеннюю песню </a:t>
            </a: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пробуждающегос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с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65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6659640" y="3284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56400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564000" y="3789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11280" y="2781360"/>
          <a:ext cx="3889440" cy="517320"/>
        </p:xfrm>
        <a:graphic>
          <a:graphicData uri="http://schemas.openxmlformats.org/drawingml/2006/table">
            <a:tbl>
              <a:tblPr/>
              <a:tblGrid>
                <a:gridCol w="865440"/>
                <a:gridCol w="302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76360" y="4365720"/>
          <a:ext cx="5567400" cy="517320"/>
        </p:xfrm>
        <a:graphic>
          <a:graphicData uri="http://schemas.openxmlformats.org/drawingml/2006/table">
            <a:tbl>
              <a:tblPr/>
              <a:tblGrid>
                <a:gridCol w="556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90000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537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 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Увлеченный прогул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Он повернул было назад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ержа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ев сл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«Что за соседство,— подумал Коля . 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516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5589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трудом пробираясь сквозь подлесок и бурел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р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лениха. Бока ввалились. Еле передвигает ноги. Лисица почуяла близкую смерть оленихи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жид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924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8036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  кто каждый день добывает себе пропитание. Но подлинная лесная драм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ыграла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 оленями. В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оснеж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ы олени легко находили прошлогоднюю траву, поедали молодые побеги кустов, легко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б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лис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ля пошел на лыжах в лес подсыпать зерен в кормушки для птиц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леч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гулкой   мальчишк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заме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ак очутился в глухом квартале. Он повернул было назад, но задержался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в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ы. «Что за соседство,— подумал Коля ,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и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6516720" y="2421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6659640" y="4581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118728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орочив сзади вязанку с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полнив карманы овс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зяв пакет с сол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он 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стил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"/>
          <p:cNvSpPr/>
          <p:nvPr/>
        </p:nvSpPr>
        <p:spPr>
          <a:xfrm>
            <a:off x="7380360" y="249228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4"/>
          <p:cNvSpPr/>
          <p:nvPr/>
        </p:nvSpPr>
        <p:spPr>
          <a:xfrm>
            <a:off x="3348000" y="5445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0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21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ереходы, все кормовые места. Трудно стало в лесу всем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каждый день добывает себе пропитание. Но подлинная лесная драма разыгралась с оленями. В малоснежные зимы олени легко находили прошлогоднюю траву, поедали молодые побеги кустов, легко пробирались к кормушкам. Теперь им даже ходить стало тру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альчишка не заметил, как очутился в глухом квартале. Он повернул было назад, но задержался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Коля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Почему это рядом с оленьим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4716360" y="198900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4"/>
          <p:cNvSpPr/>
          <p:nvPr/>
        </p:nvSpPr>
        <p:spPr>
          <a:xfrm>
            <a:off x="4284720" y="479736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4"/>
          <p:cNvSpPr/>
          <p:nvPr/>
        </p:nvSpPr>
        <p:spPr>
          <a:xfrm>
            <a:off x="5003640" y="551664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4"/>
          <p:cNvSpPr/>
          <p:nvPr/>
        </p:nvSpPr>
        <p:spPr>
          <a:xfrm>
            <a:off x="5364000" y="5877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Колю пройти по следам километра четыре. Так вот в чем тайна! Утопая в снегу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сквозь подлесок и бурелом, понурив голову, брела олениха. Бока ввалились. Еле передвигает ноги. Лисица почуя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янулась и огнен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"/>
          <p:cNvSpPr/>
          <p:nvPr/>
        </p:nvSpPr>
        <p:spPr>
          <a:xfrm>
            <a:off x="5364000" y="205884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ежала на том же месте и сразу подняла голову. С жадностью стала лизать соль, съ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робкими шагами выходила из чащи на призы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4"/>
          <p:cNvSpPr/>
          <p:nvPr/>
        </p:nvSpPr>
        <p:spPr>
          <a:xfrm>
            <a:off x="7380360" y="342900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4"/>
          <p:cNvSpPr/>
          <p:nvPr/>
        </p:nvSpPr>
        <p:spPr>
          <a:xfrm>
            <a:off x="3348000" y="60213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Суров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училась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аме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тропинки и переходы, все кормовые места.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о в лесу вс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то каждый день добывает себе пропитание. Н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одлинная лесная дра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ыгралась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я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В малоснежны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зи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гко находили прошлогоднюю траву, поедали молодые побеги кустов, легко пробирались к кормушкам. Теперь им даже ходить стало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труд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емиклассник 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шел на лыжах в лес подсыпать зерен в кормушки для птиц. Увлеченный прогулк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льчиш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 заметил, как очутился в глухом квартале.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вернул было назад, но задержал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видев следы. «Что за соседство,— подумал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. — Почему это рядом с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ь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ледом вьется ровной цепочкой лис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4"/>
          <p:cNvSpPr/>
          <p:nvPr/>
        </p:nvSpPr>
        <p:spPr>
          <a:xfrm>
            <a:off x="1332000" y="620640"/>
            <a:ext cx="6072120" cy="1800"/>
          </a:xfrm>
          <a:prstGeom prst="line">
            <a:avLst/>
          </a:prstGeom>
          <a:ln w="31680">
            <a:solidFill>
              <a:srgbClr val="000000">
                <a:alpha val="9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ю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йти по следам километра четыре. Так вот в чем тайна!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Утопая в снегу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с трудом пробирая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квозь подлесок и бурелом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понурив голов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брел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ока ввалили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Еле передвигает ног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Лисица почуяла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близкую смер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шла, поджидая, когда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укнул палкой по дереву, лисица оглянулась и огненным шаром метнулась в чащу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Медленно, очень медленно, чтобы не испуга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тал подходить ближе. Через    полчаса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же подбирала шершавыми губами с ладоней ове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Утром, приторочив сзади вязанку сена </a:t>
            </a: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жала на том же месте и сразу подняла голову. С жадностью стала лизать соль, съела овес.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Се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л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остав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Олених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при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ост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робкими шагами вых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з чащи на призы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620640"/>
          <a:ext cx="8569080" cy="523728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заставила Колю пройти по следам километра четыре. Так вот в чем тайна! Утопая в снегу  с трудом пробираясь сквось подлесок и бурелом, понурив голову, брела олениха. Бока ввалились. Еле передвигаит ноги. Лисица почуила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оглинулась и огненым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324000" y="620640"/>
          <a:ext cx="8569080" cy="6005520"/>
        </p:xfrm>
        <a:graphic>
          <a:graphicData uri="http://schemas.openxmlformats.org/drawingml/2006/table">
            <a:tbl>
              <a:tblPr/>
              <a:tblGrid>
                <a:gridCol w="1655640"/>
                <a:gridCol w="6913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жба человека и живот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черкнуть необходимость бережного и заботливого отношения человека к природе, к братьям нашим меньшим; рассказать о тех, кто обладает добрым и чутким сердце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удожественны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ствование с элементами опис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Arial"/>
              </a:rPr>
              <a:t>Происшествие в зимнем лес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ы в ответе за тех, кого приручи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игуры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Ряды однородных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Инверс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клицательные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союз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Неполные 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литер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дносоставные предложения -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оречная лекс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говорные синтаксические ко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395280" y="549360"/>
            <a:ext cx="828036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мительны эти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ыкно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2627280" y="10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покры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05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девя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755640" y="1052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ндр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/>
          <p:cNvSpPr/>
          <p:nvPr/>
        </p:nvSpPr>
        <p:spPr>
          <a:xfrm>
            <a:off x="2700360" y="1557360"/>
            <a:ext cx="1944720" cy="7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4643280" y="1484280"/>
            <a:ext cx="3530880" cy="1443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2556000" y="126828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2124000" y="2133720"/>
            <a:ext cx="0" cy="2872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11564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1116000" y="907920"/>
            <a:ext cx="144360" cy="144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"/>
          <p:cNvSpPr/>
          <p:nvPr/>
        </p:nvSpPr>
        <p:spPr>
          <a:xfrm flipV="1">
            <a:off x="1476360" y="980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1476360" y="981000"/>
            <a:ext cx="187164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348000" y="98100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6373800" y="98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2270160" y="105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826920" y="1125360"/>
            <a:ext cx="1441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826920" y="1125360"/>
            <a:ext cx="0" cy="3589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3111480" y="281160"/>
            <a:ext cx="14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1549440" y="54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0"/>
          <p:cNvSpPr/>
          <p:nvPr/>
        </p:nvSpPr>
        <p:spPr>
          <a:xfrm>
            <a:off x="7575480" y="4168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252360" y="1023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2"/>
          <p:cNvSpPr/>
          <p:nvPr/>
        </p:nvSpPr>
        <p:spPr>
          <a:xfrm>
            <a:off x="2824200" y="25844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3"/>
          <p:cNvSpPr/>
          <p:nvPr/>
        </p:nvSpPr>
        <p:spPr>
          <a:xfrm>
            <a:off x="2230560" y="191628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оеобразная р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4"/>
          <p:cNvSpPr/>
          <p:nvPr/>
        </p:nvSpPr>
        <p:spPr>
          <a:xfrm>
            <a:off x="611280" y="2421000"/>
            <a:ext cx="1368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2125800" y="206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2771640" y="43657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д сне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179280" y="4365720"/>
            <a:ext cx="26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жива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5651640" y="4508640"/>
            <a:ext cx="19447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2"/>
          <p:cNvSpPr/>
          <p:nvPr/>
        </p:nvSpPr>
        <p:spPr>
          <a:xfrm>
            <a:off x="565164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3"/>
          <p:cNvSpPr/>
          <p:nvPr/>
        </p:nvSpPr>
        <p:spPr>
          <a:xfrm>
            <a:off x="7596360" y="4508640"/>
            <a:ext cx="0" cy="28872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6372360" y="4292640"/>
            <a:ext cx="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5"/>
          <p:cNvSpPr/>
          <p:nvPr/>
        </p:nvSpPr>
        <p:spPr>
          <a:xfrm flipH="1">
            <a:off x="1476360" y="4292640"/>
            <a:ext cx="4896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6"/>
          <p:cNvSpPr/>
          <p:nvPr/>
        </p:nvSpPr>
        <p:spPr>
          <a:xfrm>
            <a:off x="1476360" y="429264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7"/>
          <p:cNvSpPr/>
          <p:nvPr/>
        </p:nvSpPr>
        <p:spPr>
          <a:xfrm flipH="1"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8"/>
          <p:cNvSpPr/>
          <p:nvPr/>
        </p:nvSpPr>
        <p:spPr>
          <a:xfrm>
            <a:off x="6948360" y="4292640"/>
            <a:ext cx="216000" cy="144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9"/>
          <p:cNvSpPr/>
          <p:nvPr/>
        </p:nvSpPr>
        <p:spPr>
          <a:xfrm>
            <a:off x="2509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0"/>
          <p:cNvSpPr/>
          <p:nvPr/>
        </p:nvSpPr>
        <p:spPr>
          <a:xfrm>
            <a:off x="5292720" y="4508640"/>
            <a:ext cx="0" cy="360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52"/>
          <p:cNvSpPr/>
          <p:nvPr/>
        </p:nvSpPr>
        <p:spPr>
          <a:xfrm>
            <a:off x="32400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7886880" y="33577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54"/>
          <p:cNvSpPr/>
          <p:nvPr/>
        </p:nvSpPr>
        <p:spPr>
          <a:xfrm>
            <a:off x="2700360" y="4869000"/>
            <a:ext cx="2376360" cy="144360"/>
          </a:xfrm>
          <a:prstGeom prst="pie">
            <a:avLst/>
          </a:pr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1"/>
          <p:cNvSpPr/>
          <p:nvPr/>
        </p:nvSpPr>
        <p:spPr>
          <a:xfrm>
            <a:off x="5580000" y="436572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7"/>
          <p:cNvSpPr/>
          <p:nvPr/>
        </p:nvSpPr>
        <p:spPr>
          <a:xfrm>
            <a:off x="3926520" y="3933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как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24000" y="177336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ходим в тексте слово, которое отвечает на вопрос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КАКОЙ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бозначае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редмета по действию. Подчеркиваем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808200" y="4384800"/>
            <a:ext cx="750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663480" y="337644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24000" y="292428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обуем заменить его сочетанием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ОТОРЫЙ + ГЛАГОЛ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щем суффиксы, соответствующие причастию. Если все требования выполнены, причастие найд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95280" y="4581360"/>
            <a:ext cx="81565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щем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ПРЕДЕЛЯЕ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лово (слово, от которого зависит причастие – существительное или местоимени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95280" y="5734080"/>
            <a:ext cx="5564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Обозначаем ег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34800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3348000" y="5805360"/>
            <a:ext cx="15112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4859280" y="580536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 flipH="1">
            <a:off x="3924360" y="5516640"/>
            <a:ext cx="216000" cy="217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50920" y="162864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ходим (если есть)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ВИСИ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причастия слова (слова, к которым от причастия можно задать вопрос). Подчёркиваем их волнистой линией, обозначаем гра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РИЧАСТНОГО ОБОР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743120" y="366552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50920" y="3213000"/>
            <a:ext cx="86421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ым словом (существительным), то мы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еляем его запят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176560" y="4745160"/>
            <a:ext cx="62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92200" y="467352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250920" y="4149720"/>
            <a:ext cx="794052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определяемым словом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местоимени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), то м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деляем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его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0920" y="5516640"/>
            <a:ext cx="772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Если причастный оборот сто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ределяемого слова,  выделяем оборот запят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4572000" y="2924280"/>
            <a:ext cx="230508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948360" y="2852640"/>
            <a:ext cx="0" cy="28908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Алгоритм выделения     причастного обо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95280" y="2060640"/>
            <a:ext cx="835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Если причастие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ДИНОЧ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ятыми не выделя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95280" y="3429000"/>
            <a:ext cx="8424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Если определяемым словом является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ичное местоим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о причастие (даже одиночное) всегда обособляется, независимо от его местоположения (и после определяемого слова, и перед н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936520" y="9684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95280" y="765000"/>
          <a:ext cx="8424720" cy="5942160"/>
        </p:xfrm>
        <a:graphic>
          <a:graphicData uri="http://schemas.openxmlformats.org/drawingml/2006/table">
            <a:tbl>
              <a:tblPr/>
              <a:tblGrid>
                <a:gridCol w="2576520"/>
                <a:gridCol w="2247840"/>
                <a:gridCol w="1771560"/>
                <a:gridCol w="18288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я 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4" name="Line 157"/>
          <p:cNvSpPr/>
          <p:nvPr/>
        </p:nvSpPr>
        <p:spPr>
          <a:xfrm>
            <a:off x="395280" y="765000"/>
            <a:ext cx="2592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24000" y="620640"/>
          <a:ext cx="8569080" cy="5857920"/>
        </p:xfrm>
        <a:graphic>
          <a:graphicData uri="http://schemas.openxmlformats.org/drawingml/2006/table">
            <a:tbl>
              <a:tblPr/>
              <a:tblGrid>
                <a:gridCol w="1887480"/>
                <a:gridCol w="2324160"/>
                <a:gridCol w="2108160"/>
                <a:gridCol w="2249280"/>
              </a:tblGrid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, данный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творческие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аналогии с данным текст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Гроз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Прича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66"/>
                          </a:solidFill>
                          <a:latin typeface="Times New Roman"/>
                          <a:ea typeface="Times New Roman"/>
                        </a:rPr>
                        <a:t>Гро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ремительность и мощь гр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нач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астия, его роль в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воеобрази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ого яв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о-популяр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</a:t>
                      </a:r>
                      <a:r>
                        <a:rPr b="1" lang="en-US" sz="2000" spc="-1" strike="noStrike">
                          <a:solidFill>
                            <a:srgbClr val="cc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cc3399"/>
                          </a:solidFill>
                          <a:latin typeface="Times New Roman"/>
                          <a:ea typeface="Times New Roman"/>
                        </a:rPr>
                        <a:t>рассужд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ческое зад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 в тексте причастия и причастные обор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150"/>
          <p:cNvSpPr/>
          <p:nvPr/>
        </p:nvSpPr>
        <p:spPr>
          <a:xfrm>
            <a:off x="2484360" y="189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оставитель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52"/>
          <p:cNvSpPr/>
          <p:nvPr/>
        </p:nvSpPr>
        <p:spPr>
          <a:xfrm>
            <a:off x="324000" y="62064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пытств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стави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лю пройти по следам километра четыре. Так вот в чем тайна! Утопая в снег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трудом пробираясь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во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лесок и бурелом, понурив голову, брела олениха. Бока ввалились. Еле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ередвиг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ноги.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у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лизкую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ерть оленихи и шла, поджидая, когда олениха ля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я стукнул палкой по дереву, лисиц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улас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гнен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шаром метнулась в чащу. Олениха тоже рванулась бежать, но грузно осела в сугро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ружба семиклассника Коли и оленихи Л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9525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ровая случилась зима. Замело все тропинки, все кормовые места. Трудно стало в лесу всем, кто каждый день добывает себе пропитание. Но подлинная лесная драма разыгралась с оленям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иклассник Коля пошел на лыжах в лес подсыпать зерен в кормушки для птиц. Когда он решил вернуться назад, вдруг заметил странные  следы: рядом с оленьим следом вьется ли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йдя километра четыре, Коля увидел, как,  утопая в снегу, брела олениха. Её сопровождала лисица, которая почуяла близкую смерть олен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я стукнул палкой по дереву -  лисица метнулась в чащу, а  олениха грузно осела в суг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ленно, чтобы не испугать олениху, Коля стал подходить ближе. Через    полчаса олениха уже подбирала шершавыми губами с ладоней ов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ром мальчик, прихватив с собой гостинцы для новой знакомой, отправился в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ениха с радостью встретила К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ивыкла к гостю и выходила из чащи на призыв: «Ленка, Ленка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медлено, чтобы не испугать олениху, Коля стал подходить ближе. Через    пол-часа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притарочив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лижала на том же месте и сразу подняла голову. С жадностью стала лизать соль, сьела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превыкла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ленно, очен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едле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тобы не испугать олениху, Коля стал подходить ближе. Через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ча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лениха уже подбирала шершавыми губами с ладоней ов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ом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чи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зади вязанку сена наполнив карманы овсом и взяв пакет с солью, он снова пустился в п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а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том же месте и сразу подняла голову. С жадностью стала лизать соль,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вес. Сено Коля оставил у ле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одолжалось несколько дней. Олених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к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 гостю и робкими шагами выходила из чащи на призыв - «Ленка, Ленка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 Песков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>
            <a:off x="2571840" y="2643120"/>
            <a:ext cx="285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едвига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ставил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.р, ед.ч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95640" y="404640"/>
            <a:ext cx="4032000" cy="914400"/>
          </a:xfrm>
          <a:prstGeom prst="rect">
            <a:avLst/>
          </a:prstGeom>
          <a:noFill/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Оконч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р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улас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г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л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сь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чив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кво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4"/>
          <p:cNvSpPr/>
          <p:nvPr/>
        </p:nvSpPr>
        <p:spPr>
          <a:xfrm rot="18579000">
            <a:off x="3836160" y="-127800"/>
            <a:ext cx="1424160" cy="1679760"/>
          </a:xfrm>
          <a:prstGeom prst="pi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 flipH="1">
            <a:off x="6084360" y="1628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6:46Z</dcterms:created>
  <dc:creator>_</dc:creator>
  <dc:description/>
  <dc:language>en-US</dc:language>
  <cp:lastModifiedBy>_</cp:lastModifiedBy>
  <dcterms:modified xsi:type="dcterms:W3CDTF">2010-01-28T18:46:34Z</dcterms:modified>
  <cp:revision>29</cp:revision>
  <dc:subject/>
  <dc:title>Слайд 1</dc:title>
</cp:coreProperties>
</file>